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38A-641C-4A66-AD9E-5CBF76499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A6F-B48E-4B2D-A135-B9E411773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8FE2-2D98-4A2C-9D00-8F979C59A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04DE-80E7-4536-AA48-476BEC028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A23-2A66-4ECE-A317-33C355CC5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E7D-29BA-47FB-954A-AB3406BBE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90A-AD45-432C-9D09-5644AD149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4A28-C108-41A3-BD74-0DA2963A3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9D11-F9F8-4F0A-B754-B49ECA41F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D8AF-71EC-486B-A3E4-566579EC9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351-FBC9-4113-8B71-9F2DD5AFF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473-8042-46A0-94B8-CC6933695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910-B512-4F98-9675-97D738DEF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3DD-5E29-4B35-AC17-65DA9D7B4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202F-0E8E-4105-A26A-C2FD6FE3E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20AB-231B-4823-A9C9-18F07BB7B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8833-C890-409E-A556-430DF0A49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D5F4-275B-4D55-B03E-17DACE24F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0436-7852-40A0-9C7A-2CEC938AD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328-1769-4BE0-AEE7-B0060CFD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021-52FC-4289-8AA5-344CD4D2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4A0-E076-42F8-A290-93640EF0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8EA-6300-4035-8BE9-F29EBD5B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CBE-D518-464F-A2B5-8DF248A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579-007B-410B-B3DC-4696C315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406-2974-4EA1-855D-97E4BEAA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A95-BB48-41D3-9103-2095082D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6FF-94A0-452F-AFD5-973C2F04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140-9370-43FA-B50E-99FA3348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1F2-80A3-4801-9E94-8A812D9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CCB-23EF-4245-812C-1D3E647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C5B6-288E-4070-8807-936603E4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ворческий календарь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а «Мозаика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У гимназии №3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оводители Коршунова И.А,Кошкина С.С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0" y="4684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шкина Светла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296280" cy="692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фото рождеств костюм"/>
          <p:cNvPicPr/>
          <p:nvPr/>
        </p:nvPicPr>
        <p:blipFill>
          <a:blip r:embed="rId2"/>
          <a:stretch/>
        </p:blipFill>
        <p:spPr>
          <a:xfrm>
            <a:off x="380880" y="1219320"/>
            <a:ext cx="4953240" cy="3720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00200" y="92160"/>
            <a:ext cx="7248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йонный конкурс-фестив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нварь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90920" y="570384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Мозаика» - победи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фото рождеств костюмы"/>
          <p:cNvPicPr/>
          <p:nvPr/>
        </p:nvPicPr>
        <p:blipFill>
          <a:blip r:embed="rId3"/>
          <a:stretch/>
        </p:blipFill>
        <p:spPr>
          <a:xfrm>
            <a:off x="5105520" y="352908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фото  мозаика весёлые старты"/>
          <p:cNvPicPr/>
          <p:nvPr/>
        </p:nvPicPr>
        <p:blipFill>
          <a:blip r:embed="rId2"/>
          <a:stretch/>
        </p:blipFill>
        <p:spPr>
          <a:xfrm>
            <a:off x="1295280" y="1143000"/>
            <a:ext cx="6782040" cy="505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447920" y="141120"/>
            <a:ext cx="631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беда в «Весёлых старт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т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68680" y="60627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ме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SC_3522"/>
          <p:cNvPicPr/>
          <p:nvPr/>
        </p:nvPicPr>
        <p:blipFill>
          <a:blip r:embed="rId2"/>
          <a:stretch/>
        </p:blipFill>
        <p:spPr>
          <a:xfrm>
            <a:off x="1371600" y="1219320"/>
            <a:ext cx="6705720" cy="4476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990720" y="141120"/>
            <a:ext cx="808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нкурс сказок в начальной школе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апрель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38080" y="55627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рская сказка «О добром, мудром и вечн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рисунуки победы"/>
          <p:cNvPicPr/>
          <p:nvPr/>
        </p:nvPicPr>
        <p:blipFill>
          <a:blip r:embed="rId2"/>
          <a:stretch/>
        </p:blipFill>
        <p:spPr>
          <a:xfrm>
            <a:off x="5029200" y="685800"/>
            <a:ext cx="3048120" cy="227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e39b7f5c26a9489f9f9d777916f649c9"/>
          <p:cNvPicPr/>
          <p:nvPr/>
        </p:nvPicPr>
        <p:blipFill>
          <a:blip r:embed="rId3"/>
          <a:stretch/>
        </p:blipFill>
        <p:spPr>
          <a:xfrm>
            <a:off x="1219320" y="685800"/>
            <a:ext cx="2895480" cy="2160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551960" y="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Солдатский привал»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й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фото тальяночка"/>
          <p:cNvPicPr/>
          <p:nvPr/>
        </p:nvPicPr>
        <p:blipFill>
          <a:blip r:embed="rId4"/>
          <a:stretch/>
        </p:blipFill>
        <p:spPr>
          <a:xfrm>
            <a:off x="1447920" y="2971800"/>
            <a:ext cx="6305400" cy="2978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0" y="5867280"/>
            <a:ext cx="103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ступление с вокально-танцев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мером« Тальян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IMG_0283"/>
          <p:cNvPicPr/>
          <p:nvPr/>
        </p:nvPicPr>
        <p:blipFill>
          <a:blip r:embed="rId2"/>
          <a:stretch/>
        </p:blipFill>
        <p:spPr>
          <a:xfrm>
            <a:off x="380880" y="41911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IMG_6386"/>
          <p:cNvPicPr/>
          <p:nvPr/>
        </p:nvPicPr>
        <p:blipFill>
          <a:blip r:embed="rId3"/>
          <a:stretch/>
        </p:blipFill>
        <p:spPr>
          <a:xfrm>
            <a:off x="228600" y="1219320"/>
            <a:ext cx="3276720" cy="21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6372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68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G_6368"/>
          <p:cNvPicPr/>
          <p:nvPr/>
        </p:nvPicPr>
        <p:blipFill>
          <a:blip r:embed="rId5"/>
          <a:stretch/>
        </p:blipFill>
        <p:spPr>
          <a:xfrm>
            <a:off x="4419720" y="609480"/>
            <a:ext cx="43434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27672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52280" y="-334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Успех года-2015»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ступление в ЦКЗ,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прель 201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203480" y="575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IMG_6495"/>
          <p:cNvPicPr/>
          <p:nvPr/>
        </p:nvPicPr>
        <p:blipFill>
          <a:blip r:embed="rId6"/>
          <a:stretch/>
        </p:blipFill>
        <p:spPr>
          <a:xfrm>
            <a:off x="3124080" y="2971800"/>
            <a:ext cx="21337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IMG_4352"/>
          <p:cNvPicPr/>
          <p:nvPr/>
        </p:nvPicPr>
        <p:blipFill>
          <a:blip r:embed="rId2"/>
          <a:stretch/>
        </p:blipFill>
        <p:spPr>
          <a:xfrm>
            <a:off x="609480" y="762120"/>
            <a:ext cx="5105520" cy="3524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113120" y="228600"/>
            <a:ext cx="67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Большая гимназическая на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IMG_6495"/>
          <p:cNvPicPr/>
          <p:nvPr/>
        </p:nvPicPr>
        <p:blipFill>
          <a:blip r:embed="rId3"/>
          <a:stretch/>
        </p:blipFill>
        <p:spPr>
          <a:xfrm>
            <a:off x="5791320" y="1295280"/>
            <a:ext cx="304776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MG_0368"/>
          <p:cNvPicPr/>
          <p:nvPr/>
        </p:nvPicPr>
        <p:blipFill>
          <a:blip r:embed="rId4"/>
          <a:stretch/>
        </p:blipFill>
        <p:spPr>
          <a:xfrm>
            <a:off x="2743200" y="3733920"/>
            <a:ext cx="5181480" cy="291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MG_6495"/>
          <p:cNvPicPr/>
          <p:nvPr/>
        </p:nvPicPr>
        <p:blipFill>
          <a:blip r:embed="rId5"/>
          <a:stretch/>
        </p:blipFill>
        <p:spPr>
          <a:xfrm>
            <a:off x="5791320" y="129528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IMG_5040"/>
          <p:cNvPicPr/>
          <p:nvPr/>
        </p:nvPicPr>
        <p:blipFill>
          <a:blip r:embed="rId2"/>
          <a:stretch/>
        </p:blipFill>
        <p:spPr>
          <a:xfrm>
            <a:off x="6629400" y="4343400"/>
            <a:ext cx="164628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IMG_5036"/>
          <p:cNvPicPr/>
          <p:nvPr/>
        </p:nvPicPr>
        <p:blipFill>
          <a:blip r:embed="rId3"/>
          <a:stretch/>
        </p:blipFill>
        <p:spPr>
          <a:xfrm>
            <a:off x="838080" y="4419720"/>
            <a:ext cx="2667240" cy="1914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MG_5050"/>
          <p:cNvPicPr/>
          <p:nvPr/>
        </p:nvPicPr>
        <p:blipFill>
          <a:blip r:embed="rId4"/>
          <a:stretch/>
        </p:blipFill>
        <p:spPr>
          <a:xfrm>
            <a:off x="4419720" y="4343400"/>
            <a:ext cx="1681200" cy="236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Регионалный конкурс 1 местоМозаика"/>
          <p:cNvPicPr/>
          <p:nvPr/>
        </p:nvPicPr>
        <p:blipFill>
          <a:blip r:embed="rId5"/>
          <a:stretch/>
        </p:blipFill>
        <p:spPr>
          <a:xfrm>
            <a:off x="6781680" y="838080"/>
            <a:ext cx="2143080" cy="281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КоллективДипломант Мозаика"/>
          <p:cNvPicPr/>
          <p:nvPr/>
        </p:nvPicPr>
        <p:blipFill>
          <a:blip r:embed="rId6"/>
          <a:stretch/>
        </p:blipFill>
        <p:spPr>
          <a:xfrm>
            <a:off x="1066680" y="914400"/>
            <a:ext cx="2224080" cy="314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ДипломЛауреата  Мозаика"/>
          <p:cNvPicPr/>
          <p:nvPr/>
        </p:nvPicPr>
        <p:blipFill>
          <a:blip r:embed="rId7"/>
          <a:stretch/>
        </p:blipFill>
        <p:spPr>
          <a:xfrm>
            <a:off x="3962520" y="914400"/>
            <a:ext cx="220824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5562720" y="54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828800" y="1764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ши побе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-68400"/>
            <a:ext cx="9601200" cy="692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914400" y="228600"/>
            <a:ext cx="73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 что же будет даль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28600" y="4379760"/>
            <a:ext cx="43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33520" y="556272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 этом вы узна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овом творческом календаре за 2015-2016 уч.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316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876920" y="914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228600" y="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слесловие .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лагодарность родителей руководителям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ллектива «Мозаи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90720" y="1913040"/>
            <a:ext cx="7924680" cy="448308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важаемые наши руководи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пасибо за «Тальяночку», «Россию» 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за «Стиляг» – огромное спасибо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за «Минуту Славы», и за «Мою Пасху»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за «Морскую о добре и дружбе сказку»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за победу на «Веселых стартах» - 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дь у «Мозаики» и в спорте есть таланты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 гордость, что сердца переполняла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гда на сцене с «Золотым Ростком» стояли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пасибо за терпенье и вниманье, 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 доброту, за труд и пониманье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626080" y="63612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тели 3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первые репетиция сентябрь 2014"/>
          <p:cNvPicPr/>
          <p:nvPr/>
        </p:nvPicPr>
        <p:blipFill>
          <a:blip r:embed="rId2"/>
          <a:stretch/>
        </p:blipFill>
        <p:spPr>
          <a:xfrm>
            <a:off x="304920" y="12193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38080" y="189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етние репетиции, авгус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14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09480" y="575784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акими смешными мы были снач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00600" y="2616120"/>
            <a:ext cx="38862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677520" cy="692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ЦКЗ 1"/>
          <p:cNvPicPr/>
          <p:nvPr/>
        </p:nvPicPr>
        <p:blipFill>
          <a:blip r:embed="rId2"/>
          <a:stretch/>
        </p:blipFill>
        <p:spPr>
          <a:xfrm>
            <a:off x="1905120" y="1219320"/>
            <a:ext cx="6696000" cy="455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676520" y="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сентября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вое выступление в ЦК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76520" y="595944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сть всегда будет солнц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день мира 4"/>
          <p:cNvPicPr/>
          <p:nvPr/>
        </p:nvPicPr>
        <p:blipFill>
          <a:blip r:embed="rId2"/>
          <a:stretch/>
        </p:blipFill>
        <p:spPr>
          <a:xfrm>
            <a:off x="3809880" y="1143000"/>
            <a:ext cx="4876920" cy="252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ДЕНЬ МИРА 19"/>
          <p:cNvPicPr/>
          <p:nvPr/>
        </p:nvPicPr>
        <p:blipFill>
          <a:blip r:embed="rId3"/>
          <a:stretch/>
        </p:blipFill>
        <p:spPr>
          <a:xfrm>
            <a:off x="2514600" y="3962520"/>
            <a:ext cx="4800600" cy="271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G_1041"/>
          <p:cNvPicPr/>
          <p:nvPr/>
        </p:nvPicPr>
        <p:blipFill>
          <a:blip r:embed="rId4"/>
          <a:stretch/>
        </p:blipFill>
        <p:spPr>
          <a:xfrm>
            <a:off x="1143000" y="1066680"/>
            <a:ext cx="2220840" cy="2762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1447920" y="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кция «Звон Мир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ентябрь 201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DSCN4421"/>
          <p:cNvPicPr/>
          <p:nvPr/>
        </p:nvPicPr>
        <p:blipFill>
          <a:blip r:embed="rId2"/>
          <a:stretch/>
        </p:blipFill>
        <p:spPr>
          <a:xfrm>
            <a:off x="2514600" y="990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457200" y="4191120"/>
            <a:ext cx="3809880" cy="2392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SCN4429"/>
          <p:cNvPicPr/>
          <p:nvPr/>
        </p:nvPicPr>
        <p:blipFill>
          <a:blip r:embed="rId4"/>
          <a:stretch/>
        </p:blipFill>
        <p:spPr>
          <a:xfrm>
            <a:off x="5410080" y="4114800"/>
            <a:ext cx="2667240" cy="2427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15840"/>
            <a:ext cx="8763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йонный праздник « День Учит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К Профсоюзов, октябрь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494160"/>
            <a:ext cx="53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жидания выступ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IMG_1888"/>
          <p:cNvPicPr/>
          <p:nvPr/>
        </p:nvPicPr>
        <p:blipFill>
          <a:blip r:embed="rId2"/>
          <a:stretch/>
        </p:blipFill>
        <p:spPr>
          <a:xfrm>
            <a:off x="228600" y="1219320"/>
            <a:ext cx="3586320" cy="480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mage (2)"/>
          <p:cNvPicPr/>
          <p:nvPr/>
        </p:nvPicPr>
        <p:blipFill>
          <a:blip r:embed="rId3"/>
          <a:stretch/>
        </p:blipFill>
        <p:spPr>
          <a:xfrm>
            <a:off x="3962520" y="2057400"/>
            <a:ext cx="4876560" cy="286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0" y="168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имназический проект«Минута Славы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ктябрь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267080" y="5029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ан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Кап, ка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п, т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лоп, хлоп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1720" y="610884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местный номер с руковод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92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DSC_3574"/>
          <p:cNvPicPr/>
          <p:nvPr/>
        </p:nvPicPr>
        <p:blipFill>
          <a:blip r:embed="rId2"/>
          <a:stretch/>
        </p:blipFill>
        <p:spPr>
          <a:xfrm>
            <a:off x="0" y="609480"/>
            <a:ext cx="4800600" cy="267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Разноцветное выступление Коллектива Мозаика 2А класса Моу гимн"/>
          <p:cNvPicPr/>
          <p:nvPr/>
        </p:nvPicPr>
        <p:blipFill>
          <a:blip r:embed="rId3"/>
          <a:stretch/>
        </p:blipFill>
        <p:spPr>
          <a:xfrm>
            <a:off x="4724280" y="3809880"/>
            <a:ext cx="4038840" cy="2730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4920" y="0"/>
            <a:ext cx="94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ноцветная неделя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28600" y="335268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анец «Стиляг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ябрь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DSC_3510"/>
          <p:cNvPicPr/>
          <p:nvPr/>
        </p:nvPicPr>
        <p:blipFill>
          <a:blip r:embed="rId4"/>
          <a:stretch/>
        </p:blipFill>
        <p:spPr>
          <a:xfrm>
            <a:off x="5181480" y="660240"/>
            <a:ext cx="3657600" cy="244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SC_3525"/>
          <p:cNvPicPr/>
          <p:nvPr/>
        </p:nvPicPr>
        <p:blipFill>
          <a:blip r:embed="rId5"/>
          <a:stretch/>
        </p:blipFill>
        <p:spPr>
          <a:xfrm>
            <a:off x="609480" y="4191120"/>
            <a:ext cx="35053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P_20141205_125224 (1)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397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P_20141205_114721"/>
          <p:cNvPicPr/>
          <p:nvPr/>
        </p:nvPicPr>
        <p:blipFill>
          <a:blip r:embed="rId3"/>
          <a:stretch/>
        </p:blipFill>
        <p:spPr>
          <a:xfrm>
            <a:off x="2666880" y="4343400"/>
            <a:ext cx="4114800" cy="231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P_20141205_132035"/>
          <p:cNvPicPr/>
          <p:nvPr/>
        </p:nvPicPr>
        <p:blipFill>
          <a:blip r:embed="rId4"/>
          <a:stretch/>
        </p:blipFill>
        <p:spPr>
          <a:xfrm>
            <a:off x="4876920" y="1600200"/>
            <a:ext cx="3733560" cy="2255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57200" y="181080"/>
            <a:ext cx="9642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родской праздник« День игруш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ородская детская библиотека им.А.С.Пушкина,декабрь 201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волшебные_картинки_volshebnue_kartinki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28600" y="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овогоднее представление коллектива, декабрь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0" y="5562720"/>
            <a:ext cx="55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нежный 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6T12:56:50Z</dcterms:created>
  <dc:creator>lenovo</dc:creator>
  <dc:description/>
  <dc:language>en-US</dc:language>
  <cp:lastModifiedBy>lenovo</cp:lastModifiedBy>
  <dcterms:modified xsi:type="dcterms:W3CDTF">2017-08-26T18:02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