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D33-FD27-4678-BB6A-98846DCE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48C-3CED-4C4B-BDEE-89F3245F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C2C-EE5C-4FD1-BCF3-72826278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BB7-A163-40CB-9E35-F2AA0FE0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B74-4FDB-4843-9287-511E8AE6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3C3-428D-4F63-8CD7-5FBC9A07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EA59-A130-49C5-8B46-A13E6A76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55C-0A55-40F5-BE26-489F492A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B28-D0FE-4B55-8065-94F605ED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5E4-5DE5-432A-A1A4-2D874B92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CCF-A944-475F-87F4-A73BA3AA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66D-7DB6-4410-B316-A12C5CFB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4A8E-F464-45AA-90B6-13CCE60E8A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" Target="slide19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5.xml"/><Relationship Id="rId3" Type="http://schemas.openxmlformats.org/officeDocument/2006/relationships/slide" Target="slide11.xml"/><Relationship Id="rId4" Type="http://schemas.openxmlformats.org/officeDocument/2006/relationships/slide" Target="slide17.xml"/><Relationship Id="rId5" Type="http://schemas.openxmlformats.org/officeDocument/2006/relationships/slide" Target="slide13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1.xml"/><Relationship Id="rId4" Type="http://schemas.openxmlformats.org/officeDocument/2006/relationships/slide" Target="slide20.xml"/><Relationship Id="rId5" Type="http://schemas.openxmlformats.org/officeDocument/2006/relationships/slide" Target="slide44.xml"/><Relationship Id="rId6" Type="http://schemas.openxmlformats.org/officeDocument/2006/relationships/slide" Target="slide52.xml"/><Relationship Id="rId7" Type="http://schemas.openxmlformats.org/officeDocument/2006/relationships/slide" Target="slide66.xml"/><Relationship Id="rId8" Type="http://schemas.openxmlformats.org/officeDocument/2006/relationships/slide" Target="slide65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30.xml"/><Relationship Id="rId3" Type="http://schemas.openxmlformats.org/officeDocument/2006/relationships/slide" Target="slide35.xml"/><Relationship Id="rId4" Type="http://schemas.openxmlformats.org/officeDocument/2006/relationships/slide" Target="slide38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4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25.xml"/><Relationship Id="rId6" Type="http://schemas.openxmlformats.org/officeDocument/2006/relationships/slide" Target="slide20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1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4.xml"/><Relationship Id="rId3" Type="http://schemas.openxmlformats.org/officeDocument/2006/relationships/slide" Target="slide2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2.xml"/><Relationship Id="rId3" Type="http://schemas.openxmlformats.org/officeDocument/2006/relationships/slide" Target="slide3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2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" Target="slide30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2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7.xml"/><Relationship Id="rId3" Type="http://schemas.openxmlformats.org/officeDocument/2006/relationships/slide" Target="slide2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2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0.xml"/><Relationship Id="rId3" Type="http://schemas.openxmlformats.org/officeDocument/2006/relationships/slide" Target="slide43.xml"/><Relationship Id="rId4" Type="http://schemas.openxmlformats.org/officeDocument/2006/relationships/slide" Target="slide2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8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2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40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8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2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5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8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5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2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49.xml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5.xml"/><Relationship Id="rId3" Type="http://schemas.openxmlformats.org/officeDocument/2006/relationships/slide" Target="slide57.xml"/><Relationship Id="rId4" Type="http://schemas.openxmlformats.org/officeDocument/2006/relationships/slide" Target="slide59.xml"/><Relationship Id="rId5" Type="http://schemas.openxmlformats.org/officeDocument/2006/relationships/slide" Target="slide61.xml"/><Relationship Id="rId6" Type="http://schemas.openxmlformats.org/officeDocument/2006/relationships/slide" Target="slide63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2.xml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slide" Target="slide69.xml"/><Relationship Id="rId3" Type="http://schemas.openxmlformats.org/officeDocument/2006/relationships/slide" Target="slide69.xml"/><Relationship Id="rId4" Type="http://schemas.openxmlformats.org/officeDocument/2006/relationships/slide" Target="slide69.xml"/><Relationship Id="rId5" Type="http://schemas.openxmlformats.org/officeDocument/2006/relationships/slide" Target="slide69.xml"/><Relationship Id="rId6" Type="http://schemas.openxmlformats.org/officeDocument/2006/relationships/slide" Target="slide71.xml"/><Relationship Id="rId7" Type="http://schemas.openxmlformats.org/officeDocument/2006/relationships/slide" Target="slide71.xml"/><Relationship Id="rId8" Type="http://schemas.openxmlformats.org/officeDocument/2006/relationships/slide" Target="slide73.xml"/><Relationship Id="rId9" Type="http://schemas.openxmlformats.org/officeDocument/2006/relationships/slide" Target="slide73.xml"/><Relationship Id="rId10" Type="http://schemas.openxmlformats.org/officeDocument/2006/relationships/slide" Target="slide75.xml"/><Relationship Id="rId11" Type="http://schemas.openxmlformats.org/officeDocument/2006/relationships/slide" Target="slide75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2.xml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130120"/>
            <a:ext cx="7486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екторы в простран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0"/>
          <p:cNvSpPr/>
          <p:nvPr/>
        </p:nvSpPr>
        <p:spPr>
          <a:xfrm>
            <a:off x="3851280" y="59500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в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азательство признака коллинеа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1042920" y="1628640"/>
                <a:ext cx="7201080" cy="450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в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а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ллинеарн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льк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гд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мее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с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енство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k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ектор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↑</m:t>
                        </m:r>
                        <m:r>
                          <m:t xml:space="preserve">↑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следуе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пределени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ектор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↑</m:t>
                        </m:r>
                        <m:r>
                          <m:t xml:space="preserve">↓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оизведени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ллинеарны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онаправленные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отиволожн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правленны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ежа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дной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араллельны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ямы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7493"/>
                </a:moveTo>
                <a:lnTo>
                  <a:pt x="9073" y="7493"/>
                </a:lnTo>
                <a:lnTo>
                  <a:pt x="9073" y="12828"/>
                </a:lnTo>
                <a:cubicBezTo>
                  <a:pt x="9073" y="13751"/>
                  <a:pt x="9873" y="14482"/>
                  <a:pt x="10909" y="14482"/>
                </a:cubicBezTo>
                <a:lnTo>
                  <a:pt x="12572" y="14482"/>
                </a:lnTo>
                <a:cubicBezTo>
                  <a:pt x="13607" y="14482"/>
                  <a:pt x="14408" y="13751"/>
                  <a:pt x="14408" y="12828"/>
                </a:cubicBezTo>
                <a:lnTo>
                  <a:pt x="14408" y="7493"/>
                </a:lnTo>
                <a:lnTo>
                  <a:pt x="12572" y="7493"/>
                </a:lnTo>
                <a:lnTo>
                  <a:pt x="16079" y="3985"/>
                </a:lnTo>
                <a:lnTo>
                  <a:pt x="19752" y="7493"/>
                </a:lnTo>
                <a:lnTo>
                  <a:pt x="17916" y="7493"/>
                </a:lnTo>
                <a:lnTo>
                  <a:pt x="17916" y="12828"/>
                </a:lnTo>
                <a:cubicBezTo>
                  <a:pt x="17916" y="15596"/>
                  <a:pt x="15339" y="18155"/>
                  <a:pt x="12572" y="18155"/>
                </a:cubicBezTo>
                <a:lnTo>
                  <a:pt x="10909" y="18155"/>
                </a:lnTo>
                <a:cubicBezTo>
                  <a:pt x="8141" y="18155"/>
                  <a:pt x="5565" y="15596"/>
                  <a:pt x="5565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33"/>
          <p:cNvSpPr/>
          <p:nvPr/>
        </p:nvSpPr>
        <p:spPr>
          <a:xfrm>
            <a:off x="1044720" y="4351320"/>
            <a:ext cx="1726920" cy="1152720"/>
          </a:xfrm>
          <a:custGeom>
            <a:avLst/>
            <a:gdLst/>
            <a:ahLst/>
            <a:rect l="l" t="t" r="r" b="b"/>
            <a:pathLst>
              <a:path w="1088" h="726">
                <a:moveTo>
                  <a:pt x="0" y="726"/>
                </a:moveTo>
                <a:lnTo>
                  <a:pt x="0" y="181"/>
                </a:lnTo>
                <a:lnTo>
                  <a:pt x="1088" y="0"/>
                </a:lnTo>
                <a:lnTo>
                  <a:pt x="1088" y="544"/>
                </a:lnTo>
                <a:lnTo>
                  <a:pt x="0" y="726"/>
                </a:lnTo>
                <a:close/>
              </a:path>
            </a:pathLst>
          </a:custGeom>
          <a:solidFill>
            <a:srgbClr val="00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пределение компланарных век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720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мпланарные вектор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векторы, при откладывании которых от одной и той же точки пространства, они будут лежать в одн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"/>
          <p:cNvSpPr/>
          <p:nvPr/>
        </p:nvSpPr>
        <p:spPr>
          <a:xfrm>
            <a:off x="1044720" y="4351320"/>
            <a:ext cx="1726920" cy="1150920"/>
          </a:xfrm>
          <a:prstGeom prst="cube">
            <a:avLst>
              <a:gd name="adj" fmla="val 25000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"/>
          <p:cNvSpPr/>
          <p:nvPr/>
        </p:nvSpPr>
        <p:spPr>
          <a:xfrm flipH="1">
            <a:off x="1331640" y="5214960"/>
            <a:ext cx="143964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1332000" y="43513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"/>
          <p:cNvSpPr/>
          <p:nvPr/>
        </p:nvSpPr>
        <p:spPr>
          <a:xfrm flipH="1">
            <a:off x="1044720" y="521496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1044720" y="4351320"/>
            <a:ext cx="1726920" cy="115272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1044720" y="55040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 flipV="1">
            <a:off x="1044720" y="5214600"/>
            <a:ext cx="287280" cy="289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044720" y="48546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755640" y="53593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2773800" y="490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414520" y="5408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684360" y="4351320"/>
            <a:ext cx="574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1044720" y="3990960"/>
            <a:ext cx="50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2771640" y="4062240"/>
            <a:ext cx="50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2413080" y="449568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9"/>
          <p:cNvSpPr/>
          <p:nvPr/>
        </p:nvSpPr>
        <p:spPr>
          <a:xfrm flipV="1">
            <a:off x="1332000" y="435096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 flipV="1">
            <a:off x="1044720" y="5214600"/>
            <a:ext cx="1726920" cy="28908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1"/>
          <p:cNvSpPr/>
          <p:nvPr/>
        </p:nvSpPr>
        <p:spPr>
          <a:xfrm flipV="1">
            <a:off x="1044720" y="4638600"/>
            <a:ext cx="0" cy="8654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2"/>
              <p:cNvSpPr txBox="1"/>
              <p:nvPr/>
            </p:nvSpPr>
            <p:spPr>
              <a:xfrm>
                <a:off x="3645000" y="4365720"/>
                <a:ext cx="387972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,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мпланарны,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лежат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лоскости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9" name="Line 26"/>
          <p:cNvSpPr/>
          <p:nvPr/>
        </p:nvSpPr>
        <p:spPr>
          <a:xfrm flipV="1">
            <a:off x="1044720" y="4351320"/>
            <a:ext cx="1726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0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3794"/>
                </a:moveTo>
                <a:lnTo>
                  <a:pt x="19578" y="10800"/>
                </a:lnTo>
                <a:lnTo>
                  <a:pt x="556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">
            <a:hlinkClick r:id="rId2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2916360" y="2133720"/>
            <a:ext cx="1800000" cy="1944720"/>
          </a:xfrm>
          <a:prstGeom prst="rect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 компланарных векто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юбые два вектора всегда компланар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ри вектора, среди которых имеются два коллинеарных, компланар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0"/>
              <p:cNvSpPr txBox="1"/>
              <p:nvPr/>
            </p:nvSpPr>
            <p:spPr>
              <a:xfrm>
                <a:off x="4788000" y="5300640"/>
                <a:ext cx="9223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k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AutoShape 0">
            <a:hlinkClick r:id="rId1" action="ppaction://hlinksldjump"/>
          </p:cNvPr>
          <p:cNvSpPr/>
          <p:nvPr/>
        </p:nvSpPr>
        <p:spPr>
          <a:xfrm>
            <a:off x="7308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0"/>
          <p:cNvSpPr/>
          <p:nvPr/>
        </p:nvSpPr>
        <p:spPr>
          <a:xfrm flipV="1">
            <a:off x="1476360" y="2349360"/>
            <a:ext cx="0" cy="151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 flipV="1">
            <a:off x="1692360" y="2636640"/>
            <a:ext cx="649080" cy="71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971640" y="2637000"/>
                <a:ext cx="36036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2050920" y="2852640"/>
                <a:ext cx="360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61" name="Line 5"/>
          <p:cNvSpPr/>
          <p:nvPr/>
        </p:nvSpPr>
        <p:spPr>
          <a:xfrm flipV="1">
            <a:off x="3635280" y="2278080"/>
            <a:ext cx="0" cy="151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3635280" y="3070080"/>
            <a:ext cx="649440" cy="71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7"/>
              <p:cNvSpPr txBox="1"/>
              <p:nvPr/>
            </p:nvSpPr>
            <p:spPr>
              <a:xfrm>
                <a:off x="3203640" y="2709720"/>
                <a:ext cx="360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3995640" y="3286080"/>
                <a:ext cx="360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65" name="Text Box 10"/>
          <p:cNvSpPr/>
          <p:nvPr/>
        </p:nvSpPr>
        <p:spPr>
          <a:xfrm>
            <a:off x="4284720" y="2205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2"/>
              <p:cNvSpPr txBox="1"/>
              <p:nvPr/>
            </p:nvSpPr>
            <p:spPr>
              <a:xfrm>
                <a:off x="4932360" y="2421000"/>
                <a:ext cx="2585880" cy="14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α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α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AutoShape 15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3794"/>
                </a:moveTo>
                <a:lnTo>
                  <a:pt x="19578" y="10800"/>
                </a:lnTo>
                <a:lnTo>
                  <a:pt x="556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971640" y="5229360"/>
                <a:ext cx="20365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и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 Box 17"/>
          <p:cNvSpPr/>
          <p:nvPr/>
        </p:nvSpPr>
        <p:spPr>
          <a:xfrm>
            <a:off x="3492360" y="5589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8">
            <a:hlinkClick r:id="rId3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8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9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знак комплана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4005360"/>
            <a:ext cx="34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Доказа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0"/>
              <p:cNvSpPr txBox="1"/>
              <p:nvPr/>
            </p:nvSpPr>
            <p:spPr>
              <a:xfrm>
                <a:off x="971640" y="1628640"/>
                <a:ext cx="662472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ожн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зложит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ам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едставить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иде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которы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AutoShape 0">
            <a:hlinkClick r:id="rId3" action="ppaction://hlinksldjump"/>
          </p:cNvPr>
          <p:cNvSpPr/>
          <p:nvPr/>
        </p:nvSpPr>
        <p:spPr>
          <a:xfrm>
            <a:off x="7308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">
            <a:hlinkClick r:id="rId4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3794"/>
                </a:moveTo>
                <a:lnTo>
                  <a:pt x="19578" y="10800"/>
                </a:lnTo>
                <a:lnTo>
                  <a:pt x="556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>
            <a:hlinkClick r:id="rId5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и на компланар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20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мпланарны ли ве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Справк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векторы     ,     и     компланарны. Компланарны ли ве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Справк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4" action="ppaction://hlinksldjump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1979640" y="1989000"/>
                <a:ext cx="27766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1979640" y="4508640"/>
                <a:ext cx="332244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3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4859280" y="3716280"/>
                <a:ext cx="2732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5292720" y="3716280"/>
                <a:ext cx="308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8"/>
              <p:cNvSpPr txBox="1"/>
              <p:nvPr/>
            </p:nvSpPr>
            <p:spPr>
              <a:xfrm>
                <a:off x="5867280" y="3716280"/>
                <a:ext cx="277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84" name="AutoShape 11">
            <a:hlinkClick r:id="rId5" action="ppaction://hlinksldjump"/>
          </p:cNvPr>
          <p:cNvSpPr/>
          <p:nvPr/>
        </p:nvSpPr>
        <p:spPr>
          <a:xfrm>
            <a:off x="7812000" y="6165720"/>
            <a:ext cx="503280" cy="4302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66" h="21600">
                <a:moveTo>
                  <a:pt x="0" y="0"/>
                </a:moveTo>
                <a:lnTo>
                  <a:pt x="25266" y="0"/>
                </a:lnTo>
                <a:lnTo>
                  <a:pt x="25266" y="21600"/>
                </a:lnTo>
                <a:lnTo>
                  <a:pt x="0" y="21600"/>
                </a:lnTo>
                <a:close/>
              </a:path>
              <a:path fill="lightenLess" w="25266" h="21600">
                <a:moveTo>
                  <a:pt x="0" y="0"/>
                </a:moveTo>
                <a:lnTo>
                  <a:pt x="25266" y="0"/>
                </a:lnTo>
                <a:lnTo>
                  <a:pt x="23866" y="1400"/>
                </a:lnTo>
                <a:lnTo>
                  <a:pt x="1400" y="1400"/>
                </a:lnTo>
                <a:close/>
              </a:path>
              <a:path fill="darken" w="25266" h="21600">
                <a:moveTo>
                  <a:pt x="25266" y="0"/>
                </a:moveTo>
                <a:lnTo>
                  <a:pt x="25266" y="21600"/>
                </a:lnTo>
                <a:lnTo>
                  <a:pt x="23866" y="20200"/>
                </a:lnTo>
                <a:lnTo>
                  <a:pt x="23866" y="1400"/>
                </a:lnTo>
                <a:close/>
              </a:path>
              <a:path fill="darkenLess" w="25266" h="21600">
                <a:moveTo>
                  <a:pt x="25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66" y="20200"/>
                </a:lnTo>
                <a:close/>
              </a:path>
              <a:path fill="lighten" w="25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66" h="21600">
                <a:moveTo>
                  <a:pt x="5627" y="7493"/>
                </a:moveTo>
                <a:lnTo>
                  <a:pt x="9134" y="7493"/>
                </a:lnTo>
                <a:lnTo>
                  <a:pt x="9134" y="12828"/>
                </a:lnTo>
                <a:cubicBezTo>
                  <a:pt x="9134" y="13751"/>
                  <a:pt x="9935" y="14482"/>
                  <a:pt x="10971" y="14482"/>
                </a:cubicBezTo>
                <a:lnTo>
                  <a:pt x="12633" y="14482"/>
                </a:lnTo>
                <a:cubicBezTo>
                  <a:pt x="13669" y="14482"/>
                  <a:pt x="14470" y="13751"/>
                  <a:pt x="14470" y="12828"/>
                </a:cubicBezTo>
                <a:lnTo>
                  <a:pt x="14470" y="7493"/>
                </a:lnTo>
                <a:lnTo>
                  <a:pt x="12633" y="7493"/>
                </a:lnTo>
                <a:lnTo>
                  <a:pt x="16141" y="3985"/>
                </a:lnTo>
                <a:lnTo>
                  <a:pt x="19814" y="7493"/>
                </a:lnTo>
                <a:lnTo>
                  <a:pt x="17977" y="7493"/>
                </a:lnTo>
                <a:lnTo>
                  <a:pt x="17977" y="12828"/>
                </a:lnTo>
                <a:cubicBezTo>
                  <a:pt x="17977" y="15596"/>
                  <a:pt x="15401" y="18155"/>
                  <a:pt x="12633" y="18155"/>
                </a:cubicBezTo>
                <a:lnTo>
                  <a:pt x="10971" y="18155"/>
                </a:lnTo>
                <a:cubicBezTo>
                  <a:pt x="8203" y="18155"/>
                  <a:pt x="5627" y="15596"/>
                  <a:pt x="5627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2">
            <a:hlinkClick r:id="rId6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7493"/>
                </a:moveTo>
                <a:lnTo>
                  <a:pt x="9073" y="7493"/>
                </a:lnTo>
                <a:lnTo>
                  <a:pt x="9073" y="12828"/>
                </a:lnTo>
                <a:cubicBezTo>
                  <a:pt x="9073" y="13751"/>
                  <a:pt x="9873" y="14482"/>
                  <a:pt x="10909" y="14482"/>
                </a:cubicBezTo>
                <a:lnTo>
                  <a:pt x="12572" y="14482"/>
                </a:lnTo>
                <a:cubicBezTo>
                  <a:pt x="13607" y="14482"/>
                  <a:pt x="14408" y="13751"/>
                  <a:pt x="14408" y="12828"/>
                </a:cubicBezTo>
                <a:lnTo>
                  <a:pt x="14408" y="7493"/>
                </a:lnTo>
                <a:lnTo>
                  <a:pt x="12572" y="7493"/>
                </a:lnTo>
                <a:lnTo>
                  <a:pt x="16079" y="3985"/>
                </a:lnTo>
                <a:lnTo>
                  <a:pt x="19752" y="7493"/>
                </a:lnTo>
                <a:lnTo>
                  <a:pt x="17916" y="7493"/>
                </a:lnTo>
                <a:lnTo>
                  <a:pt x="17916" y="12828"/>
                </a:lnTo>
                <a:cubicBezTo>
                  <a:pt x="17916" y="15596"/>
                  <a:pt x="15339" y="18155"/>
                  <a:pt x="12572" y="18155"/>
                </a:cubicBezTo>
                <a:lnTo>
                  <a:pt x="10909" y="18155"/>
                </a:lnTo>
                <a:cubicBezTo>
                  <a:pt x="8141" y="18155"/>
                  <a:pt x="5565" y="15596"/>
                  <a:pt x="5565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6"/>
              <p:cNvSpPr txBox="1"/>
              <p:nvPr/>
            </p:nvSpPr>
            <p:spPr>
              <a:xfrm>
                <a:off x="971640" y="1628640"/>
                <a:ext cx="640872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ллинеарны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ллинеарны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</m:e>
                      <m:e/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7493"/>
                </a:moveTo>
                <a:lnTo>
                  <a:pt x="9073" y="7493"/>
                </a:lnTo>
                <a:lnTo>
                  <a:pt x="9073" y="12828"/>
                </a:lnTo>
                <a:cubicBezTo>
                  <a:pt x="9073" y="13751"/>
                  <a:pt x="9873" y="14482"/>
                  <a:pt x="10909" y="14482"/>
                </a:cubicBezTo>
                <a:lnTo>
                  <a:pt x="12572" y="14482"/>
                </a:lnTo>
                <a:cubicBezTo>
                  <a:pt x="13607" y="14482"/>
                  <a:pt x="14408" y="13751"/>
                  <a:pt x="14408" y="12828"/>
                </a:cubicBezTo>
                <a:lnTo>
                  <a:pt x="14408" y="7493"/>
                </a:lnTo>
                <a:lnTo>
                  <a:pt x="12572" y="7493"/>
                </a:lnTo>
                <a:lnTo>
                  <a:pt x="16079" y="3985"/>
                </a:lnTo>
                <a:lnTo>
                  <a:pt x="19752" y="7493"/>
                </a:lnTo>
                <a:lnTo>
                  <a:pt x="17916" y="7493"/>
                </a:lnTo>
                <a:lnTo>
                  <a:pt x="17916" y="12828"/>
                </a:lnTo>
                <a:cubicBezTo>
                  <a:pt x="17916" y="15596"/>
                  <a:pt x="15339" y="18155"/>
                  <a:pt x="12572" y="18155"/>
                </a:cubicBezTo>
                <a:lnTo>
                  <a:pt x="10909" y="18155"/>
                </a:lnTo>
                <a:cubicBezTo>
                  <a:pt x="8141" y="18155"/>
                  <a:pt x="5565" y="15596"/>
                  <a:pt x="5565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971640" y="1628640"/>
                <a:ext cx="5443560" cy="449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мпланарны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уществую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акие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,что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веряе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уществую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акие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,что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меем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m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n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п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пределяютс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динственны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бразом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971640" y="1628640"/>
                <a:ext cx="5784840" cy="474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3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компланарны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уществую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акие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,что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3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y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4" name="AutoShape 5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7493"/>
                </a:moveTo>
                <a:lnTo>
                  <a:pt x="9073" y="7493"/>
                </a:lnTo>
                <a:lnTo>
                  <a:pt x="9073" y="12828"/>
                </a:lnTo>
                <a:cubicBezTo>
                  <a:pt x="9073" y="13751"/>
                  <a:pt x="9873" y="14482"/>
                  <a:pt x="10909" y="14482"/>
                </a:cubicBezTo>
                <a:lnTo>
                  <a:pt x="12572" y="14482"/>
                </a:lnTo>
                <a:cubicBezTo>
                  <a:pt x="13607" y="14482"/>
                  <a:pt x="14408" y="13751"/>
                  <a:pt x="14408" y="12828"/>
                </a:cubicBezTo>
                <a:lnTo>
                  <a:pt x="14408" y="7493"/>
                </a:lnTo>
                <a:lnTo>
                  <a:pt x="12572" y="7493"/>
                </a:lnTo>
                <a:lnTo>
                  <a:pt x="16079" y="3985"/>
                </a:lnTo>
                <a:lnTo>
                  <a:pt x="19752" y="7493"/>
                </a:lnTo>
                <a:lnTo>
                  <a:pt x="17916" y="7493"/>
                </a:lnTo>
                <a:lnTo>
                  <a:pt x="17916" y="12828"/>
                </a:lnTo>
                <a:cubicBezTo>
                  <a:pt x="17916" y="15596"/>
                  <a:pt x="15339" y="18155"/>
                  <a:pt x="12572" y="18155"/>
                </a:cubicBezTo>
                <a:lnTo>
                  <a:pt x="10909" y="18155"/>
                </a:lnTo>
                <a:cubicBezTo>
                  <a:pt x="8141" y="18155"/>
                  <a:pt x="5565" y="15596"/>
                  <a:pt x="5565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27"/>
          <p:cNvSpPr/>
          <p:nvPr/>
        </p:nvSpPr>
        <p:spPr>
          <a:xfrm flipV="1">
            <a:off x="1405080" y="1917720"/>
            <a:ext cx="502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азательство признака комплана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3"/>
              <p:cNvSpPr txBox="1"/>
              <p:nvPr/>
            </p:nvSpPr>
            <p:spPr>
              <a:xfrm>
                <a:off x="4211640" y="1628640"/>
                <a:ext cx="244800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которы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ь</m:t>
                        </m:r>
                        <m:r>
                          <m:t xml:space="preserve">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AutoShape 4"/>
          <p:cNvSpPr/>
          <p:nvPr/>
        </p:nvSpPr>
        <p:spPr>
          <a:xfrm>
            <a:off x="1405080" y="1917720"/>
            <a:ext cx="2016000" cy="792000"/>
          </a:xfrm>
          <a:prstGeom prst="parallelogram">
            <a:avLst>
              <a:gd name="adj" fmla="val 63636"/>
            </a:avLst>
          </a:prstGeom>
          <a:solidFill>
            <a:srgbClr val="ff3300">
              <a:alpha val="32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405080" y="2925720"/>
            <a:ext cx="718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1405080" y="2709720"/>
            <a:ext cx="718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 flipV="1">
            <a:off x="1405080" y="1917720"/>
            <a:ext cx="2016000" cy="7920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 flipV="1">
            <a:off x="1405080" y="2349000"/>
            <a:ext cx="21564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3276720" y="184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1117440" y="26384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916360" y="2637000"/>
            <a:ext cx="43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1476360" y="1701720"/>
            <a:ext cx="43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9"/>
              <p:cNvSpPr txBox="1"/>
              <p:nvPr/>
            </p:nvSpPr>
            <p:spPr>
              <a:xfrm>
                <a:off x="1908000" y="1557360"/>
                <a:ext cx="2232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0"/>
              <p:cNvSpPr txBox="1"/>
              <p:nvPr/>
            </p:nvSpPr>
            <p:spPr>
              <a:xfrm>
                <a:off x="973080" y="2062080"/>
                <a:ext cx="338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1"/>
              <p:cNvSpPr txBox="1"/>
              <p:nvPr/>
            </p:nvSpPr>
            <p:spPr>
              <a:xfrm>
                <a:off x="2124000" y="2709720"/>
                <a:ext cx="338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4"/>
              <p:cNvSpPr txBox="1"/>
              <p:nvPr/>
            </p:nvSpPr>
            <p:spPr>
              <a:xfrm>
                <a:off x="971640" y="3541680"/>
                <a:ext cx="5400720" cy="29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усть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ллинеарны</m:t>
                        </m:r>
                      </m:e>
                      <m:e>
                        <m:r>
                          <m:t xml:space="preserve">О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оизвольн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а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AB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ежат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дн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лоскости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  <m:r>
                          <m:t xml:space="preserve"> </m:t>
                        </m:r>
                        <m:r>
                          <m:t xml:space="preserve">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AutoShape 25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7493"/>
                </a:moveTo>
                <a:lnTo>
                  <a:pt x="9073" y="7493"/>
                </a:lnTo>
                <a:lnTo>
                  <a:pt x="9073" y="12828"/>
                </a:lnTo>
                <a:cubicBezTo>
                  <a:pt x="9073" y="13751"/>
                  <a:pt x="9873" y="14482"/>
                  <a:pt x="10909" y="14482"/>
                </a:cubicBezTo>
                <a:lnTo>
                  <a:pt x="12572" y="14482"/>
                </a:lnTo>
                <a:cubicBezTo>
                  <a:pt x="13607" y="14482"/>
                  <a:pt x="14408" y="13751"/>
                  <a:pt x="14408" y="12828"/>
                </a:cubicBezTo>
                <a:lnTo>
                  <a:pt x="14408" y="7493"/>
                </a:lnTo>
                <a:lnTo>
                  <a:pt x="12572" y="7493"/>
                </a:lnTo>
                <a:lnTo>
                  <a:pt x="16079" y="3985"/>
                </a:lnTo>
                <a:lnTo>
                  <a:pt x="19752" y="7493"/>
                </a:lnTo>
                <a:lnTo>
                  <a:pt x="17916" y="7493"/>
                </a:lnTo>
                <a:lnTo>
                  <a:pt x="17916" y="12828"/>
                </a:lnTo>
                <a:cubicBezTo>
                  <a:pt x="17916" y="15596"/>
                  <a:pt x="15339" y="18155"/>
                  <a:pt x="12572" y="18155"/>
                </a:cubicBezTo>
                <a:lnTo>
                  <a:pt x="10909" y="18155"/>
                </a:lnTo>
                <a:cubicBezTo>
                  <a:pt x="8141" y="18155"/>
                  <a:pt x="5565" y="15596"/>
                  <a:pt x="5565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1405080" y="2709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1549440" y="213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2052720" y="2421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1"/>
          <p:cNvSpPr/>
          <p:nvPr/>
        </p:nvSpPr>
        <p:spPr>
          <a:xfrm flipV="1">
            <a:off x="1189080" y="2349000"/>
            <a:ext cx="21600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33"/>
              <p:cNvSpPr txBox="1"/>
              <p:nvPr/>
            </p:nvSpPr>
            <p:spPr>
              <a:xfrm>
                <a:off x="2268360" y="1916280"/>
                <a:ext cx="2286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войство компланарных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ек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971640" y="1628640"/>
                <a:ext cx="699444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дин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их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можн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ыразит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инейны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бразо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в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ругих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едставить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иде</m:t>
                        </m:r>
                        <m:r>
                          <m:t xml:space="preserve">: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AutoShape 7">
            <a:hlinkClick r:id="rId1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0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3"/>
              <p:cNvSpPr txBox="1"/>
              <p:nvPr/>
            </p:nvSpPr>
            <p:spPr>
              <a:xfrm>
                <a:off x="971640" y="2781360"/>
                <a:ext cx="51116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че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эффициент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зложени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пределяютс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динственны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бразо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Понятие вектора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Коллинеарные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Компланарные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4" action="ppaction://hlinksldjump"/>
              </a:rPr>
              <a:t>Действия с вект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5" action="ppaction://hlinksldjump"/>
              </a:rPr>
              <a:t>Разложение 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6" action="ppaction://hlinksldjump"/>
              </a:rPr>
              <a:t>Базисны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7" action="ppaction://hlinksldjump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8" action="ppaction://hlinksldjump"/>
              </a:rPr>
              <a:t>Помощь в управлении презент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0">
            <a:hlinkClick r:id="" action="ppaction://hlinkshowjump?jump=endshow"/>
          </p:cNvPr>
          <p:cNvSpPr/>
          <p:nvPr/>
        </p:nvSpPr>
        <p:spPr>
          <a:xfrm>
            <a:off x="1042920" y="6165720"/>
            <a:ext cx="1368360" cy="43200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йствия с векто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Умножение вектора на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4" action="ppaction://hlinksldjump"/>
              </a:rPr>
              <a:t>Скалярное 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0">
            <a:hlinkClick r:id="rId5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ложение век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99640" y="1125000"/>
            <a:ext cx="755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Правил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Правило паралле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Правило много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4" action="ppaction://hlinksldjump"/>
              </a:rPr>
              <a:t>Правило параллелепип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5" action="ppaction://hlinksldjump"/>
              </a:rPr>
              <a:t>Свойства с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0">
            <a:hlinkClick r:id="rId6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">
            <a:hlinkClick r:id="rId7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"/>
          <p:cNvSpPr/>
          <p:nvPr/>
        </p:nvSpPr>
        <p:spPr>
          <a:xfrm flipV="1">
            <a:off x="1908000" y="4219200"/>
            <a:ext cx="107964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5"/>
              <p:cNvSpPr txBox="1"/>
              <p:nvPr/>
            </p:nvSpPr>
            <p:spPr>
              <a:xfrm>
                <a:off x="2050920" y="4076640"/>
                <a:ext cx="424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6"/>
              <p:cNvSpPr txBox="1"/>
              <p:nvPr/>
            </p:nvSpPr>
            <p:spPr>
              <a:xfrm>
                <a:off x="2411280" y="5445000"/>
                <a:ext cx="432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Line 17"/>
          <p:cNvSpPr/>
          <p:nvPr/>
        </p:nvSpPr>
        <p:spPr>
          <a:xfrm flipV="1">
            <a:off x="4500720" y="4365360"/>
            <a:ext cx="107928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4500720" y="5229360"/>
            <a:ext cx="115236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5580000" y="4365720"/>
            <a:ext cx="73080" cy="151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0"/>
              <p:cNvSpPr txBox="1"/>
              <p:nvPr/>
            </p:nvSpPr>
            <p:spPr>
              <a:xfrm>
                <a:off x="4643280" y="4221000"/>
                <a:ext cx="424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1"/>
              <p:cNvSpPr txBox="1"/>
              <p:nvPr/>
            </p:nvSpPr>
            <p:spPr>
              <a:xfrm>
                <a:off x="5724360" y="4726080"/>
                <a:ext cx="432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8" name="Text Box 22"/>
          <p:cNvSpPr/>
          <p:nvPr/>
        </p:nvSpPr>
        <p:spPr>
          <a:xfrm>
            <a:off x="4140360" y="501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5435640" y="400536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565308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5"/>
              <p:cNvSpPr txBox="1"/>
              <p:nvPr/>
            </p:nvSpPr>
            <p:spPr>
              <a:xfrm>
                <a:off x="4068720" y="5518080"/>
                <a:ext cx="1144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2" name="Line 0"/>
          <p:cNvSpPr/>
          <p:nvPr/>
        </p:nvSpPr>
        <p:spPr>
          <a:xfrm>
            <a:off x="2771640" y="4940280"/>
            <a:ext cx="73080" cy="151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">
            <a:hlinkClick r:id="" action="ppaction://hlinkshowjump?jump=nextslide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3794"/>
                </a:moveTo>
                <a:lnTo>
                  <a:pt x="19578" y="10800"/>
                </a:lnTo>
                <a:lnTo>
                  <a:pt x="556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958680" y="1628640"/>
                <a:ext cx="657864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ложени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ву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о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обходимо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ложит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кой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ибуд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</m:t>
                        </m:r>
                      </m:e>
                      <m:e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ный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971640" y="2781360"/>
                <a:ext cx="64087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чки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ложить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ектор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авный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971640" y="3284640"/>
                <a:ext cx="64119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ектор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зываетс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суммой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екторов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7" name="AutoShape 11">
            <a:hlinkClick r:id="rId1" action="ppaction://hlinksldjump"/>
          </p:cNvPr>
          <p:cNvSpPr/>
          <p:nvPr/>
        </p:nvSpPr>
        <p:spPr>
          <a:xfrm>
            <a:off x="7308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">
            <a:hlinkClick r:id="rId2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"/>
          <p:cNvSpPr/>
          <p:nvPr/>
        </p:nvSpPr>
        <p:spPr>
          <a:xfrm flipV="1">
            <a:off x="3564000" y="2204640"/>
            <a:ext cx="107928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564000" y="3068640"/>
            <a:ext cx="115236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4643280" y="2205000"/>
            <a:ext cx="73080" cy="151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8"/>
              <p:cNvSpPr txBox="1"/>
              <p:nvPr/>
            </p:nvSpPr>
            <p:spPr>
              <a:xfrm>
                <a:off x="3706920" y="2060640"/>
                <a:ext cx="423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9"/>
              <p:cNvSpPr txBox="1"/>
              <p:nvPr/>
            </p:nvSpPr>
            <p:spPr>
              <a:xfrm>
                <a:off x="4788000" y="2565360"/>
                <a:ext cx="431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5" name="Text Box 10"/>
          <p:cNvSpPr/>
          <p:nvPr/>
        </p:nvSpPr>
        <p:spPr>
          <a:xfrm>
            <a:off x="3203640" y="2852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4498920" y="184464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4716360" y="364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3"/>
              <p:cNvSpPr txBox="1"/>
              <p:nvPr/>
            </p:nvSpPr>
            <p:spPr>
              <a:xfrm>
                <a:off x="3132000" y="3357720"/>
                <a:ext cx="1144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9" name="Text Box 14"/>
          <p:cNvSpPr/>
          <p:nvPr/>
        </p:nvSpPr>
        <p:spPr>
          <a:xfrm>
            <a:off x="1403280" y="465300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900000" y="42210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ля любых трех точек А, В и С 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6"/>
              <p:cNvSpPr txBox="1"/>
              <p:nvPr/>
            </p:nvSpPr>
            <p:spPr>
              <a:xfrm>
                <a:off x="2987640" y="4797360"/>
                <a:ext cx="2665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2" name="Oval 19"/>
          <p:cNvSpPr/>
          <p:nvPr/>
        </p:nvSpPr>
        <p:spPr>
          <a:xfrm>
            <a:off x="3348000" y="4797360"/>
            <a:ext cx="863640" cy="79236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0"/>
          <p:cNvSpPr/>
          <p:nvPr/>
        </p:nvSpPr>
        <p:spPr>
          <a:xfrm flipH="1" rot="64800">
            <a:off x="3203640" y="5373360"/>
            <a:ext cx="1155600" cy="772920"/>
          </a:xfrm>
          <a:custGeom>
            <a:avLst/>
            <a:gdLst/>
            <a:ahLst/>
            <a:rect l="l" t="t" r="r" b="b"/>
            <a:pathLst>
              <a:path w="1860" h="371">
                <a:moveTo>
                  <a:pt x="1860" y="46"/>
                </a:moveTo>
                <a:cubicBezTo>
                  <a:pt x="1493" y="208"/>
                  <a:pt x="1126" y="371"/>
                  <a:pt x="816" y="363"/>
                </a:cubicBezTo>
                <a:cubicBezTo>
                  <a:pt x="506" y="355"/>
                  <a:pt x="253" y="177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"/>
          <p:cNvSpPr/>
          <p:nvPr/>
        </p:nvSpPr>
        <p:spPr>
          <a:xfrm>
            <a:off x="4932360" y="544500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4">
            <a:hlinkClick r:id="rId1" action="ppaction://hlinksldjump"/>
          </p:cNvPr>
          <p:cNvSpPr/>
          <p:nvPr/>
        </p:nvSpPr>
        <p:spPr>
          <a:xfrm>
            <a:off x="7308720" y="6165720"/>
            <a:ext cx="501840" cy="432000"/>
          </a:xfrm>
          <a:custGeom>
            <a:avLst/>
            <a:gdLst>
              <a:gd name="textAreaLeft" fmla="*/ 27720 w 501840"/>
              <a:gd name="textAreaRight" fmla="*/ 474120 w 5018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089" h="21600">
                <a:moveTo>
                  <a:pt x="0" y="0"/>
                </a:moveTo>
                <a:lnTo>
                  <a:pt x="25089" y="0"/>
                </a:lnTo>
                <a:lnTo>
                  <a:pt x="25089" y="21600"/>
                </a:lnTo>
                <a:lnTo>
                  <a:pt x="0" y="21600"/>
                </a:lnTo>
                <a:close/>
              </a:path>
              <a:path fill="lightenLess" w="25089" h="21600">
                <a:moveTo>
                  <a:pt x="0" y="0"/>
                </a:moveTo>
                <a:lnTo>
                  <a:pt x="25089" y="0"/>
                </a:lnTo>
                <a:lnTo>
                  <a:pt x="23689" y="1400"/>
                </a:lnTo>
                <a:lnTo>
                  <a:pt x="1400" y="1400"/>
                </a:lnTo>
                <a:close/>
              </a:path>
              <a:path fill="darken" w="25089" h="21600">
                <a:moveTo>
                  <a:pt x="25089" y="0"/>
                </a:moveTo>
                <a:lnTo>
                  <a:pt x="25089" y="21600"/>
                </a:lnTo>
                <a:lnTo>
                  <a:pt x="23689" y="20200"/>
                </a:lnTo>
                <a:lnTo>
                  <a:pt x="23689" y="1400"/>
                </a:lnTo>
                <a:close/>
              </a:path>
              <a:path fill="darkenLess" w="25089" h="21600">
                <a:moveTo>
                  <a:pt x="25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9" y="20200"/>
                </a:lnTo>
                <a:close/>
              </a:path>
              <a:path fill="lighten" w="25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9" h="21600">
                <a:moveTo>
                  <a:pt x="5538" y="10800"/>
                </a:moveTo>
                <a:lnTo>
                  <a:pt x="19551" y="3794"/>
                </a:lnTo>
                <a:lnTo>
                  <a:pt x="1955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5">
            <a:hlinkClick r:id="rId2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6">
            <a:hlinkClick r:id="rId3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параллелограм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0"/>
              <p:cNvSpPr txBox="1"/>
              <p:nvPr/>
            </p:nvSpPr>
            <p:spPr>
              <a:xfrm>
                <a:off x="971640" y="1413000"/>
                <a:ext cx="62643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ложени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ву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о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обходимо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ложит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кой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ибуд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ный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Line 4"/>
          <p:cNvSpPr/>
          <p:nvPr/>
        </p:nvSpPr>
        <p:spPr>
          <a:xfrm flipV="1">
            <a:off x="973080" y="5236920"/>
            <a:ext cx="107964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971640" y="645336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6"/>
              <p:cNvSpPr txBox="1"/>
              <p:nvPr/>
            </p:nvSpPr>
            <p:spPr>
              <a:xfrm>
                <a:off x="1260360" y="5084640"/>
                <a:ext cx="424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7"/>
              <p:cNvSpPr txBox="1"/>
              <p:nvPr/>
            </p:nvSpPr>
            <p:spPr>
              <a:xfrm>
                <a:off x="1836720" y="5805360"/>
                <a:ext cx="431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74" name="Line 9"/>
          <p:cNvSpPr/>
          <p:nvPr/>
        </p:nvSpPr>
        <p:spPr>
          <a:xfrm>
            <a:off x="3708360" y="610236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0"/>
          <p:cNvSpPr/>
          <p:nvPr/>
        </p:nvSpPr>
        <p:spPr>
          <a:xfrm flipV="1">
            <a:off x="3708360" y="5236920"/>
            <a:ext cx="107964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1"/>
          <p:cNvSpPr/>
          <p:nvPr/>
        </p:nvSpPr>
        <p:spPr>
          <a:xfrm flipV="1">
            <a:off x="5651640" y="5236920"/>
            <a:ext cx="107928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"/>
          <p:cNvSpPr/>
          <p:nvPr/>
        </p:nvSpPr>
        <p:spPr>
          <a:xfrm>
            <a:off x="4788000" y="5237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3"/>
          <p:cNvSpPr/>
          <p:nvPr/>
        </p:nvSpPr>
        <p:spPr>
          <a:xfrm flipV="1">
            <a:off x="3708360" y="5236920"/>
            <a:ext cx="3024360" cy="865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3635280" y="6021360"/>
                <a:ext cx="1917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5"/>
              <p:cNvSpPr txBox="1"/>
              <p:nvPr/>
            </p:nvSpPr>
            <p:spPr>
              <a:xfrm>
                <a:off x="3851280" y="5165640"/>
                <a:ext cx="423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6"/>
              <p:cNvSpPr txBox="1"/>
              <p:nvPr/>
            </p:nvSpPr>
            <p:spPr>
              <a:xfrm>
                <a:off x="5219640" y="5518080"/>
                <a:ext cx="424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7"/>
              <p:cNvSpPr txBox="1"/>
              <p:nvPr/>
            </p:nvSpPr>
            <p:spPr>
              <a:xfrm>
                <a:off x="4808520" y="5165640"/>
                <a:ext cx="380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3" name="Text Box 3"/>
          <p:cNvSpPr/>
          <p:nvPr/>
        </p:nvSpPr>
        <p:spPr>
          <a:xfrm>
            <a:off x="3421080" y="5884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0720" y="4876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565164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912960" y="2708280"/>
                <a:ext cx="74577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чки</m:t>
                    </m:r>
                    <m:r>
                      <m:t xml:space="preserve"> </m:t>
                    </m:r>
                    <m:r>
                      <m:t xml:space="preserve">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ложить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ектор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авный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8"/>
              <p:cNvSpPr txBox="1"/>
              <p:nvPr/>
            </p:nvSpPr>
            <p:spPr>
              <a:xfrm>
                <a:off x="971640" y="3284640"/>
                <a:ext cx="735156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остроит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игур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араллелограмм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оведя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ополнительны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ини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араллельн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анным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а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9"/>
              <p:cNvSpPr txBox="1"/>
              <p:nvPr/>
            </p:nvSpPr>
            <p:spPr>
              <a:xfrm>
                <a:off x="971640" y="4508640"/>
                <a:ext cx="69451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диагональ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араллелограмм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сумм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екторо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AutoShape 11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2">
            <a:hlinkClick r:id="rId2" action="ppaction://hlinksldjump"/>
          </p:cNvPr>
          <p:cNvSpPr/>
          <p:nvPr/>
        </p:nvSpPr>
        <p:spPr>
          <a:xfrm>
            <a:off x="78138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войства с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15"/>
              <p:cNvSpPr txBox="1"/>
              <p:nvPr/>
            </p:nvSpPr>
            <p:spPr>
              <a:xfrm>
                <a:off x="900000" y="1628640"/>
                <a:ext cx="6696360" cy="229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юбы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ов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праведлив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авенства</m:t>
                        </m:r>
                        <m:r>
                          <m:t xml:space="preserve">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ереместитель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акон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с</m:t>
                                </m:r>
                              </m:e>
                            </m:acc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очетатель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акон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AutoShape 22">
            <a:hlinkClick r:id="rId1" action="ppaction://hlinksldjump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3">
            <a:hlinkClick r:id="rId2" action="ppaction://hlinksldjump"/>
          </p:cNvPr>
          <p:cNvSpPr/>
          <p:nvPr/>
        </p:nvSpPr>
        <p:spPr>
          <a:xfrm>
            <a:off x="7740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много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умма векторов равна вектору, проведе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з начала первого в конец последнего(при последовательном откладыван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0"/>
          <p:cNvSpPr/>
          <p:nvPr/>
        </p:nvSpPr>
        <p:spPr>
          <a:xfrm flipV="1">
            <a:off x="1116000" y="3428640"/>
            <a:ext cx="93492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"/>
          <p:cNvSpPr/>
          <p:nvPr/>
        </p:nvSpPr>
        <p:spPr>
          <a:xfrm>
            <a:off x="2050920" y="3429000"/>
            <a:ext cx="108108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"/>
          <p:cNvSpPr/>
          <p:nvPr/>
        </p:nvSpPr>
        <p:spPr>
          <a:xfrm flipH="1">
            <a:off x="2771280" y="3860640"/>
            <a:ext cx="360360" cy="136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 flipH="1" flipV="1">
            <a:off x="1547640" y="4868640"/>
            <a:ext cx="122400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 flipH="1" flipV="1">
            <a:off x="1115640" y="4076280"/>
            <a:ext cx="431640" cy="792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5"/>
              <p:cNvSpPr txBox="1"/>
              <p:nvPr/>
            </p:nvSpPr>
            <p:spPr>
              <a:xfrm>
                <a:off x="1187280" y="3141720"/>
                <a:ext cx="424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6"/>
              <p:cNvSpPr txBox="1"/>
              <p:nvPr/>
            </p:nvSpPr>
            <p:spPr>
              <a:xfrm>
                <a:off x="2556000" y="3068640"/>
                <a:ext cx="423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7"/>
              <p:cNvSpPr txBox="1"/>
              <p:nvPr/>
            </p:nvSpPr>
            <p:spPr>
              <a:xfrm>
                <a:off x="3008160" y="4365720"/>
                <a:ext cx="381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8"/>
              <p:cNvSpPr txBox="1"/>
              <p:nvPr/>
            </p:nvSpPr>
            <p:spPr>
              <a:xfrm>
                <a:off x="1743120" y="5013360"/>
                <a:ext cx="466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9"/>
              <p:cNvSpPr txBox="1"/>
              <p:nvPr/>
            </p:nvSpPr>
            <p:spPr>
              <a:xfrm>
                <a:off x="920880" y="4292640"/>
                <a:ext cx="382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10"/>
              <p:cNvSpPr txBox="1"/>
              <p:nvPr/>
            </p:nvSpPr>
            <p:spPr>
              <a:xfrm>
                <a:off x="3394080" y="3860640"/>
                <a:ext cx="34099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8" name="Text Box 0"/>
          <p:cNvSpPr/>
          <p:nvPr/>
        </p:nvSpPr>
        <p:spPr>
          <a:xfrm>
            <a:off x="1908000" y="3068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900000" y="3716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3132000" y="350028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2843280" y="5157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1258920" y="486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5"/>
              <p:cNvSpPr txBox="1"/>
              <p:nvPr/>
            </p:nvSpPr>
            <p:spPr>
              <a:xfrm>
                <a:off x="1042920" y="5734080"/>
                <a:ext cx="50976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4" name="Oval 6"/>
          <p:cNvSpPr/>
          <p:nvPr/>
        </p:nvSpPr>
        <p:spPr>
          <a:xfrm>
            <a:off x="1403280" y="5877000"/>
            <a:ext cx="1008000" cy="50472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7"/>
          <p:cNvSpPr/>
          <p:nvPr/>
        </p:nvSpPr>
        <p:spPr>
          <a:xfrm>
            <a:off x="2411280" y="5877000"/>
            <a:ext cx="1008360" cy="50472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8"/>
          <p:cNvSpPr/>
          <p:nvPr/>
        </p:nvSpPr>
        <p:spPr>
          <a:xfrm>
            <a:off x="3492360" y="5877000"/>
            <a:ext cx="1079640" cy="50472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9"/>
          <p:cNvSpPr/>
          <p:nvPr/>
        </p:nvSpPr>
        <p:spPr>
          <a:xfrm flipH="1" rot="64800">
            <a:off x="1331280" y="6237360"/>
            <a:ext cx="3384360" cy="422280"/>
          </a:xfrm>
          <a:custGeom>
            <a:avLst/>
            <a:gdLst/>
            <a:ahLst/>
            <a:rect l="l" t="t" r="r" b="b"/>
            <a:pathLst>
              <a:path w="1860" h="371">
                <a:moveTo>
                  <a:pt x="1860" y="46"/>
                </a:moveTo>
                <a:cubicBezTo>
                  <a:pt x="1493" y="208"/>
                  <a:pt x="1126" y="371"/>
                  <a:pt x="816" y="363"/>
                </a:cubicBezTo>
                <a:cubicBezTo>
                  <a:pt x="506" y="355"/>
                  <a:pt x="253" y="177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5364000" y="6308640"/>
            <a:ext cx="64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2">
            <a:hlinkClick r:id="rId1" action="ppaction://hlinksldjump"/>
          </p:cNvPr>
          <p:cNvSpPr/>
          <p:nvPr/>
        </p:nvSpPr>
        <p:spPr>
          <a:xfrm>
            <a:off x="4140360" y="4581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3">
            <a:hlinkClick r:id="rId3" action="ppaction://hlinksldjump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4">
            <a:hlinkClick r:id="rId4" action="ppaction://hlinksldjump"/>
          </p:cNvPr>
          <p:cNvSpPr/>
          <p:nvPr/>
        </p:nvSpPr>
        <p:spPr>
          <a:xfrm>
            <a:off x="7740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3708360" y="2276640"/>
            <a:ext cx="1655640" cy="1512720"/>
          </a:xfrm>
          <a:prstGeom prst="cube">
            <a:avLst>
              <a:gd name="adj" fmla="val 25000"/>
            </a:avLst>
          </a:prstGeom>
          <a:solidFill>
            <a:srgbClr val="ff0000">
              <a:alpha val="2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"/>
          <p:cNvSpPr/>
          <p:nvPr/>
        </p:nvSpPr>
        <p:spPr>
          <a:xfrm flipV="1">
            <a:off x="3708360" y="3428640"/>
            <a:ext cx="360360" cy="360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4068720" y="34290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4068720" y="2276640"/>
            <a:ext cx="0" cy="1152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5364000" y="32130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3348000" y="35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3780000" y="3139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5003640" y="37162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3348000" y="2349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3852720" y="1916280"/>
            <a:ext cx="57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5221440" y="1916280"/>
            <a:ext cx="50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4932360" y="249228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1"/>
          <p:cNvSpPr/>
          <p:nvPr/>
        </p:nvSpPr>
        <p:spPr>
          <a:xfrm flipV="1">
            <a:off x="5003640" y="2276280"/>
            <a:ext cx="36036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2"/>
          <p:cNvSpPr/>
          <p:nvPr/>
        </p:nvSpPr>
        <p:spPr>
          <a:xfrm flipV="1">
            <a:off x="3708360" y="2636640"/>
            <a:ext cx="0" cy="115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4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7493"/>
                </a:moveTo>
                <a:lnTo>
                  <a:pt x="9073" y="7493"/>
                </a:lnTo>
                <a:lnTo>
                  <a:pt x="9073" y="12828"/>
                </a:lnTo>
                <a:cubicBezTo>
                  <a:pt x="9073" y="13751"/>
                  <a:pt x="9873" y="14482"/>
                  <a:pt x="10909" y="14482"/>
                </a:cubicBezTo>
                <a:lnTo>
                  <a:pt x="12572" y="14482"/>
                </a:lnTo>
                <a:cubicBezTo>
                  <a:pt x="13607" y="14482"/>
                  <a:pt x="14408" y="13751"/>
                  <a:pt x="14408" y="12828"/>
                </a:cubicBezTo>
                <a:lnTo>
                  <a:pt x="14408" y="7493"/>
                </a:lnTo>
                <a:lnTo>
                  <a:pt x="12572" y="7493"/>
                </a:lnTo>
                <a:lnTo>
                  <a:pt x="16079" y="3985"/>
                </a:lnTo>
                <a:lnTo>
                  <a:pt x="19752" y="7493"/>
                </a:lnTo>
                <a:lnTo>
                  <a:pt x="17916" y="7493"/>
                </a:lnTo>
                <a:lnTo>
                  <a:pt x="17916" y="12828"/>
                </a:lnTo>
                <a:cubicBezTo>
                  <a:pt x="17916" y="15596"/>
                  <a:pt x="15339" y="18155"/>
                  <a:pt x="12572" y="18155"/>
                </a:cubicBezTo>
                <a:lnTo>
                  <a:pt x="10909" y="18155"/>
                </a:lnTo>
                <a:cubicBezTo>
                  <a:pt x="8141" y="18155"/>
                  <a:pt x="5565" y="15596"/>
                  <a:pt x="5565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5"/>
              <p:cNvSpPr txBox="1"/>
              <p:nvPr/>
            </p:nvSpPr>
            <p:spPr>
              <a:xfrm>
                <a:off x="1765440" y="4292640"/>
                <a:ext cx="8301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6"/>
              <p:cNvSpPr txBox="1"/>
              <p:nvPr/>
            </p:nvSpPr>
            <p:spPr>
              <a:xfrm>
                <a:off x="2484360" y="4292640"/>
                <a:ext cx="13575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8"/>
              <p:cNvSpPr txBox="1"/>
              <p:nvPr/>
            </p:nvSpPr>
            <p:spPr>
              <a:xfrm>
                <a:off x="3781440" y="4292640"/>
                <a:ext cx="12063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29"/>
              <p:cNvSpPr txBox="1"/>
              <p:nvPr/>
            </p:nvSpPr>
            <p:spPr>
              <a:xfrm>
                <a:off x="4933800" y="4292640"/>
                <a:ext cx="1019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0"/>
              <p:cNvSpPr txBox="1"/>
              <p:nvPr/>
            </p:nvSpPr>
            <p:spPr>
              <a:xfrm>
                <a:off x="5869080" y="4292640"/>
                <a:ext cx="1055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31"/>
              <p:cNvSpPr txBox="1"/>
              <p:nvPr/>
            </p:nvSpPr>
            <p:spPr>
              <a:xfrm>
                <a:off x="6877080" y="4292640"/>
                <a:ext cx="716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44" name="Line 32"/>
          <p:cNvSpPr/>
          <p:nvPr/>
        </p:nvSpPr>
        <p:spPr>
          <a:xfrm>
            <a:off x="3708360" y="2637000"/>
            <a:ext cx="1295280" cy="115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3"/>
          <p:cNvSpPr/>
          <p:nvPr/>
        </p:nvSpPr>
        <p:spPr>
          <a:xfrm flipH="1">
            <a:off x="3708000" y="3429000"/>
            <a:ext cx="35892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4"/>
          <p:cNvSpPr/>
          <p:nvPr/>
        </p:nvSpPr>
        <p:spPr>
          <a:xfrm flipH="1">
            <a:off x="4067280" y="3429000"/>
            <a:ext cx="129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0741E-007 L -0.14184 7.40741E-007 E">
                                      <p:cBhvr>
                                        <p:cTn id="552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48148E-006 L 0.03941 -0.05255 E">
                                      <p:cBhvr>
                                        <p:cTn id="563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7.40741E-006 L 0.14167 -7.40741E-006 E">
                                      <p:cBhvr>
                                        <p:cTn id="574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0 L -0.03923 0.05255 E">
                                      <p:cBhvr>
                                        <p:cTn id="585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AutoShape 1"/>
          <p:cNvSpPr/>
          <p:nvPr/>
        </p:nvSpPr>
        <p:spPr>
          <a:xfrm>
            <a:off x="2266920" y="3979800"/>
            <a:ext cx="1727280" cy="1150920"/>
          </a:xfrm>
          <a:prstGeom prst="cube">
            <a:avLst>
              <a:gd name="adj" fmla="val 25000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параллелепип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"/>
          <p:cNvSpPr/>
          <p:nvPr/>
        </p:nvSpPr>
        <p:spPr>
          <a:xfrm flipH="1">
            <a:off x="2554200" y="4843440"/>
            <a:ext cx="1440000" cy="14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"/>
          <p:cNvSpPr/>
          <p:nvPr/>
        </p:nvSpPr>
        <p:spPr>
          <a:xfrm>
            <a:off x="2554200" y="3979800"/>
            <a:ext cx="1800" cy="8636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"/>
          <p:cNvSpPr/>
          <p:nvPr/>
        </p:nvSpPr>
        <p:spPr>
          <a:xfrm flipH="1">
            <a:off x="2266920" y="4843440"/>
            <a:ext cx="287280" cy="289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"/>
          <p:cNvSpPr/>
          <p:nvPr/>
        </p:nvSpPr>
        <p:spPr>
          <a:xfrm flipV="1">
            <a:off x="2266920" y="3979800"/>
            <a:ext cx="1727280" cy="115272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7"/>
          <p:cNvSpPr/>
          <p:nvPr/>
        </p:nvSpPr>
        <p:spPr>
          <a:xfrm flipV="1">
            <a:off x="2268360" y="4797360"/>
            <a:ext cx="287640" cy="28728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2482920" y="44830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978200" y="49878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3996000" y="4533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3636720" y="5037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1906560" y="39798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2266920" y="3619440"/>
            <a:ext cx="420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3994200" y="36910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3635280" y="412416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 flipV="1">
            <a:off x="2266920" y="4267080"/>
            <a:ext cx="1440" cy="865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0"/>
              <p:cNvSpPr txBox="1"/>
              <p:nvPr/>
            </p:nvSpPr>
            <p:spPr>
              <a:xfrm>
                <a:off x="4932360" y="3500280"/>
                <a:ext cx="1432080" cy="215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21"/>
              <p:cNvSpPr txBox="1"/>
              <p:nvPr/>
            </p:nvSpPr>
            <p:spPr>
              <a:xfrm>
                <a:off x="2771640" y="5157720"/>
                <a:ext cx="328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23"/>
              <p:cNvSpPr txBox="1"/>
              <p:nvPr/>
            </p:nvSpPr>
            <p:spPr>
              <a:xfrm>
                <a:off x="1849320" y="4483080"/>
                <a:ext cx="295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4"/>
              <p:cNvSpPr txBox="1"/>
              <p:nvPr/>
            </p:nvSpPr>
            <p:spPr>
              <a:xfrm>
                <a:off x="2268360" y="4437000"/>
                <a:ext cx="328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5"/>
              <p:cNvSpPr txBox="1"/>
              <p:nvPr/>
            </p:nvSpPr>
            <p:spPr>
              <a:xfrm>
                <a:off x="2986200" y="4051440"/>
                <a:ext cx="36036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68" name="Text Box 0"/>
          <p:cNvSpPr/>
          <p:nvPr/>
        </p:nvSpPr>
        <p:spPr>
          <a:xfrm>
            <a:off x="971640" y="1484280"/>
            <a:ext cx="7129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ектор, лежащий на диагонали параллелепипеда, равен сумме векторов, проведенных из той же точки и лежащих на трех измерениях параллелепип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"/>
              <p:cNvSpPr txBox="1"/>
              <p:nvPr/>
            </p:nvSpPr>
            <p:spPr>
              <a:xfrm>
                <a:off x="1547640" y="5734080"/>
                <a:ext cx="3042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0" name="Line 6"/>
          <p:cNvSpPr/>
          <p:nvPr/>
        </p:nvSpPr>
        <p:spPr>
          <a:xfrm>
            <a:off x="2268360" y="5157720"/>
            <a:ext cx="1440000" cy="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9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0">
            <a:hlinkClick r:id="rId2" action="ppaction://hlinksldjump"/>
          </p:cNvPr>
          <p:cNvSpPr/>
          <p:nvPr/>
        </p:nvSpPr>
        <p:spPr>
          <a:xfrm>
            <a:off x="78138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0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6.2963E-006 L 0.15747 6.2963E-006 E">
                                      <p:cBhvr>
                                        <p:cTn id="623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6 L 0.18889 -0.0419 E">
                                      <p:cBhvr>
                                        <p:cTn id="626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3490920" y="1844640"/>
            <a:ext cx="1727280" cy="1150920"/>
          </a:xfrm>
          <a:prstGeom prst="cube">
            <a:avLst>
              <a:gd name="adj" fmla="val 25000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8"/>
          <p:cNvSpPr/>
          <p:nvPr/>
        </p:nvSpPr>
        <p:spPr>
          <a:xfrm flipH="1">
            <a:off x="3778200" y="2708280"/>
            <a:ext cx="1440000" cy="14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>
            <a:off x="3778200" y="1844640"/>
            <a:ext cx="1800" cy="8636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0"/>
          <p:cNvSpPr/>
          <p:nvPr/>
        </p:nvSpPr>
        <p:spPr>
          <a:xfrm flipH="1">
            <a:off x="3490920" y="270828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 flipV="1">
            <a:off x="3490920" y="1844640"/>
            <a:ext cx="1727280" cy="1152720"/>
          </a:xfrm>
          <a:prstGeom prst="line">
            <a:avLst/>
          </a:prstGeom>
          <a:ln w="25560">
            <a:solidFill>
              <a:srgbClr val="0000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2"/>
          <p:cNvSpPr/>
          <p:nvPr/>
        </p:nvSpPr>
        <p:spPr>
          <a:xfrm>
            <a:off x="3490920" y="2997360"/>
            <a:ext cx="14400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"/>
          <p:cNvSpPr/>
          <p:nvPr/>
        </p:nvSpPr>
        <p:spPr>
          <a:xfrm flipV="1">
            <a:off x="3490920" y="2707920"/>
            <a:ext cx="287280" cy="289080"/>
          </a:xfrm>
          <a:prstGeom prst="line">
            <a:avLst/>
          </a:prstGeom>
          <a:ln w="25560">
            <a:solidFill>
              <a:srgbClr val="ff33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3706920" y="23479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3201840" y="2852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5220000" y="2398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4860720" y="2901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8"/>
          <p:cNvSpPr/>
          <p:nvPr/>
        </p:nvSpPr>
        <p:spPr>
          <a:xfrm>
            <a:off x="3130560" y="18446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9"/>
          <p:cNvSpPr/>
          <p:nvPr/>
        </p:nvSpPr>
        <p:spPr>
          <a:xfrm>
            <a:off x="3490920" y="1484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0"/>
          <p:cNvSpPr/>
          <p:nvPr/>
        </p:nvSpPr>
        <p:spPr>
          <a:xfrm>
            <a:off x="5218200" y="155592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1"/>
          <p:cNvSpPr/>
          <p:nvPr/>
        </p:nvSpPr>
        <p:spPr>
          <a:xfrm>
            <a:off x="4859280" y="198900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2"/>
          <p:cNvSpPr/>
          <p:nvPr/>
        </p:nvSpPr>
        <p:spPr>
          <a:xfrm flipV="1">
            <a:off x="3490920" y="2131920"/>
            <a:ext cx="1440" cy="865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23"/>
              <p:cNvSpPr txBox="1"/>
              <p:nvPr/>
            </p:nvSpPr>
            <p:spPr>
              <a:xfrm>
                <a:off x="3490920" y="2276640"/>
                <a:ext cx="3286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24"/>
              <p:cNvSpPr txBox="1"/>
              <p:nvPr/>
            </p:nvSpPr>
            <p:spPr>
              <a:xfrm>
                <a:off x="3073320" y="2347920"/>
                <a:ext cx="295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25"/>
              <p:cNvSpPr txBox="1"/>
              <p:nvPr/>
            </p:nvSpPr>
            <p:spPr>
              <a:xfrm>
                <a:off x="3994200" y="2995560"/>
                <a:ext cx="328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26"/>
              <p:cNvSpPr txBox="1"/>
              <p:nvPr/>
            </p:nvSpPr>
            <p:spPr>
              <a:xfrm>
                <a:off x="4210200" y="1916280"/>
                <a:ext cx="36036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4" name="AutoShape 27">
            <a:hlinkClick r:id="rId1" action="ppaction://hlinksldjump"/>
          </p:cNvPr>
          <p:cNvSpPr/>
          <p:nvPr/>
        </p:nvSpPr>
        <p:spPr>
          <a:xfrm>
            <a:off x="7308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31"/>
              <p:cNvSpPr txBox="1"/>
              <p:nvPr/>
            </p:nvSpPr>
            <p:spPr>
              <a:xfrm>
                <a:off x="971640" y="3873600"/>
                <a:ext cx="629748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араллелепипеда</m:t>
                        </m:r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ямоугольного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араллелепипед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6" name="AutoShape 32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3">
            <a:hlinkClick r:id="rId3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нятие вектора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ктор(направленный отрезок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резок, для которого указано какой из его концов считается началом, а какой – конц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лина вектор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– длина отрез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 flipV="1">
            <a:off x="1476360" y="3645000"/>
            <a:ext cx="86364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187280" y="4292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234000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0"/>
          <p:cNvSpPr/>
          <p:nvPr/>
        </p:nvSpPr>
        <p:spPr>
          <a:xfrm>
            <a:off x="1403280" y="4365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1"/>
          <p:cNvSpPr/>
          <p:nvPr/>
        </p:nvSpPr>
        <p:spPr>
          <a:xfrm>
            <a:off x="2340000" y="35733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3"/>
          <p:cNvSpPr/>
          <p:nvPr/>
        </p:nvSpPr>
        <p:spPr>
          <a:xfrm>
            <a:off x="2987640" y="364500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3419640" y="357336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2"/>
          <p:cNvSpPr/>
          <p:nvPr/>
        </p:nvSpPr>
        <p:spPr>
          <a:xfrm>
            <a:off x="334800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3"/>
              <p:cNvSpPr txBox="1"/>
              <p:nvPr/>
            </p:nvSpPr>
            <p:spPr>
              <a:xfrm>
                <a:off x="1979640" y="3933720"/>
                <a:ext cx="720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" name="Line 35"/>
          <p:cNvSpPr/>
          <p:nvPr/>
        </p:nvSpPr>
        <p:spPr>
          <a:xfrm>
            <a:off x="3492360" y="3716280"/>
            <a:ext cx="79236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6"/>
          <p:cNvSpPr/>
          <p:nvPr/>
        </p:nvSpPr>
        <p:spPr>
          <a:xfrm>
            <a:off x="3419640" y="3645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7"/>
          <p:cNvSpPr/>
          <p:nvPr/>
        </p:nvSpPr>
        <p:spPr>
          <a:xfrm>
            <a:off x="4284720" y="4437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4284720" y="3645000"/>
            <a:ext cx="35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6"/>
              <p:cNvSpPr txBox="1"/>
              <p:nvPr/>
            </p:nvSpPr>
            <p:spPr>
              <a:xfrm>
                <a:off x="4140360" y="3573360"/>
                <a:ext cx="360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Oval 47"/>
          <p:cNvSpPr/>
          <p:nvPr/>
        </p:nvSpPr>
        <p:spPr>
          <a:xfrm>
            <a:off x="5651640" y="39322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8"/>
          <p:cNvSpPr/>
          <p:nvPr/>
        </p:nvSpPr>
        <p:spPr>
          <a:xfrm>
            <a:off x="5724360" y="357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9"/>
          <p:cNvSpPr/>
          <p:nvPr/>
        </p:nvSpPr>
        <p:spPr>
          <a:xfrm>
            <a:off x="5580000" y="429264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50"/>
              <p:cNvSpPr txBox="1"/>
              <p:nvPr/>
            </p:nvSpPr>
            <p:spPr>
              <a:xfrm>
                <a:off x="5580000" y="4076640"/>
                <a:ext cx="12970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3"/>
              <p:cNvSpPr txBox="1"/>
              <p:nvPr/>
            </p:nvSpPr>
            <p:spPr>
              <a:xfrm>
                <a:off x="1023840" y="5637240"/>
                <a:ext cx="18147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5"/>
              <p:cNvSpPr txBox="1"/>
              <p:nvPr/>
            </p:nvSpPr>
            <p:spPr>
              <a:xfrm>
                <a:off x="3276720" y="5686560"/>
                <a:ext cx="11509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AutoShape 0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0"/>
              <p:cNvSpPr txBox="1"/>
              <p:nvPr/>
            </p:nvSpPr>
            <p:spPr>
              <a:xfrm>
                <a:off x="3564000" y="5084640"/>
                <a:ext cx="647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читание век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Сложение с противополож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6">
            <a:hlinkClick r:id="rId3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7">
            <a:hlinkClick r:id="rId4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570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ностью векторов      и      называется та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ектор, сумма которого с вектором     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ектору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3924360" y="1557360"/>
                <a:ext cx="3762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500720" y="1557360"/>
                <a:ext cx="338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6"/>
              <p:cNvSpPr txBox="1"/>
              <p:nvPr/>
            </p:nvSpPr>
            <p:spPr>
              <a:xfrm>
                <a:off x="5940360" y="2060640"/>
                <a:ext cx="339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7"/>
              <p:cNvSpPr txBox="1"/>
              <p:nvPr/>
            </p:nvSpPr>
            <p:spPr>
              <a:xfrm>
                <a:off x="2195640" y="2492280"/>
                <a:ext cx="377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8" name="AutoShape 8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3794"/>
                </a:moveTo>
                <a:lnTo>
                  <a:pt x="19578" y="10800"/>
                </a:lnTo>
                <a:lnTo>
                  <a:pt x="556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9">
            <a:hlinkClick r:id="rId2" action="ppaction://hlinksldjump"/>
          </p:cNvPr>
          <p:cNvSpPr/>
          <p:nvPr/>
        </p:nvSpPr>
        <p:spPr>
          <a:xfrm>
            <a:off x="78138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0">
            <a:hlinkClick r:id="rId3" action="ppaction://hlinksldjump"/>
          </p:cNvPr>
          <p:cNvSpPr/>
          <p:nvPr/>
        </p:nvSpPr>
        <p:spPr>
          <a:xfrm>
            <a:off x="7308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"/>
          <p:cNvSpPr/>
          <p:nvPr/>
        </p:nvSpPr>
        <p:spPr>
          <a:xfrm flipV="1">
            <a:off x="5076720" y="4799160"/>
            <a:ext cx="1079640" cy="86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"/>
          <p:cNvSpPr/>
          <p:nvPr/>
        </p:nvSpPr>
        <p:spPr>
          <a:xfrm>
            <a:off x="5076720" y="5662440"/>
            <a:ext cx="1152720" cy="64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6"/>
          <p:cNvSpPr/>
          <p:nvPr/>
        </p:nvSpPr>
        <p:spPr>
          <a:xfrm>
            <a:off x="6156360" y="4799160"/>
            <a:ext cx="73080" cy="15112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6012000" y="44388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4716360" y="5373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0"/>
              <p:cNvSpPr txBox="1"/>
              <p:nvPr/>
            </p:nvSpPr>
            <p:spPr>
              <a:xfrm>
                <a:off x="6300720" y="5229360"/>
                <a:ext cx="8208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18" name="Rectangle 14"/>
          <p:cNvSpPr/>
          <p:nvPr/>
        </p:nvSpPr>
        <p:spPr>
          <a:xfrm>
            <a:off x="1033920" y="587700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Правило трех точек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16"/>
              <p:cNvSpPr txBox="1"/>
              <p:nvPr/>
            </p:nvSpPr>
            <p:spPr>
              <a:xfrm>
                <a:off x="971640" y="1628640"/>
                <a:ext cx="7561080" cy="13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ычитани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руг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обходимо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ложит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кой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ибуд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ный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7"/>
              <p:cNvSpPr txBox="1"/>
              <p:nvPr/>
            </p:nvSpPr>
            <p:spPr>
              <a:xfrm>
                <a:off x="971640" y="2852640"/>
                <a:ext cx="73119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эт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ж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ложит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ный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8"/>
              <p:cNvSpPr txBox="1"/>
              <p:nvPr/>
            </p:nvSpPr>
            <p:spPr>
              <a:xfrm>
                <a:off x="900000" y="3789360"/>
                <a:ext cx="7488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ектор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e>
                    </m:acc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зываетс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азностью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екторов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9"/>
              <p:cNvSpPr txBox="1"/>
              <p:nvPr/>
            </p:nvSpPr>
            <p:spPr>
              <a:xfrm>
                <a:off x="5219640" y="4653000"/>
                <a:ext cx="424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23" name="Text Box 20"/>
          <p:cNvSpPr/>
          <p:nvPr/>
        </p:nvSpPr>
        <p:spPr>
          <a:xfrm>
            <a:off x="6156360" y="623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1"/>
              <p:cNvSpPr txBox="1"/>
              <p:nvPr/>
            </p:nvSpPr>
            <p:spPr>
              <a:xfrm>
                <a:off x="5219640" y="5877000"/>
                <a:ext cx="424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25" name="Line 22"/>
          <p:cNvSpPr/>
          <p:nvPr/>
        </p:nvSpPr>
        <p:spPr>
          <a:xfrm flipV="1">
            <a:off x="1619280" y="4652640"/>
            <a:ext cx="107964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23"/>
              <p:cNvSpPr txBox="1"/>
              <p:nvPr/>
            </p:nvSpPr>
            <p:spPr>
              <a:xfrm>
                <a:off x="1763640" y="4508640"/>
                <a:ext cx="424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27" name="Line 24"/>
          <p:cNvSpPr/>
          <p:nvPr/>
        </p:nvSpPr>
        <p:spPr>
          <a:xfrm>
            <a:off x="2268360" y="5229360"/>
            <a:ext cx="115272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25"/>
              <p:cNvSpPr txBox="1"/>
              <p:nvPr/>
            </p:nvSpPr>
            <p:spPr>
              <a:xfrm>
                <a:off x="2843280" y="4941720"/>
                <a:ext cx="423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29" name="AutoShape 26">
            <a:hlinkClick r:id="rId3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7">
            <a:hlinkClick r:id="rId4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8">
            <a:hlinkClick r:id="rId5" action="ppaction://hlinksldjump"/>
          </p:cNvPr>
          <p:cNvSpPr/>
          <p:nvPr/>
        </p:nvSpPr>
        <p:spPr>
          <a:xfrm>
            <a:off x="7308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трех точ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42920" y="160020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юбой вектор можно представить как разность двух векторов, проведенных из одной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0"/>
              <p:cNvSpPr txBox="1"/>
              <p:nvPr/>
            </p:nvSpPr>
            <p:spPr>
              <a:xfrm>
                <a:off x="3800520" y="3213000"/>
                <a:ext cx="32828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K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5" name="Freeform 3"/>
          <p:cNvSpPr/>
          <p:nvPr/>
        </p:nvSpPr>
        <p:spPr>
          <a:xfrm rot="21392400">
            <a:off x="5651640" y="3860280"/>
            <a:ext cx="1011240" cy="571680"/>
          </a:xfrm>
          <a:custGeom>
            <a:avLst/>
            <a:gdLst/>
            <a:ahLst/>
            <a:rect l="l" t="t" r="r" b="b"/>
            <a:pathLst>
              <a:path w="1860" h="371">
                <a:moveTo>
                  <a:pt x="1860" y="46"/>
                </a:moveTo>
                <a:cubicBezTo>
                  <a:pt x="1493" y="208"/>
                  <a:pt x="1126" y="371"/>
                  <a:pt x="816" y="363"/>
                </a:cubicBezTo>
                <a:cubicBezTo>
                  <a:pt x="506" y="355"/>
                  <a:pt x="253" y="177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8"/>
          <p:cNvSpPr/>
          <p:nvPr/>
        </p:nvSpPr>
        <p:spPr>
          <a:xfrm flipV="1">
            <a:off x="1547640" y="3284280"/>
            <a:ext cx="107964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9"/>
          <p:cNvSpPr/>
          <p:nvPr/>
        </p:nvSpPr>
        <p:spPr>
          <a:xfrm>
            <a:off x="1547640" y="4148280"/>
            <a:ext cx="115272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0"/>
          <p:cNvSpPr/>
          <p:nvPr/>
        </p:nvSpPr>
        <p:spPr>
          <a:xfrm>
            <a:off x="2627280" y="3284640"/>
            <a:ext cx="73080" cy="1511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1187280" y="39322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2482920" y="2924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5"/>
          <p:cNvSpPr/>
          <p:nvPr/>
        </p:nvSpPr>
        <p:spPr>
          <a:xfrm>
            <a:off x="2700360" y="4724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0"/>
              <p:cNvSpPr txBox="1"/>
              <p:nvPr/>
            </p:nvSpPr>
            <p:spPr>
              <a:xfrm>
                <a:off x="2771640" y="3716280"/>
                <a:ext cx="5763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3" name="AutoShape 1">
            <a:hlinkClick r:id="rId1" action="ppaction://hlinksldjump"/>
          </p:cNvPr>
          <p:cNvSpPr/>
          <p:nvPr/>
        </p:nvSpPr>
        <p:spPr>
          <a:xfrm>
            <a:off x="831708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12624" y="3837"/>
                </a:moveTo>
                <a:lnTo>
                  <a:pt x="15200" y="6448"/>
                </a:lnTo>
                <a:lnTo>
                  <a:pt x="15200" y="4707"/>
                </a:lnTo>
                <a:lnTo>
                  <a:pt x="16976" y="4707"/>
                </a:lnTo>
                <a:lnTo>
                  <a:pt x="16976" y="8224"/>
                </a:lnTo>
                <a:lnTo>
                  <a:pt x="19587" y="10800"/>
                </a:lnTo>
                <a:lnTo>
                  <a:pt x="17933" y="10800"/>
                </a:lnTo>
                <a:lnTo>
                  <a:pt x="17933" y="17989"/>
                </a:lnTo>
                <a:lnTo>
                  <a:pt x="7315" y="17989"/>
                </a:lnTo>
                <a:lnTo>
                  <a:pt x="7315" y="10800"/>
                </a:lnTo>
                <a:lnTo>
                  <a:pt x="5661" y="10800"/>
                </a:lnTo>
                <a:close/>
              </a:path>
              <a:path fill="darkenLess" w="25248" h="21600">
                <a:moveTo>
                  <a:pt x="15200" y="6448"/>
                </a:moveTo>
                <a:lnTo>
                  <a:pt x="15200" y="4707"/>
                </a:lnTo>
                <a:lnTo>
                  <a:pt x="16976" y="4707"/>
                </a:lnTo>
                <a:lnTo>
                  <a:pt x="16976" y="8224"/>
                </a:lnTo>
                <a:close/>
              </a:path>
              <a:path fill="darkenLess" w="25248" h="21600">
                <a:moveTo>
                  <a:pt x="11701" y="14299"/>
                </a:moveTo>
                <a:lnTo>
                  <a:pt x="13547" y="14299"/>
                </a:lnTo>
                <a:lnTo>
                  <a:pt x="13547" y="17989"/>
                </a:lnTo>
                <a:lnTo>
                  <a:pt x="17933" y="17989"/>
                </a:lnTo>
                <a:lnTo>
                  <a:pt x="17933" y="10800"/>
                </a:lnTo>
                <a:lnTo>
                  <a:pt x="7315" y="10800"/>
                </a:lnTo>
                <a:lnTo>
                  <a:pt x="7315" y="17989"/>
                </a:lnTo>
                <a:lnTo>
                  <a:pt x="11701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">
            <a:hlinkClick r:id="rId2" action="ppaction://hlinksldjump"/>
          </p:cNvPr>
          <p:cNvSpPr/>
          <p:nvPr/>
        </p:nvSpPr>
        <p:spPr>
          <a:xfrm>
            <a:off x="7308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7493"/>
                </a:moveTo>
                <a:lnTo>
                  <a:pt x="9082" y="7493"/>
                </a:lnTo>
                <a:lnTo>
                  <a:pt x="9082" y="12828"/>
                </a:lnTo>
                <a:cubicBezTo>
                  <a:pt x="9082" y="13751"/>
                  <a:pt x="9882" y="14482"/>
                  <a:pt x="10918" y="14482"/>
                </a:cubicBezTo>
                <a:lnTo>
                  <a:pt x="12581" y="14482"/>
                </a:lnTo>
                <a:cubicBezTo>
                  <a:pt x="13616" y="14482"/>
                  <a:pt x="14417" y="13751"/>
                  <a:pt x="14417" y="12828"/>
                </a:cubicBezTo>
                <a:lnTo>
                  <a:pt x="14417" y="7493"/>
                </a:lnTo>
                <a:lnTo>
                  <a:pt x="12581" y="7493"/>
                </a:lnTo>
                <a:lnTo>
                  <a:pt x="16088" y="3985"/>
                </a:lnTo>
                <a:lnTo>
                  <a:pt x="19761" y="7493"/>
                </a:lnTo>
                <a:lnTo>
                  <a:pt x="17925" y="7493"/>
                </a:lnTo>
                <a:lnTo>
                  <a:pt x="17925" y="12828"/>
                </a:lnTo>
                <a:cubicBezTo>
                  <a:pt x="17925" y="15596"/>
                  <a:pt x="15348" y="18155"/>
                  <a:pt x="12581" y="18155"/>
                </a:cubicBezTo>
                <a:lnTo>
                  <a:pt x="10918" y="18155"/>
                </a:lnTo>
                <a:cubicBezTo>
                  <a:pt x="8150" y="18155"/>
                  <a:pt x="5574" y="15596"/>
                  <a:pt x="55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"/>
          <p:cNvSpPr/>
          <p:nvPr/>
        </p:nvSpPr>
        <p:spPr>
          <a:xfrm>
            <a:off x="3851280" y="386064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">
            <a:hlinkClick r:id="rId3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ложение с противополож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ность векторов       и       можно представить как сумму вектора        и вектора, противоположного вектору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0"/>
              <p:cNvSpPr txBox="1"/>
              <p:nvPr/>
            </p:nvSpPr>
            <p:spPr>
              <a:xfrm>
                <a:off x="3708360" y="1484280"/>
                <a:ext cx="424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"/>
              <p:cNvSpPr txBox="1"/>
              <p:nvPr/>
            </p:nvSpPr>
            <p:spPr>
              <a:xfrm>
                <a:off x="4427640" y="1484280"/>
                <a:ext cx="380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4859280" y="2421000"/>
                <a:ext cx="382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3"/>
              <p:cNvSpPr txBox="1"/>
              <p:nvPr/>
            </p:nvSpPr>
            <p:spPr>
              <a:xfrm>
                <a:off x="3635280" y="1989000"/>
                <a:ext cx="424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4"/>
              <p:cNvSpPr txBox="1"/>
              <p:nvPr/>
            </p:nvSpPr>
            <p:spPr>
              <a:xfrm>
                <a:off x="1149480" y="3106800"/>
                <a:ext cx="3197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4" name="Line 7"/>
          <p:cNvSpPr/>
          <p:nvPr/>
        </p:nvSpPr>
        <p:spPr>
          <a:xfrm flipV="1">
            <a:off x="1116000" y="4292280"/>
            <a:ext cx="107964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8"/>
          <p:cNvSpPr/>
          <p:nvPr/>
        </p:nvSpPr>
        <p:spPr>
          <a:xfrm>
            <a:off x="1116000" y="551664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9"/>
              <p:cNvSpPr txBox="1"/>
              <p:nvPr/>
            </p:nvSpPr>
            <p:spPr>
              <a:xfrm>
                <a:off x="1258920" y="4075200"/>
                <a:ext cx="423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10"/>
              <p:cNvSpPr txBox="1"/>
              <p:nvPr/>
            </p:nvSpPr>
            <p:spPr>
              <a:xfrm>
                <a:off x="2266920" y="4867200"/>
                <a:ext cx="432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8" name="Line 11"/>
          <p:cNvSpPr/>
          <p:nvPr/>
        </p:nvSpPr>
        <p:spPr>
          <a:xfrm flipV="1">
            <a:off x="5148360" y="4581000"/>
            <a:ext cx="107928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2"/>
          <p:cNvSpPr/>
          <p:nvPr/>
        </p:nvSpPr>
        <p:spPr>
          <a:xfrm>
            <a:off x="4284720" y="458136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3"/>
          <p:cNvSpPr/>
          <p:nvPr/>
        </p:nvSpPr>
        <p:spPr>
          <a:xfrm flipH="1" flipV="1">
            <a:off x="4284360" y="4581000"/>
            <a:ext cx="86364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6227640" y="4292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3995640" y="4292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5003640" y="537372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17"/>
              <p:cNvSpPr txBox="1"/>
              <p:nvPr/>
            </p:nvSpPr>
            <p:spPr>
              <a:xfrm>
                <a:off x="5724360" y="4940280"/>
                <a:ext cx="424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8"/>
              <p:cNvSpPr txBox="1"/>
              <p:nvPr/>
            </p:nvSpPr>
            <p:spPr>
              <a:xfrm>
                <a:off x="4906800" y="3860640"/>
                <a:ext cx="763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19"/>
              <p:cNvSpPr txBox="1"/>
              <p:nvPr/>
            </p:nvSpPr>
            <p:spPr>
              <a:xfrm>
                <a:off x="3635280" y="4869000"/>
                <a:ext cx="1144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67" name="AutoShape 2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3">
            <a:hlinkClick r:id="rId2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8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множение вектора на чис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0"/>
              <p:cNvSpPr txBox="1"/>
              <p:nvPr/>
            </p:nvSpPr>
            <p:spPr>
              <a:xfrm>
                <a:off x="988920" y="1628640"/>
                <a:ext cx="744876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оизведение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нулев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а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зываетс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ак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и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торог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авна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к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а</m:t>
                                </m:r>
                              </m:e>
                            </m:acc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е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онаправлен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отивоположн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правлен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1" name="AutoShape 0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3794"/>
                </a:moveTo>
                <a:lnTo>
                  <a:pt x="19578" y="10800"/>
                </a:lnTo>
                <a:lnTo>
                  <a:pt x="556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"/>
          <p:cNvSpPr/>
          <p:nvPr/>
        </p:nvSpPr>
        <p:spPr>
          <a:xfrm flipV="1">
            <a:off x="1763640" y="4869000"/>
            <a:ext cx="43200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"/>
          <p:cNvSpPr/>
          <p:nvPr/>
        </p:nvSpPr>
        <p:spPr>
          <a:xfrm>
            <a:off x="1619280" y="587700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1692360" y="4653000"/>
                <a:ext cx="328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4211640" y="4797360"/>
                <a:ext cx="560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76" name="Line 6"/>
          <p:cNvSpPr/>
          <p:nvPr/>
        </p:nvSpPr>
        <p:spPr>
          <a:xfrm flipV="1">
            <a:off x="4284720" y="4797000"/>
            <a:ext cx="79200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11"/>
              <p:cNvSpPr txBox="1"/>
              <p:nvPr/>
            </p:nvSpPr>
            <p:spPr>
              <a:xfrm>
                <a:off x="2556000" y="5300640"/>
                <a:ext cx="330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12"/>
              <p:cNvSpPr txBox="1"/>
              <p:nvPr/>
            </p:nvSpPr>
            <p:spPr>
              <a:xfrm>
                <a:off x="5148360" y="5084640"/>
                <a:ext cx="792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79" name="Line 15"/>
          <p:cNvSpPr/>
          <p:nvPr/>
        </p:nvSpPr>
        <p:spPr>
          <a:xfrm flipV="1">
            <a:off x="5364000" y="5877000"/>
            <a:ext cx="432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8">
            <a:hlinkClick r:id="rId2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9">
            <a:hlinkClick r:id="rId3" action="ppaction://hlinksldjump"/>
          </p:cNvPr>
          <p:cNvSpPr/>
          <p:nvPr/>
        </p:nvSpPr>
        <p:spPr>
          <a:xfrm>
            <a:off x="7308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0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изведением нулевого вектора на любое число считается нулевой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изведение любого вектора на число нуль есть нулевой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4"/>
              <p:cNvSpPr txBox="1"/>
              <p:nvPr/>
            </p:nvSpPr>
            <p:spPr>
              <a:xfrm>
                <a:off x="1584360" y="2805120"/>
                <a:ext cx="1440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5"/>
              <p:cNvSpPr txBox="1"/>
              <p:nvPr/>
            </p:nvSpPr>
            <p:spPr>
              <a:xfrm>
                <a:off x="1584360" y="4724280"/>
                <a:ext cx="1440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86" name="AutoShape 6">
            <a:hlinkClick r:id="rId1" action="ppaction://hlinksldjump"/>
          </p:cNvPr>
          <p:cNvSpPr/>
          <p:nvPr/>
        </p:nvSpPr>
        <p:spPr>
          <a:xfrm>
            <a:off x="680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8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3794"/>
                </a:moveTo>
                <a:lnTo>
                  <a:pt x="19578" y="10800"/>
                </a:lnTo>
                <a:lnTo>
                  <a:pt x="556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9">
            <a:hlinkClick r:id="rId3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0">
            <a:hlinkClick r:id="rId4" action="ppaction://hlinksldjump"/>
          </p:cNvPr>
          <p:cNvSpPr/>
          <p:nvPr/>
        </p:nvSpPr>
        <p:spPr>
          <a:xfrm>
            <a:off x="7308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5"/>
              <p:cNvSpPr txBox="1"/>
              <p:nvPr/>
            </p:nvSpPr>
            <p:spPr>
              <a:xfrm>
                <a:off x="971640" y="1628640"/>
                <a:ext cx="7783560" cy="41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ля любых векторов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юбых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исе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праведлив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енства: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очетательный закон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k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спределительный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акон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k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l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спределительный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акон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2" name="AutoShape 0">
            <a:hlinkClick r:id="rId1" action="ppaction://hlinksldjump"/>
          </p:cNvPr>
          <p:cNvSpPr/>
          <p:nvPr/>
        </p:nvSpPr>
        <p:spPr>
          <a:xfrm>
            <a:off x="7308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">
            <a:hlinkClick r:id="rId3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калярное произ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алярным произведением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двух векторов называется произведение их длин на косинус угла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0"/>
              <p:cNvSpPr txBox="1"/>
              <p:nvPr/>
            </p:nvSpPr>
            <p:spPr>
              <a:xfrm>
                <a:off x="1062000" y="3357720"/>
                <a:ext cx="349092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Line 1"/>
          <p:cNvSpPr/>
          <p:nvPr/>
        </p:nvSpPr>
        <p:spPr>
          <a:xfrm flipV="1">
            <a:off x="3780000" y="3213000"/>
            <a:ext cx="2142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"/>
          <p:cNvSpPr/>
          <p:nvPr/>
        </p:nvSpPr>
        <p:spPr>
          <a:xfrm>
            <a:off x="3995640" y="321300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1116000" y="414972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Справедливые утвер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Вычисление скалярного произведения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в координ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Свойства скалярного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0">
            <a:hlinkClick r:id="rId4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">
            <a:hlinkClick r:id="rId5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праведливые утвер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9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калярное произведение ненулевых вект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вно нулю тогда и только тогда, когда эти векторы перпендикуля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калярный квадрат вектора (т.е. скалярное произведение вектора на себя) равен квадра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го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6"/>
              <p:cNvSpPr txBox="1"/>
              <p:nvPr/>
            </p:nvSpPr>
            <p:spPr>
              <a:xfrm>
                <a:off x="971640" y="3213000"/>
                <a:ext cx="5146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≠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⇔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7"/>
              <p:cNvSpPr txBox="1"/>
              <p:nvPr/>
            </p:nvSpPr>
            <p:spPr>
              <a:xfrm>
                <a:off x="971640" y="5300640"/>
                <a:ext cx="24620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а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7" name="AutoShape 8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>
            <a:hlinkClick r:id="rId2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4" dur="500" autoRev="1" fill="hold"/>
                                        <p:tgtEl>
                                          <p:spTgt spid="5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8" dur="500" autoRev="1" fill="hold"/>
                                        <p:tgtEl>
                                          <p:spTgt spid="5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ллинеарные вект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ва ненулевых вектора называю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ллинеарным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если они лежат на о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ямой или параллельных пря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реди коллинеарных 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Сонаправленные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Противоположно направленные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0">
            <a:hlinkClick r:id="rId3" action="ppaction://hlinksldjump"/>
          </p:cNvPr>
          <p:cNvSpPr/>
          <p:nvPr/>
        </p:nvSpPr>
        <p:spPr>
          <a:xfrm>
            <a:off x="831708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12624" y="3837"/>
                </a:moveTo>
                <a:lnTo>
                  <a:pt x="15200" y="6448"/>
                </a:lnTo>
                <a:lnTo>
                  <a:pt x="15200" y="4707"/>
                </a:lnTo>
                <a:lnTo>
                  <a:pt x="16976" y="4707"/>
                </a:lnTo>
                <a:lnTo>
                  <a:pt x="16976" y="8224"/>
                </a:lnTo>
                <a:lnTo>
                  <a:pt x="19587" y="10800"/>
                </a:lnTo>
                <a:lnTo>
                  <a:pt x="17933" y="10800"/>
                </a:lnTo>
                <a:lnTo>
                  <a:pt x="17933" y="17989"/>
                </a:lnTo>
                <a:lnTo>
                  <a:pt x="7315" y="17989"/>
                </a:lnTo>
                <a:lnTo>
                  <a:pt x="7315" y="10800"/>
                </a:lnTo>
                <a:lnTo>
                  <a:pt x="5661" y="10800"/>
                </a:lnTo>
                <a:close/>
              </a:path>
              <a:path fill="darkenLess" w="25248" h="21600">
                <a:moveTo>
                  <a:pt x="15200" y="6448"/>
                </a:moveTo>
                <a:lnTo>
                  <a:pt x="15200" y="4707"/>
                </a:lnTo>
                <a:lnTo>
                  <a:pt x="16976" y="4707"/>
                </a:lnTo>
                <a:lnTo>
                  <a:pt x="16976" y="8224"/>
                </a:lnTo>
                <a:close/>
              </a:path>
              <a:path fill="darkenLess" w="25248" h="21600">
                <a:moveTo>
                  <a:pt x="11701" y="14299"/>
                </a:moveTo>
                <a:lnTo>
                  <a:pt x="13547" y="14299"/>
                </a:lnTo>
                <a:lnTo>
                  <a:pt x="13547" y="17989"/>
                </a:lnTo>
                <a:lnTo>
                  <a:pt x="17933" y="17989"/>
                </a:lnTo>
                <a:lnTo>
                  <a:pt x="17933" y="10800"/>
                </a:lnTo>
                <a:lnTo>
                  <a:pt x="7315" y="10800"/>
                </a:lnTo>
                <a:lnTo>
                  <a:pt x="7315" y="17989"/>
                </a:lnTo>
                <a:lnTo>
                  <a:pt x="11701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числение скалярного произведения в координа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971640" y="42210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971640" y="3933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Доказа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0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">
            <a:hlinkClick r:id="rId3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2"/>
              <p:cNvSpPr txBox="1"/>
              <p:nvPr/>
            </p:nvSpPr>
            <p:spPr>
              <a:xfrm>
                <a:off x="971640" y="1628640"/>
                <a:ext cx="597672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Скалярн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оизвед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ов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;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;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;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;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ыражаетс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ормулой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азательство формулы скалярного произ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9"/>
              <p:cNvSpPr txBox="1"/>
              <p:nvPr/>
            </p:nvSpPr>
            <p:spPr>
              <a:xfrm>
                <a:off x="971640" y="1484280"/>
                <a:ext cx="5545080" cy="388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енство</m:t>
                        </m:r>
                        <m:r>
                          <m:t xml:space="preserve"> 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y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праведливо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;0;0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≠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≠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</m:e>
                      <m:e>
                        <m:r>
                          <m:t xml:space="preserve">О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оизвольн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а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коллинеарны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α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еорем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синусов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э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енств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рно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луча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гд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ллинеарны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AutoShape 2">
            <a:hlinkClick r:id="rId1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7493"/>
                </a:moveTo>
                <a:lnTo>
                  <a:pt x="9082" y="7493"/>
                </a:lnTo>
                <a:lnTo>
                  <a:pt x="9082" y="12828"/>
                </a:lnTo>
                <a:cubicBezTo>
                  <a:pt x="9082" y="13751"/>
                  <a:pt x="9882" y="14482"/>
                  <a:pt x="10918" y="14482"/>
                </a:cubicBezTo>
                <a:lnTo>
                  <a:pt x="12581" y="14482"/>
                </a:lnTo>
                <a:cubicBezTo>
                  <a:pt x="13616" y="14482"/>
                  <a:pt x="14417" y="13751"/>
                  <a:pt x="14417" y="12828"/>
                </a:cubicBezTo>
                <a:lnTo>
                  <a:pt x="14417" y="7493"/>
                </a:lnTo>
                <a:lnTo>
                  <a:pt x="12581" y="7493"/>
                </a:lnTo>
                <a:lnTo>
                  <a:pt x="16088" y="3985"/>
                </a:lnTo>
                <a:lnTo>
                  <a:pt x="19761" y="7493"/>
                </a:lnTo>
                <a:lnTo>
                  <a:pt x="17925" y="7493"/>
                </a:lnTo>
                <a:lnTo>
                  <a:pt x="17925" y="12828"/>
                </a:lnTo>
                <a:cubicBezTo>
                  <a:pt x="17925" y="15596"/>
                  <a:pt x="15348" y="18155"/>
                  <a:pt x="12581" y="18155"/>
                </a:cubicBezTo>
                <a:lnTo>
                  <a:pt x="10918" y="18155"/>
                </a:lnTo>
                <a:cubicBezTo>
                  <a:pt x="8150" y="18155"/>
                  <a:pt x="5574" y="15596"/>
                  <a:pt x="55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3"/>
          <p:cNvSpPr/>
          <p:nvPr/>
        </p:nvSpPr>
        <p:spPr>
          <a:xfrm>
            <a:off x="5724360" y="4005360"/>
            <a:ext cx="115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44"/>
          <p:cNvSpPr/>
          <p:nvPr/>
        </p:nvSpPr>
        <p:spPr>
          <a:xfrm flipV="1">
            <a:off x="5724360" y="2565360"/>
            <a:ext cx="1584360" cy="14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45"/>
          <p:cNvSpPr/>
          <p:nvPr/>
        </p:nvSpPr>
        <p:spPr>
          <a:xfrm flipV="1">
            <a:off x="6877080" y="2565360"/>
            <a:ext cx="431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46"/>
              <p:cNvSpPr txBox="1"/>
              <p:nvPr/>
            </p:nvSpPr>
            <p:spPr>
              <a:xfrm>
                <a:off x="6443640" y="3573360"/>
                <a:ext cx="338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47"/>
              <p:cNvSpPr txBox="1"/>
              <p:nvPr/>
            </p:nvSpPr>
            <p:spPr>
              <a:xfrm>
                <a:off x="6300720" y="2852640"/>
                <a:ext cx="338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23" name="Text Box 48"/>
          <p:cNvSpPr/>
          <p:nvPr/>
        </p:nvSpPr>
        <p:spPr>
          <a:xfrm>
            <a:off x="5364000" y="3860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9"/>
          <p:cNvSpPr/>
          <p:nvPr/>
        </p:nvSpPr>
        <p:spPr>
          <a:xfrm>
            <a:off x="6732720" y="40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0"/>
          <p:cNvSpPr/>
          <p:nvPr/>
        </p:nvSpPr>
        <p:spPr>
          <a:xfrm>
            <a:off x="7308720" y="2276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51"/>
          <p:cNvSpPr/>
          <p:nvPr/>
        </p:nvSpPr>
        <p:spPr>
          <a:xfrm>
            <a:off x="5940360" y="3860640"/>
            <a:ext cx="71640" cy="144720"/>
          </a:xfrm>
          <a:custGeom>
            <a:avLst/>
            <a:gdLst/>
            <a:ahLst/>
            <a:rect l="l" t="t" r="r" b="b"/>
            <a:pathLst>
              <a:path w="45" h="91">
                <a:moveTo>
                  <a:pt x="0" y="0"/>
                </a:moveTo>
                <a:cubicBezTo>
                  <a:pt x="19" y="38"/>
                  <a:pt x="38" y="76"/>
                  <a:pt x="45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2"/>
          <p:cNvSpPr/>
          <p:nvPr/>
        </p:nvSpPr>
        <p:spPr>
          <a:xfrm>
            <a:off x="5940360" y="35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53"/>
          <p:cNvSpPr/>
          <p:nvPr/>
        </p:nvSpPr>
        <p:spPr>
          <a:xfrm>
            <a:off x="1116000" y="5375160"/>
            <a:ext cx="187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4"/>
          <p:cNvSpPr/>
          <p:nvPr/>
        </p:nvSpPr>
        <p:spPr>
          <a:xfrm>
            <a:off x="1116000" y="5375160"/>
            <a:ext cx="1081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5"/>
          <p:cNvSpPr/>
          <p:nvPr/>
        </p:nvSpPr>
        <p:spPr>
          <a:xfrm>
            <a:off x="900000" y="501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6"/>
          <p:cNvSpPr/>
          <p:nvPr/>
        </p:nvSpPr>
        <p:spPr>
          <a:xfrm>
            <a:off x="1979640" y="501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7"/>
          <p:cNvSpPr/>
          <p:nvPr/>
        </p:nvSpPr>
        <p:spPr>
          <a:xfrm>
            <a:off x="2916360" y="501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58"/>
          <p:cNvSpPr/>
          <p:nvPr/>
        </p:nvSpPr>
        <p:spPr>
          <a:xfrm>
            <a:off x="4716360" y="537516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9"/>
          <p:cNvSpPr/>
          <p:nvPr/>
        </p:nvSpPr>
        <p:spPr>
          <a:xfrm flipH="1">
            <a:off x="3997080" y="5375160"/>
            <a:ext cx="71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0"/>
          <p:cNvSpPr/>
          <p:nvPr/>
        </p:nvSpPr>
        <p:spPr>
          <a:xfrm>
            <a:off x="4716360" y="530208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1"/>
          <p:cNvSpPr/>
          <p:nvPr/>
        </p:nvSpPr>
        <p:spPr>
          <a:xfrm>
            <a:off x="4643280" y="5013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62"/>
          <p:cNvSpPr/>
          <p:nvPr/>
        </p:nvSpPr>
        <p:spPr>
          <a:xfrm>
            <a:off x="3852720" y="5013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3"/>
          <p:cNvSpPr/>
          <p:nvPr/>
        </p:nvSpPr>
        <p:spPr>
          <a:xfrm>
            <a:off x="5796000" y="501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64"/>
              <p:cNvSpPr txBox="1"/>
              <p:nvPr/>
            </p:nvSpPr>
            <p:spPr>
              <a:xfrm>
                <a:off x="4284720" y="4869000"/>
                <a:ext cx="338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65"/>
              <p:cNvSpPr txBox="1"/>
              <p:nvPr/>
            </p:nvSpPr>
            <p:spPr>
              <a:xfrm>
                <a:off x="5221440" y="4870440"/>
                <a:ext cx="338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66"/>
              <p:cNvSpPr txBox="1"/>
              <p:nvPr/>
            </p:nvSpPr>
            <p:spPr>
              <a:xfrm>
                <a:off x="826920" y="5445000"/>
                <a:ext cx="274968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O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O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cos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67"/>
              <p:cNvSpPr txBox="1"/>
              <p:nvPr/>
            </p:nvSpPr>
            <p:spPr>
              <a:xfrm>
                <a:off x="3789360" y="5445000"/>
                <a:ext cx="287496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O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O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cos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AutoShape 68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3794"/>
                </a:moveTo>
                <a:lnTo>
                  <a:pt x="19578" y="10800"/>
                </a:lnTo>
                <a:lnTo>
                  <a:pt x="556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азательство формулы скалярного произ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8">
            <a:hlinkClick r:id="rId1" action="ppaction://hlinksldjump"/>
          </p:cNvPr>
          <p:cNvSpPr/>
          <p:nvPr/>
        </p:nvSpPr>
        <p:spPr>
          <a:xfrm>
            <a:off x="78138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9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7493"/>
                </a:moveTo>
                <a:lnTo>
                  <a:pt x="9073" y="7493"/>
                </a:lnTo>
                <a:lnTo>
                  <a:pt x="9073" y="12828"/>
                </a:lnTo>
                <a:cubicBezTo>
                  <a:pt x="9073" y="13751"/>
                  <a:pt x="9873" y="14482"/>
                  <a:pt x="10909" y="14482"/>
                </a:cubicBezTo>
                <a:lnTo>
                  <a:pt x="12572" y="14482"/>
                </a:lnTo>
                <a:cubicBezTo>
                  <a:pt x="13607" y="14482"/>
                  <a:pt x="14408" y="13751"/>
                  <a:pt x="14408" y="12828"/>
                </a:cubicBezTo>
                <a:lnTo>
                  <a:pt x="14408" y="7493"/>
                </a:lnTo>
                <a:lnTo>
                  <a:pt x="12572" y="7493"/>
                </a:lnTo>
                <a:lnTo>
                  <a:pt x="16079" y="3985"/>
                </a:lnTo>
                <a:lnTo>
                  <a:pt x="19752" y="7493"/>
                </a:lnTo>
                <a:lnTo>
                  <a:pt x="17916" y="7493"/>
                </a:lnTo>
                <a:lnTo>
                  <a:pt x="17916" y="12828"/>
                </a:lnTo>
                <a:cubicBezTo>
                  <a:pt x="17916" y="15596"/>
                  <a:pt x="15339" y="18155"/>
                  <a:pt x="12572" y="18155"/>
                </a:cubicBezTo>
                <a:lnTo>
                  <a:pt x="10909" y="18155"/>
                </a:lnTo>
                <a:cubicBezTo>
                  <a:pt x="8141" y="18155"/>
                  <a:pt x="5565" y="15596"/>
                  <a:pt x="5565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30"/>
              <p:cNvSpPr txBox="1"/>
              <p:nvPr/>
            </p:nvSpPr>
            <p:spPr>
              <a:xfrm>
                <a:off x="971640" y="1628640"/>
                <a:ext cx="6215040" cy="426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Та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к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;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;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;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;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;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;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войства скалярног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из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42920" y="160020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4"/>
              <p:cNvSpPr txBox="1"/>
              <p:nvPr/>
            </p:nvSpPr>
            <p:spPr>
              <a:xfrm>
                <a:off x="971640" y="1628640"/>
                <a:ext cx="61038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юбы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ов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праведлив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енства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7"/>
              <p:cNvSpPr txBox="1"/>
              <p:nvPr/>
            </p:nvSpPr>
            <p:spPr>
              <a:xfrm>
                <a:off x="1547640" y="2852640"/>
                <a:ext cx="44485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≥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причем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acc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8"/>
              <p:cNvSpPr txBox="1"/>
              <p:nvPr/>
            </p:nvSpPr>
            <p:spPr>
              <a:xfrm>
                <a:off x="1476360" y="3429000"/>
                <a:ext cx="12682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53" name="Text Box 9"/>
          <p:cNvSpPr/>
          <p:nvPr/>
        </p:nvSpPr>
        <p:spPr>
          <a:xfrm>
            <a:off x="2843280" y="35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ереместительный зак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10"/>
              <p:cNvSpPr txBox="1"/>
              <p:nvPr/>
            </p:nvSpPr>
            <p:spPr>
              <a:xfrm>
                <a:off x="1476360" y="4005360"/>
                <a:ext cx="2664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55" name="Text Box 11"/>
          <p:cNvSpPr/>
          <p:nvPr/>
        </p:nvSpPr>
        <p:spPr>
          <a:xfrm>
            <a:off x="4140360" y="400536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распределительный зак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12"/>
              <p:cNvSpPr txBox="1"/>
              <p:nvPr/>
            </p:nvSpPr>
            <p:spPr>
              <a:xfrm>
                <a:off x="1476360" y="4653000"/>
                <a:ext cx="22557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7" name="Text Box 13"/>
          <p:cNvSpPr/>
          <p:nvPr/>
        </p:nvSpPr>
        <p:spPr>
          <a:xfrm>
            <a:off x="3851280" y="4797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сочетательный зак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6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7">
            <a:hlinkClick r:id="rId2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зложение век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По двум неколлинеарным векто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По трем некомпланарным векто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0">
            <a:hlinkClick r:id="rId3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зложение вектора по двум неколлинеарным вектор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орема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юбой вектор можно разложить по дву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анным неколлинеарным векторам, причем коэффициенты разложения определяются единственным обра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Доказа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6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7">
            <a:hlinkClick r:id="rId3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азательство теор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"/>
          <p:cNvSpPr/>
          <p:nvPr/>
        </p:nvSpPr>
        <p:spPr>
          <a:xfrm flipV="1">
            <a:off x="1836720" y="1700280"/>
            <a:ext cx="1584360" cy="14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6"/>
          <p:cNvSpPr/>
          <p:nvPr/>
        </p:nvSpPr>
        <p:spPr>
          <a:xfrm flipV="1">
            <a:off x="1836720" y="1628280"/>
            <a:ext cx="28728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7"/>
          <p:cNvSpPr/>
          <p:nvPr/>
        </p:nvSpPr>
        <p:spPr>
          <a:xfrm>
            <a:off x="2629080" y="2997360"/>
            <a:ext cx="502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8"/>
              <p:cNvSpPr txBox="1"/>
              <p:nvPr/>
            </p:nvSpPr>
            <p:spPr>
              <a:xfrm>
                <a:off x="2700360" y="2492280"/>
                <a:ext cx="338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9"/>
              <p:cNvSpPr txBox="1"/>
              <p:nvPr/>
            </p:nvSpPr>
            <p:spPr>
              <a:xfrm>
                <a:off x="1620720" y="1700280"/>
                <a:ext cx="338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10"/>
              <p:cNvSpPr txBox="1"/>
              <p:nvPr/>
            </p:nvSpPr>
            <p:spPr>
              <a:xfrm>
                <a:off x="2452680" y="1744560"/>
                <a:ext cx="403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4" name="Line 11"/>
          <p:cNvSpPr/>
          <p:nvPr/>
        </p:nvSpPr>
        <p:spPr>
          <a:xfrm>
            <a:off x="1476360" y="51577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2"/>
          <p:cNvSpPr/>
          <p:nvPr/>
        </p:nvSpPr>
        <p:spPr>
          <a:xfrm flipV="1">
            <a:off x="1476360" y="4293720"/>
            <a:ext cx="28728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3"/>
          <p:cNvSpPr/>
          <p:nvPr/>
        </p:nvSpPr>
        <p:spPr>
          <a:xfrm>
            <a:off x="1476360" y="515772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4"/>
          <p:cNvSpPr/>
          <p:nvPr/>
        </p:nvSpPr>
        <p:spPr>
          <a:xfrm flipV="1">
            <a:off x="1476360" y="3718080"/>
            <a:ext cx="1584360" cy="14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5"/>
          <p:cNvSpPr/>
          <p:nvPr/>
        </p:nvSpPr>
        <p:spPr>
          <a:xfrm flipV="1">
            <a:off x="2629080" y="3717720"/>
            <a:ext cx="431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6"/>
              <p:cNvSpPr txBox="1"/>
              <p:nvPr/>
            </p:nvSpPr>
            <p:spPr>
              <a:xfrm>
                <a:off x="1547640" y="5157720"/>
                <a:ext cx="338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17"/>
              <p:cNvSpPr txBox="1"/>
              <p:nvPr/>
            </p:nvSpPr>
            <p:spPr>
              <a:xfrm>
                <a:off x="2052720" y="3860640"/>
                <a:ext cx="403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18"/>
              <p:cNvSpPr txBox="1"/>
              <p:nvPr/>
            </p:nvSpPr>
            <p:spPr>
              <a:xfrm>
                <a:off x="1260360" y="4437000"/>
                <a:ext cx="338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82" name="Text Box 19"/>
          <p:cNvSpPr/>
          <p:nvPr/>
        </p:nvSpPr>
        <p:spPr>
          <a:xfrm>
            <a:off x="1189080" y="501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0"/>
          <p:cNvSpPr/>
          <p:nvPr/>
        </p:nvSpPr>
        <p:spPr>
          <a:xfrm>
            <a:off x="1836720" y="5157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1"/>
          <p:cNvSpPr/>
          <p:nvPr/>
        </p:nvSpPr>
        <p:spPr>
          <a:xfrm>
            <a:off x="2484360" y="515772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2"/>
          <p:cNvSpPr/>
          <p:nvPr/>
        </p:nvSpPr>
        <p:spPr>
          <a:xfrm>
            <a:off x="1620720" y="3933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3"/>
          <p:cNvSpPr/>
          <p:nvPr/>
        </p:nvSpPr>
        <p:spPr>
          <a:xfrm>
            <a:off x="306072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31"/>
              <p:cNvSpPr txBox="1"/>
              <p:nvPr/>
            </p:nvSpPr>
            <p:spPr>
              <a:xfrm>
                <a:off x="4500720" y="1341360"/>
                <a:ext cx="2763720" cy="234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коллинеарны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ь</m:t>
                        </m:r>
                        <m:r>
                          <m:t xml:space="preserve">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34"/>
              <p:cNvSpPr txBox="1"/>
              <p:nvPr/>
            </p:nvSpPr>
            <p:spPr>
              <a:xfrm>
                <a:off x="5508720" y="3573360"/>
                <a:ext cx="326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89" name="Text Box 35"/>
          <p:cNvSpPr/>
          <p:nvPr/>
        </p:nvSpPr>
        <p:spPr>
          <a:xfrm>
            <a:off x="4427640" y="3284640"/>
            <a:ext cx="34560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усть       коллинеарен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огда                 , 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– некоторое число. Следователь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.е.        разложен по векторам       и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36"/>
              <p:cNvSpPr txBox="1"/>
              <p:nvPr/>
            </p:nvSpPr>
            <p:spPr>
              <a:xfrm>
                <a:off x="7308720" y="3573360"/>
                <a:ext cx="2732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37"/>
              <p:cNvSpPr txBox="1"/>
              <p:nvPr/>
            </p:nvSpPr>
            <p:spPr>
              <a:xfrm>
                <a:off x="5219640" y="3933720"/>
                <a:ext cx="1008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38"/>
              <p:cNvSpPr txBox="1"/>
              <p:nvPr/>
            </p:nvSpPr>
            <p:spPr>
              <a:xfrm>
                <a:off x="4427640" y="5084640"/>
                <a:ext cx="1933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39"/>
              <p:cNvSpPr txBox="1"/>
              <p:nvPr/>
            </p:nvSpPr>
            <p:spPr>
              <a:xfrm>
                <a:off x="5076720" y="5445000"/>
                <a:ext cx="327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40"/>
              <p:cNvSpPr txBox="1"/>
              <p:nvPr/>
            </p:nvSpPr>
            <p:spPr>
              <a:xfrm>
                <a:off x="5678640" y="5832360"/>
                <a:ext cx="2714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41"/>
              <p:cNvSpPr txBox="1"/>
              <p:nvPr/>
            </p:nvSpPr>
            <p:spPr>
              <a:xfrm>
                <a:off x="6254640" y="5832360"/>
                <a:ext cx="2732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96" name="AutoShape 44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3794"/>
                </a:moveTo>
                <a:lnTo>
                  <a:pt x="19578" y="10800"/>
                </a:lnTo>
                <a:lnTo>
                  <a:pt x="556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46">
            <a:hlinkClick r:id="rId2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7493"/>
                </a:moveTo>
                <a:lnTo>
                  <a:pt x="9082" y="7493"/>
                </a:lnTo>
                <a:lnTo>
                  <a:pt x="9082" y="12828"/>
                </a:lnTo>
                <a:cubicBezTo>
                  <a:pt x="9082" y="13751"/>
                  <a:pt x="9882" y="14482"/>
                  <a:pt x="10918" y="14482"/>
                </a:cubicBezTo>
                <a:lnTo>
                  <a:pt x="12581" y="14482"/>
                </a:lnTo>
                <a:cubicBezTo>
                  <a:pt x="13616" y="14482"/>
                  <a:pt x="14417" y="13751"/>
                  <a:pt x="14417" y="12828"/>
                </a:cubicBezTo>
                <a:lnTo>
                  <a:pt x="14417" y="7493"/>
                </a:lnTo>
                <a:lnTo>
                  <a:pt x="12581" y="7493"/>
                </a:lnTo>
                <a:lnTo>
                  <a:pt x="16088" y="3985"/>
                </a:lnTo>
                <a:lnTo>
                  <a:pt x="19761" y="7493"/>
                </a:lnTo>
                <a:lnTo>
                  <a:pt x="17925" y="7493"/>
                </a:lnTo>
                <a:lnTo>
                  <a:pt x="17925" y="12828"/>
                </a:lnTo>
                <a:cubicBezTo>
                  <a:pt x="17925" y="15596"/>
                  <a:pt x="15348" y="18155"/>
                  <a:pt x="12581" y="18155"/>
                </a:cubicBezTo>
                <a:lnTo>
                  <a:pt x="10918" y="18155"/>
                </a:lnTo>
                <a:cubicBezTo>
                  <a:pt x="8150" y="18155"/>
                  <a:pt x="5574" y="15596"/>
                  <a:pt x="55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755280" y="1628280"/>
            <a:ext cx="7201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 коллинеарен ни вектору    , ни вектору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метим О – произвольную т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азательство теор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Object 6"/>
              <p:cNvSpPr txBox="1"/>
              <p:nvPr/>
            </p:nvSpPr>
            <p:spPr>
              <a:xfrm>
                <a:off x="1187280" y="1557360"/>
                <a:ext cx="327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Object 7"/>
              <p:cNvSpPr txBox="1"/>
              <p:nvPr/>
            </p:nvSpPr>
            <p:spPr>
              <a:xfrm>
                <a:off x="5003640" y="1557360"/>
                <a:ext cx="2718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Object 8"/>
              <p:cNvSpPr txBox="1"/>
              <p:nvPr/>
            </p:nvSpPr>
            <p:spPr>
              <a:xfrm>
                <a:off x="6948360" y="1557360"/>
                <a:ext cx="2732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9"/>
              <p:cNvSpPr txBox="1"/>
              <p:nvPr/>
            </p:nvSpPr>
            <p:spPr>
              <a:xfrm>
                <a:off x="826920" y="2421000"/>
                <a:ext cx="6786720" cy="331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‖</m:t>
                        </m:r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∩</m:t>
                        </m:r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rPr>
                            <m:lit/>
                            <m:nor/>
                          </m:rPr>
                          <m:t xml:space="preserve">правилу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ика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о: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и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коллинеарны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и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соответственно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ледовательн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разложен</m:t>
                        </m:r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и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t xml:space="preserve">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4" name="AutoShape 10">
            <a:hlinkClick r:id="rId1" action="ppaction://hlinksldjump"/>
          </p:cNvPr>
          <p:cNvSpPr/>
          <p:nvPr/>
        </p:nvSpPr>
        <p:spPr>
          <a:xfrm>
            <a:off x="730728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2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3794"/>
                </a:moveTo>
                <a:lnTo>
                  <a:pt x="19578" y="10800"/>
                </a:lnTo>
                <a:lnTo>
                  <a:pt x="556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4">
            <a:hlinkClick r:id="rId3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7493"/>
                </a:moveTo>
                <a:lnTo>
                  <a:pt x="9082" y="7493"/>
                </a:lnTo>
                <a:lnTo>
                  <a:pt x="9082" y="12828"/>
                </a:lnTo>
                <a:cubicBezTo>
                  <a:pt x="9082" y="13751"/>
                  <a:pt x="9882" y="14482"/>
                  <a:pt x="10918" y="14482"/>
                </a:cubicBezTo>
                <a:lnTo>
                  <a:pt x="12581" y="14482"/>
                </a:lnTo>
                <a:cubicBezTo>
                  <a:pt x="13616" y="14482"/>
                  <a:pt x="14417" y="13751"/>
                  <a:pt x="14417" y="12828"/>
                </a:cubicBezTo>
                <a:lnTo>
                  <a:pt x="14417" y="7493"/>
                </a:lnTo>
                <a:lnTo>
                  <a:pt x="12581" y="7493"/>
                </a:lnTo>
                <a:lnTo>
                  <a:pt x="16088" y="3985"/>
                </a:lnTo>
                <a:lnTo>
                  <a:pt x="19761" y="7493"/>
                </a:lnTo>
                <a:lnTo>
                  <a:pt x="17925" y="7493"/>
                </a:lnTo>
                <a:lnTo>
                  <a:pt x="17925" y="12828"/>
                </a:lnTo>
                <a:cubicBezTo>
                  <a:pt x="17925" y="15596"/>
                  <a:pt x="15348" y="18155"/>
                  <a:pt x="12581" y="18155"/>
                </a:cubicBezTo>
                <a:lnTo>
                  <a:pt x="10918" y="18155"/>
                </a:lnTo>
                <a:cubicBezTo>
                  <a:pt x="8150" y="18155"/>
                  <a:pt x="5574" y="15596"/>
                  <a:pt x="55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7" name="Object 14"/>
              <p:cNvSpPr txBox="1"/>
              <p:nvPr/>
            </p:nvSpPr>
            <p:spPr>
              <a:xfrm>
                <a:off x="1979640" y="2708280"/>
                <a:ext cx="4271760" cy="387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бы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ллинеарны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т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тиворечи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словию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еорем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куда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азательство теор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200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кажем, что коэффициенты разложения определяются единственным обра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у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">
            <a:hlinkClick r:id="rId1" action="ppaction://hlinksldjump"/>
          </p:cNvPr>
          <p:cNvSpPr/>
          <p:nvPr/>
        </p:nvSpPr>
        <p:spPr>
          <a:xfrm>
            <a:off x="78138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8"/>
              <p:cNvSpPr txBox="1"/>
              <p:nvPr/>
            </p:nvSpPr>
            <p:spPr>
              <a:xfrm>
                <a:off x="2627280" y="2276640"/>
                <a:ext cx="1765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12" name="Freeform 11"/>
          <p:cNvSpPr/>
          <p:nvPr/>
        </p:nvSpPr>
        <p:spPr>
          <a:xfrm flipV="1" rot="3178200">
            <a:off x="3996720" y="2850480"/>
            <a:ext cx="431640" cy="576360"/>
          </a:xfrm>
          <a:custGeom>
            <a:avLst/>
            <a:gdLst/>
            <a:ahLst/>
            <a:rect l="l" t="t" r="r" b="b"/>
            <a:pathLst>
              <a:path w="265" h="356">
                <a:moveTo>
                  <a:pt x="227" y="0"/>
                </a:moveTo>
                <a:cubicBezTo>
                  <a:pt x="246" y="140"/>
                  <a:pt x="265" y="280"/>
                  <a:pt x="227" y="318"/>
                </a:cubicBezTo>
                <a:cubicBezTo>
                  <a:pt x="189" y="356"/>
                  <a:pt x="38" y="242"/>
                  <a:pt x="0" y="2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"/>
          <p:cNvSpPr/>
          <p:nvPr/>
        </p:nvSpPr>
        <p:spPr>
          <a:xfrm flipV="1">
            <a:off x="4500720" y="2922120"/>
            <a:ext cx="2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6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7493"/>
                </a:moveTo>
                <a:lnTo>
                  <a:pt x="9073" y="7493"/>
                </a:lnTo>
                <a:lnTo>
                  <a:pt x="9073" y="12828"/>
                </a:lnTo>
                <a:cubicBezTo>
                  <a:pt x="9073" y="13751"/>
                  <a:pt x="9873" y="14482"/>
                  <a:pt x="10909" y="14482"/>
                </a:cubicBezTo>
                <a:lnTo>
                  <a:pt x="12572" y="14482"/>
                </a:lnTo>
                <a:cubicBezTo>
                  <a:pt x="13607" y="14482"/>
                  <a:pt x="14408" y="13751"/>
                  <a:pt x="14408" y="12828"/>
                </a:cubicBezTo>
                <a:lnTo>
                  <a:pt x="14408" y="7493"/>
                </a:lnTo>
                <a:lnTo>
                  <a:pt x="12572" y="7493"/>
                </a:lnTo>
                <a:lnTo>
                  <a:pt x="16079" y="3985"/>
                </a:lnTo>
                <a:lnTo>
                  <a:pt x="19752" y="7493"/>
                </a:lnTo>
                <a:lnTo>
                  <a:pt x="17916" y="7493"/>
                </a:lnTo>
                <a:lnTo>
                  <a:pt x="17916" y="12828"/>
                </a:lnTo>
                <a:cubicBezTo>
                  <a:pt x="17916" y="15596"/>
                  <a:pt x="15339" y="18155"/>
                  <a:pt x="12572" y="18155"/>
                </a:cubicBezTo>
                <a:lnTo>
                  <a:pt x="10909" y="18155"/>
                </a:lnTo>
                <a:cubicBezTo>
                  <a:pt x="8141" y="18155"/>
                  <a:pt x="5565" y="15596"/>
                  <a:pt x="5565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зложение вектора по трем некомпланарным вектор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ли вектор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едставлен в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которые числа, то говорят, что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ложен по векторам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,       и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ис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называются коэффициентами раз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ор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юбой вектор можно разложить по трем данным некомпланарным векторам, причем коэффициенты разложения определяются единственным обра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Доказа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4"/>
              <p:cNvSpPr txBox="1"/>
              <p:nvPr/>
            </p:nvSpPr>
            <p:spPr>
              <a:xfrm>
                <a:off x="1042920" y="1967040"/>
                <a:ext cx="2592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7"/>
              <p:cNvSpPr txBox="1"/>
              <p:nvPr/>
            </p:nvSpPr>
            <p:spPr>
              <a:xfrm>
                <a:off x="1042920" y="2852640"/>
                <a:ext cx="3700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8"/>
              <p:cNvSpPr txBox="1"/>
              <p:nvPr/>
            </p:nvSpPr>
            <p:spPr>
              <a:xfrm>
                <a:off x="4716360" y="2852640"/>
                <a:ext cx="3096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9"/>
              <p:cNvSpPr txBox="1"/>
              <p:nvPr/>
            </p:nvSpPr>
            <p:spPr>
              <a:xfrm>
                <a:off x="5292720" y="2852640"/>
                <a:ext cx="3096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10"/>
              <p:cNvSpPr txBox="1"/>
              <p:nvPr/>
            </p:nvSpPr>
            <p:spPr>
              <a:xfrm>
                <a:off x="6012000" y="2852640"/>
                <a:ext cx="2775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2" name="AutoShape 11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2">
            <a:hlinkClick r:id="rId3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направленные вект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направленные вектор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- векторы, лежа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 одну сторону от прямой, проходящей через их нач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 flipV="1">
            <a:off x="1187280" y="3645000"/>
            <a:ext cx="1944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1187280" y="4149720"/>
            <a:ext cx="151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1187280" y="3213000"/>
            <a:ext cx="0" cy="1440000"/>
          </a:xfrm>
          <a:prstGeom prst="line">
            <a:avLst/>
          </a:prstGeom>
          <a:ln w="1908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4"/>
              <p:cNvSpPr txBox="1"/>
              <p:nvPr/>
            </p:nvSpPr>
            <p:spPr>
              <a:xfrm>
                <a:off x="2924280" y="2924280"/>
                <a:ext cx="423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30"/>
              <p:cNvSpPr txBox="1"/>
              <p:nvPr/>
            </p:nvSpPr>
            <p:spPr>
              <a:xfrm>
                <a:off x="2411280" y="4292640"/>
                <a:ext cx="432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33"/>
              <p:cNvSpPr txBox="1"/>
              <p:nvPr/>
            </p:nvSpPr>
            <p:spPr>
              <a:xfrm>
                <a:off x="3911760" y="3500280"/>
                <a:ext cx="10317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1" name="Text Box 34"/>
          <p:cNvSpPr/>
          <p:nvPr/>
        </p:nvSpPr>
        <p:spPr>
          <a:xfrm>
            <a:off x="971640" y="494172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1116000" y="4941720"/>
            <a:ext cx="69850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улевой вектор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считается сонаправленным с любым вект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Равные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0">
            <a:hlinkClick r:id="rId2" action="ppaction://hlinksldjump"/>
          </p:cNvPr>
          <p:cNvSpPr/>
          <p:nvPr/>
        </p:nvSpPr>
        <p:spPr>
          <a:xfrm>
            <a:off x="7812000" y="6165720"/>
            <a:ext cx="503280" cy="4302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66" h="21600">
                <a:moveTo>
                  <a:pt x="0" y="0"/>
                </a:moveTo>
                <a:lnTo>
                  <a:pt x="25266" y="0"/>
                </a:lnTo>
                <a:lnTo>
                  <a:pt x="25266" y="21600"/>
                </a:lnTo>
                <a:lnTo>
                  <a:pt x="0" y="21600"/>
                </a:lnTo>
                <a:close/>
              </a:path>
              <a:path fill="lightenLess" w="25266" h="21600">
                <a:moveTo>
                  <a:pt x="0" y="0"/>
                </a:moveTo>
                <a:lnTo>
                  <a:pt x="25266" y="0"/>
                </a:lnTo>
                <a:lnTo>
                  <a:pt x="23866" y="1400"/>
                </a:lnTo>
                <a:lnTo>
                  <a:pt x="1400" y="1400"/>
                </a:lnTo>
                <a:close/>
              </a:path>
              <a:path fill="darken" w="25266" h="21600">
                <a:moveTo>
                  <a:pt x="25266" y="0"/>
                </a:moveTo>
                <a:lnTo>
                  <a:pt x="25266" y="21600"/>
                </a:lnTo>
                <a:lnTo>
                  <a:pt x="23866" y="20200"/>
                </a:lnTo>
                <a:lnTo>
                  <a:pt x="23866" y="1400"/>
                </a:lnTo>
                <a:close/>
              </a:path>
              <a:path fill="darkenLess" w="25266" h="21600">
                <a:moveTo>
                  <a:pt x="25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66" y="20200"/>
                </a:lnTo>
                <a:close/>
              </a:path>
              <a:path fill="lighten" w="25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66" h="21600">
                <a:moveTo>
                  <a:pt x="9134" y="10800"/>
                </a:moveTo>
                <a:lnTo>
                  <a:pt x="19640" y="3794"/>
                </a:lnTo>
                <a:lnTo>
                  <a:pt x="19640" y="17806"/>
                </a:lnTo>
                <a:close/>
              </a:path>
              <a:path fill="darken" w="25266" h="21600">
                <a:moveTo>
                  <a:pt x="5627" y="3794"/>
                </a:moveTo>
                <a:lnTo>
                  <a:pt x="7289" y="3794"/>
                </a:lnTo>
                <a:lnTo>
                  <a:pt x="7289" y="17806"/>
                </a:lnTo>
                <a:lnTo>
                  <a:pt x="562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>
            <a:hlinkClick r:id="rId3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50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азательство теор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14"/>
              <p:cNvSpPr txBox="1"/>
              <p:nvPr/>
            </p:nvSpPr>
            <p:spPr>
              <a:xfrm>
                <a:off x="5504040" y="2889360"/>
                <a:ext cx="2235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15"/>
              <p:cNvSpPr txBox="1"/>
              <p:nvPr/>
            </p:nvSpPr>
            <p:spPr>
              <a:xfrm>
                <a:off x="4932360" y="1341360"/>
                <a:ext cx="19447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екомпланрны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0"/>
              <p:cNvSpPr txBox="1"/>
              <p:nvPr/>
            </p:nvSpPr>
            <p:spPr>
              <a:xfrm>
                <a:off x="971640" y="2852640"/>
                <a:ext cx="5565600" cy="384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:</m:t>
                        </m:r>
                      </m:e>
                      <m:e>
                        <m:r>
                          <m:t xml:space="preserve">О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оизвольн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а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‖</m:t>
                        </m:r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∩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O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‖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ллинеарны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8" name="AutoShape 11">
            <a:hlinkClick r:id="" action="ppaction://hlinkshowjump?jump=nextslide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3794"/>
                </a:moveTo>
                <a:lnTo>
                  <a:pt x="19578" y="10800"/>
                </a:lnTo>
                <a:lnTo>
                  <a:pt x="556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0"/>
          <p:cNvSpPr/>
          <p:nvPr/>
        </p:nvSpPr>
        <p:spPr>
          <a:xfrm>
            <a:off x="2122560" y="1771560"/>
            <a:ext cx="2016000" cy="792360"/>
          </a:xfrm>
          <a:prstGeom prst="parallelogram">
            <a:avLst>
              <a:gd name="adj" fmla="val 63607"/>
            </a:avLst>
          </a:prstGeom>
          <a:solidFill>
            <a:srgbClr val="ff33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"/>
          <p:cNvSpPr/>
          <p:nvPr/>
        </p:nvSpPr>
        <p:spPr>
          <a:xfrm>
            <a:off x="2122560" y="2563920"/>
            <a:ext cx="1224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"/>
          <p:cNvSpPr/>
          <p:nvPr/>
        </p:nvSpPr>
        <p:spPr>
          <a:xfrm>
            <a:off x="2122560" y="2563920"/>
            <a:ext cx="718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 flipH="1" flipV="1">
            <a:off x="1401840" y="1699920"/>
            <a:ext cx="720720" cy="86364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4"/>
          <p:cNvSpPr/>
          <p:nvPr/>
        </p:nvSpPr>
        <p:spPr>
          <a:xfrm flipV="1">
            <a:off x="2122560" y="1412640"/>
            <a:ext cx="287280" cy="115092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5"/>
          <p:cNvSpPr/>
          <p:nvPr/>
        </p:nvSpPr>
        <p:spPr>
          <a:xfrm flipV="1">
            <a:off x="2122560" y="2203200"/>
            <a:ext cx="21600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6"/>
          <p:cNvSpPr/>
          <p:nvPr/>
        </p:nvSpPr>
        <p:spPr>
          <a:xfrm flipV="1">
            <a:off x="2841480" y="22032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7"/>
          <p:cNvSpPr/>
          <p:nvPr/>
        </p:nvSpPr>
        <p:spPr>
          <a:xfrm flipH="1" flipV="1">
            <a:off x="2409480" y="1413000"/>
            <a:ext cx="647640" cy="790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8"/>
          <p:cNvSpPr/>
          <p:nvPr/>
        </p:nvSpPr>
        <p:spPr>
          <a:xfrm>
            <a:off x="3057480" y="2203560"/>
            <a:ext cx="289080" cy="3603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9"/>
          <p:cNvSpPr/>
          <p:nvPr/>
        </p:nvSpPr>
        <p:spPr>
          <a:xfrm>
            <a:off x="3346560" y="2563920"/>
            <a:ext cx="21564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0"/>
          <p:cNvSpPr/>
          <p:nvPr/>
        </p:nvSpPr>
        <p:spPr>
          <a:xfrm>
            <a:off x="1258920" y="1339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1"/>
          <p:cNvSpPr/>
          <p:nvPr/>
        </p:nvSpPr>
        <p:spPr>
          <a:xfrm>
            <a:off x="1835280" y="2492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2"/>
          <p:cNvSpPr/>
          <p:nvPr/>
        </p:nvSpPr>
        <p:spPr>
          <a:xfrm>
            <a:off x="3130560" y="2563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2338560" y="1555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Object 14"/>
              <p:cNvSpPr txBox="1"/>
              <p:nvPr/>
            </p:nvSpPr>
            <p:spPr>
              <a:xfrm>
                <a:off x="1403280" y="1916280"/>
                <a:ext cx="304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15"/>
              <p:cNvSpPr txBox="1"/>
              <p:nvPr/>
            </p:nvSpPr>
            <p:spPr>
              <a:xfrm>
                <a:off x="1976400" y="1484280"/>
                <a:ext cx="406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16"/>
              <p:cNvSpPr txBox="1"/>
              <p:nvPr/>
            </p:nvSpPr>
            <p:spPr>
              <a:xfrm>
                <a:off x="1976400" y="1987560"/>
                <a:ext cx="338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17"/>
              <p:cNvSpPr txBox="1"/>
              <p:nvPr/>
            </p:nvSpPr>
            <p:spPr>
              <a:xfrm>
                <a:off x="2843280" y="2492280"/>
                <a:ext cx="338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47" name="Text Box 18"/>
          <p:cNvSpPr/>
          <p:nvPr/>
        </p:nvSpPr>
        <p:spPr>
          <a:xfrm>
            <a:off x="2987640" y="191628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9"/>
          <p:cNvSpPr/>
          <p:nvPr/>
        </p:nvSpPr>
        <p:spPr>
          <a:xfrm>
            <a:off x="2552760" y="2131920"/>
            <a:ext cx="43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0"/>
          <p:cNvSpPr/>
          <p:nvPr/>
        </p:nvSpPr>
        <p:spPr>
          <a:xfrm>
            <a:off x="2409840" y="11239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2">
            <a:hlinkClick r:id="rId1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7493"/>
                </a:moveTo>
                <a:lnTo>
                  <a:pt x="9082" y="7493"/>
                </a:lnTo>
                <a:lnTo>
                  <a:pt x="9082" y="12828"/>
                </a:lnTo>
                <a:cubicBezTo>
                  <a:pt x="9082" y="13751"/>
                  <a:pt x="9882" y="14482"/>
                  <a:pt x="10918" y="14482"/>
                </a:cubicBezTo>
                <a:lnTo>
                  <a:pt x="12581" y="14482"/>
                </a:lnTo>
                <a:cubicBezTo>
                  <a:pt x="13616" y="14482"/>
                  <a:pt x="14417" y="13751"/>
                  <a:pt x="14417" y="12828"/>
                </a:cubicBezTo>
                <a:lnTo>
                  <a:pt x="14417" y="7493"/>
                </a:lnTo>
                <a:lnTo>
                  <a:pt x="12581" y="7493"/>
                </a:lnTo>
                <a:lnTo>
                  <a:pt x="16088" y="3985"/>
                </a:lnTo>
                <a:lnTo>
                  <a:pt x="19761" y="7493"/>
                </a:lnTo>
                <a:lnTo>
                  <a:pt x="17925" y="7493"/>
                </a:lnTo>
                <a:lnTo>
                  <a:pt x="17925" y="12828"/>
                </a:lnTo>
                <a:cubicBezTo>
                  <a:pt x="17925" y="15596"/>
                  <a:pt x="15348" y="18155"/>
                  <a:pt x="12581" y="18155"/>
                </a:cubicBezTo>
                <a:lnTo>
                  <a:pt x="10918" y="18155"/>
                </a:lnTo>
                <a:cubicBezTo>
                  <a:pt x="8150" y="18155"/>
                  <a:pt x="5574" y="15596"/>
                  <a:pt x="55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1" name="Object 11"/>
              <p:cNvSpPr txBox="1"/>
              <p:nvPr/>
            </p:nvSpPr>
            <p:spPr>
              <a:xfrm>
                <a:off x="1908000" y="2421000"/>
                <a:ext cx="5256360" cy="37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rPr>
                            <m:lit/>
                            <m:nor/>
                          </m:rPr>
                          <m:t xml:space="preserve">бы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и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компланарны,</m:t>
                        </m:r>
                        <m:r>
                          <m:rPr>
                            <m:lit/>
                            <m:nor/>
                          </m:rPr>
                          <m:t xml:space="preserve">чт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тиворечит</m:t>
                        </m:r>
                        <m:r>
                          <m:rPr>
                            <m:lit/>
                            <m:nor/>
                          </m:rPr>
                          <m:t xml:space="preserve">условию</m:t>
                        </m:r>
                        <m:r>
                          <m:rPr>
                            <m:lit/>
                            <m:nor/>
                          </m:rPr>
                          <m:t xml:space="preserve">теорем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азательство теор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99640" y="1339920"/>
            <a:ext cx="72010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кажем, что коэффициенты разложения определяются единственным обра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у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4"/>
              <p:cNvSpPr txBox="1"/>
              <p:nvPr/>
            </p:nvSpPr>
            <p:spPr>
              <a:xfrm>
                <a:off x="2568600" y="1987560"/>
                <a:ext cx="2422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55" name="Freeform 8"/>
          <p:cNvSpPr/>
          <p:nvPr/>
        </p:nvSpPr>
        <p:spPr>
          <a:xfrm flipV="1" rot="3178200">
            <a:off x="3943440" y="2688840"/>
            <a:ext cx="608040" cy="503280"/>
          </a:xfrm>
          <a:custGeom>
            <a:avLst/>
            <a:gdLst/>
            <a:ahLst/>
            <a:rect l="l" t="t" r="r" b="b"/>
            <a:pathLst>
              <a:path w="265" h="356">
                <a:moveTo>
                  <a:pt x="227" y="0"/>
                </a:moveTo>
                <a:cubicBezTo>
                  <a:pt x="246" y="140"/>
                  <a:pt x="265" y="280"/>
                  <a:pt x="227" y="318"/>
                </a:cubicBezTo>
                <a:cubicBezTo>
                  <a:pt x="189" y="356"/>
                  <a:pt x="38" y="242"/>
                  <a:pt x="0" y="2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 flipV="1">
            <a:off x="4572000" y="2706120"/>
            <a:ext cx="2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2">
            <a:hlinkClick r:id="rId1" action="ppaction://hlinksldjump"/>
          </p:cNvPr>
          <p:cNvSpPr/>
          <p:nvPr/>
        </p:nvSpPr>
        <p:spPr>
          <a:xfrm>
            <a:off x="781200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10800"/>
                </a:moveTo>
                <a:lnTo>
                  <a:pt x="19632" y="3794"/>
                </a:lnTo>
                <a:lnTo>
                  <a:pt x="1963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">
            <a:hlinkClick r:id="rId2" action="ppaction://hlinksldjump"/>
          </p:cNvPr>
          <p:cNvSpPr/>
          <p:nvPr/>
        </p:nvSpPr>
        <p:spPr>
          <a:xfrm>
            <a:off x="831528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7493"/>
                </a:moveTo>
                <a:lnTo>
                  <a:pt x="9082" y="7493"/>
                </a:lnTo>
                <a:lnTo>
                  <a:pt x="9082" y="12828"/>
                </a:lnTo>
                <a:cubicBezTo>
                  <a:pt x="9082" y="13751"/>
                  <a:pt x="9882" y="14482"/>
                  <a:pt x="10918" y="14482"/>
                </a:cubicBezTo>
                <a:lnTo>
                  <a:pt x="12581" y="14482"/>
                </a:lnTo>
                <a:cubicBezTo>
                  <a:pt x="13616" y="14482"/>
                  <a:pt x="14417" y="13751"/>
                  <a:pt x="14417" y="12828"/>
                </a:cubicBezTo>
                <a:lnTo>
                  <a:pt x="14417" y="7493"/>
                </a:lnTo>
                <a:lnTo>
                  <a:pt x="12581" y="7493"/>
                </a:lnTo>
                <a:lnTo>
                  <a:pt x="16088" y="3985"/>
                </a:lnTo>
                <a:lnTo>
                  <a:pt x="19761" y="7493"/>
                </a:lnTo>
                <a:lnTo>
                  <a:pt x="17925" y="7493"/>
                </a:lnTo>
                <a:lnTo>
                  <a:pt x="17925" y="12828"/>
                </a:lnTo>
                <a:cubicBezTo>
                  <a:pt x="17925" y="15596"/>
                  <a:pt x="15348" y="18155"/>
                  <a:pt x="12581" y="18155"/>
                </a:cubicBezTo>
                <a:lnTo>
                  <a:pt x="10918" y="18155"/>
                </a:lnTo>
                <a:cubicBezTo>
                  <a:pt x="8150" y="18155"/>
                  <a:pt x="5574" y="15596"/>
                  <a:pt x="55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азис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">
            <a:hlinkClick r:id="rId1" action="ppaction://hlinksldjump"/>
          </p:cNvPr>
          <p:cNvSpPr/>
          <p:nvPr/>
        </p:nvSpPr>
        <p:spPr>
          <a:xfrm>
            <a:off x="971640" y="1628640"/>
            <a:ext cx="7200720" cy="360360"/>
          </a:xfrm>
          <a:custGeom>
            <a:avLst/>
            <a:gdLst>
              <a:gd name="textAreaLeft" fmla="*/ 23040 w 7200720"/>
              <a:gd name="textAreaRight" fmla="*/ 7177680 w 720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202" h="21600">
                <a:moveTo>
                  <a:pt x="0" y="0"/>
                </a:moveTo>
                <a:lnTo>
                  <a:pt x="431202" y="0"/>
                </a:lnTo>
                <a:lnTo>
                  <a:pt x="431202" y="21600"/>
                </a:lnTo>
                <a:lnTo>
                  <a:pt x="0" y="21600"/>
                </a:lnTo>
                <a:close/>
              </a:path>
              <a:path fill="lightenLess" w="431202" h="21600">
                <a:moveTo>
                  <a:pt x="0" y="0"/>
                </a:moveTo>
                <a:lnTo>
                  <a:pt x="431202" y="0"/>
                </a:lnTo>
                <a:lnTo>
                  <a:pt x="429802" y="1400"/>
                </a:lnTo>
                <a:lnTo>
                  <a:pt x="1400" y="1400"/>
                </a:lnTo>
                <a:close/>
              </a:path>
              <a:path fill="darken" w="431202" h="21600">
                <a:moveTo>
                  <a:pt x="431202" y="0"/>
                </a:moveTo>
                <a:lnTo>
                  <a:pt x="431202" y="21600"/>
                </a:lnTo>
                <a:lnTo>
                  <a:pt x="429802" y="20200"/>
                </a:lnTo>
                <a:lnTo>
                  <a:pt x="429802" y="1400"/>
                </a:lnTo>
                <a:close/>
              </a:path>
              <a:path fill="darkenLess" w="431202" h="21600">
                <a:moveTo>
                  <a:pt x="431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802" y="20200"/>
                </a:lnTo>
                <a:close/>
              </a:path>
              <a:path fill="lighten" w="431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Вектор, проведенный в середину отре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3">
            <a:hlinkClick r:id="rId2" action="ppaction://hlinksldjump"/>
          </p:cNvPr>
          <p:cNvSpPr/>
          <p:nvPr/>
        </p:nvSpPr>
        <p:spPr>
          <a:xfrm>
            <a:off x="971640" y="2276640"/>
            <a:ext cx="7200720" cy="360360"/>
          </a:xfrm>
          <a:custGeom>
            <a:avLst/>
            <a:gdLst>
              <a:gd name="textAreaLeft" fmla="*/ 23040 w 7200720"/>
              <a:gd name="textAreaRight" fmla="*/ 7177680 w 720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202" h="21600">
                <a:moveTo>
                  <a:pt x="0" y="0"/>
                </a:moveTo>
                <a:lnTo>
                  <a:pt x="431202" y="0"/>
                </a:lnTo>
                <a:lnTo>
                  <a:pt x="431202" y="21600"/>
                </a:lnTo>
                <a:lnTo>
                  <a:pt x="0" y="21600"/>
                </a:lnTo>
                <a:close/>
              </a:path>
              <a:path fill="lightenLess" w="431202" h="21600">
                <a:moveTo>
                  <a:pt x="0" y="0"/>
                </a:moveTo>
                <a:lnTo>
                  <a:pt x="431202" y="0"/>
                </a:lnTo>
                <a:lnTo>
                  <a:pt x="429802" y="1400"/>
                </a:lnTo>
                <a:lnTo>
                  <a:pt x="1400" y="1400"/>
                </a:lnTo>
                <a:close/>
              </a:path>
              <a:path fill="darken" w="431202" h="21600">
                <a:moveTo>
                  <a:pt x="431202" y="0"/>
                </a:moveTo>
                <a:lnTo>
                  <a:pt x="431202" y="21600"/>
                </a:lnTo>
                <a:lnTo>
                  <a:pt x="429802" y="20200"/>
                </a:lnTo>
                <a:lnTo>
                  <a:pt x="429802" y="1400"/>
                </a:lnTo>
                <a:close/>
              </a:path>
              <a:path fill="darkenLess" w="431202" h="21600">
                <a:moveTo>
                  <a:pt x="431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802" y="20200"/>
                </a:lnTo>
                <a:close/>
              </a:path>
              <a:path fill="lighten" w="431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Вектор, проведенный в точку отре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4">
            <a:hlinkClick r:id="rId3" action="ppaction://hlinksldjump"/>
          </p:cNvPr>
          <p:cNvSpPr/>
          <p:nvPr/>
        </p:nvSpPr>
        <p:spPr>
          <a:xfrm>
            <a:off x="971640" y="2925720"/>
            <a:ext cx="7200720" cy="360360"/>
          </a:xfrm>
          <a:custGeom>
            <a:avLst/>
            <a:gdLst>
              <a:gd name="textAreaLeft" fmla="*/ 23040 w 7200720"/>
              <a:gd name="textAreaRight" fmla="*/ 7177680 w 720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202" h="21600">
                <a:moveTo>
                  <a:pt x="0" y="0"/>
                </a:moveTo>
                <a:lnTo>
                  <a:pt x="431202" y="0"/>
                </a:lnTo>
                <a:lnTo>
                  <a:pt x="431202" y="21600"/>
                </a:lnTo>
                <a:lnTo>
                  <a:pt x="0" y="21600"/>
                </a:lnTo>
                <a:close/>
              </a:path>
              <a:path fill="lightenLess" w="431202" h="21600">
                <a:moveTo>
                  <a:pt x="0" y="0"/>
                </a:moveTo>
                <a:lnTo>
                  <a:pt x="431202" y="0"/>
                </a:lnTo>
                <a:lnTo>
                  <a:pt x="429802" y="1400"/>
                </a:lnTo>
                <a:lnTo>
                  <a:pt x="1400" y="1400"/>
                </a:lnTo>
                <a:close/>
              </a:path>
              <a:path fill="darken" w="431202" h="21600">
                <a:moveTo>
                  <a:pt x="431202" y="0"/>
                </a:moveTo>
                <a:lnTo>
                  <a:pt x="431202" y="21600"/>
                </a:lnTo>
                <a:lnTo>
                  <a:pt x="429802" y="20200"/>
                </a:lnTo>
                <a:lnTo>
                  <a:pt x="429802" y="1400"/>
                </a:lnTo>
                <a:close/>
              </a:path>
              <a:path fill="darkenLess" w="431202" h="21600">
                <a:moveTo>
                  <a:pt x="431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802" y="20200"/>
                </a:lnTo>
                <a:close/>
              </a:path>
              <a:path fill="lighten" w="431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Вектор, соединяющий середины двух отрез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5">
            <a:hlinkClick r:id="rId4" action="ppaction://hlinksldjump"/>
          </p:cNvPr>
          <p:cNvSpPr/>
          <p:nvPr/>
        </p:nvSpPr>
        <p:spPr>
          <a:xfrm>
            <a:off x="971640" y="3573360"/>
            <a:ext cx="7200720" cy="360360"/>
          </a:xfrm>
          <a:custGeom>
            <a:avLst/>
            <a:gdLst>
              <a:gd name="textAreaLeft" fmla="*/ 23040 w 7200720"/>
              <a:gd name="textAreaRight" fmla="*/ 7177680 w 720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202" h="21600">
                <a:moveTo>
                  <a:pt x="0" y="0"/>
                </a:moveTo>
                <a:lnTo>
                  <a:pt x="431202" y="0"/>
                </a:lnTo>
                <a:lnTo>
                  <a:pt x="431202" y="21600"/>
                </a:lnTo>
                <a:lnTo>
                  <a:pt x="0" y="21600"/>
                </a:lnTo>
                <a:close/>
              </a:path>
              <a:path fill="lightenLess" w="431202" h="21600">
                <a:moveTo>
                  <a:pt x="0" y="0"/>
                </a:moveTo>
                <a:lnTo>
                  <a:pt x="431202" y="0"/>
                </a:lnTo>
                <a:lnTo>
                  <a:pt x="429802" y="1400"/>
                </a:lnTo>
                <a:lnTo>
                  <a:pt x="1400" y="1400"/>
                </a:lnTo>
                <a:close/>
              </a:path>
              <a:path fill="darken" w="431202" h="21600">
                <a:moveTo>
                  <a:pt x="431202" y="0"/>
                </a:moveTo>
                <a:lnTo>
                  <a:pt x="431202" y="21600"/>
                </a:lnTo>
                <a:lnTo>
                  <a:pt x="429802" y="20200"/>
                </a:lnTo>
                <a:lnTo>
                  <a:pt x="429802" y="1400"/>
                </a:lnTo>
                <a:close/>
              </a:path>
              <a:path fill="darkenLess" w="431202" h="21600">
                <a:moveTo>
                  <a:pt x="431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802" y="20200"/>
                </a:lnTo>
                <a:close/>
              </a:path>
              <a:path fill="lighten" w="431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Вектор, проведенный в центроид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6">
            <a:hlinkClick r:id="rId5" action="ppaction://hlinksldjump"/>
          </p:cNvPr>
          <p:cNvSpPr/>
          <p:nvPr/>
        </p:nvSpPr>
        <p:spPr>
          <a:xfrm>
            <a:off x="971640" y="4221000"/>
            <a:ext cx="7200720" cy="792360"/>
          </a:xfrm>
          <a:custGeom>
            <a:avLst/>
            <a:gdLst>
              <a:gd name="textAreaLeft" fmla="*/ 51120 w 7200720"/>
              <a:gd name="textAreaRight" fmla="*/ 7149600 w 7200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96215" h="21600">
                <a:moveTo>
                  <a:pt x="0" y="0"/>
                </a:moveTo>
                <a:lnTo>
                  <a:pt x="196215" y="0"/>
                </a:lnTo>
                <a:lnTo>
                  <a:pt x="196215" y="21600"/>
                </a:lnTo>
                <a:lnTo>
                  <a:pt x="0" y="21600"/>
                </a:lnTo>
                <a:close/>
              </a:path>
              <a:path fill="lightenLess" w="196215" h="21600">
                <a:moveTo>
                  <a:pt x="0" y="0"/>
                </a:moveTo>
                <a:lnTo>
                  <a:pt x="196215" y="0"/>
                </a:lnTo>
                <a:lnTo>
                  <a:pt x="194815" y="1400"/>
                </a:lnTo>
                <a:lnTo>
                  <a:pt x="1400" y="1400"/>
                </a:lnTo>
                <a:close/>
              </a:path>
              <a:path fill="darken" w="196215" h="21600">
                <a:moveTo>
                  <a:pt x="196215" y="0"/>
                </a:moveTo>
                <a:lnTo>
                  <a:pt x="196215" y="21600"/>
                </a:lnTo>
                <a:lnTo>
                  <a:pt x="194815" y="20200"/>
                </a:lnTo>
                <a:lnTo>
                  <a:pt x="194815" y="1400"/>
                </a:lnTo>
                <a:close/>
              </a:path>
              <a:path fill="darkenLess" w="196215" h="21600">
                <a:moveTo>
                  <a:pt x="196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4815" y="20200"/>
                </a:lnTo>
                <a:close/>
              </a:path>
              <a:path fill="lighten" w="196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Вектор, проведенный в точку перес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иагоналей паралле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7">
            <a:hlinkClick r:id="rId6" action="ppaction://hlinksldjump"/>
          </p:cNvPr>
          <p:cNvSpPr/>
          <p:nvPr/>
        </p:nvSpPr>
        <p:spPr>
          <a:xfrm>
            <a:off x="971640" y="5229360"/>
            <a:ext cx="7200720" cy="360360"/>
          </a:xfrm>
          <a:custGeom>
            <a:avLst/>
            <a:gdLst>
              <a:gd name="textAreaLeft" fmla="*/ 23040 w 7200720"/>
              <a:gd name="textAreaRight" fmla="*/ 7177680 w 720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202" h="21600">
                <a:moveTo>
                  <a:pt x="0" y="0"/>
                </a:moveTo>
                <a:lnTo>
                  <a:pt x="431202" y="0"/>
                </a:lnTo>
                <a:lnTo>
                  <a:pt x="431202" y="21600"/>
                </a:lnTo>
                <a:lnTo>
                  <a:pt x="0" y="21600"/>
                </a:lnTo>
                <a:close/>
              </a:path>
              <a:path fill="lightenLess" w="431202" h="21600">
                <a:moveTo>
                  <a:pt x="0" y="0"/>
                </a:moveTo>
                <a:lnTo>
                  <a:pt x="431202" y="0"/>
                </a:lnTo>
                <a:lnTo>
                  <a:pt x="429802" y="1400"/>
                </a:lnTo>
                <a:lnTo>
                  <a:pt x="1400" y="1400"/>
                </a:lnTo>
                <a:close/>
              </a:path>
              <a:path fill="darken" w="431202" h="21600">
                <a:moveTo>
                  <a:pt x="431202" y="0"/>
                </a:moveTo>
                <a:lnTo>
                  <a:pt x="431202" y="21600"/>
                </a:lnTo>
                <a:lnTo>
                  <a:pt x="429802" y="20200"/>
                </a:lnTo>
                <a:lnTo>
                  <a:pt x="429802" y="1400"/>
                </a:lnTo>
                <a:close/>
              </a:path>
              <a:path fill="darkenLess" w="431202" h="21600">
                <a:moveTo>
                  <a:pt x="431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802" y="20200"/>
                </a:lnTo>
                <a:close/>
              </a:path>
              <a:path fill="lighten" w="431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Вектор, лежащий на диагонали параллелепип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0">
            <a:hlinkClick r:id="rId7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ектор, проведенный в середину отрез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3"/>
          <p:cNvGrpSpPr/>
          <p:nvPr/>
        </p:nvGrpSpPr>
        <p:grpSpPr>
          <a:xfrm>
            <a:off x="3059280" y="2239920"/>
            <a:ext cx="2520720" cy="2054520"/>
            <a:chOff x="3059280" y="2239920"/>
            <a:chExt cx="2520720" cy="2054520"/>
          </a:xfrm>
        </p:grpSpPr>
        <p:sp>
          <p:nvSpPr>
            <p:cNvPr id="669" name="Line 2"/>
            <p:cNvSpPr/>
            <p:nvPr/>
          </p:nvSpPr>
          <p:spPr>
            <a:xfrm>
              <a:off x="3419640" y="2670120"/>
              <a:ext cx="18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3"/>
            <p:cNvSpPr/>
            <p:nvPr/>
          </p:nvSpPr>
          <p:spPr>
            <a:xfrm flipH="1" flipV="1">
              <a:off x="3419640" y="2671200"/>
              <a:ext cx="7272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4"/>
            <p:cNvSpPr/>
            <p:nvPr/>
          </p:nvSpPr>
          <p:spPr>
            <a:xfrm flipV="1">
              <a:off x="3492360" y="2671200"/>
              <a:ext cx="180036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5"/>
            <p:cNvSpPr/>
            <p:nvPr/>
          </p:nvSpPr>
          <p:spPr>
            <a:xfrm flipV="1">
              <a:off x="3492360" y="2671200"/>
              <a:ext cx="863640" cy="1297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6"/>
            <p:cNvSpPr/>
            <p:nvPr/>
          </p:nvSpPr>
          <p:spPr>
            <a:xfrm>
              <a:off x="3851280" y="25984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7"/>
            <p:cNvSpPr/>
            <p:nvPr/>
          </p:nvSpPr>
          <p:spPr>
            <a:xfrm>
              <a:off x="4788000" y="25984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8"/>
            <p:cNvSpPr/>
            <p:nvPr/>
          </p:nvSpPr>
          <p:spPr>
            <a:xfrm>
              <a:off x="4211640" y="2239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9"/>
            <p:cNvSpPr/>
            <p:nvPr/>
          </p:nvSpPr>
          <p:spPr>
            <a:xfrm>
              <a:off x="3059280" y="23112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10"/>
            <p:cNvSpPr/>
            <p:nvPr/>
          </p:nvSpPr>
          <p:spPr>
            <a:xfrm>
              <a:off x="5292720" y="23828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1"/>
            <p:cNvSpPr/>
            <p:nvPr/>
          </p:nvSpPr>
          <p:spPr>
            <a:xfrm>
              <a:off x="3276720" y="38955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9" name="Object 12"/>
              <p:cNvSpPr txBox="1"/>
              <p:nvPr/>
            </p:nvSpPr>
            <p:spPr>
              <a:xfrm>
                <a:off x="2006640" y="4334040"/>
                <a:ext cx="50594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80" name="Text Box 13"/>
          <p:cNvSpPr/>
          <p:nvPr/>
        </p:nvSpPr>
        <p:spPr>
          <a:xfrm>
            <a:off x="2843280" y="5589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Доказа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0"/>
          <p:cNvSpPr/>
          <p:nvPr/>
        </p:nvSpPr>
        <p:spPr>
          <a:xfrm>
            <a:off x="971640" y="141300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вен полусумме векторов, проведенных из той же точки в его кон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2">
            <a:hlinkClick r:id="rId3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0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3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4"/>
          <p:cNvSpPr/>
          <p:nvPr/>
        </p:nvSpPr>
        <p:spPr>
          <a:xfrm>
            <a:off x="1690560" y="1627200"/>
            <a:ext cx="1873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"/>
          <p:cNvSpPr/>
          <p:nvPr/>
        </p:nvSpPr>
        <p:spPr>
          <a:xfrm flipH="1" flipV="1">
            <a:off x="1690200" y="1628640"/>
            <a:ext cx="73080" cy="122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6"/>
          <p:cNvSpPr/>
          <p:nvPr/>
        </p:nvSpPr>
        <p:spPr>
          <a:xfrm flipV="1">
            <a:off x="1763640" y="1628640"/>
            <a:ext cx="1800360" cy="122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7"/>
          <p:cNvSpPr/>
          <p:nvPr/>
        </p:nvSpPr>
        <p:spPr>
          <a:xfrm flipV="1">
            <a:off x="1763640" y="1628640"/>
            <a:ext cx="86364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8"/>
          <p:cNvSpPr/>
          <p:nvPr/>
        </p:nvSpPr>
        <p:spPr>
          <a:xfrm>
            <a:off x="2122560" y="1555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9"/>
          <p:cNvSpPr/>
          <p:nvPr/>
        </p:nvSpPr>
        <p:spPr>
          <a:xfrm>
            <a:off x="3059280" y="1555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0"/>
          <p:cNvSpPr/>
          <p:nvPr/>
        </p:nvSpPr>
        <p:spPr>
          <a:xfrm>
            <a:off x="2482920" y="119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1"/>
          <p:cNvSpPr/>
          <p:nvPr/>
        </p:nvSpPr>
        <p:spPr>
          <a:xfrm>
            <a:off x="1330200" y="12682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2"/>
          <p:cNvSpPr/>
          <p:nvPr/>
        </p:nvSpPr>
        <p:spPr>
          <a:xfrm>
            <a:off x="3564000" y="1339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3"/>
          <p:cNvSpPr/>
          <p:nvPr/>
        </p:nvSpPr>
        <p:spPr>
          <a:xfrm>
            <a:off x="1619280" y="2852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14"/>
              <p:cNvSpPr txBox="1"/>
              <p:nvPr/>
            </p:nvSpPr>
            <p:spPr>
              <a:xfrm>
                <a:off x="4621320" y="1474920"/>
                <a:ext cx="2190600" cy="21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трезок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ь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15"/>
              <p:cNvSpPr txBox="1"/>
              <p:nvPr/>
            </p:nvSpPr>
            <p:spPr>
              <a:xfrm>
                <a:off x="933480" y="3192480"/>
                <a:ext cx="641340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</m:t>
                        </m:r>
                        <m:r>
                          <m:t xml:space="preserve">:</m:t>
                        </m:r>
                      </m:e>
                      <m:e>
                        <m:eqAr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e>
                            </m:bar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e>
                            </m:acc>
                          </m:e>
                          <m:e>
                            <m:r>
                              <m:t xml:space="preserve">|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B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e>
                            </m:acc>
                          </m:e>
                          <m:e/>
                        </m:eqArr>
                        <m:r>
                          <m:t xml:space="preserve">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(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C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o</m:t>
                                </m:r>
                              </m:e>
                            </m:acc>
                          </m:lim>
                        </m:limLow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÷</m:t>
                        </m:r>
                        <m:r>
                          <m:t xml:space="preserve">2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7" name="AutoShape 1">
            <a:hlinkClick r:id="rId1" action="ppaction://hlinksldjump"/>
          </p:cNvPr>
          <p:cNvSpPr/>
          <p:nvPr/>
        </p:nvSpPr>
        <p:spPr>
          <a:xfrm>
            <a:off x="831528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7493"/>
                </a:moveTo>
                <a:lnTo>
                  <a:pt x="9082" y="7493"/>
                </a:lnTo>
                <a:lnTo>
                  <a:pt x="9082" y="12828"/>
                </a:lnTo>
                <a:cubicBezTo>
                  <a:pt x="9082" y="13751"/>
                  <a:pt x="9882" y="14482"/>
                  <a:pt x="10918" y="14482"/>
                </a:cubicBezTo>
                <a:lnTo>
                  <a:pt x="12581" y="14482"/>
                </a:lnTo>
                <a:cubicBezTo>
                  <a:pt x="13616" y="14482"/>
                  <a:pt x="14417" y="13751"/>
                  <a:pt x="14417" y="12828"/>
                </a:cubicBezTo>
                <a:lnTo>
                  <a:pt x="14417" y="7493"/>
                </a:lnTo>
                <a:lnTo>
                  <a:pt x="12581" y="7493"/>
                </a:lnTo>
                <a:lnTo>
                  <a:pt x="16088" y="3985"/>
                </a:lnTo>
                <a:lnTo>
                  <a:pt x="19761" y="7493"/>
                </a:lnTo>
                <a:lnTo>
                  <a:pt x="17925" y="7493"/>
                </a:lnTo>
                <a:lnTo>
                  <a:pt x="17925" y="12828"/>
                </a:lnTo>
                <a:cubicBezTo>
                  <a:pt x="17925" y="15596"/>
                  <a:pt x="15348" y="18155"/>
                  <a:pt x="12581" y="18155"/>
                </a:cubicBezTo>
                <a:lnTo>
                  <a:pt x="10918" y="18155"/>
                </a:lnTo>
                <a:cubicBezTo>
                  <a:pt x="8150" y="18155"/>
                  <a:pt x="5574" y="15596"/>
                  <a:pt x="55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ектор, проведенный в точку отре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0"/>
          <p:cNvSpPr/>
          <p:nvPr/>
        </p:nvSpPr>
        <p:spPr>
          <a:xfrm>
            <a:off x="3405240" y="2490840"/>
            <a:ext cx="1873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"/>
          <p:cNvSpPr/>
          <p:nvPr/>
        </p:nvSpPr>
        <p:spPr>
          <a:xfrm flipH="1" flipV="1">
            <a:off x="3404880" y="2492280"/>
            <a:ext cx="73080" cy="122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"/>
          <p:cNvSpPr/>
          <p:nvPr/>
        </p:nvSpPr>
        <p:spPr>
          <a:xfrm flipV="1">
            <a:off x="3478320" y="2492280"/>
            <a:ext cx="1800000" cy="122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3"/>
          <p:cNvSpPr/>
          <p:nvPr/>
        </p:nvSpPr>
        <p:spPr>
          <a:xfrm flipV="1">
            <a:off x="3478320" y="2492280"/>
            <a:ext cx="122400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"/>
          <p:cNvSpPr/>
          <p:nvPr/>
        </p:nvSpPr>
        <p:spPr>
          <a:xfrm>
            <a:off x="4629240" y="20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7"/>
          <p:cNvSpPr/>
          <p:nvPr/>
        </p:nvSpPr>
        <p:spPr>
          <a:xfrm>
            <a:off x="3044880" y="2131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8"/>
          <p:cNvSpPr/>
          <p:nvPr/>
        </p:nvSpPr>
        <p:spPr>
          <a:xfrm>
            <a:off x="5278320" y="22035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9"/>
          <p:cNvSpPr/>
          <p:nvPr/>
        </p:nvSpPr>
        <p:spPr>
          <a:xfrm>
            <a:off x="3333600" y="37162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1"/>
          <p:cNvSpPr/>
          <p:nvPr/>
        </p:nvSpPr>
        <p:spPr>
          <a:xfrm>
            <a:off x="3851280" y="2133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2"/>
          <p:cNvSpPr/>
          <p:nvPr/>
        </p:nvSpPr>
        <p:spPr>
          <a:xfrm>
            <a:off x="4859280" y="2133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13"/>
              <p:cNvSpPr txBox="1"/>
              <p:nvPr/>
            </p:nvSpPr>
            <p:spPr>
              <a:xfrm>
                <a:off x="2484360" y="4335480"/>
                <a:ext cx="4032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10" name="Text Box 14"/>
          <p:cNvSpPr/>
          <p:nvPr/>
        </p:nvSpPr>
        <p:spPr>
          <a:xfrm>
            <a:off x="2828880" y="5589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Доказа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0"/>
          <p:cNvSpPr/>
          <p:nvPr/>
        </p:nvSpPr>
        <p:spPr>
          <a:xfrm>
            <a:off x="971640" y="11253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оч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делит отрезок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в отношени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 : п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1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2">
            <a:hlinkClick r:id="rId3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0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3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17"/>
              <p:cNvSpPr txBox="1"/>
              <p:nvPr/>
            </p:nvSpPr>
            <p:spPr>
              <a:xfrm>
                <a:off x="4375080" y="1327320"/>
                <a:ext cx="3292560" cy="29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трезок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ь</m:t>
                        </m:r>
                        <m:r>
                          <m:t xml:space="preserve">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18"/>
              <p:cNvSpPr txBox="1"/>
              <p:nvPr/>
            </p:nvSpPr>
            <p:spPr>
              <a:xfrm>
                <a:off x="900000" y="3284640"/>
                <a:ext cx="4186440" cy="31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</m:t>
                        </m:r>
                        <m:r>
                          <m:t xml:space="preserve">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7" name="Line 21"/>
          <p:cNvSpPr/>
          <p:nvPr/>
        </p:nvSpPr>
        <p:spPr>
          <a:xfrm>
            <a:off x="1692360" y="1698480"/>
            <a:ext cx="1873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22"/>
          <p:cNvSpPr/>
          <p:nvPr/>
        </p:nvSpPr>
        <p:spPr>
          <a:xfrm flipH="1" flipV="1">
            <a:off x="1692000" y="1700280"/>
            <a:ext cx="73080" cy="122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23"/>
          <p:cNvSpPr/>
          <p:nvPr/>
        </p:nvSpPr>
        <p:spPr>
          <a:xfrm flipV="1">
            <a:off x="1765440" y="1700280"/>
            <a:ext cx="1800000" cy="122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24"/>
          <p:cNvSpPr/>
          <p:nvPr/>
        </p:nvSpPr>
        <p:spPr>
          <a:xfrm flipV="1">
            <a:off x="1765440" y="1700280"/>
            <a:ext cx="122400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5"/>
          <p:cNvSpPr/>
          <p:nvPr/>
        </p:nvSpPr>
        <p:spPr>
          <a:xfrm>
            <a:off x="2916360" y="1268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6"/>
          <p:cNvSpPr/>
          <p:nvPr/>
        </p:nvSpPr>
        <p:spPr>
          <a:xfrm>
            <a:off x="1332000" y="1339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7"/>
          <p:cNvSpPr/>
          <p:nvPr/>
        </p:nvSpPr>
        <p:spPr>
          <a:xfrm>
            <a:off x="3565440" y="14112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8"/>
          <p:cNvSpPr/>
          <p:nvPr/>
        </p:nvSpPr>
        <p:spPr>
          <a:xfrm>
            <a:off x="1620720" y="2924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30"/>
          <p:cNvSpPr/>
          <p:nvPr/>
        </p:nvSpPr>
        <p:spPr>
          <a:xfrm>
            <a:off x="2124000" y="134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1"/>
          <p:cNvSpPr/>
          <p:nvPr/>
        </p:nvSpPr>
        <p:spPr>
          <a:xfrm>
            <a:off x="3132000" y="1341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1">
            <a:hlinkClick r:id="rId1" action="ppaction://hlinksldjump"/>
          </p:cNvPr>
          <p:cNvSpPr/>
          <p:nvPr/>
        </p:nvSpPr>
        <p:spPr>
          <a:xfrm>
            <a:off x="831528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7493"/>
                </a:moveTo>
                <a:lnTo>
                  <a:pt x="9082" y="7493"/>
                </a:lnTo>
                <a:lnTo>
                  <a:pt x="9082" y="12828"/>
                </a:lnTo>
                <a:cubicBezTo>
                  <a:pt x="9082" y="13751"/>
                  <a:pt x="9882" y="14482"/>
                  <a:pt x="10918" y="14482"/>
                </a:cubicBezTo>
                <a:lnTo>
                  <a:pt x="12581" y="14482"/>
                </a:lnTo>
                <a:cubicBezTo>
                  <a:pt x="13616" y="14482"/>
                  <a:pt x="14417" y="13751"/>
                  <a:pt x="14417" y="12828"/>
                </a:cubicBezTo>
                <a:lnTo>
                  <a:pt x="14417" y="7493"/>
                </a:lnTo>
                <a:lnTo>
                  <a:pt x="12581" y="7493"/>
                </a:lnTo>
                <a:lnTo>
                  <a:pt x="16088" y="3985"/>
                </a:lnTo>
                <a:lnTo>
                  <a:pt x="19761" y="7493"/>
                </a:lnTo>
                <a:lnTo>
                  <a:pt x="17925" y="7493"/>
                </a:lnTo>
                <a:lnTo>
                  <a:pt x="17925" y="12828"/>
                </a:lnTo>
                <a:cubicBezTo>
                  <a:pt x="17925" y="15596"/>
                  <a:pt x="15348" y="18155"/>
                  <a:pt x="12581" y="18155"/>
                </a:cubicBezTo>
                <a:lnTo>
                  <a:pt x="10918" y="18155"/>
                </a:lnTo>
                <a:cubicBezTo>
                  <a:pt x="8150" y="18155"/>
                  <a:pt x="5574" y="15596"/>
                  <a:pt x="55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ектор, соединяющий середины двух отрезк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0"/>
          <p:cNvSpPr/>
          <p:nvPr/>
        </p:nvSpPr>
        <p:spPr>
          <a:xfrm>
            <a:off x="1835280" y="2419200"/>
            <a:ext cx="187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"/>
          <p:cNvSpPr/>
          <p:nvPr/>
        </p:nvSpPr>
        <p:spPr>
          <a:xfrm flipV="1">
            <a:off x="900000" y="2420640"/>
            <a:ext cx="93528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2"/>
          <p:cNvSpPr/>
          <p:nvPr/>
        </p:nvSpPr>
        <p:spPr>
          <a:xfrm flipV="1">
            <a:off x="2916360" y="2421000"/>
            <a:ext cx="792000" cy="180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3"/>
          <p:cNvSpPr/>
          <p:nvPr/>
        </p:nvSpPr>
        <p:spPr>
          <a:xfrm flipV="1">
            <a:off x="1908000" y="2420640"/>
            <a:ext cx="863640" cy="115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1547640" y="2060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2916360" y="414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611280" y="28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1"/>
          <p:cNvSpPr/>
          <p:nvPr/>
        </p:nvSpPr>
        <p:spPr>
          <a:xfrm>
            <a:off x="900000" y="2997360"/>
            <a:ext cx="2016360" cy="12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2"/>
          <p:cNvSpPr/>
          <p:nvPr/>
        </p:nvSpPr>
        <p:spPr>
          <a:xfrm>
            <a:off x="2266920" y="234792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3"/>
          <p:cNvSpPr/>
          <p:nvPr/>
        </p:nvSpPr>
        <p:spPr>
          <a:xfrm>
            <a:off x="3203640" y="234936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4"/>
          <p:cNvSpPr/>
          <p:nvPr/>
        </p:nvSpPr>
        <p:spPr>
          <a:xfrm flipH="1">
            <a:off x="1258560" y="3213000"/>
            <a:ext cx="7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5"/>
          <p:cNvSpPr/>
          <p:nvPr/>
        </p:nvSpPr>
        <p:spPr>
          <a:xfrm flipH="1">
            <a:off x="1402920" y="328464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6"/>
          <p:cNvSpPr/>
          <p:nvPr/>
        </p:nvSpPr>
        <p:spPr>
          <a:xfrm flipH="1">
            <a:off x="2195640" y="378936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7"/>
          <p:cNvSpPr/>
          <p:nvPr/>
        </p:nvSpPr>
        <p:spPr>
          <a:xfrm flipH="1">
            <a:off x="2339640" y="386064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8"/>
          <p:cNvSpPr/>
          <p:nvPr/>
        </p:nvSpPr>
        <p:spPr>
          <a:xfrm>
            <a:off x="3708360" y="21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9"/>
          <p:cNvSpPr/>
          <p:nvPr/>
        </p:nvSpPr>
        <p:spPr>
          <a:xfrm>
            <a:off x="1619280" y="36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0"/>
          <p:cNvSpPr/>
          <p:nvPr/>
        </p:nvSpPr>
        <p:spPr>
          <a:xfrm>
            <a:off x="262728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1"/>
          <p:cNvSpPr/>
          <p:nvPr/>
        </p:nvSpPr>
        <p:spPr>
          <a:xfrm>
            <a:off x="5362560" y="2562120"/>
            <a:ext cx="1873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22"/>
          <p:cNvSpPr/>
          <p:nvPr/>
        </p:nvSpPr>
        <p:spPr>
          <a:xfrm flipV="1">
            <a:off x="4427640" y="2565360"/>
            <a:ext cx="2808360" cy="57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3"/>
          <p:cNvSpPr/>
          <p:nvPr/>
        </p:nvSpPr>
        <p:spPr>
          <a:xfrm flipH="1" flipV="1">
            <a:off x="5363640" y="2565360"/>
            <a:ext cx="1079640" cy="1798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4"/>
          <p:cNvSpPr/>
          <p:nvPr/>
        </p:nvSpPr>
        <p:spPr>
          <a:xfrm flipV="1">
            <a:off x="5435640" y="2563560"/>
            <a:ext cx="863640" cy="115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5"/>
          <p:cNvSpPr/>
          <p:nvPr/>
        </p:nvSpPr>
        <p:spPr>
          <a:xfrm>
            <a:off x="5075280" y="2203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6"/>
          <p:cNvSpPr/>
          <p:nvPr/>
        </p:nvSpPr>
        <p:spPr>
          <a:xfrm>
            <a:off x="6443640" y="429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7"/>
          <p:cNvSpPr/>
          <p:nvPr/>
        </p:nvSpPr>
        <p:spPr>
          <a:xfrm>
            <a:off x="4138560" y="2995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8"/>
          <p:cNvSpPr/>
          <p:nvPr/>
        </p:nvSpPr>
        <p:spPr>
          <a:xfrm>
            <a:off x="4427640" y="3139920"/>
            <a:ext cx="201600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29"/>
          <p:cNvSpPr/>
          <p:nvPr/>
        </p:nvSpPr>
        <p:spPr>
          <a:xfrm>
            <a:off x="5794200" y="2490840"/>
            <a:ext cx="18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0"/>
          <p:cNvSpPr/>
          <p:nvPr/>
        </p:nvSpPr>
        <p:spPr>
          <a:xfrm>
            <a:off x="6730920" y="249228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31"/>
          <p:cNvSpPr/>
          <p:nvPr/>
        </p:nvSpPr>
        <p:spPr>
          <a:xfrm flipH="1">
            <a:off x="4785840" y="3355920"/>
            <a:ext cx="7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32"/>
          <p:cNvSpPr/>
          <p:nvPr/>
        </p:nvSpPr>
        <p:spPr>
          <a:xfrm flipH="1">
            <a:off x="4930920" y="3427560"/>
            <a:ext cx="7272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3"/>
          <p:cNvSpPr/>
          <p:nvPr/>
        </p:nvSpPr>
        <p:spPr>
          <a:xfrm flipH="1">
            <a:off x="5722560" y="393228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34"/>
          <p:cNvSpPr/>
          <p:nvPr/>
        </p:nvSpPr>
        <p:spPr>
          <a:xfrm flipH="1">
            <a:off x="5866920" y="400356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5"/>
          <p:cNvSpPr/>
          <p:nvPr/>
        </p:nvSpPr>
        <p:spPr>
          <a:xfrm>
            <a:off x="7236000" y="22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6"/>
          <p:cNvSpPr/>
          <p:nvPr/>
        </p:nvSpPr>
        <p:spPr>
          <a:xfrm>
            <a:off x="5146560" y="3787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7"/>
          <p:cNvSpPr/>
          <p:nvPr/>
        </p:nvSpPr>
        <p:spPr>
          <a:xfrm>
            <a:off x="6154560" y="21319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Object 38"/>
              <p:cNvSpPr txBox="1"/>
              <p:nvPr/>
            </p:nvSpPr>
            <p:spPr>
              <a:xfrm>
                <a:off x="1863720" y="4626000"/>
                <a:ext cx="52736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4" name="Text Box 39"/>
          <p:cNvSpPr/>
          <p:nvPr/>
        </p:nvSpPr>
        <p:spPr>
          <a:xfrm>
            <a:off x="2843280" y="5589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Доказа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025"/>
          <p:cNvSpPr/>
          <p:nvPr/>
        </p:nvSpPr>
        <p:spPr>
          <a:xfrm>
            <a:off x="1042920" y="1413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вен полусумме векторов, соединяющих их кон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026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1027">
            <a:hlinkClick r:id="rId3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0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3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0"/>
          <p:cNvSpPr/>
          <p:nvPr/>
        </p:nvSpPr>
        <p:spPr>
          <a:xfrm>
            <a:off x="1835280" y="1987560"/>
            <a:ext cx="187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"/>
          <p:cNvSpPr/>
          <p:nvPr/>
        </p:nvSpPr>
        <p:spPr>
          <a:xfrm flipV="1">
            <a:off x="900000" y="1988640"/>
            <a:ext cx="93528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"/>
          <p:cNvSpPr/>
          <p:nvPr/>
        </p:nvSpPr>
        <p:spPr>
          <a:xfrm flipV="1">
            <a:off x="2916360" y="1988640"/>
            <a:ext cx="792000" cy="180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3"/>
          <p:cNvSpPr/>
          <p:nvPr/>
        </p:nvSpPr>
        <p:spPr>
          <a:xfrm flipV="1">
            <a:off x="1908000" y="1989000"/>
            <a:ext cx="863640" cy="115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1547640" y="1628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2916360" y="3718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6"/>
          <p:cNvSpPr/>
          <p:nvPr/>
        </p:nvSpPr>
        <p:spPr>
          <a:xfrm>
            <a:off x="611280" y="24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7"/>
          <p:cNvSpPr/>
          <p:nvPr/>
        </p:nvSpPr>
        <p:spPr>
          <a:xfrm>
            <a:off x="900000" y="2565360"/>
            <a:ext cx="201636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8"/>
          <p:cNvSpPr/>
          <p:nvPr/>
        </p:nvSpPr>
        <p:spPr>
          <a:xfrm>
            <a:off x="2266920" y="19162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9"/>
          <p:cNvSpPr/>
          <p:nvPr/>
        </p:nvSpPr>
        <p:spPr>
          <a:xfrm>
            <a:off x="3203640" y="191772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0"/>
          <p:cNvSpPr/>
          <p:nvPr/>
        </p:nvSpPr>
        <p:spPr>
          <a:xfrm flipH="1">
            <a:off x="1258560" y="278136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1"/>
          <p:cNvSpPr/>
          <p:nvPr/>
        </p:nvSpPr>
        <p:spPr>
          <a:xfrm flipH="1">
            <a:off x="1402920" y="285264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2"/>
          <p:cNvSpPr/>
          <p:nvPr/>
        </p:nvSpPr>
        <p:spPr>
          <a:xfrm flipH="1">
            <a:off x="2195640" y="335772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3"/>
          <p:cNvSpPr/>
          <p:nvPr/>
        </p:nvSpPr>
        <p:spPr>
          <a:xfrm flipH="1">
            <a:off x="2339640" y="342900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4"/>
          <p:cNvSpPr/>
          <p:nvPr/>
        </p:nvSpPr>
        <p:spPr>
          <a:xfrm>
            <a:off x="3708360" y="1701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5"/>
          <p:cNvSpPr/>
          <p:nvPr/>
        </p:nvSpPr>
        <p:spPr>
          <a:xfrm>
            <a:off x="1619280" y="3213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6"/>
          <p:cNvSpPr/>
          <p:nvPr/>
        </p:nvSpPr>
        <p:spPr>
          <a:xfrm>
            <a:off x="2627280" y="155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Object 17"/>
              <p:cNvSpPr txBox="1"/>
              <p:nvPr/>
            </p:nvSpPr>
            <p:spPr>
              <a:xfrm>
                <a:off x="4776840" y="1461960"/>
                <a:ext cx="2400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;C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ь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Object 1026"/>
              <p:cNvSpPr txBox="1"/>
              <p:nvPr/>
            </p:nvSpPr>
            <p:spPr>
              <a:xfrm>
                <a:off x="971640" y="4184640"/>
                <a:ext cx="3168720" cy="24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</m:t>
                        </m:r>
                        <m:r>
                          <m:t xml:space="preserve">:</m:t>
                        </m:r>
                      </m:e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N</m:t>
                                </m:r>
                              </m:e>
                            </m:acc>
                          </m:e>
                          <m:e>
                            <m:r>
                              <m:t xml:space="preserve">|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B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</m:acc>
                          </m:e>
                          <m:e/>
                        </m:eqArr>
                        <m:r>
                          <m:t xml:space="preserve">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8" name="AutoShape 1028">
            <a:hlinkClick r:id="rId1" action="ppaction://hlinksldjump"/>
          </p:cNvPr>
          <p:cNvSpPr/>
          <p:nvPr/>
        </p:nvSpPr>
        <p:spPr>
          <a:xfrm>
            <a:off x="831528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7493"/>
                </a:moveTo>
                <a:lnTo>
                  <a:pt x="9082" y="7493"/>
                </a:lnTo>
                <a:lnTo>
                  <a:pt x="9082" y="12828"/>
                </a:lnTo>
                <a:cubicBezTo>
                  <a:pt x="9082" y="13751"/>
                  <a:pt x="9882" y="14482"/>
                  <a:pt x="10918" y="14482"/>
                </a:cubicBezTo>
                <a:lnTo>
                  <a:pt x="12581" y="14482"/>
                </a:lnTo>
                <a:cubicBezTo>
                  <a:pt x="13616" y="14482"/>
                  <a:pt x="14417" y="13751"/>
                  <a:pt x="14417" y="12828"/>
                </a:cubicBezTo>
                <a:lnTo>
                  <a:pt x="14417" y="7493"/>
                </a:lnTo>
                <a:lnTo>
                  <a:pt x="12581" y="7493"/>
                </a:lnTo>
                <a:lnTo>
                  <a:pt x="16088" y="3985"/>
                </a:lnTo>
                <a:lnTo>
                  <a:pt x="19761" y="7493"/>
                </a:lnTo>
                <a:lnTo>
                  <a:pt x="17925" y="7493"/>
                </a:lnTo>
                <a:lnTo>
                  <a:pt x="17925" y="12828"/>
                </a:lnTo>
                <a:cubicBezTo>
                  <a:pt x="17925" y="15596"/>
                  <a:pt x="15348" y="18155"/>
                  <a:pt x="12581" y="18155"/>
                </a:cubicBezTo>
                <a:lnTo>
                  <a:pt x="10918" y="18155"/>
                </a:lnTo>
                <a:cubicBezTo>
                  <a:pt x="8150" y="18155"/>
                  <a:pt x="5574" y="15596"/>
                  <a:pt x="55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ектор, проведенный в центроид треугольни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ентроид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точка пересечения медиан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5"/>
          <p:cNvSpPr/>
          <p:nvPr/>
        </p:nvSpPr>
        <p:spPr>
          <a:xfrm flipV="1">
            <a:off x="2887560" y="3715920"/>
            <a:ext cx="208908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"/>
          <p:cNvSpPr/>
          <p:nvPr/>
        </p:nvSpPr>
        <p:spPr>
          <a:xfrm>
            <a:off x="2887560" y="4581360"/>
            <a:ext cx="158436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7"/>
          <p:cNvSpPr/>
          <p:nvPr/>
        </p:nvSpPr>
        <p:spPr>
          <a:xfrm flipV="1">
            <a:off x="4471920" y="3716280"/>
            <a:ext cx="50472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8"/>
          <p:cNvSpPr/>
          <p:nvPr/>
        </p:nvSpPr>
        <p:spPr>
          <a:xfrm flipV="1">
            <a:off x="2887560" y="4365360"/>
            <a:ext cx="180036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9"/>
          <p:cNvSpPr/>
          <p:nvPr/>
        </p:nvSpPr>
        <p:spPr>
          <a:xfrm flipH="1">
            <a:off x="2887200" y="2781360"/>
            <a:ext cx="792360" cy="180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0"/>
          <p:cNvSpPr/>
          <p:nvPr/>
        </p:nvSpPr>
        <p:spPr>
          <a:xfrm>
            <a:off x="3679920" y="2781360"/>
            <a:ext cx="1295280" cy="9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1"/>
          <p:cNvSpPr/>
          <p:nvPr/>
        </p:nvSpPr>
        <p:spPr>
          <a:xfrm>
            <a:off x="3679920" y="2781360"/>
            <a:ext cx="792000" cy="21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3"/>
          <p:cNvSpPr/>
          <p:nvPr/>
        </p:nvSpPr>
        <p:spPr>
          <a:xfrm>
            <a:off x="3679920" y="2781360"/>
            <a:ext cx="431640" cy="16556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4"/>
          <p:cNvSpPr/>
          <p:nvPr/>
        </p:nvSpPr>
        <p:spPr>
          <a:xfrm flipH="1">
            <a:off x="4758840" y="400536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15"/>
          <p:cNvSpPr/>
          <p:nvPr/>
        </p:nvSpPr>
        <p:spPr>
          <a:xfrm flipH="1">
            <a:off x="4543200" y="458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6"/>
          <p:cNvSpPr/>
          <p:nvPr/>
        </p:nvSpPr>
        <p:spPr>
          <a:xfrm>
            <a:off x="4975200" y="3357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7"/>
          <p:cNvSpPr/>
          <p:nvPr/>
        </p:nvSpPr>
        <p:spPr>
          <a:xfrm>
            <a:off x="3679920" y="2492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8"/>
          <p:cNvSpPr/>
          <p:nvPr/>
        </p:nvSpPr>
        <p:spPr>
          <a:xfrm>
            <a:off x="259884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9"/>
          <p:cNvSpPr/>
          <p:nvPr/>
        </p:nvSpPr>
        <p:spPr>
          <a:xfrm>
            <a:off x="4398840" y="48690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0"/>
          <p:cNvSpPr/>
          <p:nvPr/>
        </p:nvSpPr>
        <p:spPr>
          <a:xfrm>
            <a:off x="4111560" y="407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22"/>
          <p:cNvSpPr/>
          <p:nvPr/>
        </p:nvSpPr>
        <p:spPr>
          <a:xfrm flipH="1" flipV="1">
            <a:off x="3895200" y="4149720"/>
            <a:ext cx="57636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3"/>
          <p:cNvSpPr/>
          <p:nvPr/>
        </p:nvSpPr>
        <p:spPr>
          <a:xfrm>
            <a:off x="3463920" y="42940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4"/>
          <p:cNvSpPr/>
          <p:nvPr/>
        </p:nvSpPr>
        <p:spPr>
          <a:xfrm>
            <a:off x="3535200" y="422280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25"/>
          <p:cNvSpPr/>
          <p:nvPr/>
        </p:nvSpPr>
        <p:spPr>
          <a:xfrm>
            <a:off x="4255920" y="393372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26"/>
          <p:cNvSpPr/>
          <p:nvPr/>
        </p:nvSpPr>
        <p:spPr>
          <a:xfrm>
            <a:off x="4183200" y="400680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27"/>
              <p:cNvSpPr txBox="1"/>
              <p:nvPr/>
            </p:nvSpPr>
            <p:spPr>
              <a:xfrm>
                <a:off x="2500200" y="5300640"/>
                <a:ext cx="364176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2" name="Text Box 28"/>
          <p:cNvSpPr/>
          <p:nvPr/>
        </p:nvSpPr>
        <p:spPr>
          <a:xfrm>
            <a:off x="2959200" y="6165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Доказа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0"/>
          <p:cNvSpPr/>
          <p:nvPr/>
        </p:nvSpPr>
        <p:spPr>
          <a:xfrm>
            <a:off x="971640" y="1341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вен одной трети суммы векторов, проведенных из этой точки в вершины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1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2">
            <a:hlinkClick r:id="rId3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0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вные вект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вные вектор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- сонаправленные векто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лины которых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 flipV="1">
            <a:off x="1187280" y="3645000"/>
            <a:ext cx="1944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 flipV="1">
            <a:off x="1187280" y="4149720"/>
            <a:ext cx="1944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2924280" y="2924280"/>
                <a:ext cx="423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2916360" y="4221000"/>
                <a:ext cx="431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8"/>
              <p:cNvSpPr txBox="1"/>
              <p:nvPr/>
            </p:nvSpPr>
            <p:spPr>
              <a:xfrm>
                <a:off x="3708360" y="3357720"/>
                <a:ext cx="333396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⇔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Text Box 9"/>
          <p:cNvSpPr/>
          <p:nvPr/>
        </p:nvSpPr>
        <p:spPr>
          <a:xfrm>
            <a:off x="971640" y="5373720"/>
            <a:ext cx="7200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 любой точки можно отложить векто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вный данному, и притом только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0">
            <a:hlinkClick r:id="rId1" action="ppaction://hlinksldjump"/>
          </p:cNvPr>
          <p:cNvSpPr/>
          <p:nvPr/>
        </p:nvSpPr>
        <p:spPr>
          <a:xfrm>
            <a:off x="7308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0">
            <a:hlinkClick r:id="rId2" action="ppaction://hlinksldjump"/>
          </p:cNvPr>
          <p:cNvSpPr/>
          <p:nvPr/>
        </p:nvSpPr>
        <p:spPr>
          <a:xfrm>
            <a:off x="781200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9127" y="10800"/>
                </a:moveTo>
                <a:lnTo>
                  <a:pt x="19632" y="3794"/>
                </a:lnTo>
                <a:lnTo>
                  <a:pt x="19632" y="17806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7281" y="3794"/>
                </a:lnTo>
                <a:lnTo>
                  <a:pt x="7281" y="17806"/>
                </a:lnTo>
                <a:lnTo>
                  <a:pt x="561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">
            <a:hlinkClick r:id="rId3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5"/>
          <p:cNvSpPr/>
          <p:nvPr/>
        </p:nvSpPr>
        <p:spPr>
          <a:xfrm flipV="1">
            <a:off x="1332000" y="2347560"/>
            <a:ext cx="208908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6"/>
          <p:cNvSpPr/>
          <p:nvPr/>
        </p:nvSpPr>
        <p:spPr>
          <a:xfrm>
            <a:off x="1332000" y="3213000"/>
            <a:ext cx="158436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7"/>
          <p:cNvSpPr/>
          <p:nvPr/>
        </p:nvSpPr>
        <p:spPr>
          <a:xfrm flipV="1">
            <a:off x="2916360" y="2347920"/>
            <a:ext cx="50472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8"/>
          <p:cNvSpPr/>
          <p:nvPr/>
        </p:nvSpPr>
        <p:spPr>
          <a:xfrm flipV="1">
            <a:off x="1332000" y="2997000"/>
            <a:ext cx="180000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9"/>
          <p:cNvSpPr/>
          <p:nvPr/>
        </p:nvSpPr>
        <p:spPr>
          <a:xfrm flipH="1">
            <a:off x="1332000" y="1413000"/>
            <a:ext cx="792000" cy="180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10"/>
          <p:cNvSpPr/>
          <p:nvPr/>
        </p:nvSpPr>
        <p:spPr>
          <a:xfrm>
            <a:off x="2124000" y="1413000"/>
            <a:ext cx="1295640" cy="9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1"/>
          <p:cNvSpPr/>
          <p:nvPr/>
        </p:nvSpPr>
        <p:spPr>
          <a:xfrm>
            <a:off x="2124000" y="1413000"/>
            <a:ext cx="792360" cy="21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2"/>
          <p:cNvSpPr/>
          <p:nvPr/>
        </p:nvSpPr>
        <p:spPr>
          <a:xfrm>
            <a:off x="2124000" y="1413000"/>
            <a:ext cx="1008000" cy="15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3"/>
          <p:cNvSpPr/>
          <p:nvPr/>
        </p:nvSpPr>
        <p:spPr>
          <a:xfrm>
            <a:off x="2124000" y="1413000"/>
            <a:ext cx="432000" cy="16556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4"/>
          <p:cNvSpPr/>
          <p:nvPr/>
        </p:nvSpPr>
        <p:spPr>
          <a:xfrm flipH="1">
            <a:off x="3203280" y="263700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5"/>
          <p:cNvSpPr/>
          <p:nvPr/>
        </p:nvSpPr>
        <p:spPr>
          <a:xfrm flipH="1">
            <a:off x="2987280" y="3213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6"/>
          <p:cNvSpPr/>
          <p:nvPr/>
        </p:nvSpPr>
        <p:spPr>
          <a:xfrm>
            <a:off x="3419640" y="198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7"/>
          <p:cNvSpPr/>
          <p:nvPr/>
        </p:nvSpPr>
        <p:spPr>
          <a:xfrm>
            <a:off x="2124000" y="1123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8"/>
          <p:cNvSpPr/>
          <p:nvPr/>
        </p:nvSpPr>
        <p:spPr>
          <a:xfrm>
            <a:off x="1042920" y="2852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9"/>
          <p:cNvSpPr/>
          <p:nvPr/>
        </p:nvSpPr>
        <p:spPr>
          <a:xfrm>
            <a:off x="2843280" y="3500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0"/>
          <p:cNvSpPr/>
          <p:nvPr/>
        </p:nvSpPr>
        <p:spPr>
          <a:xfrm>
            <a:off x="2556000" y="2708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1"/>
          <p:cNvSpPr/>
          <p:nvPr/>
        </p:nvSpPr>
        <p:spPr>
          <a:xfrm>
            <a:off x="3276720" y="27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22"/>
          <p:cNvSpPr/>
          <p:nvPr/>
        </p:nvSpPr>
        <p:spPr>
          <a:xfrm flipH="1" flipV="1">
            <a:off x="2339640" y="2781360"/>
            <a:ext cx="57636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3"/>
          <p:cNvSpPr/>
          <p:nvPr/>
        </p:nvSpPr>
        <p:spPr>
          <a:xfrm>
            <a:off x="1908000" y="292572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24"/>
          <p:cNvSpPr/>
          <p:nvPr/>
        </p:nvSpPr>
        <p:spPr>
          <a:xfrm>
            <a:off x="1979640" y="28544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25"/>
          <p:cNvSpPr/>
          <p:nvPr/>
        </p:nvSpPr>
        <p:spPr>
          <a:xfrm>
            <a:off x="2700360" y="256536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6"/>
          <p:cNvSpPr/>
          <p:nvPr/>
        </p:nvSpPr>
        <p:spPr>
          <a:xfrm>
            <a:off x="2627280" y="263844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Object 27"/>
              <p:cNvSpPr txBox="1"/>
              <p:nvPr/>
            </p:nvSpPr>
            <p:spPr>
              <a:xfrm>
                <a:off x="4186080" y="1406520"/>
                <a:ext cx="3292560" cy="25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ΔABC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центроид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ь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M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Object 28"/>
              <p:cNvSpPr txBox="1"/>
              <p:nvPr/>
            </p:nvSpPr>
            <p:spPr>
              <a:xfrm>
                <a:off x="946080" y="3749760"/>
                <a:ext cx="6316560" cy="27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M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K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1" name="AutoShape 1025">
            <a:hlinkClick r:id="rId1" action="ppaction://hlinksldjump"/>
          </p:cNvPr>
          <p:cNvSpPr/>
          <p:nvPr/>
        </p:nvSpPr>
        <p:spPr>
          <a:xfrm>
            <a:off x="831528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7493"/>
                </a:moveTo>
                <a:lnTo>
                  <a:pt x="9082" y="7493"/>
                </a:lnTo>
                <a:lnTo>
                  <a:pt x="9082" y="12828"/>
                </a:lnTo>
                <a:cubicBezTo>
                  <a:pt x="9082" y="13751"/>
                  <a:pt x="9882" y="14482"/>
                  <a:pt x="10918" y="14482"/>
                </a:cubicBezTo>
                <a:lnTo>
                  <a:pt x="12581" y="14482"/>
                </a:lnTo>
                <a:cubicBezTo>
                  <a:pt x="13616" y="14482"/>
                  <a:pt x="14417" y="13751"/>
                  <a:pt x="14417" y="12828"/>
                </a:cubicBezTo>
                <a:lnTo>
                  <a:pt x="14417" y="7493"/>
                </a:lnTo>
                <a:lnTo>
                  <a:pt x="12581" y="7493"/>
                </a:lnTo>
                <a:lnTo>
                  <a:pt x="16088" y="3985"/>
                </a:lnTo>
                <a:lnTo>
                  <a:pt x="19761" y="7493"/>
                </a:lnTo>
                <a:lnTo>
                  <a:pt x="17925" y="7493"/>
                </a:lnTo>
                <a:lnTo>
                  <a:pt x="17925" y="12828"/>
                </a:lnTo>
                <a:cubicBezTo>
                  <a:pt x="17925" y="15596"/>
                  <a:pt x="15348" y="18155"/>
                  <a:pt x="12581" y="18155"/>
                </a:cubicBezTo>
                <a:lnTo>
                  <a:pt x="10918" y="18155"/>
                </a:lnTo>
                <a:cubicBezTo>
                  <a:pt x="8150" y="18155"/>
                  <a:pt x="5574" y="15596"/>
                  <a:pt x="55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ектор, проведенный в точку пересечения диагоналей параллелограмм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051"/>
          <p:cNvSpPr/>
          <p:nvPr/>
        </p:nvSpPr>
        <p:spPr>
          <a:xfrm flipV="1">
            <a:off x="3549600" y="3931920"/>
            <a:ext cx="720720" cy="93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2052"/>
          <p:cNvSpPr/>
          <p:nvPr/>
        </p:nvSpPr>
        <p:spPr>
          <a:xfrm>
            <a:off x="4270320" y="393228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2053"/>
          <p:cNvSpPr/>
          <p:nvPr/>
        </p:nvSpPr>
        <p:spPr>
          <a:xfrm flipH="1">
            <a:off x="5133600" y="3932280"/>
            <a:ext cx="647640" cy="93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054"/>
          <p:cNvSpPr/>
          <p:nvPr/>
        </p:nvSpPr>
        <p:spPr>
          <a:xfrm flipH="1">
            <a:off x="3549240" y="486720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2055"/>
          <p:cNvSpPr/>
          <p:nvPr/>
        </p:nvSpPr>
        <p:spPr>
          <a:xfrm flipV="1">
            <a:off x="3549600" y="3931920"/>
            <a:ext cx="2232000" cy="93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2056"/>
          <p:cNvSpPr/>
          <p:nvPr/>
        </p:nvSpPr>
        <p:spPr>
          <a:xfrm>
            <a:off x="4270320" y="3932280"/>
            <a:ext cx="863640" cy="93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2057"/>
          <p:cNvSpPr/>
          <p:nvPr/>
        </p:nvSpPr>
        <p:spPr>
          <a:xfrm>
            <a:off x="4125960" y="4506840"/>
            <a:ext cx="14436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2058"/>
          <p:cNvSpPr/>
          <p:nvPr/>
        </p:nvSpPr>
        <p:spPr>
          <a:xfrm>
            <a:off x="4989600" y="4148280"/>
            <a:ext cx="14436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2059"/>
          <p:cNvSpPr/>
          <p:nvPr/>
        </p:nvSpPr>
        <p:spPr>
          <a:xfrm flipH="1">
            <a:off x="4341600" y="4075200"/>
            <a:ext cx="21564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2060"/>
          <p:cNvSpPr/>
          <p:nvPr/>
        </p:nvSpPr>
        <p:spPr>
          <a:xfrm flipH="1">
            <a:off x="4414680" y="4148280"/>
            <a:ext cx="216000" cy="7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2061"/>
          <p:cNvSpPr/>
          <p:nvPr/>
        </p:nvSpPr>
        <p:spPr>
          <a:xfrm flipH="1">
            <a:off x="4701960" y="4506840"/>
            <a:ext cx="21564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2062"/>
          <p:cNvSpPr/>
          <p:nvPr/>
        </p:nvSpPr>
        <p:spPr>
          <a:xfrm flipH="1">
            <a:off x="4773600" y="4579920"/>
            <a:ext cx="21600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063"/>
          <p:cNvSpPr/>
          <p:nvPr/>
        </p:nvSpPr>
        <p:spPr>
          <a:xfrm>
            <a:off x="3262320" y="4579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2064"/>
          <p:cNvSpPr/>
          <p:nvPr/>
        </p:nvSpPr>
        <p:spPr>
          <a:xfrm>
            <a:off x="3924360" y="35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2065"/>
          <p:cNvSpPr/>
          <p:nvPr/>
        </p:nvSpPr>
        <p:spPr>
          <a:xfrm>
            <a:off x="5781600" y="3571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2066"/>
          <p:cNvSpPr/>
          <p:nvPr/>
        </p:nvSpPr>
        <p:spPr>
          <a:xfrm>
            <a:off x="5062680" y="4795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2067"/>
          <p:cNvSpPr/>
          <p:nvPr/>
        </p:nvSpPr>
        <p:spPr>
          <a:xfrm>
            <a:off x="3909960" y="2131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2068"/>
          <p:cNvSpPr/>
          <p:nvPr/>
        </p:nvSpPr>
        <p:spPr>
          <a:xfrm>
            <a:off x="4199040" y="2492280"/>
            <a:ext cx="503280" cy="187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2071"/>
          <p:cNvSpPr/>
          <p:nvPr/>
        </p:nvSpPr>
        <p:spPr>
          <a:xfrm>
            <a:off x="4199040" y="2492280"/>
            <a:ext cx="71280" cy="144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2072"/>
          <p:cNvSpPr/>
          <p:nvPr/>
        </p:nvSpPr>
        <p:spPr>
          <a:xfrm flipH="1">
            <a:off x="3551040" y="2492280"/>
            <a:ext cx="647640" cy="237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2073"/>
          <p:cNvSpPr/>
          <p:nvPr/>
        </p:nvSpPr>
        <p:spPr>
          <a:xfrm>
            <a:off x="4199040" y="2492280"/>
            <a:ext cx="1584360" cy="144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2074"/>
          <p:cNvSpPr/>
          <p:nvPr/>
        </p:nvSpPr>
        <p:spPr>
          <a:xfrm>
            <a:off x="4199040" y="2492280"/>
            <a:ext cx="936360" cy="237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2075"/>
              <p:cNvSpPr txBox="1"/>
              <p:nvPr/>
            </p:nvSpPr>
            <p:spPr>
              <a:xfrm>
                <a:off x="2109960" y="5157720"/>
                <a:ext cx="45637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6" name="Text Box 2076"/>
          <p:cNvSpPr/>
          <p:nvPr/>
        </p:nvSpPr>
        <p:spPr>
          <a:xfrm>
            <a:off x="4559400" y="40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079">
            <a:hlinkClick r:id="rId1" action="ppaction://hlinksldjump"/>
          </p:cNvPr>
          <p:cNvSpPr/>
          <p:nvPr/>
        </p:nvSpPr>
        <p:spPr>
          <a:xfrm>
            <a:off x="2975040" y="63104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Доказа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3072"/>
          <p:cNvSpPr/>
          <p:nvPr/>
        </p:nvSpPr>
        <p:spPr>
          <a:xfrm>
            <a:off x="971640" y="141300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вен одной четверти суммы векторов, проведенных из этой точки в вершины параллелограм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3073">
            <a:hlinkClick r:id="rId3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3074">
            <a:hlinkClick r:id="rId4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0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7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0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3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6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"/>
          <p:cNvSpPr/>
          <p:nvPr/>
        </p:nvSpPr>
        <p:spPr>
          <a:xfrm flipV="1">
            <a:off x="1330200" y="2349360"/>
            <a:ext cx="720720" cy="93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8"/>
          <p:cNvSpPr/>
          <p:nvPr/>
        </p:nvSpPr>
        <p:spPr>
          <a:xfrm>
            <a:off x="2050920" y="2349360"/>
            <a:ext cx="1511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9"/>
          <p:cNvSpPr/>
          <p:nvPr/>
        </p:nvSpPr>
        <p:spPr>
          <a:xfrm flipH="1">
            <a:off x="2914200" y="2349360"/>
            <a:ext cx="647640" cy="93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0"/>
          <p:cNvSpPr/>
          <p:nvPr/>
        </p:nvSpPr>
        <p:spPr>
          <a:xfrm flipH="1">
            <a:off x="1329840" y="3284640"/>
            <a:ext cx="1584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1"/>
          <p:cNvSpPr/>
          <p:nvPr/>
        </p:nvSpPr>
        <p:spPr>
          <a:xfrm flipV="1">
            <a:off x="1330200" y="2349360"/>
            <a:ext cx="2232000" cy="93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2"/>
          <p:cNvSpPr/>
          <p:nvPr/>
        </p:nvSpPr>
        <p:spPr>
          <a:xfrm>
            <a:off x="2050920" y="2349360"/>
            <a:ext cx="863640" cy="93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3"/>
          <p:cNvSpPr/>
          <p:nvPr/>
        </p:nvSpPr>
        <p:spPr>
          <a:xfrm>
            <a:off x="1906560" y="2924280"/>
            <a:ext cx="14436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14"/>
          <p:cNvSpPr/>
          <p:nvPr/>
        </p:nvSpPr>
        <p:spPr>
          <a:xfrm>
            <a:off x="2770200" y="2565360"/>
            <a:ext cx="14436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5"/>
          <p:cNvSpPr/>
          <p:nvPr/>
        </p:nvSpPr>
        <p:spPr>
          <a:xfrm flipH="1">
            <a:off x="2122560" y="2492280"/>
            <a:ext cx="21600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16"/>
          <p:cNvSpPr/>
          <p:nvPr/>
        </p:nvSpPr>
        <p:spPr>
          <a:xfrm flipH="1">
            <a:off x="2195280" y="2565360"/>
            <a:ext cx="21564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7"/>
          <p:cNvSpPr/>
          <p:nvPr/>
        </p:nvSpPr>
        <p:spPr>
          <a:xfrm flipH="1">
            <a:off x="2482920" y="2924280"/>
            <a:ext cx="21600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18"/>
          <p:cNvSpPr/>
          <p:nvPr/>
        </p:nvSpPr>
        <p:spPr>
          <a:xfrm flipH="1">
            <a:off x="2554200" y="2997360"/>
            <a:ext cx="216000" cy="7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9"/>
          <p:cNvSpPr/>
          <p:nvPr/>
        </p:nvSpPr>
        <p:spPr>
          <a:xfrm>
            <a:off x="104292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20"/>
          <p:cNvSpPr/>
          <p:nvPr/>
        </p:nvSpPr>
        <p:spPr>
          <a:xfrm>
            <a:off x="1763640" y="198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21"/>
          <p:cNvSpPr/>
          <p:nvPr/>
        </p:nvSpPr>
        <p:spPr>
          <a:xfrm>
            <a:off x="3562200" y="19890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22"/>
          <p:cNvSpPr/>
          <p:nvPr/>
        </p:nvSpPr>
        <p:spPr>
          <a:xfrm>
            <a:off x="2843280" y="3213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23"/>
          <p:cNvSpPr/>
          <p:nvPr/>
        </p:nvSpPr>
        <p:spPr>
          <a:xfrm>
            <a:off x="1690560" y="549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24"/>
          <p:cNvSpPr/>
          <p:nvPr/>
        </p:nvSpPr>
        <p:spPr>
          <a:xfrm>
            <a:off x="1979640" y="909720"/>
            <a:ext cx="503280" cy="187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25"/>
          <p:cNvSpPr/>
          <p:nvPr/>
        </p:nvSpPr>
        <p:spPr>
          <a:xfrm>
            <a:off x="1979640" y="909720"/>
            <a:ext cx="71280" cy="143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26"/>
          <p:cNvSpPr/>
          <p:nvPr/>
        </p:nvSpPr>
        <p:spPr>
          <a:xfrm flipH="1">
            <a:off x="1331640" y="909720"/>
            <a:ext cx="647640" cy="237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27"/>
          <p:cNvSpPr/>
          <p:nvPr/>
        </p:nvSpPr>
        <p:spPr>
          <a:xfrm>
            <a:off x="1979640" y="909720"/>
            <a:ext cx="1584360" cy="143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1979640" y="909720"/>
            <a:ext cx="936720" cy="237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2340000" y="24224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Object 30"/>
              <p:cNvSpPr txBox="1"/>
              <p:nvPr/>
            </p:nvSpPr>
            <p:spPr>
              <a:xfrm>
                <a:off x="4200480" y="1317600"/>
                <a:ext cx="3554280" cy="22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ар</m:t>
                        </m:r>
                        <m:r>
                          <m:t xml:space="preserve">−</m:t>
                        </m:r>
                        <m:r>
                          <m:t xml:space="preserve">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∩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ь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M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Object 31"/>
              <p:cNvSpPr txBox="1"/>
              <p:nvPr/>
            </p:nvSpPr>
            <p:spPr>
              <a:xfrm>
                <a:off x="395280" y="3284640"/>
                <a:ext cx="390060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M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  <m:e>
                            <m:r>
                              <m:t xml:space="preserve">|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M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B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D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  <m:e/>
                        </m:eqArr>
                        <m:r>
                          <m:t xml:space="preserve">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M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M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7" name="AutoShape 1025">
            <a:hlinkClick r:id="rId1" action="ppaction://hlinksldjump"/>
          </p:cNvPr>
          <p:cNvSpPr/>
          <p:nvPr/>
        </p:nvSpPr>
        <p:spPr>
          <a:xfrm>
            <a:off x="831528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7493"/>
                </a:moveTo>
                <a:lnTo>
                  <a:pt x="9082" y="7493"/>
                </a:lnTo>
                <a:lnTo>
                  <a:pt x="9082" y="12828"/>
                </a:lnTo>
                <a:cubicBezTo>
                  <a:pt x="9082" y="13751"/>
                  <a:pt x="9882" y="14482"/>
                  <a:pt x="10918" y="14482"/>
                </a:cubicBezTo>
                <a:lnTo>
                  <a:pt x="12581" y="14482"/>
                </a:lnTo>
                <a:cubicBezTo>
                  <a:pt x="13616" y="14482"/>
                  <a:pt x="14417" y="13751"/>
                  <a:pt x="14417" y="12828"/>
                </a:cubicBezTo>
                <a:lnTo>
                  <a:pt x="14417" y="7493"/>
                </a:lnTo>
                <a:lnTo>
                  <a:pt x="12581" y="7493"/>
                </a:lnTo>
                <a:lnTo>
                  <a:pt x="16088" y="3985"/>
                </a:lnTo>
                <a:lnTo>
                  <a:pt x="19761" y="7493"/>
                </a:lnTo>
                <a:lnTo>
                  <a:pt x="17925" y="7493"/>
                </a:lnTo>
                <a:lnTo>
                  <a:pt x="17925" y="12828"/>
                </a:lnTo>
                <a:cubicBezTo>
                  <a:pt x="17925" y="15596"/>
                  <a:pt x="15348" y="18155"/>
                  <a:pt x="12581" y="18155"/>
                </a:cubicBezTo>
                <a:lnTo>
                  <a:pt x="10918" y="18155"/>
                </a:lnTo>
                <a:cubicBezTo>
                  <a:pt x="8150" y="18155"/>
                  <a:pt x="5574" y="15596"/>
                  <a:pt x="55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ектор, лежащий на диагонали параллелепипед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2"/>
          <p:cNvSpPr/>
          <p:nvPr/>
        </p:nvSpPr>
        <p:spPr>
          <a:xfrm>
            <a:off x="3564000" y="2421000"/>
            <a:ext cx="1655640" cy="1512720"/>
          </a:xfrm>
          <a:prstGeom prst="cube">
            <a:avLst>
              <a:gd name="adj" fmla="val 25000"/>
            </a:avLst>
          </a:prstGeom>
          <a:solidFill>
            <a:srgbClr val="ff0000">
              <a:alpha val="2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5"/>
          <p:cNvSpPr/>
          <p:nvPr/>
        </p:nvSpPr>
        <p:spPr>
          <a:xfrm flipV="1">
            <a:off x="3564000" y="3573000"/>
            <a:ext cx="360360" cy="360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6"/>
          <p:cNvSpPr/>
          <p:nvPr/>
        </p:nvSpPr>
        <p:spPr>
          <a:xfrm>
            <a:off x="3924360" y="35733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7"/>
          <p:cNvSpPr/>
          <p:nvPr/>
        </p:nvSpPr>
        <p:spPr>
          <a:xfrm>
            <a:off x="3924360" y="2421000"/>
            <a:ext cx="0" cy="1152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8"/>
          <p:cNvSpPr/>
          <p:nvPr/>
        </p:nvSpPr>
        <p:spPr>
          <a:xfrm>
            <a:off x="5219640" y="3357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9"/>
          <p:cNvSpPr/>
          <p:nvPr/>
        </p:nvSpPr>
        <p:spPr>
          <a:xfrm>
            <a:off x="3203640" y="3718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0"/>
          <p:cNvSpPr/>
          <p:nvPr/>
        </p:nvSpPr>
        <p:spPr>
          <a:xfrm>
            <a:off x="3635280" y="32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1"/>
          <p:cNvSpPr/>
          <p:nvPr/>
        </p:nvSpPr>
        <p:spPr>
          <a:xfrm>
            <a:off x="485928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2"/>
          <p:cNvSpPr/>
          <p:nvPr/>
        </p:nvSpPr>
        <p:spPr>
          <a:xfrm>
            <a:off x="3203640" y="2494080"/>
            <a:ext cx="43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3708360" y="206064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4"/>
          <p:cNvSpPr/>
          <p:nvPr/>
        </p:nvSpPr>
        <p:spPr>
          <a:xfrm>
            <a:off x="5076720" y="2060640"/>
            <a:ext cx="57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5"/>
          <p:cNvSpPr/>
          <p:nvPr/>
        </p:nvSpPr>
        <p:spPr>
          <a:xfrm>
            <a:off x="4788000" y="2637000"/>
            <a:ext cx="57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Object 16"/>
              <p:cNvSpPr txBox="1"/>
              <p:nvPr/>
            </p:nvSpPr>
            <p:spPr>
              <a:xfrm>
                <a:off x="3995640" y="3933720"/>
                <a:ext cx="262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Object 17"/>
              <p:cNvSpPr txBox="1"/>
              <p:nvPr/>
            </p:nvSpPr>
            <p:spPr>
              <a:xfrm>
                <a:off x="3235320" y="2997360"/>
                <a:ext cx="290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Object 18"/>
              <p:cNvSpPr txBox="1"/>
              <p:nvPr/>
            </p:nvSpPr>
            <p:spPr>
              <a:xfrm>
                <a:off x="3851280" y="3573360"/>
                <a:ext cx="289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14" name="Line 20"/>
          <p:cNvSpPr/>
          <p:nvPr/>
        </p:nvSpPr>
        <p:spPr>
          <a:xfrm flipV="1">
            <a:off x="3564000" y="2421000"/>
            <a:ext cx="1655640" cy="15127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21"/>
          <p:cNvSpPr/>
          <p:nvPr/>
        </p:nvSpPr>
        <p:spPr>
          <a:xfrm>
            <a:off x="3564000" y="3933720"/>
            <a:ext cx="1224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22"/>
          <p:cNvSpPr/>
          <p:nvPr/>
        </p:nvSpPr>
        <p:spPr>
          <a:xfrm flipV="1">
            <a:off x="3564000" y="3573000"/>
            <a:ext cx="360360" cy="36036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23"/>
          <p:cNvSpPr/>
          <p:nvPr/>
        </p:nvSpPr>
        <p:spPr>
          <a:xfrm flipV="1">
            <a:off x="3564000" y="2781000"/>
            <a:ext cx="0" cy="1152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Object 24"/>
              <p:cNvSpPr txBox="1"/>
              <p:nvPr/>
            </p:nvSpPr>
            <p:spPr>
              <a:xfrm>
                <a:off x="3419640" y="4724280"/>
                <a:ext cx="2124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Object 26"/>
              <p:cNvSpPr txBox="1"/>
              <p:nvPr/>
            </p:nvSpPr>
            <p:spPr>
              <a:xfrm>
                <a:off x="4183200" y="2781360"/>
                <a:ext cx="318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20" name="Text Box 27"/>
          <p:cNvSpPr/>
          <p:nvPr/>
        </p:nvSpPr>
        <p:spPr>
          <a:xfrm>
            <a:off x="2843280" y="5661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Доказа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0"/>
          <p:cNvSpPr/>
          <p:nvPr/>
        </p:nvSpPr>
        <p:spPr>
          <a:xfrm>
            <a:off x="971640" y="1341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вен сумме векторов, лежащих на трех его ребрах, исходящих из одной вер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1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2">
            <a:hlinkClick r:id="rId3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0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3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1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9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7"/>
          <p:cNvSpPr/>
          <p:nvPr/>
        </p:nvSpPr>
        <p:spPr>
          <a:xfrm>
            <a:off x="1476360" y="1844640"/>
            <a:ext cx="1655640" cy="1513080"/>
          </a:xfrm>
          <a:prstGeom prst="cube">
            <a:avLst>
              <a:gd name="adj" fmla="val 25000"/>
            </a:avLst>
          </a:prstGeom>
          <a:solidFill>
            <a:srgbClr val="ff0000">
              <a:alpha val="2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8"/>
          <p:cNvSpPr/>
          <p:nvPr/>
        </p:nvSpPr>
        <p:spPr>
          <a:xfrm flipV="1">
            <a:off x="1476360" y="2997000"/>
            <a:ext cx="360360" cy="360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9"/>
          <p:cNvSpPr/>
          <p:nvPr/>
        </p:nvSpPr>
        <p:spPr>
          <a:xfrm>
            <a:off x="1836720" y="29973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0"/>
          <p:cNvSpPr/>
          <p:nvPr/>
        </p:nvSpPr>
        <p:spPr>
          <a:xfrm>
            <a:off x="1836720" y="1844640"/>
            <a:ext cx="0" cy="1152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1"/>
          <p:cNvSpPr/>
          <p:nvPr/>
        </p:nvSpPr>
        <p:spPr>
          <a:xfrm>
            <a:off x="3132000" y="2781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2"/>
          <p:cNvSpPr/>
          <p:nvPr/>
        </p:nvSpPr>
        <p:spPr>
          <a:xfrm>
            <a:off x="1116000" y="3141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3"/>
          <p:cNvSpPr/>
          <p:nvPr/>
        </p:nvSpPr>
        <p:spPr>
          <a:xfrm>
            <a:off x="1547640" y="27082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4"/>
          <p:cNvSpPr/>
          <p:nvPr/>
        </p:nvSpPr>
        <p:spPr>
          <a:xfrm>
            <a:off x="2771640" y="3284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5"/>
          <p:cNvSpPr/>
          <p:nvPr/>
        </p:nvSpPr>
        <p:spPr>
          <a:xfrm>
            <a:off x="1116000" y="1917720"/>
            <a:ext cx="43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6"/>
          <p:cNvSpPr/>
          <p:nvPr/>
        </p:nvSpPr>
        <p:spPr>
          <a:xfrm>
            <a:off x="1620720" y="148428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7"/>
          <p:cNvSpPr/>
          <p:nvPr/>
        </p:nvSpPr>
        <p:spPr>
          <a:xfrm>
            <a:off x="2989440" y="1484280"/>
            <a:ext cx="50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8"/>
          <p:cNvSpPr/>
          <p:nvPr/>
        </p:nvSpPr>
        <p:spPr>
          <a:xfrm>
            <a:off x="2700360" y="20606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7" name="Object 19"/>
              <p:cNvSpPr txBox="1"/>
              <p:nvPr/>
            </p:nvSpPr>
            <p:spPr>
              <a:xfrm>
                <a:off x="2124000" y="3357720"/>
                <a:ext cx="26208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8" name="Object 20"/>
              <p:cNvSpPr txBox="1"/>
              <p:nvPr/>
            </p:nvSpPr>
            <p:spPr>
              <a:xfrm>
                <a:off x="1147680" y="2421000"/>
                <a:ext cx="290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Object 21"/>
              <p:cNvSpPr txBox="1"/>
              <p:nvPr/>
            </p:nvSpPr>
            <p:spPr>
              <a:xfrm>
                <a:off x="1763640" y="2997360"/>
                <a:ext cx="289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40" name="Line 22"/>
          <p:cNvSpPr/>
          <p:nvPr/>
        </p:nvSpPr>
        <p:spPr>
          <a:xfrm flipV="1">
            <a:off x="1476360" y="1844280"/>
            <a:ext cx="1655640" cy="151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23"/>
          <p:cNvSpPr/>
          <p:nvPr/>
        </p:nvSpPr>
        <p:spPr>
          <a:xfrm>
            <a:off x="1476360" y="3357720"/>
            <a:ext cx="1224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24"/>
          <p:cNvSpPr/>
          <p:nvPr/>
        </p:nvSpPr>
        <p:spPr>
          <a:xfrm flipV="1">
            <a:off x="1476360" y="2997000"/>
            <a:ext cx="360360" cy="36036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25"/>
          <p:cNvSpPr/>
          <p:nvPr/>
        </p:nvSpPr>
        <p:spPr>
          <a:xfrm flipV="1">
            <a:off x="1476360" y="2205000"/>
            <a:ext cx="0" cy="11527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Object 26"/>
              <p:cNvSpPr txBox="1"/>
              <p:nvPr/>
            </p:nvSpPr>
            <p:spPr>
              <a:xfrm>
                <a:off x="2095560" y="2205000"/>
                <a:ext cx="318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Object 27"/>
              <p:cNvSpPr txBox="1"/>
              <p:nvPr/>
            </p:nvSpPr>
            <p:spPr>
              <a:xfrm>
                <a:off x="4437000" y="1244520"/>
                <a:ext cx="3087720" cy="374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ар</m:t>
                        </m:r>
                        <m:r>
                          <m:t xml:space="preserve">−</m:t>
                        </m:r>
                        <m:r>
                          <m:t xml:space="preserve">м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ь</m:t>
                        </m:r>
                        <m:r>
                          <m:t xml:space="preserve">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Object 28"/>
              <p:cNvSpPr txBox="1"/>
              <p:nvPr/>
            </p:nvSpPr>
            <p:spPr>
              <a:xfrm>
                <a:off x="826920" y="3917880"/>
                <a:ext cx="3313440" cy="20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</m:t>
                        </m:r>
                        <m:r>
                          <m:t xml:space="preserve">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7" name="AutoShape 1025">
            <a:hlinkClick r:id="rId1" action="ppaction://hlinksldjump"/>
          </p:cNvPr>
          <p:cNvSpPr/>
          <p:nvPr/>
        </p:nvSpPr>
        <p:spPr>
          <a:xfrm>
            <a:off x="831528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7493"/>
                </a:moveTo>
                <a:lnTo>
                  <a:pt x="9082" y="7493"/>
                </a:lnTo>
                <a:lnTo>
                  <a:pt x="9082" y="12828"/>
                </a:lnTo>
                <a:cubicBezTo>
                  <a:pt x="9082" y="13751"/>
                  <a:pt x="9882" y="14482"/>
                  <a:pt x="10918" y="14482"/>
                </a:cubicBezTo>
                <a:lnTo>
                  <a:pt x="12581" y="14482"/>
                </a:lnTo>
                <a:cubicBezTo>
                  <a:pt x="13616" y="14482"/>
                  <a:pt x="14417" y="13751"/>
                  <a:pt x="14417" y="12828"/>
                </a:cubicBezTo>
                <a:lnTo>
                  <a:pt x="14417" y="7493"/>
                </a:lnTo>
                <a:lnTo>
                  <a:pt x="12581" y="7493"/>
                </a:lnTo>
                <a:lnTo>
                  <a:pt x="16088" y="3985"/>
                </a:lnTo>
                <a:lnTo>
                  <a:pt x="19761" y="7493"/>
                </a:lnTo>
                <a:lnTo>
                  <a:pt x="17925" y="7493"/>
                </a:lnTo>
                <a:lnTo>
                  <a:pt x="17925" y="12828"/>
                </a:lnTo>
                <a:cubicBezTo>
                  <a:pt x="17925" y="15596"/>
                  <a:pt x="15348" y="18155"/>
                  <a:pt x="12581" y="18155"/>
                </a:cubicBezTo>
                <a:lnTo>
                  <a:pt x="10918" y="18155"/>
                </a:lnTo>
                <a:cubicBezTo>
                  <a:pt x="8150" y="18155"/>
                  <a:pt x="5574" y="15596"/>
                  <a:pt x="55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мощь в управлен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езент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правление презентацией осуществляется с помощью левой клавиши мы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еход от одного слайда к другому и на гиперссылки по одиночному щелч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вершение презентации при нажатии кнопки 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слай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озврат 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озврат к под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озврат с гиперссы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0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AutoShape 1"/>
          <p:cNvSpPr/>
          <p:nvPr/>
        </p:nvSpPr>
        <p:spPr>
          <a:xfrm>
            <a:off x="1258920" y="5084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2"/>
          <p:cNvSpPr/>
          <p:nvPr/>
        </p:nvSpPr>
        <p:spPr>
          <a:xfrm>
            <a:off x="1258920" y="5950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7493"/>
                </a:moveTo>
                <a:lnTo>
                  <a:pt x="9092" y="7493"/>
                </a:lnTo>
                <a:lnTo>
                  <a:pt x="9092" y="12828"/>
                </a:lnTo>
                <a:cubicBezTo>
                  <a:pt x="9092" y="13751"/>
                  <a:pt x="9893" y="14482"/>
                  <a:pt x="10929" y="14482"/>
                </a:cubicBezTo>
                <a:lnTo>
                  <a:pt x="12591" y="14482"/>
                </a:lnTo>
                <a:cubicBezTo>
                  <a:pt x="13627" y="14482"/>
                  <a:pt x="14427" y="13751"/>
                  <a:pt x="14427" y="12828"/>
                </a:cubicBezTo>
                <a:lnTo>
                  <a:pt x="14427" y="7493"/>
                </a:lnTo>
                <a:lnTo>
                  <a:pt x="12591" y="7493"/>
                </a:lnTo>
                <a:lnTo>
                  <a:pt x="16099" y="3985"/>
                </a:lnTo>
                <a:lnTo>
                  <a:pt x="19772" y="7493"/>
                </a:lnTo>
                <a:lnTo>
                  <a:pt x="17935" y="7493"/>
                </a:lnTo>
                <a:lnTo>
                  <a:pt x="17935" y="12828"/>
                </a:lnTo>
                <a:cubicBezTo>
                  <a:pt x="17935" y="15596"/>
                  <a:pt x="15359" y="18155"/>
                  <a:pt x="12591" y="18155"/>
                </a:cubicBezTo>
                <a:lnTo>
                  <a:pt x="10929" y="18155"/>
                </a:lnTo>
                <a:cubicBezTo>
                  <a:pt x="8161" y="18155"/>
                  <a:pt x="5585" y="15596"/>
                  <a:pt x="5585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AutoShape 3"/>
          <p:cNvSpPr/>
          <p:nvPr/>
        </p:nvSpPr>
        <p:spPr>
          <a:xfrm>
            <a:off x="1258920" y="551664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4"/>
          <p:cNvSpPr/>
          <p:nvPr/>
        </p:nvSpPr>
        <p:spPr>
          <a:xfrm>
            <a:off x="125892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Уст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Задача 1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.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hlinkClick r:id="rId4" action="ppaction://hlinksldjump"/>
              </a:rPr>
              <a:t>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5" action="ppaction://hlinksldjump"/>
              </a:rPr>
              <a:t>Задача на доказа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6" action="ppaction://hlinksldjump"/>
              </a:rPr>
              <a:t>Задача 2.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7" action="ppaction://hlinksldjump"/>
              </a:rPr>
              <a:t> Разложение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8" action="ppaction://hlinksldjump"/>
              </a:rPr>
              <a:t>Задача 3.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9" action="ppaction://hlinksldjump"/>
              </a:rPr>
              <a:t> Сложение и вычитание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0" action="ppaction://hlinksldjump"/>
              </a:rPr>
              <a:t>Задача 4.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1" action="ppaction://hlinksldjump"/>
              </a:rPr>
              <a:t>Скалярное 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0">
            <a:hlinkClick r:id="rId1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стны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200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раведливо ли утвержд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) любые два противоположно направленных вектора коллинеар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) любые два коллинеарных вектора сонаправл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) любые два равных вектора коллинеар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) любые два сонаправленных вектора рав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) существуют векторы    ,      и      такие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    не коллинеарны,      и      не коллинеарны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     коллинеар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Object 4"/>
              <p:cNvSpPr txBox="1"/>
              <p:nvPr/>
            </p:nvSpPr>
            <p:spPr>
              <a:xfrm>
                <a:off x="1332000" y="3995640"/>
                <a:ext cx="4824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если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↓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↓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Object 5"/>
              <p:cNvSpPr txBox="1"/>
              <p:nvPr/>
            </p:nvSpPr>
            <p:spPr>
              <a:xfrm>
                <a:off x="4356000" y="4581360"/>
                <a:ext cx="26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Object 6"/>
              <p:cNvSpPr txBox="1"/>
              <p:nvPr/>
            </p:nvSpPr>
            <p:spPr>
              <a:xfrm>
                <a:off x="4799160" y="4581360"/>
                <a:ext cx="237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Object 7"/>
              <p:cNvSpPr txBox="1"/>
              <p:nvPr/>
            </p:nvSpPr>
            <p:spPr>
              <a:xfrm>
                <a:off x="5364000" y="4581360"/>
                <a:ext cx="238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Object 8"/>
              <p:cNvSpPr txBox="1"/>
              <p:nvPr/>
            </p:nvSpPr>
            <p:spPr>
              <a:xfrm>
                <a:off x="7308720" y="4581360"/>
                <a:ext cx="26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Object 9"/>
              <p:cNvSpPr txBox="1"/>
              <p:nvPr/>
            </p:nvSpPr>
            <p:spPr>
              <a:xfrm>
                <a:off x="1332000" y="5013360"/>
                <a:ext cx="237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Object 10"/>
              <p:cNvSpPr txBox="1"/>
              <p:nvPr/>
            </p:nvSpPr>
            <p:spPr>
              <a:xfrm>
                <a:off x="3851280" y="5013360"/>
                <a:ext cx="237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Object 11"/>
              <p:cNvSpPr txBox="1"/>
              <p:nvPr/>
            </p:nvSpPr>
            <p:spPr>
              <a:xfrm>
                <a:off x="4427640" y="5013360"/>
                <a:ext cx="237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Object 12"/>
              <p:cNvSpPr txBox="1"/>
              <p:nvPr/>
            </p:nvSpPr>
            <p:spPr>
              <a:xfrm>
                <a:off x="7164360" y="5013360"/>
                <a:ext cx="26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Object 13"/>
              <p:cNvSpPr txBox="1"/>
              <p:nvPr/>
            </p:nvSpPr>
            <p:spPr>
              <a:xfrm>
                <a:off x="1332000" y="5445000"/>
                <a:ext cx="237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70" name="Rectangle 14"/>
          <p:cNvSpPr/>
          <p:nvPr/>
        </p:nvSpPr>
        <p:spPr>
          <a:xfrm>
            <a:off x="1128240" y="60930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5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16">
            <a:hlinkClick r:id="rId3" action="ppaction://hlinksldjump"/>
          </p:cNvPr>
          <p:cNvSpPr/>
          <p:nvPr/>
        </p:nvSpPr>
        <p:spPr>
          <a:xfrm>
            <a:off x="781200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9127" y="10800"/>
                </a:moveTo>
                <a:lnTo>
                  <a:pt x="19632" y="3794"/>
                </a:lnTo>
                <a:lnTo>
                  <a:pt x="19632" y="17806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7281" y="3794"/>
                </a:lnTo>
                <a:lnTo>
                  <a:pt x="7281" y="17806"/>
                </a:lnTo>
                <a:lnTo>
                  <a:pt x="561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2723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) 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) НЕТ (могут быть и противоположно направленны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) 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) НЕТ (могут иметь разную дли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) 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) 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5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7493"/>
                </a:moveTo>
                <a:lnTo>
                  <a:pt x="9073" y="7493"/>
                </a:lnTo>
                <a:lnTo>
                  <a:pt x="9073" y="12828"/>
                </a:lnTo>
                <a:cubicBezTo>
                  <a:pt x="9073" y="13751"/>
                  <a:pt x="9873" y="14482"/>
                  <a:pt x="10909" y="14482"/>
                </a:cubicBezTo>
                <a:lnTo>
                  <a:pt x="12572" y="14482"/>
                </a:lnTo>
                <a:cubicBezTo>
                  <a:pt x="13607" y="14482"/>
                  <a:pt x="14408" y="13751"/>
                  <a:pt x="14408" y="12828"/>
                </a:cubicBezTo>
                <a:lnTo>
                  <a:pt x="14408" y="7493"/>
                </a:lnTo>
                <a:lnTo>
                  <a:pt x="12572" y="7493"/>
                </a:lnTo>
                <a:lnTo>
                  <a:pt x="16079" y="3985"/>
                </a:lnTo>
                <a:lnTo>
                  <a:pt x="19752" y="7493"/>
                </a:lnTo>
                <a:lnTo>
                  <a:pt x="17916" y="7493"/>
                </a:lnTo>
                <a:lnTo>
                  <a:pt x="17916" y="12828"/>
                </a:lnTo>
                <a:cubicBezTo>
                  <a:pt x="17916" y="15596"/>
                  <a:pt x="15339" y="18155"/>
                  <a:pt x="12572" y="18155"/>
                </a:cubicBezTo>
                <a:lnTo>
                  <a:pt x="10909" y="18155"/>
                </a:lnTo>
                <a:cubicBezTo>
                  <a:pt x="8141" y="18155"/>
                  <a:pt x="5565" y="15596"/>
                  <a:pt x="5565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1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Задача на 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79"/>
          <p:cNvSpPr/>
          <p:nvPr/>
        </p:nvSpPr>
        <p:spPr>
          <a:xfrm>
            <a:off x="1620720" y="2011320"/>
            <a:ext cx="1727280" cy="1150920"/>
          </a:xfrm>
          <a:prstGeom prst="cube">
            <a:avLst>
              <a:gd name="adj" fmla="val 25000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80"/>
          <p:cNvSpPr/>
          <p:nvPr/>
        </p:nvSpPr>
        <p:spPr>
          <a:xfrm flipH="1">
            <a:off x="1908000" y="2874960"/>
            <a:ext cx="1440000" cy="14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81"/>
          <p:cNvSpPr/>
          <p:nvPr/>
        </p:nvSpPr>
        <p:spPr>
          <a:xfrm>
            <a:off x="1908000" y="2011320"/>
            <a:ext cx="1800" cy="8636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82"/>
          <p:cNvSpPr/>
          <p:nvPr/>
        </p:nvSpPr>
        <p:spPr>
          <a:xfrm flipH="1">
            <a:off x="1620720" y="2874960"/>
            <a:ext cx="287280" cy="289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83"/>
          <p:cNvSpPr/>
          <p:nvPr/>
        </p:nvSpPr>
        <p:spPr>
          <a:xfrm>
            <a:off x="1836720" y="25146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84"/>
          <p:cNvSpPr/>
          <p:nvPr/>
        </p:nvSpPr>
        <p:spPr>
          <a:xfrm>
            <a:off x="1332000" y="30193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85"/>
          <p:cNvSpPr/>
          <p:nvPr/>
        </p:nvSpPr>
        <p:spPr>
          <a:xfrm>
            <a:off x="334980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86"/>
          <p:cNvSpPr/>
          <p:nvPr/>
        </p:nvSpPr>
        <p:spPr>
          <a:xfrm>
            <a:off x="2990880" y="3067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87"/>
          <p:cNvSpPr/>
          <p:nvPr/>
        </p:nvSpPr>
        <p:spPr>
          <a:xfrm>
            <a:off x="1260360" y="201132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88"/>
          <p:cNvSpPr/>
          <p:nvPr/>
        </p:nvSpPr>
        <p:spPr>
          <a:xfrm>
            <a:off x="1620720" y="1557360"/>
            <a:ext cx="57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89"/>
          <p:cNvSpPr/>
          <p:nvPr/>
        </p:nvSpPr>
        <p:spPr>
          <a:xfrm>
            <a:off x="3348000" y="17226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90"/>
          <p:cNvSpPr/>
          <p:nvPr/>
        </p:nvSpPr>
        <p:spPr>
          <a:xfrm>
            <a:off x="2989440" y="2155680"/>
            <a:ext cx="50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91"/>
          <p:cNvSpPr/>
          <p:nvPr/>
        </p:nvSpPr>
        <p:spPr>
          <a:xfrm flipV="1">
            <a:off x="1620720" y="2011320"/>
            <a:ext cx="1727280" cy="11527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92"/>
          <p:cNvSpPr/>
          <p:nvPr/>
        </p:nvSpPr>
        <p:spPr>
          <a:xfrm>
            <a:off x="1620720" y="2298600"/>
            <a:ext cx="287280" cy="576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93"/>
          <p:cNvSpPr/>
          <p:nvPr/>
        </p:nvSpPr>
        <p:spPr>
          <a:xfrm>
            <a:off x="1908000" y="2874960"/>
            <a:ext cx="1152720" cy="289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94"/>
          <p:cNvSpPr/>
          <p:nvPr/>
        </p:nvSpPr>
        <p:spPr>
          <a:xfrm>
            <a:off x="1620720" y="2298600"/>
            <a:ext cx="1440000" cy="865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95"/>
          <p:cNvSpPr/>
          <p:nvPr/>
        </p:nvSpPr>
        <p:spPr>
          <a:xfrm>
            <a:off x="1908000" y="2011320"/>
            <a:ext cx="1440000" cy="863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96"/>
          <p:cNvSpPr/>
          <p:nvPr/>
        </p:nvSpPr>
        <p:spPr>
          <a:xfrm>
            <a:off x="1908000" y="2011320"/>
            <a:ext cx="11527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97"/>
          <p:cNvSpPr/>
          <p:nvPr/>
        </p:nvSpPr>
        <p:spPr>
          <a:xfrm>
            <a:off x="3060720" y="2298600"/>
            <a:ext cx="28728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98"/>
          <p:cNvSpPr/>
          <p:nvPr/>
        </p:nvSpPr>
        <p:spPr>
          <a:xfrm>
            <a:off x="2195640" y="2730600"/>
            <a:ext cx="72720" cy="71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99"/>
          <p:cNvSpPr/>
          <p:nvPr/>
        </p:nvSpPr>
        <p:spPr>
          <a:xfrm>
            <a:off x="2700360" y="2371680"/>
            <a:ext cx="73080" cy="7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00"/>
          <p:cNvSpPr/>
          <p:nvPr/>
        </p:nvSpPr>
        <p:spPr>
          <a:xfrm>
            <a:off x="2124000" y="244332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01"/>
          <p:cNvSpPr/>
          <p:nvPr/>
        </p:nvSpPr>
        <p:spPr>
          <a:xfrm>
            <a:off x="2556000" y="237168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Object 102"/>
              <p:cNvSpPr txBox="1"/>
              <p:nvPr/>
            </p:nvSpPr>
            <p:spPr>
              <a:xfrm>
                <a:off x="4235400" y="1446120"/>
                <a:ext cx="3622680" cy="26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ар</m:t>
                        </m:r>
                        <m:r>
                          <m:t xml:space="preserve">−</m:t>
                        </m:r>
                        <m:r>
                          <m:t xml:space="preserve">д</m:t>
                        </m:r>
                      </m:e>
                      <m:e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rPr>
                            <m:lit/>
                            <m:nor/>
                          </m:rPr>
                          <m:t xml:space="preserve">пересечени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медиа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ВD</m:t>
                        </m:r>
                        <m:r>
                          <m:t xml:space="preserve">и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оответственн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ь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1" name="Rectangle 104"/>
          <p:cNvSpPr/>
          <p:nvPr/>
        </p:nvSpPr>
        <p:spPr>
          <a:xfrm>
            <a:off x="972000" y="42210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105"/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106"/>
          <p:cNvSpPr/>
          <p:nvPr/>
        </p:nvSpPr>
        <p:spPr>
          <a:xfrm>
            <a:off x="781200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9127" y="10800"/>
                </a:moveTo>
                <a:lnTo>
                  <a:pt x="19632" y="3794"/>
                </a:lnTo>
                <a:lnTo>
                  <a:pt x="19632" y="17806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7281" y="3794"/>
                </a:lnTo>
                <a:lnTo>
                  <a:pt x="7281" y="17806"/>
                </a:lnTo>
                <a:lnTo>
                  <a:pt x="561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тивоположно направленные вект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тивоположно направленные вектор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векторы, лежащие по разные стороны от прямой, проходящей через их нач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0"/>
          <p:cNvSpPr/>
          <p:nvPr/>
        </p:nvSpPr>
        <p:spPr>
          <a:xfrm flipV="1">
            <a:off x="1547640" y="3645000"/>
            <a:ext cx="1800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"/>
          <p:cNvSpPr/>
          <p:nvPr/>
        </p:nvSpPr>
        <p:spPr>
          <a:xfrm flipH="1">
            <a:off x="2050560" y="414972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826920" y="3357720"/>
            <a:ext cx="2521080" cy="1079280"/>
          </a:xfrm>
          <a:prstGeom prst="line">
            <a:avLst/>
          </a:prstGeom>
          <a:ln w="158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3913200" y="3476520"/>
                <a:ext cx="1074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↓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Text Box 6"/>
          <p:cNvSpPr/>
          <p:nvPr/>
        </p:nvSpPr>
        <p:spPr>
          <a:xfrm>
            <a:off x="971640" y="515772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Противоположные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2987640" y="2997360"/>
                <a:ext cx="423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2124000" y="4149720"/>
                <a:ext cx="432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5" name="AutoShape 1">
            <a:hlinkClick r:id="rId2" action="ppaction://hlinksldjump"/>
          </p:cNvPr>
          <p:cNvSpPr/>
          <p:nvPr/>
        </p:nvSpPr>
        <p:spPr>
          <a:xfrm>
            <a:off x="7812000" y="6165720"/>
            <a:ext cx="503280" cy="4302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66" h="21600">
                <a:moveTo>
                  <a:pt x="0" y="0"/>
                </a:moveTo>
                <a:lnTo>
                  <a:pt x="25266" y="0"/>
                </a:lnTo>
                <a:lnTo>
                  <a:pt x="25266" y="21600"/>
                </a:lnTo>
                <a:lnTo>
                  <a:pt x="0" y="21600"/>
                </a:lnTo>
                <a:close/>
              </a:path>
              <a:path fill="lightenLess" w="25266" h="21600">
                <a:moveTo>
                  <a:pt x="0" y="0"/>
                </a:moveTo>
                <a:lnTo>
                  <a:pt x="25266" y="0"/>
                </a:lnTo>
                <a:lnTo>
                  <a:pt x="23866" y="1400"/>
                </a:lnTo>
                <a:lnTo>
                  <a:pt x="1400" y="1400"/>
                </a:lnTo>
                <a:close/>
              </a:path>
              <a:path fill="darken" w="25266" h="21600">
                <a:moveTo>
                  <a:pt x="25266" y="0"/>
                </a:moveTo>
                <a:lnTo>
                  <a:pt x="25266" y="21600"/>
                </a:lnTo>
                <a:lnTo>
                  <a:pt x="23866" y="20200"/>
                </a:lnTo>
                <a:lnTo>
                  <a:pt x="23866" y="1400"/>
                </a:lnTo>
                <a:close/>
              </a:path>
              <a:path fill="darkenLess" w="25266" h="21600">
                <a:moveTo>
                  <a:pt x="25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66" y="20200"/>
                </a:lnTo>
                <a:close/>
              </a:path>
              <a:path fill="lighten" w="25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66" h="21600">
                <a:moveTo>
                  <a:pt x="9134" y="10800"/>
                </a:moveTo>
                <a:lnTo>
                  <a:pt x="19640" y="3794"/>
                </a:lnTo>
                <a:lnTo>
                  <a:pt x="19640" y="17806"/>
                </a:lnTo>
                <a:close/>
              </a:path>
              <a:path fill="darken" w="25266" h="21600">
                <a:moveTo>
                  <a:pt x="5627" y="3794"/>
                </a:moveTo>
                <a:lnTo>
                  <a:pt x="7289" y="3794"/>
                </a:lnTo>
                <a:lnTo>
                  <a:pt x="7289" y="17806"/>
                </a:lnTo>
                <a:lnTo>
                  <a:pt x="562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">
            <a:hlinkClick r:id="rId3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5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4"/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7493"/>
                </a:moveTo>
                <a:lnTo>
                  <a:pt x="9073" y="7493"/>
                </a:lnTo>
                <a:lnTo>
                  <a:pt x="9073" y="12828"/>
                </a:lnTo>
                <a:cubicBezTo>
                  <a:pt x="9073" y="13751"/>
                  <a:pt x="9873" y="14482"/>
                  <a:pt x="10909" y="14482"/>
                </a:cubicBezTo>
                <a:lnTo>
                  <a:pt x="12572" y="14482"/>
                </a:lnTo>
                <a:cubicBezTo>
                  <a:pt x="13607" y="14482"/>
                  <a:pt x="14408" y="13751"/>
                  <a:pt x="14408" y="12828"/>
                </a:cubicBezTo>
                <a:lnTo>
                  <a:pt x="14408" y="7493"/>
                </a:lnTo>
                <a:lnTo>
                  <a:pt x="12572" y="7493"/>
                </a:lnTo>
                <a:lnTo>
                  <a:pt x="16079" y="3985"/>
                </a:lnTo>
                <a:lnTo>
                  <a:pt x="19752" y="7493"/>
                </a:lnTo>
                <a:lnTo>
                  <a:pt x="17916" y="7493"/>
                </a:lnTo>
                <a:lnTo>
                  <a:pt x="17916" y="12828"/>
                </a:lnTo>
                <a:cubicBezTo>
                  <a:pt x="17916" y="15596"/>
                  <a:pt x="15339" y="18155"/>
                  <a:pt x="12572" y="18155"/>
                </a:cubicBezTo>
                <a:lnTo>
                  <a:pt x="10909" y="18155"/>
                </a:lnTo>
                <a:cubicBezTo>
                  <a:pt x="8141" y="18155"/>
                  <a:pt x="5565" y="15596"/>
                  <a:pt x="5565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Object 8"/>
              <p:cNvSpPr txBox="1"/>
              <p:nvPr/>
            </p:nvSpPr>
            <p:spPr>
              <a:xfrm>
                <a:off x="971640" y="2695680"/>
                <a:ext cx="4452840" cy="41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асс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тетраэд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центрои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B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rPr>
                            <m:lit/>
                            <m:nor/>
                          </m:rPr>
                          <m:t xml:space="preserve">правилу</m:t>
                        </m:r>
                        <m:r>
                          <m:rPr>
                            <m:lit/>
                            <m:nor/>
                          </m:rPr>
                          <m:t xml:space="preserve">па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да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налогично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ледовательно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7" name="AutoShape 9"/>
          <p:cNvSpPr/>
          <p:nvPr/>
        </p:nvSpPr>
        <p:spPr>
          <a:xfrm>
            <a:off x="1476360" y="1362240"/>
            <a:ext cx="1727280" cy="1150920"/>
          </a:xfrm>
          <a:prstGeom prst="cube">
            <a:avLst>
              <a:gd name="adj" fmla="val 25000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0"/>
          <p:cNvSpPr/>
          <p:nvPr/>
        </p:nvSpPr>
        <p:spPr>
          <a:xfrm flipH="1">
            <a:off x="1763640" y="2225520"/>
            <a:ext cx="1440000" cy="18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11"/>
          <p:cNvSpPr/>
          <p:nvPr/>
        </p:nvSpPr>
        <p:spPr>
          <a:xfrm>
            <a:off x="1763640" y="1362240"/>
            <a:ext cx="1800" cy="8632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2"/>
          <p:cNvSpPr/>
          <p:nvPr/>
        </p:nvSpPr>
        <p:spPr>
          <a:xfrm flipH="1">
            <a:off x="1476360" y="2225520"/>
            <a:ext cx="287280" cy="289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3"/>
          <p:cNvSpPr/>
          <p:nvPr/>
        </p:nvSpPr>
        <p:spPr>
          <a:xfrm>
            <a:off x="1692360" y="1865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14"/>
          <p:cNvSpPr/>
          <p:nvPr/>
        </p:nvSpPr>
        <p:spPr>
          <a:xfrm>
            <a:off x="1187280" y="23702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5"/>
          <p:cNvSpPr/>
          <p:nvPr/>
        </p:nvSpPr>
        <p:spPr>
          <a:xfrm>
            <a:off x="3205440" y="1916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16"/>
          <p:cNvSpPr/>
          <p:nvPr/>
        </p:nvSpPr>
        <p:spPr>
          <a:xfrm>
            <a:off x="2846160" y="2417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7"/>
          <p:cNvSpPr/>
          <p:nvPr/>
        </p:nvSpPr>
        <p:spPr>
          <a:xfrm>
            <a:off x="1116000" y="13622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8"/>
          <p:cNvSpPr/>
          <p:nvPr/>
        </p:nvSpPr>
        <p:spPr>
          <a:xfrm>
            <a:off x="1476360" y="907920"/>
            <a:ext cx="574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9"/>
          <p:cNvSpPr/>
          <p:nvPr/>
        </p:nvSpPr>
        <p:spPr>
          <a:xfrm>
            <a:off x="3203640" y="107316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20"/>
          <p:cNvSpPr/>
          <p:nvPr/>
        </p:nvSpPr>
        <p:spPr>
          <a:xfrm>
            <a:off x="2844720" y="150660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21"/>
          <p:cNvSpPr/>
          <p:nvPr/>
        </p:nvSpPr>
        <p:spPr>
          <a:xfrm flipV="1">
            <a:off x="1476360" y="1361880"/>
            <a:ext cx="1727280" cy="1152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22"/>
          <p:cNvSpPr/>
          <p:nvPr/>
        </p:nvSpPr>
        <p:spPr>
          <a:xfrm>
            <a:off x="1476360" y="1649520"/>
            <a:ext cx="287280" cy="576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23"/>
          <p:cNvSpPr/>
          <p:nvPr/>
        </p:nvSpPr>
        <p:spPr>
          <a:xfrm>
            <a:off x="1763640" y="2225520"/>
            <a:ext cx="1152720" cy="289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24"/>
          <p:cNvSpPr/>
          <p:nvPr/>
        </p:nvSpPr>
        <p:spPr>
          <a:xfrm>
            <a:off x="1476360" y="1649520"/>
            <a:ext cx="144000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25"/>
          <p:cNvSpPr/>
          <p:nvPr/>
        </p:nvSpPr>
        <p:spPr>
          <a:xfrm>
            <a:off x="1763640" y="1362240"/>
            <a:ext cx="1440000" cy="863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26"/>
          <p:cNvSpPr/>
          <p:nvPr/>
        </p:nvSpPr>
        <p:spPr>
          <a:xfrm>
            <a:off x="1763640" y="1362240"/>
            <a:ext cx="11527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27"/>
          <p:cNvSpPr/>
          <p:nvPr/>
        </p:nvSpPr>
        <p:spPr>
          <a:xfrm>
            <a:off x="2916360" y="1649520"/>
            <a:ext cx="28728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Oval 28"/>
          <p:cNvSpPr/>
          <p:nvPr/>
        </p:nvSpPr>
        <p:spPr>
          <a:xfrm>
            <a:off x="2050920" y="2081160"/>
            <a:ext cx="73080" cy="7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Oval 29"/>
          <p:cNvSpPr/>
          <p:nvPr/>
        </p:nvSpPr>
        <p:spPr>
          <a:xfrm>
            <a:off x="2556000" y="1722600"/>
            <a:ext cx="73080" cy="71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30"/>
          <p:cNvSpPr/>
          <p:nvPr/>
        </p:nvSpPr>
        <p:spPr>
          <a:xfrm>
            <a:off x="1979640" y="179388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31"/>
          <p:cNvSpPr/>
          <p:nvPr/>
        </p:nvSpPr>
        <p:spPr>
          <a:xfrm>
            <a:off x="2411280" y="172260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Object 32"/>
              <p:cNvSpPr txBox="1"/>
              <p:nvPr/>
            </p:nvSpPr>
            <p:spPr>
              <a:xfrm>
                <a:off x="4067280" y="1125360"/>
                <a:ext cx="3622680" cy="26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ар</m:t>
                        </m:r>
                        <m:r>
                          <m:t xml:space="preserve">−</m:t>
                        </m:r>
                        <m:r>
                          <m:t xml:space="preserve">д</m:t>
                        </m:r>
                      </m:e>
                      <m:e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rPr>
                            <m:lit/>
                            <m:nor/>
                          </m:rPr>
                          <m:t xml:space="preserve">пересечени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медиа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ВD</m:t>
                        </m:r>
                        <m:r>
                          <m:t xml:space="preserve">и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оответственн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ь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2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Разложение век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200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ложите вектор по     ,     и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3"/>
          <p:cNvSpPr/>
          <p:nvPr/>
        </p:nvSpPr>
        <p:spPr>
          <a:xfrm>
            <a:off x="2124000" y="3645000"/>
            <a:ext cx="165744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4"/>
          <p:cNvSpPr/>
          <p:nvPr/>
        </p:nvSpPr>
        <p:spPr>
          <a:xfrm flipV="1">
            <a:off x="2124000" y="2276280"/>
            <a:ext cx="792360" cy="1368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25"/>
          <p:cNvSpPr/>
          <p:nvPr/>
        </p:nvSpPr>
        <p:spPr>
          <a:xfrm>
            <a:off x="2916360" y="2276640"/>
            <a:ext cx="215640" cy="18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26"/>
          <p:cNvSpPr/>
          <p:nvPr/>
        </p:nvSpPr>
        <p:spPr>
          <a:xfrm>
            <a:off x="2124000" y="3645000"/>
            <a:ext cx="100800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27"/>
          <p:cNvSpPr/>
          <p:nvPr/>
        </p:nvSpPr>
        <p:spPr>
          <a:xfrm>
            <a:off x="2916360" y="2276640"/>
            <a:ext cx="86508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28"/>
          <p:cNvSpPr/>
          <p:nvPr/>
        </p:nvSpPr>
        <p:spPr>
          <a:xfrm flipH="1">
            <a:off x="3132000" y="3645000"/>
            <a:ext cx="64944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30"/>
          <p:cNvSpPr/>
          <p:nvPr/>
        </p:nvSpPr>
        <p:spPr>
          <a:xfrm>
            <a:off x="2124000" y="3645000"/>
            <a:ext cx="1368360" cy="215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31"/>
          <p:cNvSpPr/>
          <p:nvPr/>
        </p:nvSpPr>
        <p:spPr>
          <a:xfrm flipH="1" flipV="1">
            <a:off x="2989440" y="3645000"/>
            <a:ext cx="142560" cy="504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32"/>
          <p:cNvSpPr/>
          <p:nvPr/>
        </p:nvSpPr>
        <p:spPr>
          <a:xfrm>
            <a:off x="1836720" y="3500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33"/>
          <p:cNvSpPr/>
          <p:nvPr/>
        </p:nvSpPr>
        <p:spPr>
          <a:xfrm>
            <a:off x="370836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34"/>
          <p:cNvSpPr/>
          <p:nvPr/>
        </p:nvSpPr>
        <p:spPr>
          <a:xfrm>
            <a:off x="2989440" y="407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35"/>
          <p:cNvSpPr/>
          <p:nvPr/>
        </p:nvSpPr>
        <p:spPr>
          <a:xfrm>
            <a:off x="2844720" y="198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36"/>
          <p:cNvSpPr/>
          <p:nvPr/>
        </p:nvSpPr>
        <p:spPr>
          <a:xfrm>
            <a:off x="2773440" y="364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6" name="Object 37"/>
              <p:cNvSpPr txBox="1"/>
              <p:nvPr/>
            </p:nvSpPr>
            <p:spPr>
              <a:xfrm>
                <a:off x="2197080" y="2637000"/>
                <a:ext cx="2905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Object 39"/>
              <p:cNvSpPr txBox="1"/>
              <p:nvPr/>
            </p:nvSpPr>
            <p:spPr>
              <a:xfrm>
                <a:off x="2629080" y="3141720"/>
                <a:ext cx="290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Object 40"/>
              <p:cNvSpPr txBox="1"/>
              <p:nvPr/>
            </p:nvSpPr>
            <p:spPr>
              <a:xfrm>
                <a:off x="2498760" y="3860640"/>
                <a:ext cx="262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Object 41"/>
              <p:cNvSpPr txBox="1"/>
              <p:nvPr/>
            </p:nvSpPr>
            <p:spPr>
              <a:xfrm>
                <a:off x="3673440" y="2335320"/>
                <a:ext cx="31305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точка</m:t>
                        </m:r>
                        <m:r>
                          <m:rPr>
                            <m:lit/>
                            <m:nor/>
                          </m:rPr>
                          <m:t xml:space="preserve">пересечени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медиан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Object 42"/>
              <p:cNvSpPr txBox="1"/>
              <p:nvPr/>
            </p:nvSpPr>
            <p:spPr>
              <a:xfrm>
                <a:off x="4067280" y="1484280"/>
                <a:ext cx="3474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Object 44"/>
              <p:cNvSpPr txBox="1"/>
              <p:nvPr/>
            </p:nvSpPr>
            <p:spPr>
              <a:xfrm>
                <a:off x="4500720" y="1484280"/>
                <a:ext cx="3474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Object 45"/>
              <p:cNvSpPr txBox="1"/>
              <p:nvPr/>
            </p:nvSpPr>
            <p:spPr>
              <a:xfrm>
                <a:off x="5076720" y="1484280"/>
                <a:ext cx="312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Object 46"/>
              <p:cNvSpPr txBox="1"/>
              <p:nvPr/>
            </p:nvSpPr>
            <p:spPr>
              <a:xfrm>
                <a:off x="1332000" y="4292640"/>
                <a:ext cx="6937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Object 47"/>
              <p:cNvSpPr txBox="1"/>
              <p:nvPr/>
            </p:nvSpPr>
            <p:spPr>
              <a:xfrm>
                <a:off x="1332000" y="4653000"/>
                <a:ext cx="660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Object 48"/>
              <p:cNvSpPr txBox="1"/>
              <p:nvPr/>
            </p:nvSpPr>
            <p:spPr>
              <a:xfrm>
                <a:off x="1332000" y="5013360"/>
                <a:ext cx="765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Object 49"/>
              <p:cNvSpPr txBox="1"/>
              <p:nvPr/>
            </p:nvSpPr>
            <p:spPr>
              <a:xfrm>
                <a:off x="1332000" y="5373720"/>
                <a:ext cx="763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57" name="AutoShape 52"/>
          <p:cNvSpPr/>
          <p:nvPr/>
        </p:nvSpPr>
        <p:spPr>
          <a:xfrm>
            <a:off x="781200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9127" y="10800"/>
                </a:moveTo>
                <a:lnTo>
                  <a:pt x="19632" y="3794"/>
                </a:lnTo>
                <a:lnTo>
                  <a:pt x="19632" y="17806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7281" y="3794"/>
                </a:lnTo>
                <a:lnTo>
                  <a:pt x="7281" y="17806"/>
                </a:lnTo>
                <a:lnTo>
                  <a:pt x="561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AutoShape 53"/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4"/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7493"/>
                </a:moveTo>
                <a:lnTo>
                  <a:pt x="9073" y="7493"/>
                </a:lnTo>
                <a:lnTo>
                  <a:pt x="9073" y="12828"/>
                </a:lnTo>
                <a:cubicBezTo>
                  <a:pt x="9073" y="13751"/>
                  <a:pt x="9873" y="14482"/>
                  <a:pt x="10909" y="14482"/>
                </a:cubicBezTo>
                <a:lnTo>
                  <a:pt x="12572" y="14482"/>
                </a:lnTo>
                <a:cubicBezTo>
                  <a:pt x="13607" y="14482"/>
                  <a:pt x="14408" y="13751"/>
                  <a:pt x="14408" y="12828"/>
                </a:cubicBezTo>
                <a:lnTo>
                  <a:pt x="14408" y="7493"/>
                </a:lnTo>
                <a:lnTo>
                  <a:pt x="12572" y="7493"/>
                </a:lnTo>
                <a:lnTo>
                  <a:pt x="16079" y="3985"/>
                </a:lnTo>
                <a:lnTo>
                  <a:pt x="19752" y="7493"/>
                </a:lnTo>
                <a:lnTo>
                  <a:pt x="17916" y="7493"/>
                </a:lnTo>
                <a:lnTo>
                  <a:pt x="17916" y="12828"/>
                </a:lnTo>
                <a:cubicBezTo>
                  <a:pt x="17916" y="15596"/>
                  <a:pt x="15339" y="18155"/>
                  <a:pt x="12572" y="18155"/>
                </a:cubicBezTo>
                <a:lnTo>
                  <a:pt x="10909" y="18155"/>
                </a:lnTo>
                <a:cubicBezTo>
                  <a:pt x="8141" y="18155"/>
                  <a:pt x="5565" y="15596"/>
                  <a:pt x="5565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Object 5"/>
              <p:cNvSpPr txBox="1"/>
              <p:nvPr/>
            </p:nvSpPr>
            <p:spPr>
              <a:xfrm>
                <a:off x="1332000" y="1557360"/>
                <a:ext cx="1908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Object 6"/>
              <p:cNvSpPr txBox="1"/>
              <p:nvPr/>
            </p:nvSpPr>
            <p:spPr>
              <a:xfrm>
                <a:off x="1332000" y="1916280"/>
                <a:ext cx="1842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Object 7"/>
              <p:cNvSpPr txBox="1"/>
              <p:nvPr/>
            </p:nvSpPr>
            <p:spPr>
              <a:xfrm>
                <a:off x="1332000" y="2276640"/>
                <a:ext cx="1947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Object 8"/>
              <p:cNvSpPr txBox="1"/>
              <p:nvPr/>
            </p:nvSpPr>
            <p:spPr>
              <a:xfrm>
                <a:off x="1332000" y="2565360"/>
                <a:ext cx="662940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3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Сложение и 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200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простит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Object 32"/>
              <p:cNvSpPr txBox="1"/>
              <p:nvPr/>
            </p:nvSpPr>
            <p:spPr>
              <a:xfrm>
                <a:off x="1476360" y="2062080"/>
                <a:ext cx="1871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Object 33"/>
              <p:cNvSpPr txBox="1"/>
              <p:nvPr/>
            </p:nvSpPr>
            <p:spPr>
              <a:xfrm>
                <a:off x="1476360" y="2925720"/>
                <a:ext cx="15256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Object 34"/>
              <p:cNvSpPr txBox="1"/>
              <p:nvPr/>
            </p:nvSpPr>
            <p:spPr>
              <a:xfrm>
                <a:off x="1405080" y="3790800"/>
                <a:ext cx="4681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Object 35"/>
              <p:cNvSpPr txBox="1"/>
              <p:nvPr/>
            </p:nvSpPr>
            <p:spPr>
              <a:xfrm>
                <a:off x="1476360" y="3357720"/>
                <a:ext cx="15955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Object 36"/>
              <p:cNvSpPr txBox="1"/>
              <p:nvPr/>
            </p:nvSpPr>
            <p:spPr>
              <a:xfrm>
                <a:off x="1476360" y="2494080"/>
                <a:ext cx="18385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Object 37"/>
              <p:cNvSpPr txBox="1"/>
              <p:nvPr/>
            </p:nvSpPr>
            <p:spPr>
              <a:xfrm>
                <a:off x="1405080" y="4222800"/>
                <a:ext cx="46116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K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P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74" name="AutoShape 40"/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41"/>
          <p:cNvSpPr/>
          <p:nvPr/>
        </p:nvSpPr>
        <p:spPr>
          <a:xfrm>
            <a:off x="781200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9127" y="10800"/>
                </a:moveTo>
                <a:lnTo>
                  <a:pt x="19632" y="3794"/>
                </a:lnTo>
                <a:lnTo>
                  <a:pt x="19632" y="17806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7281" y="3794"/>
                </a:lnTo>
                <a:lnTo>
                  <a:pt x="7281" y="17806"/>
                </a:lnTo>
                <a:lnTo>
                  <a:pt x="561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8" name="Object 8"/>
              <p:cNvSpPr txBox="1"/>
              <p:nvPr/>
            </p:nvSpPr>
            <p:spPr>
              <a:xfrm>
                <a:off x="1547640" y="1557360"/>
                <a:ext cx="2876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Object 9"/>
              <p:cNvSpPr txBox="1"/>
              <p:nvPr/>
            </p:nvSpPr>
            <p:spPr>
              <a:xfrm>
                <a:off x="1547640" y="1989000"/>
                <a:ext cx="28101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Object 10"/>
              <p:cNvSpPr txBox="1"/>
              <p:nvPr/>
            </p:nvSpPr>
            <p:spPr>
              <a:xfrm>
                <a:off x="1547640" y="2421000"/>
                <a:ext cx="24624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T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Object 11"/>
              <p:cNvSpPr txBox="1"/>
              <p:nvPr/>
            </p:nvSpPr>
            <p:spPr>
              <a:xfrm>
                <a:off x="1547640" y="2852640"/>
                <a:ext cx="25322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Object 12"/>
              <p:cNvSpPr txBox="1"/>
              <p:nvPr/>
            </p:nvSpPr>
            <p:spPr>
              <a:xfrm>
                <a:off x="1476360" y="3370320"/>
                <a:ext cx="572148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M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M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M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Object 13"/>
              <p:cNvSpPr txBox="1"/>
              <p:nvPr/>
            </p:nvSpPr>
            <p:spPr>
              <a:xfrm>
                <a:off x="1476360" y="4724280"/>
                <a:ext cx="534024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K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P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K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4" name="AutoShape 15"/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7493"/>
                </a:moveTo>
                <a:lnTo>
                  <a:pt x="9073" y="7493"/>
                </a:lnTo>
                <a:lnTo>
                  <a:pt x="9073" y="12828"/>
                </a:lnTo>
                <a:cubicBezTo>
                  <a:pt x="9073" y="13751"/>
                  <a:pt x="9873" y="14482"/>
                  <a:pt x="10909" y="14482"/>
                </a:cubicBezTo>
                <a:lnTo>
                  <a:pt x="12572" y="14482"/>
                </a:lnTo>
                <a:cubicBezTo>
                  <a:pt x="13607" y="14482"/>
                  <a:pt x="14408" y="13751"/>
                  <a:pt x="14408" y="12828"/>
                </a:cubicBezTo>
                <a:lnTo>
                  <a:pt x="14408" y="7493"/>
                </a:lnTo>
                <a:lnTo>
                  <a:pt x="12572" y="7493"/>
                </a:lnTo>
                <a:lnTo>
                  <a:pt x="16079" y="3985"/>
                </a:lnTo>
                <a:lnTo>
                  <a:pt x="19752" y="7493"/>
                </a:lnTo>
                <a:lnTo>
                  <a:pt x="17916" y="7493"/>
                </a:lnTo>
                <a:lnTo>
                  <a:pt x="17916" y="12828"/>
                </a:lnTo>
                <a:cubicBezTo>
                  <a:pt x="17916" y="15596"/>
                  <a:pt x="15339" y="18155"/>
                  <a:pt x="12572" y="18155"/>
                </a:cubicBezTo>
                <a:lnTo>
                  <a:pt x="10909" y="18155"/>
                </a:lnTo>
                <a:cubicBezTo>
                  <a:pt x="8141" y="18155"/>
                  <a:pt x="5565" y="15596"/>
                  <a:pt x="5565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4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Скалярное произ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0"/>
          <p:cNvSpPr/>
          <p:nvPr/>
        </p:nvSpPr>
        <p:spPr>
          <a:xfrm>
            <a:off x="971640" y="148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числить скалярное произведение вектор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AutoShape 41"/>
          <p:cNvSpPr/>
          <p:nvPr/>
        </p:nvSpPr>
        <p:spPr>
          <a:xfrm>
            <a:off x="1547640" y="2278080"/>
            <a:ext cx="1656000" cy="1512720"/>
          </a:xfrm>
          <a:prstGeom prst="cube">
            <a:avLst>
              <a:gd name="adj" fmla="val 25000"/>
            </a:avLst>
          </a:prstGeom>
          <a:solidFill>
            <a:srgbClr val="ff0000">
              <a:alpha val="2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42"/>
          <p:cNvSpPr/>
          <p:nvPr/>
        </p:nvSpPr>
        <p:spPr>
          <a:xfrm flipV="1">
            <a:off x="1547640" y="3430080"/>
            <a:ext cx="360360" cy="360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43"/>
          <p:cNvSpPr/>
          <p:nvPr/>
        </p:nvSpPr>
        <p:spPr>
          <a:xfrm>
            <a:off x="1908000" y="3430440"/>
            <a:ext cx="129564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44"/>
          <p:cNvSpPr/>
          <p:nvPr/>
        </p:nvSpPr>
        <p:spPr>
          <a:xfrm>
            <a:off x="1908000" y="2278080"/>
            <a:ext cx="1800" cy="1152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45"/>
          <p:cNvSpPr/>
          <p:nvPr/>
        </p:nvSpPr>
        <p:spPr>
          <a:xfrm>
            <a:off x="3203640" y="32148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46"/>
          <p:cNvSpPr/>
          <p:nvPr/>
        </p:nvSpPr>
        <p:spPr>
          <a:xfrm>
            <a:off x="1187280" y="35751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47"/>
          <p:cNvSpPr/>
          <p:nvPr/>
        </p:nvSpPr>
        <p:spPr>
          <a:xfrm>
            <a:off x="1619280" y="3141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48"/>
          <p:cNvSpPr/>
          <p:nvPr/>
        </p:nvSpPr>
        <p:spPr>
          <a:xfrm>
            <a:off x="2843280" y="3718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49"/>
          <p:cNvSpPr/>
          <p:nvPr/>
        </p:nvSpPr>
        <p:spPr>
          <a:xfrm>
            <a:off x="1187280" y="235116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50"/>
          <p:cNvSpPr/>
          <p:nvPr/>
        </p:nvSpPr>
        <p:spPr>
          <a:xfrm>
            <a:off x="1692360" y="1917720"/>
            <a:ext cx="43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51"/>
          <p:cNvSpPr/>
          <p:nvPr/>
        </p:nvSpPr>
        <p:spPr>
          <a:xfrm>
            <a:off x="3059280" y="1916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52"/>
          <p:cNvSpPr/>
          <p:nvPr/>
        </p:nvSpPr>
        <p:spPr>
          <a:xfrm>
            <a:off x="2771640" y="2494080"/>
            <a:ext cx="50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Object 54"/>
              <p:cNvSpPr txBox="1"/>
              <p:nvPr/>
            </p:nvSpPr>
            <p:spPr>
              <a:xfrm>
                <a:off x="1219320" y="2938320"/>
                <a:ext cx="2905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0" name="Line 57"/>
          <p:cNvSpPr/>
          <p:nvPr/>
        </p:nvSpPr>
        <p:spPr>
          <a:xfrm>
            <a:off x="1547640" y="3790800"/>
            <a:ext cx="122400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58"/>
          <p:cNvSpPr/>
          <p:nvPr/>
        </p:nvSpPr>
        <p:spPr>
          <a:xfrm flipV="1">
            <a:off x="1547640" y="3430080"/>
            <a:ext cx="360360" cy="360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59"/>
          <p:cNvSpPr/>
          <p:nvPr/>
        </p:nvSpPr>
        <p:spPr>
          <a:xfrm flipV="1">
            <a:off x="1547640" y="2638080"/>
            <a:ext cx="1800" cy="115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Object 61"/>
              <p:cNvSpPr txBox="1"/>
              <p:nvPr/>
            </p:nvSpPr>
            <p:spPr>
              <a:xfrm>
                <a:off x="4067280" y="2133720"/>
                <a:ext cx="27241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уб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Object 64"/>
              <p:cNvSpPr txBox="1"/>
              <p:nvPr/>
            </p:nvSpPr>
            <p:spPr>
              <a:xfrm>
                <a:off x="984240" y="4149720"/>
                <a:ext cx="14731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5" name="Rectangle 65"/>
          <p:cNvSpPr/>
          <p:nvPr/>
        </p:nvSpPr>
        <p:spPr>
          <a:xfrm>
            <a:off x="1043640" y="58770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AutoShape 71"/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3794"/>
                </a:moveTo>
                <a:lnTo>
                  <a:pt x="19578" y="10800"/>
                </a:lnTo>
                <a:lnTo>
                  <a:pt x="556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72"/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AutoShape 73"/>
          <p:cNvSpPr/>
          <p:nvPr/>
        </p:nvSpPr>
        <p:spPr>
          <a:xfrm>
            <a:off x="730872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9127" y="10800"/>
                </a:moveTo>
                <a:lnTo>
                  <a:pt x="19632" y="3794"/>
                </a:lnTo>
                <a:lnTo>
                  <a:pt x="19632" y="17806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7281" y="3794"/>
                </a:lnTo>
                <a:lnTo>
                  <a:pt x="7281" y="17806"/>
                </a:lnTo>
                <a:lnTo>
                  <a:pt x="561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4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Скалярное произ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Object 5"/>
              <p:cNvSpPr txBox="1"/>
              <p:nvPr/>
            </p:nvSpPr>
            <p:spPr>
              <a:xfrm>
                <a:off x="4067280" y="2133720"/>
                <a:ext cx="272412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уб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84240" y="4149720"/>
                <a:ext cx="165096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  <m:e>
                        <m:r>
                          <m:t xml:space="preserve">ж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2" name="AutoShape 7"/>
          <p:cNvSpPr/>
          <p:nvPr/>
        </p:nvSpPr>
        <p:spPr>
          <a:xfrm>
            <a:off x="1620720" y="2276640"/>
            <a:ext cx="1656000" cy="1512720"/>
          </a:xfrm>
          <a:prstGeom prst="cube">
            <a:avLst>
              <a:gd name="adj" fmla="val 25000"/>
            </a:avLst>
          </a:prstGeom>
          <a:solidFill>
            <a:srgbClr val="ff0000">
              <a:alpha val="2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8"/>
          <p:cNvSpPr/>
          <p:nvPr/>
        </p:nvSpPr>
        <p:spPr>
          <a:xfrm flipV="1">
            <a:off x="1620720" y="3428640"/>
            <a:ext cx="360360" cy="360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9"/>
          <p:cNvSpPr/>
          <p:nvPr/>
        </p:nvSpPr>
        <p:spPr>
          <a:xfrm>
            <a:off x="1981080" y="3429000"/>
            <a:ext cx="129564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0"/>
          <p:cNvSpPr/>
          <p:nvPr/>
        </p:nvSpPr>
        <p:spPr>
          <a:xfrm>
            <a:off x="1981080" y="2276640"/>
            <a:ext cx="1800" cy="1152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11"/>
          <p:cNvSpPr/>
          <p:nvPr/>
        </p:nvSpPr>
        <p:spPr>
          <a:xfrm>
            <a:off x="3276720" y="3213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12"/>
          <p:cNvSpPr/>
          <p:nvPr/>
        </p:nvSpPr>
        <p:spPr>
          <a:xfrm>
            <a:off x="1260360" y="35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13"/>
          <p:cNvSpPr/>
          <p:nvPr/>
        </p:nvSpPr>
        <p:spPr>
          <a:xfrm>
            <a:off x="1692360" y="3139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14"/>
          <p:cNvSpPr/>
          <p:nvPr/>
        </p:nvSpPr>
        <p:spPr>
          <a:xfrm>
            <a:off x="2916360" y="3716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15"/>
          <p:cNvSpPr/>
          <p:nvPr/>
        </p:nvSpPr>
        <p:spPr>
          <a:xfrm>
            <a:off x="1260360" y="234936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6"/>
          <p:cNvSpPr/>
          <p:nvPr/>
        </p:nvSpPr>
        <p:spPr>
          <a:xfrm>
            <a:off x="1765440" y="1916280"/>
            <a:ext cx="43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7"/>
          <p:cNvSpPr/>
          <p:nvPr/>
        </p:nvSpPr>
        <p:spPr>
          <a:xfrm>
            <a:off x="3133800" y="1916280"/>
            <a:ext cx="501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8"/>
          <p:cNvSpPr/>
          <p:nvPr/>
        </p:nvSpPr>
        <p:spPr>
          <a:xfrm>
            <a:off x="2844720" y="249228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Object 19"/>
              <p:cNvSpPr txBox="1"/>
              <p:nvPr/>
            </p:nvSpPr>
            <p:spPr>
              <a:xfrm>
                <a:off x="1292400" y="2936880"/>
                <a:ext cx="2901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5" name="Line 20"/>
          <p:cNvSpPr/>
          <p:nvPr/>
        </p:nvSpPr>
        <p:spPr>
          <a:xfrm>
            <a:off x="1620720" y="3789360"/>
            <a:ext cx="12240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21"/>
          <p:cNvSpPr/>
          <p:nvPr/>
        </p:nvSpPr>
        <p:spPr>
          <a:xfrm flipV="1">
            <a:off x="1620720" y="3428640"/>
            <a:ext cx="360360" cy="360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22"/>
          <p:cNvSpPr/>
          <p:nvPr/>
        </p:nvSpPr>
        <p:spPr>
          <a:xfrm flipV="1">
            <a:off x="1620720" y="2636640"/>
            <a:ext cx="1800" cy="115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23"/>
          <p:cNvSpPr/>
          <p:nvPr/>
        </p:nvSpPr>
        <p:spPr>
          <a:xfrm>
            <a:off x="1979640" y="2278080"/>
            <a:ext cx="93672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24"/>
          <p:cNvSpPr/>
          <p:nvPr/>
        </p:nvSpPr>
        <p:spPr>
          <a:xfrm flipV="1">
            <a:off x="1619280" y="2277720"/>
            <a:ext cx="165744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25"/>
          <p:cNvSpPr/>
          <p:nvPr/>
        </p:nvSpPr>
        <p:spPr>
          <a:xfrm>
            <a:off x="2340000" y="20606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26"/>
          <p:cNvSpPr/>
          <p:nvPr/>
        </p:nvSpPr>
        <p:spPr>
          <a:xfrm>
            <a:off x="971640" y="148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числить скалярное произведение вектор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27"/>
          <p:cNvSpPr/>
          <p:nvPr/>
        </p:nvSpPr>
        <p:spPr>
          <a:xfrm>
            <a:off x="7308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29"/>
          <p:cNvSpPr/>
          <p:nvPr/>
        </p:nvSpPr>
        <p:spPr>
          <a:xfrm>
            <a:off x="1043640" y="55166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AutoShape 30"/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33"/>
          <p:cNvSpPr/>
          <p:nvPr/>
        </p:nvSpPr>
        <p:spPr>
          <a:xfrm>
            <a:off x="781200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9127" y="10800"/>
                </a:moveTo>
                <a:lnTo>
                  <a:pt x="19632" y="3794"/>
                </a:lnTo>
                <a:lnTo>
                  <a:pt x="19632" y="17806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7281" y="3794"/>
                </a:lnTo>
                <a:lnTo>
                  <a:pt x="7281" y="17806"/>
                </a:lnTo>
                <a:lnTo>
                  <a:pt x="561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utoShape 7"/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7493"/>
                </a:moveTo>
                <a:lnTo>
                  <a:pt x="9073" y="7493"/>
                </a:lnTo>
                <a:lnTo>
                  <a:pt x="9073" y="12828"/>
                </a:lnTo>
                <a:cubicBezTo>
                  <a:pt x="9073" y="13751"/>
                  <a:pt x="9873" y="14482"/>
                  <a:pt x="10909" y="14482"/>
                </a:cubicBezTo>
                <a:lnTo>
                  <a:pt x="12572" y="14482"/>
                </a:lnTo>
                <a:cubicBezTo>
                  <a:pt x="13607" y="14482"/>
                  <a:pt x="14408" y="13751"/>
                  <a:pt x="14408" y="12828"/>
                </a:cubicBezTo>
                <a:lnTo>
                  <a:pt x="14408" y="7493"/>
                </a:lnTo>
                <a:lnTo>
                  <a:pt x="12572" y="7493"/>
                </a:lnTo>
                <a:lnTo>
                  <a:pt x="16079" y="3985"/>
                </a:lnTo>
                <a:lnTo>
                  <a:pt x="19752" y="7493"/>
                </a:lnTo>
                <a:lnTo>
                  <a:pt x="17916" y="7493"/>
                </a:lnTo>
                <a:lnTo>
                  <a:pt x="17916" y="12828"/>
                </a:lnTo>
                <a:cubicBezTo>
                  <a:pt x="17916" y="15596"/>
                  <a:pt x="15339" y="18155"/>
                  <a:pt x="12572" y="18155"/>
                </a:cubicBezTo>
                <a:lnTo>
                  <a:pt x="10909" y="18155"/>
                </a:lnTo>
                <a:cubicBezTo>
                  <a:pt x="8141" y="18155"/>
                  <a:pt x="5565" y="15596"/>
                  <a:pt x="5565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Object 8"/>
              <p:cNvSpPr txBox="1"/>
              <p:nvPr/>
            </p:nvSpPr>
            <p:spPr>
              <a:xfrm>
                <a:off x="971640" y="1628640"/>
                <a:ext cx="6530760" cy="483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диагональ</m:t>
                        </m:r>
                        <m:r>
                          <m:rPr>
                            <m:lit/>
                            <m:nor/>
                          </m:rPr>
                          <m:t xml:space="preserve">квадрата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диагональ</m:t>
                        </m:r>
                        <m:r>
                          <m:rPr>
                            <m:lit/>
                            <m:nor/>
                          </m:rPr>
                          <m:t xml:space="preserve">куба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фагора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D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45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/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B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диагонали</m:t>
                        </m:r>
                        <m:r>
                          <m:rPr>
                            <m:lit/>
                            <m:nor/>
                          </m:rPr>
                          <m:t xml:space="preserve">квадратов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равносторонний,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Object 5"/>
              <p:cNvSpPr txBox="1"/>
              <p:nvPr/>
            </p:nvSpPr>
            <p:spPr>
              <a:xfrm>
                <a:off x="971640" y="1628640"/>
                <a:ext cx="5746680" cy="282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оловина</m:t>
                        </m:r>
                        <m:r>
                          <m:rPr>
                            <m:lit/>
                            <m:nor/>
                          </m:rPr>
                          <m:t xml:space="preserve">диагонали</m:t>
                        </m:r>
                        <m:r>
                          <m:rPr>
                            <m:lit/>
                            <m:nor/>
                          </m:rPr>
                          <m:t xml:space="preserve">квадрата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диагональ</m:t>
                        </m:r>
                        <m:r>
                          <m:rPr>
                            <m:lit/>
                            <m:nor/>
                          </m:rPr>
                          <m:t xml:space="preserve">квадрата</m:t>
                        </m:r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оловины</m:t>
                        </m:r>
                        <m:r>
                          <m:rPr>
                            <m:lit/>
                            <m:nor/>
                          </m:rPr>
                          <m:t xml:space="preserve">диагонали</m:t>
                        </m:r>
                        <m:r>
                          <m:rPr>
                            <m:lit/>
                            <m:nor/>
                          </m:rPr>
                          <m:t xml:space="preserve">квадрата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1" name="AutoShape 6"/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7493"/>
                </a:moveTo>
                <a:lnTo>
                  <a:pt x="9082" y="7493"/>
                </a:lnTo>
                <a:lnTo>
                  <a:pt x="9082" y="12828"/>
                </a:lnTo>
                <a:cubicBezTo>
                  <a:pt x="9082" y="13751"/>
                  <a:pt x="9882" y="14482"/>
                  <a:pt x="10918" y="14482"/>
                </a:cubicBezTo>
                <a:lnTo>
                  <a:pt x="12581" y="14482"/>
                </a:lnTo>
                <a:cubicBezTo>
                  <a:pt x="13616" y="14482"/>
                  <a:pt x="14417" y="13751"/>
                  <a:pt x="14417" y="12828"/>
                </a:cubicBezTo>
                <a:lnTo>
                  <a:pt x="14417" y="7493"/>
                </a:lnTo>
                <a:lnTo>
                  <a:pt x="12581" y="7493"/>
                </a:lnTo>
                <a:lnTo>
                  <a:pt x="16088" y="3985"/>
                </a:lnTo>
                <a:lnTo>
                  <a:pt x="19761" y="7493"/>
                </a:lnTo>
                <a:lnTo>
                  <a:pt x="17925" y="7493"/>
                </a:lnTo>
                <a:lnTo>
                  <a:pt x="17925" y="12828"/>
                </a:lnTo>
                <a:cubicBezTo>
                  <a:pt x="17925" y="15596"/>
                  <a:pt x="15348" y="18155"/>
                  <a:pt x="12581" y="18155"/>
                </a:cubicBezTo>
                <a:lnTo>
                  <a:pt x="10918" y="18155"/>
                </a:lnTo>
                <a:cubicBezTo>
                  <a:pt x="8150" y="18155"/>
                  <a:pt x="5574" y="15596"/>
                  <a:pt x="55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9"/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3794"/>
                </a:moveTo>
                <a:lnTo>
                  <a:pt x="19578" y="10800"/>
                </a:lnTo>
                <a:lnTo>
                  <a:pt x="556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4" name="Object 4"/>
              <p:cNvSpPr txBox="1"/>
              <p:nvPr/>
            </p:nvSpPr>
            <p:spPr>
              <a:xfrm>
                <a:off x="971640" y="1628640"/>
                <a:ext cx="6143400" cy="509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ж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спосо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rPr>
                            <m:lit/>
                            <m:nor/>
                          </m:rPr>
                          <m:t xml:space="preserve">определению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диагональ</m:t>
                        </m:r>
                        <m:r>
                          <m:rPr>
                            <m:lit/>
                            <m:nor/>
                          </m:rPr>
                          <m:t xml:space="preserve">квадрата</m:t>
                        </m:r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rPr>
                            <m:lit/>
                            <m:nor/>
                          </m:rPr>
                          <m:t xml:space="preserve">спосо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разложение</m:t>
                        </m:r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rPr>
                            <m:lit/>
                            <m:nor/>
                          </m:rPr>
                          <m:t xml:space="preserve">базису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5" name="AutoShape 5"/>
          <p:cNvSpPr/>
          <p:nvPr/>
        </p:nvSpPr>
        <p:spPr>
          <a:xfrm>
            <a:off x="5796000" y="1989000"/>
            <a:ext cx="1655640" cy="1513080"/>
          </a:xfrm>
          <a:prstGeom prst="cube">
            <a:avLst>
              <a:gd name="adj" fmla="val 25000"/>
            </a:avLst>
          </a:prstGeom>
          <a:solidFill>
            <a:srgbClr val="ff0000">
              <a:alpha val="2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6"/>
          <p:cNvSpPr/>
          <p:nvPr/>
        </p:nvSpPr>
        <p:spPr>
          <a:xfrm flipV="1">
            <a:off x="5796000" y="3141360"/>
            <a:ext cx="360360" cy="360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7"/>
          <p:cNvSpPr/>
          <p:nvPr/>
        </p:nvSpPr>
        <p:spPr>
          <a:xfrm>
            <a:off x="6156360" y="3141720"/>
            <a:ext cx="129528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8"/>
          <p:cNvSpPr/>
          <p:nvPr/>
        </p:nvSpPr>
        <p:spPr>
          <a:xfrm>
            <a:off x="6156360" y="1989000"/>
            <a:ext cx="1440" cy="1152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9"/>
          <p:cNvSpPr/>
          <p:nvPr/>
        </p:nvSpPr>
        <p:spPr>
          <a:xfrm>
            <a:off x="7451640" y="2925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10"/>
          <p:cNvSpPr/>
          <p:nvPr/>
        </p:nvSpPr>
        <p:spPr>
          <a:xfrm>
            <a:off x="5435640" y="3286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11"/>
          <p:cNvSpPr/>
          <p:nvPr/>
        </p:nvSpPr>
        <p:spPr>
          <a:xfrm>
            <a:off x="5867280" y="2852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12"/>
          <p:cNvSpPr/>
          <p:nvPr/>
        </p:nvSpPr>
        <p:spPr>
          <a:xfrm>
            <a:off x="709128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13"/>
          <p:cNvSpPr/>
          <p:nvPr/>
        </p:nvSpPr>
        <p:spPr>
          <a:xfrm>
            <a:off x="5435640" y="2062080"/>
            <a:ext cx="43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14"/>
          <p:cNvSpPr/>
          <p:nvPr/>
        </p:nvSpPr>
        <p:spPr>
          <a:xfrm>
            <a:off x="5940360" y="162864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5"/>
          <p:cNvSpPr/>
          <p:nvPr/>
        </p:nvSpPr>
        <p:spPr>
          <a:xfrm>
            <a:off x="7308720" y="16286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16"/>
          <p:cNvSpPr/>
          <p:nvPr/>
        </p:nvSpPr>
        <p:spPr>
          <a:xfrm>
            <a:off x="7020000" y="2205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7" name="Object 17"/>
              <p:cNvSpPr txBox="1"/>
              <p:nvPr/>
            </p:nvSpPr>
            <p:spPr>
              <a:xfrm>
                <a:off x="6372360" y="3141720"/>
                <a:ext cx="2412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58" name="Line 18"/>
          <p:cNvSpPr/>
          <p:nvPr/>
        </p:nvSpPr>
        <p:spPr>
          <a:xfrm>
            <a:off x="5796000" y="3502080"/>
            <a:ext cx="12240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19"/>
          <p:cNvSpPr/>
          <p:nvPr/>
        </p:nvSpPr>
        <p:spPr>
          <a:xfrm flipV="1">
            <a:off x="5796000" y="3141360"/>
            <a:ext cx="360360" cy="360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20"/>
          <p:cNvSpPr/>
          <p:nvPr/>
        </p:nvSpPr>
        <p:spPr>
          <a:xfrm flipV="1">
            <a:off x="5796000" y="2349360"/>
            <a:ext cx="1440" cy="115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21"/>
          <p:cNvSpPr/>
          <p:nvPr/>
        </p:nvSpPr>
        <p:spPr>
          <a:xfrm>
            <a:off x="6154560" y="1990800"/>
            <a:ext cx="936720" cy="35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22"/>
          <p:cNvSpPr/>
          <p:nvPr/>
        </p:nvSpPr>
        <p:spPr>
          <a:xfrm flipV="1">
            <a:off x="5794200" y="1990800"/>
            <a:ext cx="1657440" cy="35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3"/>
          <p:cNvSpPr/>
          <p:nvPr/>
        </p:nvSpPr>
        <p:spPr>
          <a:xfrm>
            <a:off x="6515280" y="1773360"/>
            <a:ext cx="50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4" name="Object 25"/>
              <p:cNvSpPr txBox="1"/>
              <p:nvPr/>
            </p:nvSpPr>
            <p:spPr>
              <a:xfrm>
                <a:off x="5796000" y="2978280"/>
                <a:ext cx="24120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Object 26"/>
              <p:cNvSpPr txBox="1"/>
              <p:nvPr/>
            </p:nvSpPr>
            <p:spPr>
              <a:xfrm>
                <a:off x="5519880" y="2637000"/>
                <a:ext cx="2174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66" name="AutoShape 27"/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7493"/>
                </a:moveTo>
                <a:lnTo>
                  <a:pt x="9073" y="7493"/>
                </a:lnTo>
                <a:lnTo>
                  <a:pt x="9073" y="12828"/>
                </a:lnTo>
                <a:cubicBezTo>
                  <a:pt x="9073" y="13751"/>
                  <a:pt x="9873" y="14482"/>
                  <a:pt x="10909" y="14482"/>
                </a:cubicBezTo>
                <a:lnTo>
                  <a:pt x="12572" y="14482"/>
                </a:lnTo>
                <a:cubicBezTo>
                  <a:pt x="13607" y="14482"/>
                  <a:pt x="14408" y="13751"/>
                  <a:pt x="14408" y="12828"/>
                </a:cubicBezTo>
                <a:lnTo>
                  <a:pt x="14408" y="7493"/>
                </a:lnTo>
                <a:lnTo>
                  <a:pt x="12572" y="7493"/>
                </a:lnTo>
                <a:lnTo>
                  <a:pt x="16079" y="3985"/>
                </a:lnTo>
                <a:lnTo>
                  <a:pt x="19752" y="7493"/>
                </a:lnTo>
                <a:lnTo>
                  <a:pt x="17916" y="7493"/>
                </a:lnTo>
                <a:lnTo>
                  <a:pt x="17916" y="12828"/>
                </a:lnTo>
                <a:cubicBezTo>
                  <a:pt x="17916" y="15596"/>
                  <a:pt x="15339" y="18155"/>
                  <a:pt x="12572" y="18155"/>
                </a:cubicBezTo>
                <a:lnTo>
                  <a:pt x="10909" y="18155"/>
                </a:lnTo>
                <a:cubicBezTo>
                  <a:pt x="8141" y="18155"/>
                  <a:pt x="5565" y="15596"/>
                  <a:pt x="5565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AutoShape 28"/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тивоположные вект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тивоположные вектор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противоположно направленные векторы, длины которых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ектором, противоположным нулевом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читается нулевой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 flipV="1">
            <a:off x="1547640" y="3645000"/>
            <a:ext cx="1800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 flipH="1" flipV="1">
            <a:off x="1547640" y="4220640"/>
            <a:ext cx="176400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2987640" y="2997360"/>
                <a:ext cx="423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7"/>
              <p:cNvSpPr txBox="1"/>
              <p:nvPr/>
            </p:nvSpPr>
            <p:spPr>
              <a:xfrm>
                <a:off x="1403280" y="4292640"/>
                <a:ext cx="432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3" name="AutoShape 0">
            <a:hlinkClick r:id="rId1" action="ppaction://hlinksldjump"/>
          </p:cNvPr>
          <p:cNvSpPr/>
          <p:nvPr/>
        </p:nvSpPr>
        <p:spPr>
          <a:xfrm>
            <a:off x="680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0"/>
              <p:cNvSpPr txBox="1"/>
              <p:nvPr/>
            </p:nvSpPr>
            <p:spPr>
              <a:xfrm>
                <a:off x="3708360" y="3357720"/>
                <a:ext cx="35402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⇔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↓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AutoShape 1">
            <a:hlinkClick r:id="rId2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3794"/>
                </a:moveTo>
                <a:lnTo>
                  <a:pt x="19578" y="10800"/>
                </a:lnTo>
                <a:lnTo>
                  <a:pt x="556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>
            <a:hlinkClick r:id="rId3" action="ppaction://hlinksldjump"/>
          </p:cNvPr>
          <p:cNvSpPr/>
          <p:nvPr/>
        </p:nvSpPr>
        <p:spPr>
          <a:xfrm>
            <a:off x="7308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>
            <a:hlinkClick r:id="rId4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знак коллинеа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>
            <a:hlinkClick r:id="rId1" action="ppaction://hlinksldjump"/>
          </p:cNvPr>
          <p:cNvSpPr/>
          <p:nvPr/>
        </p:nvSpPr>
        <p:spPr>
          <a:xfrm>
            <a:off x="7308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971640" y="1628640"/>
                <a:ext cx="6337080" cy="14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ак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торо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ыполняетс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енство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k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ектор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≠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ллинеарн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AutoShape 12">
            <a:hlinkClick r:id="rId2" action="ppaction://hlinksldjump"/>
          </p:cNvPr>
          <p:cNvSpPr/>
          <p:nvPr/>
        </p:nvSpPr>
        <p:spPr>
          <a:xfrm>
            <a:off x="7812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3">
            <a:hlinkClick r:id="rId3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640" y="3500280"/>
            <a:ext cx="25192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4" action="ppaction://hlinksldjump"/>
              </a:rPr>
              <a:t>Доказа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3:01:38Z</dcterms:created>
  <dc:creator>Алиса</dc:creator>
  <dc:description/>
  <dc:language>en-US</dc:language>
  <cp:lastModifiedBy>Елена</cp:lastModifiedBy>
  <dcterms:modified xsi:type="dcterms:W3CDTF">2016-09-06T13:48:40Z</dcterms:modified>
  <cp:revision>283</cp:revision>
  <dc:subject/>
  <dc:title>Векторы в пространстве</dc:title>
</cp:coreProperties>
</file>