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5.png" ContentType="image/png"/>
  <Override PartName="/ppt/media/image22.png" ContentType="image/png"/>
  <Override PartName="/ppt/media/image21.png" ContentType="image/png"/>
  <Override PartName="/ppt/media/image20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bunin.niv.ru/images/mesta/mogila-paris.jpg" TargetMode="External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3"/>
          <p:cNvSpPr/>
          <p:nvPr/>
        </p:nvSpPr>
        <p:spPr>
          <a:xfrm>
            <a:off x="4680000" y="6443640"/>
            <a:ext cx="50385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Тарасова Л.С., МБОУ СОШ № 27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Озерск Челяби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Могила Бунин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35640" y="1116000"/>
            <a:ext cx="3208320" cy="4979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5545080" y="6240600"/>
            <a:ext cx="4103640" cy="15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хоpонен Бунин на кладбище Сент-Женевьев-де-Буа под Паpижем, в склепе, в цинковом гpоб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http://s020.radikal.ru/i706/1310/70/ad9daef38fb9.jpg"/>
          <p:cNvPicPr/>
          <p:nvPr/>
        </p:nvPicPr>
        <p:blipFill>
          <a:blip r:embed="rId3"/>
          <a:srcRect l="14665" t="12718" r="16398" b="5333"/>
          <a:stretch/>
        </p:blipFill>
        <p:spPr>
          <a:xfrm>
            <a:off x="503280" y="1619280"/>
            <a:ext cx="4105080" cy="487836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4" descr=""/>
          <p:cNvPicPr/>
          <p:nvPr/>
        </p:nvPicPr>
        <p:blipFill>
          <a:blip r:embed="rId4"/>
          <a:stretch/>
        </p:blipFill>
        <p:spPr>
          <a:xfrm>
            <a:off x="291960" y="-6480"/>
            <a:ext cx="9321840" cy="118908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/>
          <p:cNvSpPr/>
          <p:nvPr/>
        </p:nvSpPr>
        <p:spPr>
          <a:xfrm>
            <a:off x="647640" y="6588000"/>
            <a:ext cx="39607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70-19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718920" y="8269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16165d"/>
                </a:solidFill>
                <a:uFillTx/>
                <a:latin typeface="Times New Roman"/>
              </a:rPr>
              <a:t>Наш герой в своих воспоминаниях писал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" Слишком поздно pодился  я. Родись я pаньше,  не таковы были бы мои писательские воспоминания. Не пpишлось бы мне пеpежить... 1905 год, потом пеpвую миpовую войну, вслед за ней 17-й год и его пpодолжение... Как не позавидовать нашему пpаотцу  Ною ! Всего один потоп выпал на долю ему..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-92520"/>
            <a:ext cx="9070920" cy="20480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33333"/>
                </a:solidFill>
                <a:latin typeface="Arial"/>
              </a:rPr>
              <a:t>Наш герой родился в один год с выдающимся политическим деятелем, повлиявшим на ход истории в </a:t>
            </a: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XX</a:t>
            </a:r>
            <a:r>
              <a:rPr b="1" lang="ru-RU" sz="3600" spc="-1" strike="noStrike">
                <a:solidFill>
                  <a:srgbClr val="333333"/>
                </a:solidFill>
                <a:latin typeface="Arial"/>
              </a:rPr>
              <a:t> веке. Назовите этого деятеля.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47" name="Группа 4"/>
          <p:cNvGrpSpPr/>
          <p:nvPr/>
        </p:nvGrpSpPr>
        <p:grpSpPr>
          <a:xfrm>
            <a:off x="1008000" y="2411280"/>
            <a:ext cx="8944200" cy="3703680"/>
            <a:chOff x="1008000" y="2411280"/>
            <a:chExt cx="8944200" cy="3703680"/>
          </a:xfrm>
        </p:grpSpPr>
        <p:pic>
          <p:nvPicPr>
            <p:cNvPr id="48" name="Picture 2" descr=""/>
            <p:cNvPicPr/>
            <p:nvPr/>
          </p:nvPicPr>
          <p:blipFill>
            <a:blip r:embed="rId1"/>
            <a:stretch/>
          </p:blipFill>
          <p:spPr>
            <a:xfrm>
              <a:off x="5045040" y="2694240"/>
              <a:ext cx="4907160" cy="341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008000" y="2411280"/>
              <a:ext cx="4653000" cy="3703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Прямоугольник 5" descr=""/>
          <p:cNvPicPr/>
          <p:nvPr/>
        </p:nvPicPr>
        <p:blipFill>
          <a:blip r:embed="rId3"/>
          <a:stretch/>
        </p:blipFill>
        <p:spPr>
          <a:xfrm>
            <a:off x="-189000" y="6175440"/>
            <a:ext cx="1567080" cy="120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63640" y="1792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Дважды нашему герою присуждалась премия, которая носит имя великого русского поэта. Что это за премия?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016000" y="2195640"/>
            <a:ext cx="7131240" cy="518292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3" descr=""/>
          <p:cNvPicPr/>
          <p:nvPr/>
        </p:nvPicPr>
        <p:blipFill>
          <a:blip r:embed="rId2"/>
          <a:stretch/>
        </p:blipFill>
        <p:spPr>
          <a:xfrm>
            <a:off x="-189000" y="6175440"/>
            <a:ext cx="1567080" cy="120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36720" y="250560"/>
            <a:ext cx="860904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Назовите московский театр, в котором были поставлены пьесы известного писателя и драматурга, друга нашего героя.   Название одной из пьес отражено на занавесе театра. Как звали друга  нашего героя?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55" name="Группа 9"/>
          <p:cNvGrpSpPr/>
          <p:nvPr/>
        </p:nvGrpSpPr>
        <p:grpSpPr>
          <a:xfrm>
            <a:off x="792000" y="1906560"/>
            <a:ext cx="9120240" cy="5508720"/>
            <a:chOff x="792000" y="1906560"/>
            <a:chExt cx="9120240" cy="5508720"/>
          </a:xfrm>
        </p:grpSpPr>
        <p:pic>
          <p:nvPicPr>
            <p:cNvPr id="56" name="Picture 6" descr="http://media.moyareklama.ru/afisha/af_att_1892_1.jpg"/>
            <p:cNvPicPr/>
            <p:nvPr/>
          </p:nvPicPr>
          <p:blipFill>
            <a:blip r:embed="rId1"/>
            <a:stretch/>
          </p:blipFill>
          <p:spPr>
            <a:xfrm rot="20692800">
              <a:off x="4183200" y="2286720"/>
              <a:ext cx="3200400" cy="21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8" descr="http://bestspictures.ru/img/picture/Jun/25/3138c83dfc648fa9d1dd44100f2cebb0/8.jpg"/>
            <p:cNvPicPr/>
            <p:nvPr/>
          </p:nvPicPr>
          <p:blipFill>
            <a:blip r:embed="rId2"/>
            <a:stretch/>
          </p:blipFill>
          <p:spPr>
            <a:xfrm>
              <a:off x="5256360" y="3923280"/>
              <a:ext cx="4655880" cy="34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0" descr="http://rudocs.exdat.com/data/286/285671/285671_html_m2a9fb3e6.gif"/>
            <p:cNvPicPr/>
            <p:nvPr/>
          </p:nvPicPr>
          <p:blipFill>
            <a:blip r:embed="rId3"/>
            <a:stretch/>
          </p:blipFill>
          <p:spPr>
            <a:xfrm>
              <a:off x="792000" y="2050920"/>
              <a:ext cx="3042720" cy="443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Box 7"/>
            <p:cNvSpPr/>
            <p:nvPr/>
          </p:nvSpPr>
          <p:spPr>
            <a:xfrm>
              <a:off x="1152000" y="6660000"/>
              <a:ext cx="33123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нтон Павлович Чех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Box 8"/>
            <p:cNvSpPr/>
            <p:nvPr/>
          </p:nvSpPr>
          <p:spPr>
            <a:xfrm>
              <a:off x="7416720" y="2194920"/>
              <a:ext cx="2376000" cy="11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Московский художественный академический теат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Прямоугольник 10" descr=""/>
          <p:cNvPicPr/>
          <p:nvPr/>
        </p:nvPicPr>
        <p:blipFill>
          <a:blip r:embed="rId4"/>
          <a:stretch/>
        </p:blipFill>
        <p:spPr>
          <a:xfrm>
            <a:off x="-262080" y="6242040"/>
            <a:ext cx="1567080" cy="120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2"/>
          <p:cNvSpPr/>
          <p:nvPr/>
        </p:nvSpPr>
        <p:spPr>
          <a:xfrm>
            <a:off x="360360" y="0"/>
            <a:ext cx="9215280" cy="17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воей увлеченности Сокpатом наш герой следил за творчеством выдающегося русского писателя, котоpый  пошёл «по путям Сокpата на поиски за ноpмою добpа»  (В.Иванов). Он был близок нашему герою  и тем, что для него добpо и кpасота, этика и эстетика неpастоpжи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Прямоугольник 6" descr=""/>
          <p:cNvPicPr/>
          <p:nvPr/>
        </p:nvPicPr>
        <p:blipFill>
          <a:blip r:embed="rId1"/>
          <a:stretch/>
        </p:blipFill>
        <p:spPr>
          <a:xfrm>
            <a:off x="-189000" y="6175440"/>
            <a:ext cx="1567080" cy="1200240"/>
          </a:xfrm>
          <a:prstGeom prst="rect">
            <a:avLst/>
          </a:prstGeom>
          <a:ln w="0">
            <a:noFill/>
          </a:ln>
        </p:spPr>
      </p:pic>
      <p:grpSp>
        <p:nvGrpSpPr>
          <p:cNvPr id="64" name="Группа 10"/>
          <p:cNvGrpSpPr/>
          <p:nvPr/>
        </p:nvGrpSpPr>
        <p:grpSpPr>
          <a:xfrm>
            <a:off x="719280" y="2195640"/>
            <a:ext cx="9048600" cy="5176800"/>
            <a:chOff x="719280" y="2195640"/>
            <a:chExt cx="9048600" cy="5176800"/>
          </a:xfrm>
        </p:grpSpPr>
        <p:pic>
          <p:nvPicPr>
            <p:cNvPr id="65" name="Picture 2" descr="http://cs310729.vk.me/v310729410/2446/tdN-AdLWHc4.jpg"/>
            <p:cNvPicPr/>
            <p:nvPr/>
          </p:nvPicPr>
          <p:blipFill>
            <a:blip r:embed="rId2"/>
            <a:stretch/>
          </p:blipFill>
          <p:spPr>
            <a:xfrm>
              <a:off x="5688000" y="2195640"/>
              <a:ext cx="4079880" cy="517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80120" y="2328480"/>
              <a:ext cx="3791520" cy="196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Box 9"/>
            <p:cNvSpPr/>
            <p:nvPr/>
          </p:nvSpPr>
          <p:spPr>
            <a:xfrm>
              <a:off x="719280" y="4715640"/>
              <a:ext cx="4752720" cy="10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"Кpасота как венец добpа",- писал Толстой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92000" y="178920"/>
            <a:ext cx="8609040" cy="1390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Уже второе  столетие присуждается эта премия. Нашему герою она была присуждена в  30-ые  годы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XX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 века. Назовите фамилию писателя, который  стал лауреатом этой премии в 2015 году.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69" name="Группа 6"/>
          <p:cNvGrpSpPr/>
          <p:nvPr/>
        </p:nvGrpSpPr>
        <p:grpSpPr>
          <a:xfrm>
            <a:off x="287280" y="2124000"/>
            <a:ext cx="9577440" cy="4267440"/>
            <a:chOff x="287280" y="2124000"/>
            <a:chExt cx="9577440" cy="4267440"/>
          </a:xfrm>
        </p:grpSpPr>
        <p:pic>
          <p:nvPicPr>
            <p:cNvPr id="70" name="Picture 5" descr="http://gdb.rferl.org/3E4623CF-C37C-4B7A-BC9C-4F99DCC9290C_mw800.jpg"/>
            <p:cNvPicPr/>
            <p:nvPr/>
          </p:nvPicPr>
          <p:blipFill>
            <a:blip r:embed="rId1"/>
            <a:srcRect l="11660" t="0" r="2830" b="0"/>
            <a:stretch/>
          </p:blipFill>
          <p:spPr>
            <a:xfrm>
              <a:off x="4926240" y="2556000"/>
              <a:ext cx="4938480" cy="3835440"/>
            </a:xfrm>
            <a:prstGeom prst="rect">
              <a:avLst/>
            </a:prstGeom>
            <a:ln w="9360">
              <a:solidFill>
                <a:srgbClr val="c00000"/>
              </a:solidFill>
              <a:miter/>
            </a:ln>
          </p:spPr>
        </p:pic>
        <p:sp>
          <p:nvSpPr>
            <p:cNvPr id="71" name="TextBox 5"/>
            <p:cNvSpPr/>
            <p:nvPr/>
          </p:nvSpPr>
          <p:spPr>
            <a:xfrm>
              <a:off x="287280" y="2124000"/>
              <a:ext cx="4863600" cy="417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 Стокгольме 8 октября 2015 г.  объявили лауреата Нобелевской премии по литературе,  премии удостоилась писательниц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из Белоруссии Светлана Алексеевич, котора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является автором публицистических романов «Цинковые мальчики», «У войны не женское лицо»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Прямоугольник 7" descr=""/>
          <p:cNvPicPr/>
          <p:nvPr/>
        </p:nvPicPr>
        <p:blipFill>
          <a:blip r:embed="rId2"/>
          <a:stretch/>
        </p:blipFill>
        <p:spPr>
          <a:xfrm>
            <a:off x="-42840" y="5883120"/>
            <a:ext cx="1566720" cy="120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19280" y="179280"/>
            <a:ext cx="9145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Наш герой перевёл самое известное произведение, основанное на легендах индейцев Америки.  Этот перевод до сих пор считается лучшим и непревзойдённым. Что это за произведение? И кто его автор?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74" name="Группа 7"/>
          <p:cNvGrpSpPr/>
          <p:nvPr/>
        </p:nvGrpSpPr>
        <p:grpSpPr>
          <a:xfrm>
            <a:off x="647640" y="1908000"/>
            <a:ext cx="9274320" cy="5388120"/>
            <a:chOff x="647640" y="1908000"/>
            <a:chExt cx="9274320" cy="5388120"/>
          </a:xfrm>
        </p:grpSpPr>
        <p:pic>
          <p:nvPicPr>
            <p:cNvPr id="75" name="Picture 3" descr=""/>
            <p:cNvPicPr/>
            <p:nvPr/>
          </p:nvPicPr>
          <p:blipFill>
            <a:blip r:embed="rId1"/>
            <a:stretch/>
          </p:blipFill>
          <p:spPr>
            <a:xfrm>
              <a:off x="7272000" y="3564000"/>
              <a:ext cx="2649960" cy="37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6" descr="http://biblio.by/media/catalog/product/cache/1/image/1200x1200/9df78eab33525d08d6e5fb8d27136e95/m/u/xmultimediabooks_covers1005352793.jpg.pagespeed.ic.R3ArbOtrqG.jpg"/>
            <p:cNvPicPr/>
            <p:nvPr/>
          </p:nvPicPr>
          <p:blipFill>
            <a:blip r:embed="rId2"/>
            <a:srcRect l="19254" t="0" r="19572" b="0"/>
            <a:stretch/>
          </p:blipFill>
          <p:spPr>
            <a:xfrm>
              <a:off x="647640" y="2268000"/>
              <a:ext cx="2880000" cy="4708080"/>
            </a:xfrm>
            <a:prstGeom prst="rect">
              <a:avLst/>
            </a:prstGeom>
            <a:ln w="9360">
              <a:solidFill>
                <a:srgbClr val="c00000"/>
              </a:solidFill>
              <a:miter/>
            </a:ln>
          </p:spPr>
        </p:pic>
        <p:sp>
          <p:nvSpPr>
            <p:cNvPr id="77" name="TextBox 5"/>
            <p:cNvSpPr/>
            <p:nvPr/>
          </p:nvSpPr>
          <p:spPr>
            <a:xfrm>
              <a:off x="4174920" y="1908000"/>
              <a:ext cx="5400720" cy="360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400" spc="-1" strike="noStrike">
                  <a:solidFill>
                    <a:srgbClr val="0d0d0d"/>
                  </a:solidFill>
                  <a:latin typeface="Arial"/>
                </a:rPr>
                <a:t>Поэма Генри Уодсворта </a:t>
              </a:r>
              <a:r>
                <a:rPr b="1" lang="ru-RU" sz="4000" spc="-1" strike="noStrike">
                  <a:solidFill>
                    <a:srgbClr val="0d0d0d"/>
                  </a:solidFill>
                  <a:latin typeface="Arial"/>
                </a:rPr>
                <a:t>Лонгфелло «Песнь о Гайавате»</a:t>
              </a:r>
              <a:r>
                <a:rPr b="1" lang="ru-RU" sz="2400" spc="-1" strike="noStrike">
                  <a:solidFill>
                    <a:srgbClr val="0d0d0d"/>
                  </a:solidFill>
                  <a:latin typeface="Arial"/>
                </a:rPr>
                <a:t>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400" spc="-1" strike="noStrike">
                  <a:solidFill>
                    <a:srgbClr val="0d0d0d"/>
                  </a:solidFill>
                  <a:latin typeface="Arial"/>
                </a:rPr>
                <a:t>основанная н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400" spc="-1" strike="noStrike">
                  <a:solidFill>
                    <a:srgbClr val="0d0d0d"/>
                  </a:solidFill>
                  <a:latin typeface="Arial"/>
                </a:rPr>
                <a:t>легендах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400" spc="-1" strike="noStrike">
                  <a:solidFill>
                    <a:srgbClr val="0d0d0d"/>
                  </a:solidFill>
                  <a:latin typeface="Arial"/>
                </a:rPr>
                <a:t>американски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400" spc="-1" strike="noStrike">
                  <a:solidFill>
                    <a:srgbClr val="0d0d0d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d0d0d"/>
                  </a:solidFill>
                  <a:latin typeface="Arial"/>
                </a:rPr>
                <a:t>индейцев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400" spc="-1" strike="noStrike">
                  <a:solidFill>
                    <a:srgbClr val="0d0d0d"/>
                  </a:solidFill>
                  <a:latin typeface="Arial"/>
                </a:rPr>
                <a:t>народ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400" spc="-1" strike="noStrike">
                  <a:solidFill>
                    <a:srgbClr val="0d0d0d"/>
                  </a:solidFill>
                  <a:latin typeface="Arial"/>
                </a:rPr>
                <a:t>Оджибве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Прямоугольник 8" descr=""/>
          <p:cNvPicPr/>
          <p:nvPr/>
        </p:nvPicPr>
        <p:blipFill>
          <a:blip r:embed="rId3"/>
          <a:stretch/>
        </p:blipFill>
        <p:spPr>
          <a:xfrm>
            <a:off x="-401760" y="6102360"/>
            <a:ext cx="1565280" cy="120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92000" y="178920"/>
            <a:ext cx="86090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Наш герой мечтал вернуться на родину, но его отпугнуло постановление  ЦК ВКП(б) о журналах «Звезда» и «Ленинград»1946 года, в котором резкой критике подвергалось творчество известной российской поэтессы. Назовите её фамилию.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80" name="Группа 6"/>
          <p:cNvGrpSpPr/>
          <p:nvPr/>
        </p:nvGrpSpPr>
        <p:grpSpPr>
          <a:xfrm>
            <a:off x="719280" y="2050920"/>
            <a:ext cx="9145440" cy="4945320"/>
            <a:chOff x="719280" y="2050920"/>
            <a:chExt cx="9145440" cy="4945320"/>
          </a:xfrm>
        </p:grpSpPr>
        <p:pic>
          <p:nvPicPr>
            <p:cNvPr id="81" name="Picture 2" descr=""/>
            <p:cNvPicPr/>
            <p:nvPr/>
          </p:nvPicPr>
          <p:blipFill>
            <a:blip r:embed="rId1"/>
            <a:srcRect l="17140" t="0" r="5740" b="0"/>
            <a:stretch/>
          </p:blipFill>
          <p:spPr>
            <a:xfrm>
              <a:off x="5976000" y="3039120"/>
              <a:ext cx="3888720" cy="389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5" descr="http://uchitel-slovesnosti.ru/Photo/anna_akhmatova.jpg"/>
            <p:cNvPicPr/>
            <p:nvPr/>
          </p:nvPicPr>
          <p:blipFill>
            <a:blip r:embed="rId2"/>
            <a:stretch/>
          </p:blipFill>
          <p:spPr>
            <a:xfrm>
              <a:off x="719280" y="2969280"/>
              <a:ext cx="3276720" cy="402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1267920" y="2050920"/>
              <a:ext cx="7351920" cy="80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TextBox 7"/>
          <p:cNvSpPr/>
          <p:nvPr/>
        </p:nvSpPr>
        <p:spPr>
          <a:xfrm>
            <a:off x="1008000" y="2340000"/>
            <a:ext cx="820908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хматова является типичной представительницей чуждой нашему народу пустой безыдейной поэзии. Её стихотворения, пропитанные духом пессимизма и упадочничества, выражающие вкусы старой салонной поэзии, застывшей на позициях буржуазно-аристократического эстетства и декадентства, «искусстве для искусства», не желающей идти в ногу со своим народом наносят вред делу воспитания нашей молодёжи и не могут быть терпимы в советской литерату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становление Оргбюро ЦК ВКП(б) от 14 августа 1946 г. (О журналах «Звезда» и «Ленинград»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Прямоугольник 8" descr=""/>
          <p:cNvPicPr/>
          <p:nvPr/>
        </p:nvPicPr>
        <p:blipFill>
          <a:blip r:embed="rId4"/>
          <a:stretch/>
        </p:blipFill>
        <p:spPr>
          <a:xfrm>
            <a:off x="-401760" y="6242040"/>
            <a:ext cx="1565280" cy="120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2T17:17:53Z</dcterms:created>
  <dc:creator>User</dc:creator>
  <dc:description/>
  <dc:language>en-US</dc:language>
  <cp:lastModifiedBy>user</cp:lastModifiedBy>
  <dcterms:modified xsi:type="dcterms:W3CDTF">2017-08-26T12:06:20Z</dcterms:modified>
  <cp:revision>13</cp:revision>
  <dc:subject/>
  <dc:title>Слайд 1</dc:title>
</cp:coreProperties>
</file>