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9F7-7952-48F5-8622-0EDFE2E2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A31-98C0-4EDC-A8B9-699843FF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7DA-338A-4484-A55A-AB29C969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E53-E696-4E09-80CB-8571BC3B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96A1-9A77-4955-BD34-1C7FCC8E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F78-E409-40B4-A020-A6C4FB26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DF46-950E-4DA5-8C99-D36B829B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224E-971C-4CC2-BA4A-3D6A40E9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9979-7153-4C9C-895C-0F67DDDE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EAAC-0E22-453A-AB4C-58A21B3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8CDF-F79B-405A-BA40-C3948D07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2CF-F003-4E2D-BB7B-4516EE87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41AC-1EEE-4472-8C23-0A06FF4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F01C-A3CC-4BC4-9800-4E368431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5ABD-D165-49A3-91C3-CD545BDB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2BF6-20BA-44F1-904D-1CD22756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014E-1810-4B06-A752-F4E52319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C9B97-D843-43A6-A5EE-7411AA5C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BB74D-7C57-4A1E-90FD-E78FDFC1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BDFA1-CC97-4A54-946D-0666358F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D611F-DD25-44CE-A7AF-16AB1D4F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5E15B-8C33-459D-8AEE-7ECB6F45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541-AAB1-4805-A8A0-A280980C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284D3-7C91-4CFF-902E-36EC38B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A7EC2-CF42-4902-AC10-6584C56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1BB26-25A6-414E-8465-FBEEF49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2BD62-10EE-40BA-9D1E-E5759050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04C79-78FC-4CA5-A147-C62A9145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5F9F1-0183-403B-AC97-F63B2D06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49689-23D4-43B1-B266-BDD4919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9AF79-7B4F-43DA-AEB9-A31BC0FB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A70886-EA74-438B-AEB6-364EEBF0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548C4-21A7-47C5-AD0C-32AF26F8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79F-0A3A-4B32-8D7B-3C33A50E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9EDAE-2BCC-4BC2-B554-148F37BD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6278B-7B19-42F4-8623-BB0A2F94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1C0E6-E947-45CC-B44C-B82347F9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CB603-CD3A-4ABB-9AC6-EDB498A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D46E0-85D1-4F92-B1C1-C16D2DDD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D22CE-AB86-4D7C-B47E-9B09047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F2783-90A8-4FB3-A002-DEB2D48A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FF246-3161-4DFD-ABB7-CF7C8C8D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20C53-AA93-49D1-920F-EF9C9A4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162A8-2C5C-4EBD-9811-B73A2479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B22-5C06-447A-8195-EFB91BEA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F1253-9177-431F-87C9-017DE176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8B32E-15DE-4E89-9DB5-E7964399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EEB44-B328-47B9-8A2C-F89D3C7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8881C-4474-498D-922E-CE8290A5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DEC21-5B70-443F-8A1D-1257F4B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51E53-B0E6-466D-94D9-1F78A800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1BAD1-74F0-48D4-9DC5-549F5D6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F6950-0565-4389-B733-9E54443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303E2-A6C7-4823-BF72-DB15176E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7FBFB-9059-45A2-9192-D98CA850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39B-F158-475C-82CD-956DD4E3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3F2FD-62B3-43FB-A94D-509E8B15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90AEB-06CD-4686-A282-99753971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47FB-2016-4845-B119-2184EFB3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C0107-40A1-4E8C-8577-63BE3AD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0198-72A1-40DE-8AA3-F5EA728C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DA50D-7E14-49DF-B4CB-86DEC4EB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313D-E2D0-4F7F-AA8A-CEDB779D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BAE5-F966-4F11-9E72-058BB38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659A-2AB6-408C-B150-0B547166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AFEF-E3EB-4020-88BE-92B33E1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F19-91A8-4A15-8969-3B4582E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EFC7-602A-42E5-81BA-6711B7B1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9174B-E0CE-4C59-A3FC-A833C983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3A48-3462-419D-93DA-35C335D2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11833-F9A2-41D4-8D68-3C2A270C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98414-128B-4C13-9464-609E7F6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5FB44-8F97-4FDE-BA84-B8F3C8F8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1C85E-5E92-4878-B89D-7B05AFE8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6F73D-EF24-4044-802A-607628B3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55A19-6054-4793-AD67-58359FA7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7F5BC-30A2-433E-8127-619C173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9A7-8417-49AE-8190-EDAB5D07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97E82-691F-412B-AB85-10F39874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CEA95-D48E-4852-B648-81DA2CC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143B0-4003-4A71-804C-5252AA3F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6A794-3B60-4B0C-82C4-8B53D23E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7AC9E-F9E8-4755-858A-0B3365C0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23D9E-324A-4130-AC16-F988990F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C4705-CDAD-4DC4-B9FD-DE941990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835C-8331-40FD-83E8-1D0F9306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04C0D-BEF9-43A0-B941-7ECA731F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2A166-9243-4D94-BEF4-C22E2197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79E-5416-41F6-84CD-E3A937C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A8C98-DE3B-4DF7-B55E-4E789D46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13A0C-D3DC-4FA6-A9DA-19E44DB7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065F6-C0FE-43F3-9FB3-AB11E27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248E9-9A93-400F-9CD2-F2D114D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AA1F-F19F-42D1-88C3-59EE6573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B2327-8201-4B5A-86F6-ADF62AB4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B5B27-F589-49C8-B134-889CC5CA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A455-0796-4489-9C1E-A3C54F4595C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423-C35A-47EC-AA6D-6866566E8512}" type="slidenum">
              <a:rPr b="1" lang="ru-RU" sz="1400" spc="-1" strike="noStrike">
                <a:solidFill>
                  <a:srgbClr val="f4e7e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D7F8-11E6-4135-A239-01ED8CAEAC22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BFDC-9F2D-4A50-9542-08F7C931553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35B4-F3B9-48EA-86E1-F76C8B3A552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C574-278B-455F-8113-846E1BA967FF}" type="slidenum">
              <a:rPr b="1" lang="ru-RU" sz="14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2EE3-316F-4C5B-BB80-72A8C53DE2DF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404C-F764-44F2-934F-CFA123EA877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204"/>
                </a:solidFill>
                <a:latin typeface="Calibri"/>
              </a:rPr>
              <a:t>ПРЕЗЕНТАЦИЯ К УРОКУ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b050"/>
                </a:solidFill>
                <a:latin typeface="Tw Cen MT"/>
              </a:rPr>
              <a:t>5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 кла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4572000" y="241308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дготовл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учите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мина Казбековна Хуби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4"/>
          <p:cNvSpPr/>
          <p:nvPr/>
        </p:nvSpPr>
        <p:spPr>
          <a:xfrm rot="19678800">
            <a:off x="1298520" y="2840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204"/>
                </a:solidFill>
                <a:latin typeface="Calibri"/>
              </a:rPr>
              <a:t>Тема: </a:t>
            </a:r>
            <a:r>
              <a:rPr b="1" lang="en-US" sz="4000" spc="-1" strike="noStrike">
                <a:solidFill>
                  <a:srgbClr val="984204"/>
                </a:solidFill>
                <a:latin typeface="Tw Cen MT"/>
              </a:rPr>
              <a:t>NATIONAL 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9720" y="1571760"/>
            <a:ext cx="783900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2428920" y="4287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c66bb"/>
                </a:solidFill>
                <a:latin typeface="Tw Cen MT"/>
              </a:rPr>
              <a:t>NATIONAL FLAG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j0400797"/>
          <p:cNvPicPr/>
          <p:nvPr/>
        </p:nvPicPr>
        <p:blipFill>
          <a:blip r:embed="rId1"/>
          <a:stretch/>
        </p:blipFill>
        <p:spPr>
          <a:xfrm>
            <a:off x="480960" y="1712880"/>
            <a:ext cx="2322720" cy="3408480"/>
          </a:xfrm>
          <a:prstGeom prst="rect">
            <a:avLst/>
          </a:prstGeom>
          <a:ln w="0">
            <a:noFill/>
          </a:ln>
        </p:spPr>
      </p:pic>
      <p:pic>
        <p:nvPicPr>
          <p:cNvPr id="372" name="Содержимое 3" descr="usflag640.gif"/>
          <p:cNvPicPr/>
          <p:nvPr/>
        </p:nvPicPr>
        <p:blipFill>
          <a:blip r:embed="rId2"/>
          <a:stretch/>
        </p:blipFill>
        <p:spPr>
          <a:xfrm>
            <a:off x="407880" y="4145040"/>
            <a:ext cx="2536920" cy="332244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9" descr=""/>
          <p:cNvPicPr/>
          <p:nvPr/>
        </p:nvPicPr>
        <p:blipFill>
          <a:blip r:embed="rId3"/>
          <a:stretch/>
        </p:blipFill>
        <p:spPr>
          <a:xfrm>
            <a:off x="2743200" y="1365120"/>
            <a:ext cx="1573200" cy="159732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1" descr=""/>
          <p:cNvPicPr/>
          <p:nvPr/>
        </p:nvPicPr>
        <p:blipFill>
          <a:blip r:embed="rId4"/>
          <a:stretch/>
        </p:blipFill>
        <p:spPr>
          <a:xfrm>
            <a:off x="4608360" y="1365120"/>
            <a:ext cx="3060720" cy="16034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2" descr=""/>
          <p:cNvPicPr/>
          <p:nvPr/>
        </p:nvPicPr>
        <p:blipFill>
          <a:blip r:embed="rId5"/>
          <a:stretch/>
        </p:blipFill>
        <p:spPr>
          <a:xfrm>
            <a:off x="2682720" y="2505240"/>
            <a:ext cx="2590920" cy="1603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3" descr=""/>
          <p:cNvPicPr/>
          <p:nvPr/>
        </p:nvPicPr>
        <p:blipFill>
          <a:blip r:embed="rId6"/>
          <a:stretch/>
        </p:blipFill>
        <p:spPr>
          <a:xfrm>
            <a:off x="4748040" y="2577960"/>
            <a:ext cx="2865600" cy="15973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4" descr=""/>
          <p:cNvPicPr/>
          <p:nvPr/>
        </p:nvPicPr>
        <p:blipFill>
          <a:blip r:embed="rId7"/>
          <a:stretch/>
        </p:blipFill>
        <p:spPr>
          <a:xfrm>
            <a:off x="4029120" y="3365640"/>
            <a:ext cx="2097000" cy="159696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5" descr=""/>
          <p:cNvPicPr/>
          <p:nvPr/>
        </p:nvPicPr>
        <p:blipFill>
          <a:blip r:embed="rId8"/>
          <a:stretch/>
        </p:blipFill>
        <p:spPr>
          <a:xfrm>
            <a:off x="3035160" y="4578480"/>
            <a:ext cx="3505320" cy="160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9"/>
          <a:stretch/>
        </p:blipFill>
        <p:spPr>
          <a:xfrm>
            <a:off x="6278400" y="4005360"/>
            <a:ext cx="26830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ac66bb"/>
                </a:solidFill>
                <a:latin typeface="Tw Cen MT"/>
              </a:rPr>
              <a:t>THE BRITISH FLAG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381" name="Содержимое 3" descr="English-Flag.jpg"/>
          <p:cNvPicPr/>
          <p:nvPr/>
        </p:nvPicPr>
        <p:blipFill>
          <a:blip r:embed="rId1"/>
          <a:stretch/>
        </p:blipFill>
        <p:spPr>
          <a:xfrm>
            <a:off x="1214280" y="1571760"/>
            <a:ext cx="6931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c66bb"/>
                </a:solidFill>
                <a:latin typeface="Tw Cen MT"/>
              </a:rPr>
              <a:t>THE USA FLAG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383" name="Содержимое 3" descr="usflag640.gif"/>
          <p:cNvPicPr/>
          <p:nvPr/>
        </p:nvPicPr>
        <p:blipFill>
          <a:blip r:embed="rId1"/>
          <a:stretch/>
        </p:blipFill>
        <p:spPr>
          <a:xfrm>
            <a:off x="642960" y="1785960"/>
            <a:ext cx="8055000" cy="45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c66bb"/>
                </a:solidFill>
                <a:latin typeface="Tw Cen MT"/>
              </a:rPr>
              <a:t>THE RUSSIAN FLAG</a:t>
            </a:r>
            <a:endParaRPr b="0" lang="en-US" sz="54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89148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Calibri"/>
              </a:rPr>
              <a:t>Источники информации: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de66"/>
                </a:solidFill>
                <a:uFillTx/>
                <a:latin typeface="Tw Cen MT"/>
                <a:hlinkClick r:id="rId1"/>
              </a:rPr>
              <a:t>www.wikipedia.or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МК Верещагиной И.Н.. Афанасьевой О.В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5 клас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07:37:00Z</dcterms:created>
  <dc:creator>O_o</dc:creator>
  <dc:description/>
  <dc:language>en-US</dc:language>
  <cp:lastModifiedBy>777</cp:lastModifiedBy>
  <dcterms:modified xsi:type="dcterms:W3CDTF">2016-11-22T17:53:03Z</dcterms:modified>
  <cp:revision>28</cp:revision>
  <dc:subject/>
  <dc:title>Слайд 1</dc:title>
</cp:coreProperties>
</file>