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3.jpeg" ContentType="image/jpeg"/>
  <Override PartName="/ppt/media/image4.png" ContentType="image/png"/>
  <Override PartName="/ppt/media/image2.gif" ContentType="image/gif"/>
  <Override PartName="/ppt/media/image8.jpeg" ContentType="image/jpeg"/>
  <Override PartName="/ppt/media/image13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676-64CC-44D3-8080-740012CF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B0F-6D19-405E-BFA1-BBB5DB01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83C-D70C-4884-A805-E93F070F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E27-00F4-4D01-B3AE-C8E553E5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84C-3764-4316-80BD-CDCC6EB7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725-4570-40B8-B406-A6BCAE21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4B5-EB6E-431D-87FC-3E6F4FB2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9A5-A7BC-44C5-AE13-52BC1114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F75-14CE-4765-9928-549DE121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9D6-6F1C-47D9-B6AA-79512016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EF10-300E-4208-9CC7-1FD2C91E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C27-A6A3-46FE-8ED2-09CA27A4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DC47-2765-4716-8B0E-15D14BEAB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2411400">
            <a:off x="4964040" y="4539960"/>
            <a:ext cx="1873440" cy="180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1821600">
            <a:off x="4211640" y="374760"/>
            <a:ext cx="1873080" cy="183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rot="1579800">
            <a:off x="511200" y="4916520"/>
            <a:ext cx="1333440" cy="14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48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3492360" y="4724280"/>
            <a:ext cx="1562400" cy="187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020000" y="260280"/>
            <a:ext cx="1682640" cy="201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324000" y="549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32000" y="333360"/>
            <a:ext cx="48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19280" y="189000"/>
            <a:ext cx="554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радиции семьи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5003640" y="2205000"/>
            <a:ext cx="3633840" cy="302436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395280" y="1341360"/>
            <a:ext cx="3527280" cy="338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3203640" y="3068640"/>
            <a:ext cx="2520720" cy="3456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940360" y="620640"/>
            <a:ext cx="2914560" cy="23306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6000" y="549360"/>
            <a:ext cx="2735280" cy="381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3889440" cy="2187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68360" y="4221000"/>
            <a:ext cx="3672000" cy="21877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p:transition spd="med" advTm="5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4614840" cy="453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Пусть такое СЧАСТЬЕ придет в каждый дом. - Babyblog.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7T17:25:51Z</dcterms:created>
  <dc:creator>GYPNORION</dc:creator>
  <dc:description/>
  <dc:language>en-US</dc:language>
  <cp:lastModifiedBy>GYPNORION</cp:lastModifiedBy>
  <dcterms:modified xsi:type="dcterms:W3CDTF">2017-07-23T16:35:07Z</dcterms:modified>
  <cp:revision>8</cp:revision>
  <dc:subject/>
  <dc:title>Слайд 1</dc:title>
</cp:coreProperties>
</file>