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FFF-1057-4A04-A688-F4A20CA2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E9D-C110-417E-8D10-6EA2446E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6D3-9F9E-46DA-B74D-7362A5F1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05B-7E23-4C25-A04F-CEB0B977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5F1-0EA0-41CA-9459-5ECBDC4B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3186-8880-40E8-90C4-7CBCD6D7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3559-D9C6-4BE4-95E5-3EACE9F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D0B-9502-4D81-A54E-F31A33B0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C005-B7E9-4030-AB44-5DE452D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3BD3-E146-4B56-B779-68143D4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5B58-0F58-4290-A538-979B807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68-4A49-420A-AA23-3AB317EC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7EC-DB84-4560-91D5-B82B8A9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EB7-DC61-47C2-9981-6A3BBDE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721-D818-4D3F-B0DE-03EC420A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56A-315E-4E21-B1AA-A52DEEC5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991-0FDE-474D-89B9-35B7C9D6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952-BECC-4F1E-A03B-49562DD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B74-2CA0-42E8-B745-0713D4C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7FC-FBF0-4DEA-B4ED-C4273A0C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5C1-3EE5-4622-BC84-50650C5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379-343E-4AFF-B6CB-0B6605C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D3E-8355-4176-BD99-0262B82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15-A8D5-438F-89D3-88FCCD4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C46-6CA0-4F3E-8300-5282D6FE3A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A4F3-C8E3-4187-85D5-9BBEEE5B03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афические операторы языка «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basic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5904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5373720"/>
            <a:ext cx="13590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8200" y="771480"/>
            <a:ext cx="78343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ерато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точки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SET(X, Y),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линии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E(X1, Y1)-(X2, Y2)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прямоугольника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E(X1, Y1)-(X2, Y2), C, B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окружности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RCLE(X, Y), R, C, N1, N2,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новка графического режима работы экрана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REEN 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ератор заливки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INT(X, Y), C1, C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24720" y="3068640"/>
            <a:ext cx="1004760" cy="150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ГРАМ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REEN 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50, 100) – (250, 250)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100, 150) – (200, 200)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50, 100) – (150, 50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150, 50) – (250, 100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RCLE(350,50),30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,,0.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NT(350,50),4,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RCLE(150,75),20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,,0.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48360" y="4292640"/>
            <a:ext cx="90324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3500280"/>
            <a:ext cx="7905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ГРАМ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CREEN 1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R X=0 TO 600 STEP 1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LINE(X, 0) – (X, 400)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NEXT X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R Y=0 TO 400 STEP 10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LINE(0, Y) – (600, Y)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NEXT Y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08720" y="4508640"/>
            <a:ext cx="836640" cy="143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740720" y="3500280"/>
            <a:ext cx="71748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6:21:20Z</dcterms:created>
  <dc:creator>marina</dc:creator>
  <dc:description/>
  <dc:language>en-US</dc:language>
  <cp:lastModifiedBy>marina</cp:lastModifiedBy>
  <dcterms:modified xsi:type="dcterms:W3CDTF">2011-01-21T17:28:11Z</dcterms:modified>
  <cp:revision>6</cp:revision>
  <dc:subject/>
  <dc:title>Графические операторы языка «Qbasic»</dc:title>
</cp:coreProperties>
</file>