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29C-7AAC-4333-B0F8-CA0D3AB2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0B6-5493-4FE4-981B-E521DB9E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DBF-80EE-4FAA-8728-D84ADEAD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C30-E221-41C7-AFB0-0B8A7962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F606-3F39-446B-9E21-12388438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CCC5-E372-4DAD-873F-6B80914D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BA2A-AC61-43DE-A46C-89AA89F8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AEA6-5832-4450-B4AF-E5431367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7D33-3311-4DA9-AA97-95F0D3CD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D297-F3AD-42D6-BD46-AACD7EB5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4999-D376-4515-A910-ABE46BDC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3A6-8EAC-4CDE-9973-E4BAB147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F749-5F5D-4F79-ABD7-E030381C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37C4-099C-4552-ADC5-C2D967C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FCD7-E1AB-4FFC-8F59-129628F5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6738-D8AD-4C5F-BA97-00C7442B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F8AA-13F6-4591-A5AB-B81FF085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502-8E40-46D3-94E3-E78A2B6C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390-FD66-4713-8076-E20238F2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A8F-8519-419D-8B75-8311F72F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939-FE1E-4759-A368-1A4DF08F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049-7640-4688-A271-880E5C22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BAC-2C48-4BCC-9547-4E751693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1ED-25A7-4239-9E31-FB6DAF08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5533-9B3E-4977-B0B0-DB729CE0C4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8BE2-0F1D-4436-843D-8D93C7D894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рафические операторы языка «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Qbasic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1859040" cy="1871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16360" y="5373720"/>
            <a:ext cx="13590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8200" y="771480"/>
            <a:ext cx="783432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ператор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ение точки: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SET(X, Y), 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ение линии: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NE(X1, Y1)-(X2, Y2),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ение прямоугольника: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NE(X1, Y1)-(X2, Y2), C, B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ение окружности: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IRCLE(X, Y), R, C, N1, N2,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становка графического режима работы экрана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CREEN 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ератор заливки: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INT(X, Y), C1, C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24720" y="3068640"/>
            <a:ext cx="1004760" cy="1508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10666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ГРАММ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REEN 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E(50, 100) – (250, 250),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E(100, 150) – (200, 200),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B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E(50, 100) – (150, 50)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E(150, 50) – (250, 100)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IRCLE(350,50),30,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,,0.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NT(350,50),4,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IRCLE(150,75),20,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,,0.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48360" y="4292640"/>
            <a:ext cx="903240" cy="16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3500280"/>
            <a:ext cx="7905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ГРАММ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CREEN 12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OR X=0 TO 600 STEP 15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LINE(X, 0) – (X, 400)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NEXT X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OR Y=0 TO 400 STEP 10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LINE(0, Y) – (600, Y)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NEXT Y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08720" y="4508640"/>
            <a:ext cx="836640" cy="1434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740720" y="3500280"/>
            <a:ext cx="71748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6:21:20Z</dcterms:created>
  <dc:creator>marina</dc:creator>
  <dc:description/>
  <dc:language>en-US</dc:language>
  <cp:lastModifiedBy>marina</cp:lastModifiedBy>
  <dcterms:modified xsi:type="dcterms:W3CDTF">2011-01-21T17:28:11Z</dcterms:modified>
  <cp:revision>6</cp:revision>
  <dc:subject/>
  <dc:title>Графические операторы языка «Qbasic»</dc:title>
</cp:coreProperties>
</file>