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B68-78C5-4837-BAB7-10EB6D95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91D-4E1E-4515-AC69-B125BF53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882-FBE7-4659-8E8F-6A507640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795-146E-4D8B-932D-DEFF717F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52DC-D42E-43B2-A322-1F35E220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2754-9D25-4646-8A4E-41D5ECE5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0056-8530-4B28-8EC2-07610E1C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B5B1-A871-4E08-AE9A-9AA28695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06ED-B78E-4496-9673-5C53927E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8B70-6511-47EA-A6AC-33453033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0D72-117D-4183-8754-C6F71028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1F5-D630-4E81-9F1B-F8C8A9ED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15F2-32A2-49ED-8CFB-73DF932B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EF29-C413-411B-9CAE-34826AC9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1A09-27D8-4B9D-B792-B227B234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5809-18F7-44E6-B799-2DC07733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3586-5CDC-4225-B492-84531E47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72B-7304-4BEF-AE87-5B09A8ED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CBD-C427-4CA7-9B29-6DECF6CD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0B2-C12F-4350-8389-1C003761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F10-D635-4B41-9D58-E919DC0E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BE8B-743D-4DBF-AF63-0697B6AC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640-C427-450F-82EE-2F8C0653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3BD-9444-4B30-B034-D0E571C8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38CC-E648-4E69-85E0-A48428AD3A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AC1E-F67C-4C00-94CE-54231FF95D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Графические операторы языка «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Qbasic</a:t>
            </a: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»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Найти ошибки в программных строках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reen 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(30,120),(60,230);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(100,50)-(50;100),5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RCLE(100,100);50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INT(200;200),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ET(100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НТЕРПРЕТАТОР ГРАФИЧЕСКИХ КОМАНД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 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АНДНАЯ СТРО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995640" y="2707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3789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3789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842920" y="37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995640" y="2852640"/>
            <a:ext cx="936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5640" y="3789360"/>
            <a:ext cx="936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058920" y="3789360"/>
            <a:ext cx="93636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131640" y="292536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5280" y="24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530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37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92720" y="3789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3640" y="2852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47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84360" y="2781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Чертёжные команд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ма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n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n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 х, 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ститься вверх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ч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ститься вниз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ч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ститься вправо на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ч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ститься влев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чек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ститься в точку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х, 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очие команд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n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ановка цвета фигуры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полнение команды перемещения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возврат в исходную позиц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полнение команды перемещения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з вычерчивания пути перемещ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Экранная система координат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1773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623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2565360"/>
            <a:ext cx="4392360" cy="1511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4869000"/>
            <a:ext cx="2087280" cy="1441440"/>
          </a:xfrm>
          <a:prstGeom prst="plus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659640" y="2997360"/>
            <a:ext cx="122544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365720"/>
            <a:ext cx="1800360" cy="93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155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72360" y="162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421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8606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557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2428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87280" y="256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2492280"/>
            <a:ext cx="71280" cy="730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16000" y="162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67640" y="17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78136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73360"/>
            <a:ext cx="6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184464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162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22936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80536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308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ограмм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EEN 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ET(50, 50),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(100,50) – (300,100)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B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(300,150) – (350,60),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RCLE(250, 125),25,,,,0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 “BM 100,125 R75 D25 R25 D5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25 D25 L75 U25 L25 U50 R25 U25;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4:46:42Z</dcterms:created>
  <dc:creator>marina</dc:creator>
  <dc:description/>
  <dc:language>en-US</dc:language>
  <cp:lastModifiedBy>marina</cp:lastModifiedBy>
  <dcterms:modified xsi:type="dcterms:W3CDTF">2011-01-21T17:40:49Z</dcterms:modified>
  <cp:revision>10</cp:revision>
  <dc:subject/>
  <dc:title>Графические операторы языка «Qbasic»</dc:title>
</cp:coreProperties>
</file>