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1B2-E81C-47F3-964A-90E5743E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5A5B-4989-41EB-8A64-9EEAAD50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B20-1B4D-4B0B-80C3-BC16CBD1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904-A25A-47F4-95CE-47CBC18F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2921-B661-460A-B502-866ED4EA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2C09-87E6-4100-967B-D5C58FBE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50C8-915D-450A-B8E6-4A0C66B0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66ED-D3A1-4B20-84AB-5A7CF63C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E402-285C-4E11-913B-21947507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E21B-930D-47B5-8484-0C2A7822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21C6-2CBA-4D92-BD68-26DA4D5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B43E-A716-4A4F-9254-EFB68692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A3C0-954D-45DD-83E5-842EC16D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8694-A370-4821-BF28-A5BC681B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C70A-213A-4EA0-8B46-E74F706D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5E6D-3C8B-4423-88F9-791AC140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29ED-01D6-4AE0-AEC3-8D105B5C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6DD-3C12-4199-9EA8-7507D95D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C8F-AE3B-4161-A0A0-D9FCB97E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02C-E83D-44CE-BFFB-EF87E7A2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045-10B4-47B1-8FC1-320303EA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FE42-410B-4DE6-AE00-BD15E1DF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2E9-5DC2-4B23-95DF-EB43BAE5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57A-F929-40BE-B1BA-3C804046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3988-988A-4263-9F83-3213DB41F2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F1CD-484D-401B-AE22-07A5DFD974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Графические операторы языка «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Qbasic</a:t>
            </a: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»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Найти ошибки в программных строках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reen 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(30,120),(60,230);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(100,50)-(50;100),5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RCLE(100,100);50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INT(200;200),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ET(100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НТЕРПРЕТАТОР ГРАФИЧЕСКИХ КОМАНД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 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АНДНАЯ СТРО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995640" y="2707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3789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3789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842920" y="37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995640" y="2852640"/>
            <a:ext cx="936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5640" y="3789360"/>
            <a:ext cx="936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058920" y="3789360"/>
            <a:ext cx="93636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131640" y="292536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5280" y="24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530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37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92720" y="3789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3640" y="2852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47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84360" y="2781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Чертёжные команд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ма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n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n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 х, 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ститься вверх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ч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ститься вниз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ч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ститься вправо на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ч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ститься влев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чек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ститься в точку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х, 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очие команд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n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ановка цвета фигуры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полнение команды перемещения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возврат в исходную позиц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полнение команды перемещения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з вычерчивания пути перемещ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Экранная система координат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1773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623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2565360"/>
            <a:ext cx="4392360" cy="1511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4869000"/>
            <a:ext cx="2087280" cy="1441440"/>
          </a:xfrm>
          <a:prstGeom prst="plus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659640" y="2997360"/>
            <a:ext cx="122544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365720"/>
            <a:ext cx="1800360" cy="93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155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72360" y="162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421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8606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557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2428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87280" y="256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2492280"/>
            <a:ext cx="71280" cy="730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16000" y="162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67640" y="17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78136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73360"/>
            <a:ext cx="6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184464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162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22936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80536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308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ограмм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EEN 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ET(50, 50),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(100,50) – (300,100)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B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(300,150) – (350,60),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RCLE(250, 125),25,,,,0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 “BM 100,125 R75 D25 R25 D5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25 D25 L75 U25 L25 U50 R25 U25;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4:46:42Z</dcterms:created>
  <dc:creator>marina</dc:creator>
  <dc:description/>
  <dc:language>en-US</dc:language>
  <cp:lastModifiedBy>marina</cp:lastModifiedBy>
  <dcterms:modified xsi:type="dcterms:W3CDTF">2011-01-21T17:40:49Z</dcterms:modified>
  <cp:revision>10</cp:revision>
  <dc:subject/>
  <dc:title>Графические операторы языка «Qbasic»</dc:title>
</cp:coreProperties>
</file>