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24FB-E279-42D7-93BA-1D9B47D9C1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BCFE-E96F-4A44-9196-8BAAD189A1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EFB2-700D-4E7E-AA43-BE8C4B73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F68B-C220-4067-8C4D-0823C900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882-CC5D-4B59-A0D5-88E23CA6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A86C-6920-439C-BBF5-9A6F3788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B382-0505-4359-8304-6A8E32E9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D01A-5B2B-4E51-A313-B4045AF8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BF50-7E64-4A26-8F69-B0A0030C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9449-EB9D-4EE0-B914-ADC621D2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31D3-0E9F-41D9-8D98-CC06B836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FE86-1483-4365-AC74-9999BB56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1C55-1858-4F9C-9EBA-D2636A85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E1BD-B74F-44E2-8953-075379F9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97EC-7E87-490A-86F3-202CA7B1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5F1E-B9E1-4214-90F8-B27E870F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0C31-CB1E-4A30-A2F3-43070F43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A5BC-0589-43D7-B2B2-F7CBC818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8FCC-E12E-4224-819D-5312BD1D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F67A5-C944-49CF-9E4F-D93F2930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DDC71-30F7-4D52-B811-C48BC8FF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53D49-6126-4F91-A485-E827CA02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8B15F-9381-44F0-B6E7-0B241418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2E6DE-9206-46CD-85E0-EA95CCD2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DBB-EC43-4F7D-8386-03443761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F9FC5-6A43-4EDF-A1F7-2766ECDA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88783-D401-459D-AD3B-D1FA78E5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3FC13-7229-481A-B10B-FA0F3556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3923D-C896-4645-924B-54F6E0A1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D3FE2-9B36-4219-88F1-7FFBA810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38849-202A-44DE-8C31-A0AEE51F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12E8C-B9D4-46FA-BFB6-8F6CDF91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AF21B-05E0-4C89-90A5-D643197F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3867F-3D65-4E93-9FE9-0DEF2660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87883-4C55-4DAE-89C8-787E76ED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9975-9EA5-48A9-87F5-3E9C4C57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97E94-7C43-46F0-9DB8-644176B1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E0BED-386E-46A5-A7BF-8ACEB2AF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F434A-4A61-45D6-808B-A35A52DF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A646E-DFDD-461C-A6A2-B46ECB2E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7A21D-79CD-440A-A17D-B88C3014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D5F59-C3DA-4B82-B3D2-31A4F28B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28412-A24B-4047-BEC3-DF13ACDE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4A25E-65AE-4E09-85D2-8299BAB2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CEA9C-BFC9-4F62-8C38-C3BBE8E1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8C5-99DD-4D7B-B528-E674CCB3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E58-D59B-4135-B20F-3A51CE7B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08EB-BCBB-4DD4-B5AF-57775A46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F3A2-56CE-4882-AF74-5441445C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0C7-F142-45D8-B1DC-6BC3C31A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571B-70E8-41D2-B35A-9CE61F9F99B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E04B-C842-4080-8C80-24C0B49FCFA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D8EC-EC7D-4824-9B7E-6CFF8CCA75E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94D9-00BF-441A-978E-5D7CCA06CFD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94920" y="3643200"/>
            <a:ext cx="8458200" cy="3214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а : Русейкина Валерия Игоревна, 5 лет              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оводитель:Чугункина Марина Анатолье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воспитатель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Краснослободск 2017 год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826920" y="692280"/>
            <a:ext cx="763272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ДОУ «Краснослободский детский сад комбинированного вида «Солнышко»</a:t>
            </a:r>
            <a:br>
              <a:rPr sz="1800"/>
            </a:br>
            <a:br>
              <a:rPr sz="18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ектная деятельность на тему: «В мире звуков мы живем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500040" y="57168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6fc6"/>
                </a:solidFill>
                <a:latin typeface="Times New Roman"/>
              </a:rPr>
              <a:t>Рупо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7" descr=""/>
          <p:cNvPicPr/>
          <p:nvPr/>
        </p:nvPicPr>
        <p:blipFill>
          <a:blip r:embed="rId1"/>
          <a:stretch/>
        </p:blipFill>
        <p:spPr>
          <a:xfrm>
            <a:off x="1214280" y="1357200"/>
            <a:ext cx="6715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571680" y="28584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6fc6"/>
                </a:solidFill>
                <a:latin typeface="Times New Roman"/>
              </a:rPr>
              <a:t>Самодельный телефо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1285920" y="1143000"/>
            <a:ext cx="65721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857160" y="28584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6fc6"/>
                </a:solidFill>
                <a:latin typeface="Times New Roman"/>
              </a:rPr>
              <a:t>Музыкальные бокал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6" descr="DSCN5567"/>
          <p:cNvPicPr/>
          <p:nvPr/>
        </p:nvPicPr>
        <p:blipFill>
          <a:blip r:embed="rId1"/>
          <a:stretch/>
        </p:blipFill>
        <p:spPr>
          <a:xfrm>
            <a:off x="1071720" y="1071720"/>
            <a:ext cx="7000560" cy="53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2"/>
          <p:cNvSpPr/>
          <p:nvPr/>
        </p:nvSpPr>
        <p:spPr>
          <a:xfrm>
            <a:off x="1143000" y="28584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6fc6"/>
                </a:solidFill>
                <a:latin typeface="Times New Roman"/>
              </a:rPr>
              <a:t>Бараба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1214280" y="1000080"/>
            <a:ext cx="67867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2"/>
          <p:cNvSpPr/>
          <p:nvPr/>
        </p:nvSpPr>
        <p:spPr>
          <a:xfrm>
            <a:off x="500040" y="428760"/>
            <a:ext cx="80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6fc6"/>
                </a:solidFill>
                <a:latin typeface="Times New Roman"/>
              </a:rPr>
              <a:t>Поющий шар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10" descr=""/>
          <p:cNvPicPr/>
          <p:nvPr/>
        </p:nvPicPr>
        <p:blipFill>
          <a:blip r:embed="rId1"/>
          <a:stretch/>
        </p:blipFill>
        <p:spPr>
          <a:xfrm>
            <a:off x="642960" y="1428840"/>
            <a:ext cx="3500280" cy="3929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5002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500040" y="14292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6fc6"/>
                </a:solidFill>
                <a:latin typeface="Times New Roman"/>
              </a:rPr>
              <a:t>Ксилофон из бутыл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9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76438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857160" y="35712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6fc6"/>
                </a:solidFill>
                <a:latin typeface="Times New Roman"/>
              </a:rPr>
              <a:t>Сказка «Теремок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DSCN5625"/>
          <p:cNvPicPr/>
          <p:nvPr/>
        </p:nvPicPr>
        <p:blipFill>
          <a:blip r:embed="rId1"/>
          <a:stretch/>
        </p:blipFill>
        <p:spPr>
          <a:xfrm>
            <a:off x="826920" y="981000"/>
            <a:ext cx="7705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642960" y="3571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6fc6"/>
                </a:solidFill>
                <a:latin typeface="Times New Roman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оугольник 2"/>
          <p:cNvSpPr/>
          <p:nvPr/>
        </p:nvSpPr>
        <p:spPr>
          <a:xfrm>
            <a:off x="447984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оугольник 4"/>
          <p:cNvSpPr/>
          <p:nvPr/>
        </p:nvSpPr>
        <p:spPr>
          <a:xfrm>
            <a:off x="447984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оугольник 5"/>
          <p:cNvSpPr/>
          <p:nvPr/>
        </p:nvSpPr>
        <p:spPr>
          <a:xfrm>
            <a:off x="642960" y="1143000"/>
            <a:ext cx="792972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подружилась со звук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знала как  появляются  разные звуки и для чего они нуж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илась различать музыкальные и немузыкальные зву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и сделали музыкальные инструменты и игруш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зали сказку  для детей младшей груп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роводим  опыты и эксперименты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6" descr="DSCN5567"/>
          <p:cNvPicPr/>
          <p:nvPr/>
        </p:nvPicPr>
        <p:blipFill>
          <a:blip r:embed="rId1"/>
          <a:stretch/>
        </p:blipFill>
        <p:spPr>
          <a:xfrm>
            <a:off x="4716360" y="1413000"/>
            <a:ext cx="1965600" cy="2736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2087640" cy="280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"/>
          <p:cNvPicPr/>
          <p:nvPr/>
        </p:nvPicPr>
        <p:blipFill>
          <a:blip r:embed="rId3"/>
          <a:stretch/>
        </p:blipFill>
        <p:spPr>
          <a:xfrm flipH="1" rot="66000">
            <a:off x="0" y="1341000"/>
            <a:ext cx="2087640" cy="2820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"/>
          <p:cNvPicPr/>
          <p:nvPr/>
        </p:nvPicPr>
        <p:blipFill>
          <a:blip r:embed="rId4"/>
          <a:stretch/>
        </p:blipFill>
        <p:spPr>
          <a:xfrm>
            <a:off x="6877080" y="1413000"/>
            <a:ext cx="2087640" cy="2708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"/>
          <p:cNvPicPr/>
          <p:nvPr/>
        </p:nvPicPr>
        <p:blipFill>
          <a:blip r:embed="rId5"/>
          <a:stretch/>
        </p:blipFill>
        <p:spPr>
          <a:xfrm>
            <a:off x="1403280" y="4292640"/>
            <a:ext cx="1990800" cy="2376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"/>
          <p:cNvPicPr/>
          <p:nvPr/>
        </p:nvPicPr>
        <p:blipFill>
          <a:blip r:embed="rId6"/>
          <a:stretch/>
        </p:blipFill>
        <p:spPr>
          <a:xfrm>
            <a:off x="5435640" y="429264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2"/>
          <p:cNvSpPr/>
          <p:nvPr/>
        </p:nvSpPr>
        <p:spPr>
          <a:xfrm>
            <a:off x="179280" y="3645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пыт с линейк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3059280" y="378936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п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4859280" y="3789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ющий  бока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6732720" y="3573360"/>
            <a:ext cx="21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реливаем капельки в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3564000" y="609300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ющий шар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8200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4617b"/>
                </a:solidFill>
                <a:latin typeface="Calibri"/>
              </a:rPr>
              <a:t>Заключение </a:t>
            </a:r>
            <a:br>
              <a:rPr sz="3800"/>
            </a:b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В процессе работы над проектом мы  поняли,  как  рождаются разные звуки и для чего они нужны. 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Научились  различать музыкальные и немузыкальные звуки, создавать своими руками самодельные музыкальные инструменты и игрушки. Происхождение, значение звука, по моему мнению, следует изучать и в дальнейшем. Звуки играют важную роль в жизни человека, как положительную, так и отрицательную </a:t>
            </a: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Picture 6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2508480" cy="2879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"/>
          <p:cNvPicPr/>
          <p:nvPr/>
        </p:nvPicPr>
        <p:blipFill>
          <a:blip r:embed="rId2"/>
          <a:stretch/>
        </p:blipFill>
        <p:spPr>
          <a:xfrm>
            <a:off x="3348000" y="2060640"/>
            <a:ext cx="2346480" cy="2879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"/>
          <p:cNvPicPr/>
          <p:nvPr/>
        </p:nvPicPr>
        <p:blipFill>
          <a:blip r:embed="rId3"/>
          <a:stretch/>
        </p:blipFill>
        <p:spPr>
          <a:xfrm>
            <a:off x="6948360" y="2133720"/>
            <a:ext cx="2195640" cy="2879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"/>
          <p:cNvPicPr/>
          <p:nvPr/>
        </p:nvPicPr>
        <p:blipFill>
          <a:blip r:embed="rId4"/>
          <a:stretch/>
        </p:blipFill>
        <p:spPr>
          <a:xfrm>
            <a:off x="4643280" y="4308480"/>
            <a:ext cx="2467080" cy="25495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1"/>
          <p:cNvSpPr/>
          <p:nvPr/>
        </p:nvSpPr>
        <p:spPr>
          <a:xfrm>
            <a:off x="611280" y="4292640"/>
            <a:ext cx="1619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модельны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лефо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3780000" y="414972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дяной свист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5292720" y="616572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силофон из бутыл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7308720" y="45086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модельный бараба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3"/>
          <p:cNvSpPr/>
          <p:nvPr/>
        </p:nvSpPr>
        <p:spPr>
          <a:xfrm>
            <a:off x="428760" y="428760"/>
            <a:ext cx="771516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уальность про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-то раз,  на музыкальном занятии мы слушали музыкальные инструменты. И мне стало интересно, а можно ли самой сделать музыкальные инструменты и поиграть на н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8" descr="DSCN5554"/>
          <p:cNvPicPr/>
          <p:nvPr/>
        </p:nvPicPr>
        <p:blipFill>
          <a:blip r:embed="rId1"/>
          <a:stretch/>
        </p:blipFill>
        <p:spPr>
          <a:xfrm>
            <a:off x="1071720" y="2357280"/>
            <a:ext cx="70722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357200" y="4429080"/>
            <a:ext cx="7175520" cy="19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900000" y="1125360"/>
            <a:ext cx="734544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6fc6"/>
                </a:solidFill>
                <a:latin typeface="Times New Roman"/>
              </a:rPr>
              <a:t>Цель прое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ь как  рождаются разные звуки и для чего они нужны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иться различать музыкальные и немузыкальные зву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робовать самим создать музыкаль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рументы и игруш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714240" y="785880"/>
            <a:ext cx="8143920" cy="58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6fc6"/>
                </a:solidFill>
                <a:latin typeface="Times New Roman"/>
              </a:rPr>
              <a:t>Задачи проек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Изучим звуки окружающей природы, улицы, до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Познакомимся со звуком, музыкальными инструмент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 Попробуем сами сделать музыкальные инструменты и игруш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01"/>
              </a:spcBef>
              <a:buClr>
                <a:srgbClr val="0f6fc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spcBef>
                <a:spcPts val="601"/>
              </a:spcBef>
              <a:buClr>
                <a:srgbClr val="0f6fc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spcBef>
                <a:spcPts val="601"/>
              </a:spcBef>
              <a:buClr>
                <a:srgbClr val="0f6fc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spcBef>
                <a:spcPts val="601"/>
              </a:spcBef>
              <a:buClr>
                <a:srgbClr val="0f6fc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spcBef>
                <a:spcPts val="601"/>
              </a:spcBef>
              <a:buClr>
                <a:srgbClr val="0f6fc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spcBef>
                <a:spcPts val="601"/>
              </a:spcBef>
              <a:buClr>
                <a:srgbClr val="0f6fc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1"/>
          <p:cNvSpPr/>
          <p:nvPr/>
        </p:nvSpPr>
        <p:spPr>
          <a:xfrm>
            <a:off x="928800" y="8366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6fc6"/>
                </a:solidFill>
                <a:latin typeface="Times New Roman"/>
              </a:rPr>
              <a:t>Изучаем звук вместе с Наураш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4" descr="DSCN5607"/>
          <p:cNvPicPr/>
          <p:nvPr/>
        </p:nvPicPr>
        <p:blipFill>
          <a:blip r:embed="rId1"/>
          <a:stretch/>
        </p:blipFill>
        <p:spPr>
          <a:xfrm>
            <a:off x="900000" y="1952640"/>
            <a:ext cx="74883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1143000" y="1160640"/>
            <a:ext cx="75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6fc6"/>
                </a:solidFill>
                <a:latin typeface="Times New Roman"/>
              </a:rPr>
              <a:t>Опыт с линей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1"/>
          <a:stretch/>
        </p:blipFill>
        <p:spPr>
          <a:xfrm flipH="1" rot="66000">
            <a:off x="1757160" y="1845720"/>
            <a:ext cx="6403680" cy="45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2"/>
          <p:cNvSpPr/>
          <p:nvPr/>
        </p:nvSpPr>
        <p:spPr>
          <a:xfrm>
            <a:off x="857160" y="121428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6fc6"/>
                </a:solidFill>
                <a:latin typeface="Times New Roman"/>
              </a:rPr>
              <a:t>Звучит ли бумага…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4" descr="DSCN5601"/>
          <p:cNvPicPr/>
          <p:nvPr/>
        </p:nvPicPr>
        <p:blipFill>
          <a:blip r:embed="rId1"/>
          <a:stretch/>
        </p:blipFill>
        <p:spPr>
          <a:xfrm>
            <a:off x="1187280" y="1773360"/>
            <a:ext cx="72723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642960" y="50004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6fc6"/>
                </a:solidFill>
                <a:latin typeface="Times New Roman"/>
              </a:rPr>
              <a:t>Слушаем звук дожд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9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429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2"/>
          <p:cNvSpPr/>
          <p:nvPr/>
        </p:nvSpPr>
        <p:spPr>
          <a:xfrm>
            <a:off x="928800" y="42876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6fc6"/>
                </a:solidFill>
                <a:latin typeface="Times New Roman"/>
              </a:rPr>
              <a:t>Опыт с камешк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4" descr="DSCN5598"/>
          <p:cNvPicPr/>
          <p:nvPr/>
        </p:nvPicPr>
        <p:blipFill>
          <a:blip r:embed="rId1"/>
          <a:stretch/>
        </p:blipFill>
        <p:spPr>
          <a:xfrm>
            <a:off x="971640" y="1052640"/>
            <a:ext cx="7345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2T16:54:42Z</dcterms:created>
  <dc:creator>Admin</dc:creator>
  <dc:description/>
  <dc:language>en-US</dc:language>
  <cp:lastModifiedBy>Пользователь</cp:lastModifiedBy>
  <dcterms:modified xsi:type="dcterms:W3CDTF">2017-08-27T06:10:46Z</dcterms:modified>
  <cp:revision>160</cp:revision>
  <dc:subject/>
  <dc:title>Слайд 1</dc:title>
</cp:coreProperties>
</file>