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DA2-B35F-446D-9626-3BA94BF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9F4-6225-42BF-8016-F55FA3E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B88-0834-4926-B3AC-CDAD3B96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678-384C-44A1-B2EC-4C727AC0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F9A-16AD-4319-ADDE-FDCC5047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A580-6E3B-4EE0-9693-D3FECEF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64F-CE20-4983-9D7E-CD36F053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30B-FF3B-4F83-9B57-9DDCFF8B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5F41-2CAF-4892-BCC0-74D7FE8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3C9-E2AE-433D-96E4-C3EB9BC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8E0-AAAA-42DC-AD28-4939947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B55-B385-4B53-AE70-80326F2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1B84-62EB-4AF3-AE63-33BD45B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BCD-961A-412C-BA87-B46C6AF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15E1-C9E5-47EE-84DE-4DA563C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6FF-92F5-4B78-8B33-07ED6546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719-8147-4E0C-A89C-A27130C3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9B8-C053-4F55-9217-5230F21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350-DE6E-4D47-9CB1-ECB8C5B7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55E-4FD5-442D-890C-9F2E77B2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EE-FBD1-44F7-BC96-ED3970B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55A-A3D4-4059-BD70-217D260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CA3-1609-461F-8A9D-E098B89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CF4-10B4-4F67-B05A-1F8F733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47A3-E554-4DC5-AC06-E7C0C3F110B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ECCF-49FE-4B0D-8F90-EDC13544EAC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нейные алгоритмы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,b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с   Рез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d=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4в</a:t>
            </a:r>
            <a:r>
              <a:rPr b="0" lang="ru-RU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5с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311120" y="4643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5680" y="4114440"/>
            <a:ext cx="375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B,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357720"/>
            <a:ext cx="144720" cy="5029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479736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2349360"/>
            <a:ext cx="5184720" cy="1008360"/>
          </a:xfrm>
          <a:prstGeom prst="rect">
            <a:avLst/>
          </a:pr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=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4в2+5с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3860640"/>
            <a:ext cx="2232000" cy="93672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,C”; A,B,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D=“;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з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, 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 b=2*a                           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659640" y="2349360"/>
                <a:ext cx="1655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982520" y="3068640"/>
            <a:ext cx="37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,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349360"/>
            <a:ext cx="5185080" cy="1008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=2*a:           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788000" y="2276640"/>
                <a:ext cx="197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356000" y="3357720"/>
            <a:ext cx="73080" cy="6476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3933720"/>
            <a:ext cx="54720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=A+B+C:  S=A*B/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65300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73408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5084640"/>
            <a:ext cx="1368360" cy="4320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, 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5516640"/>
            <a:ext cx="0" cy="2174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”;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=2*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=SQR(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: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P=“;P, “S=“;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ы увидим на экране после выполнения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=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? 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=А+2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=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QR(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=C+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D=“;D, C,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? C+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1520" y="573408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=30                      5                         25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074000" y="3716280"/>
            <a:ext cx="1217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Задание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что мы увидим на экране после выполнения программы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=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=А+4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=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QR(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=C+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“D=“;D, C,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? C+1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значение арифметического выражения (7А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5В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3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С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S(3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пр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– введённых с клавиатуры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ошибки в программных строк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”,A: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+B=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T D=2A+3B+4*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A,B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? C, 4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3573360"/>
            <a:ext cx="79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РЕШЕНИЯ ЗАДАЧ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ановка задачи: выделить исходные данные и определить результат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роение математической модели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строение алгоритма по заданной модели в виде блок-схем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Записать разработанный алгоритм на одном из языков программирова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Отладка программы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15160" y="3753000"/>
            <a:ext cx="14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980720"/>
            <a:ext cx="75614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Даны 2 катета А и В прямоугольного треугольника. Найти периметр и площадь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рг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,b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Рез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I. 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6754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1640" y="3730680"/>
                <a:ext cx="1656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314000" y="4643280"/>
            <a:ext cx="37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,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29720" y="4653000"/>
            <a:ext cx="774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404640"/>
            <a:ext cx="3527280" cy="648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125360"/>
            <a:ext cx="0" cy="505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1628640"/>
            <a:ext cx="1942920" cy="360360"/>
          </a:xfrm>
          <a:prstGeom prst="parallelogram">
            <a:avLst>
              <a:gd name="adj" fmla="val 13479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2349360"/>
            <a:ext cx="5185080" cy="100836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88000" y="2276640"/>
                <a:ext cx="197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356000" y="3357720"/>
            <a:ext cx="73080" cy="6476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4076640"/>
            <a:ext cx="54720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=A+B+C:  S=A*B/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797360"/>
            <a:ext cx="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5992920"/>
            <a:ext cx="431964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229360"/>
            <a:ext cx="1584360" cy="431640"/>
          </a:xfrm>
          <a:prstGeom prst="parallelogram">
            <a:avLst>
              <a:gd name="adj" fmla="val 91764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, 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66100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PUT “A,B”; A,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=SQR(A^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+B^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=A+B+C: S=A*B/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NT “P=“;P, “S=“;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73960" y="4292640"/>
            <a:ext cx="1517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на д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периметр и площадь треугольника по теореме Герона, если известны: а,в,с – стороны треугольника, введённые с клавиату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31200" y="4869000"/>
            <a:ext cx="96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значение арифметического выражения (4в</a:t>
            </a:r>
            <a:r>
              <a:rPr b="0" lang="ru-RU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5с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6ав-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3c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 при а, в, с – введённых с клавиату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ти площадь и периметр прямоугольного треугольника, если известен катет «а», другой катет в 2 раза больше известного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20000" y="5229360"/>
            <a:ext cx="1371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 одной пасеке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 ульев, а на другой –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, с 1 пасеки сняли на «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» кг  мёда больше, чем со второй. Сколько кг мёда сняли с каждой пасеки, если с каждого улья получали поровн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00720" y="5229360"/>
            <a:ext cx="19321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53:29Z</dcterms:created>
  <dc:creator>marina</dc:creator>
  <dc:description/>
  <dc:language>en-US</dc:language>
  <cp:lastModifiedBy>User</cp:lastModifiedBy>
  <dcterms:modified xsi:type="dcterms:W3CDTF">2011-11-25T11:04:54Z</dcterms:modified>
  <cp:revision>18</cp:revision>
  <dc:subject/>
  <dc:title>Линейные алгоритмы.  Решение задач. </dc:title>
</cp:coreProperties>
</file>