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670-B875-490F-8DCB-F120FAEF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724-A1F6-4DA2-84C0-EA42F6D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721-0BD1-4C3C-90C9-8E211E2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060-2C7B-41A0-91E6-1C39AEAD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BBA-CABB-454C-8DA8-DC44A410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9B65-4EE0-4445-8039-92CE3E6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0C5C-B038-4C06-B1F4-B00DF33F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CEC4-7655-403A-B5BB-905FEAA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66DD-50E5-489E-A401-60076F7B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AA90-C1E4-4654-8E65-BD86765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EFF7-574A-41F7-996A-C5309A20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C3D-7D87-4657-91C6-DD2F6896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D6B-527E-41A6-9EE4-64F3BD7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AAB-F424-4A97-9E75-99BF2C7C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6C3-EF9E-447E-987B-B239A51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FFAF-8277-43FC-9AD2-E54CDE2F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BCB3-11AA-4B80-A7D1-CC8CD6F6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4AA-775A-4499-883D-13E35A8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64D-76DC-4C5B-93F2-356F5B1D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420-8BCA-4586-8509-28774E6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E68-C8E9-465A-BB48-04D09976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0CA-9E98-46D8-8CBE-D12B75F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82B-0FBD-4D02-B428-851228F9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DC6-75FF-4CF6-BF18-0ABC952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4C7D-0BAA-4D56-B846-314754A8815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4696-8699-4F80-95A1-73A8FE4AFFB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нейные алгоритмы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980720"/>
            <a:ext cx="75614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рг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,b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с   Рез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I. d=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4в</a:t>
            </a:r>
            <a:r>
              <a:rPr b="0" lang="ru-RU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+5с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6ав-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3c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754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311120" y="4643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929720" y="4653000"/>
            <a:ext cx="774720" cy="108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5680" y="4114440"/>
            <a:ext cx="375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04640"/>
            <a:ext cx="3527280" cy="648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125360"/>
            <a:ext cx="0" cy="505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1628640"/>
            <a:ext cx="1942920" cy="360360"/>
          </a:xfrm>
          <a:prstGeom prst="parallelogram">
            <a:avLst>
              <a:gd name="adj" fmla="val 134790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B,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357720"/>
            <a:ext cx="144720" cy="5029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4797360"/>
            <a:ext cx="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431964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2349360"/>
            <a:ext cx="5184720" cy="1008360"/>
          </a:xfrm>
          <a:prstGeom prst="rect">
            <a:avLst/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=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4в2+5с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6ав-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3c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3860640"/>
            <a:ext cx="2232000" cy="93672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,B,C”; A,B,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D=“;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73960" y="4292640"/>
            <a:ext cx="1517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1980720"/>
            <a:ext cx="75614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рг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з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S, 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I.  b=2*a                            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6754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659640" y="2349360"/>
                <a:ext cx="1655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982520" y="3068640"/>
            <a:ext cx="37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,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9720" y="4653000"/>
            <a:ext cx="774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04640"/>
            <a:ext cx="3527280" cy="648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125360"/>
            <a:ext cx="0" cy="505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1628640"/>
            <a:ext cx="1942920" cy="360360"/>
          </a:xfrm>
          <a:prstGeom prst="parallelogram">
            <a:avLst>
              <a:gd name="adj" fmla="val 134790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2349360"/>
            <a:ext cx="5185080" cy="1008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=2*a:            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788000" y="2276640"/>
                <a:ext cx="197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356000" y="3357720"/>
            <a:ext cx="73080" cy="6476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3933720"/>
            <a:ext cx="5472000" cy="7192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=A+B+C:  S=A*B/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653000"/>
            <a:ext cx="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734080"/>
            <a:ext cx="431964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5084640"/>
            <a:ext cx="1368360" cy="43200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, 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5516640"/>
            <a:ext cx="0" cy="2174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”;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=2*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=SQR(A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: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P=“;P, “S=“;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73960" y="4292640"/>
            <a:ext cx="1517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ы увидим на экране после выполнения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=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? 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=А+2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=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QR(A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=C+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D=“;D, C,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? C+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91520" y="573408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=30                      5                         25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074000" y="3716280"/>
            <a:ext cx="1217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Задание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что мы увидим на экране после выполнения программы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=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=А+4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=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QR(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=C+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“D=“;D, C,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? C+1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значение арифметического выражения (7А</a:t>
            </a:r>
            <a:r>
              <a:rPr b="0" lang="ru-RU" sz="3200" spc="-1" strike="noStrike" baseline="30000">
                <a:solidFill>
                  <a:srgbClr val="29292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5В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3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-С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S(3C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пр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– введённых с клавиатуры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ошибки в программных строк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,B”,A: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+B=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T D=2A+3B+4*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A,B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? C, 4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24720" y="3573360"/>
            <a:ext cx="79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РЕШЕНИЯ ЗАДАЧ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становка задачи: выделить исходные данные и определить результаты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строение математической модели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строение алгоритма по заданной модели в виде блок-схемы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Записать разработанный алгоритм на одном из языков программирова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Отладка программы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15160" y="3753000"/>
            <a:ext cx="14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980720"/>
            <a:ext cx="75614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Даны 2 катета А и В прямоугольного треугольника. Найти периметр и площадь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рг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,b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Рез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I. 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6754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1640" y="3730680"/>
                <a:ext cx="1656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314000" y="4643280"/>
            <a:ext cx="37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,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29720" y="4653000"/>
            <a:ext cx="774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404640"/>
            <a:ext cx="3527280" cy="648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125360"/>
            <a:ext cx="0" cy="505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1628640"/>
            <a:ext cx="1942920" cy="360360"/>
          </a:xfrm>
          <a:prstGeom prst="parallelogram">
            <a:avLst>
              <a:gd name="adj" fmla="val 134790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2349360"/>
            <a:ext cx="5185080" cy="1008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88000" y="2276640"/>
                <a:ext cx="197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356000" y="3357720"/>
            <a:ext cx="73080" cy="6476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4076640"/>
            <a:ext cx="5472000" cy="7192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=A+B+C:  S=A*B/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797360"/>
            <a:ext cx="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5992920"/>
            <a:ext cx="431964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229360"/>
            <a:ext cx="1584360" cy="431640"/>
          </a:xfrm>
          <a:prstGeom prst="parallelogram">
            <a:avLst>
              <a:gd name="adj" fmla="val 91764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, 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566100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,B”; A,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=SQR(A^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+B^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: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P=“;P, “S=“;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73960" y="4292640"/>
            <a:ext cx="1517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на д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периметр и площадь треугольника по теореме Герона, если известны: а,в,с – стороны треугольника, введённые с клавиату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31200" y="4869000"/>
            <a:ext cx="96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значение арифметического выражения (4в</a:t>
            </a:r>
            <a:r>
              <a:rPr b="0" lang="ru-RU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5с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6ав-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3c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 при а, в, с – введённых с клавиату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площадь и периметр прямоугольного треугольника, если известен катет «а», другой катет в 2 раза больше известного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20000" y="5229360"/>
            <a:ext cx="1371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 одной пасеке «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» ульев, а на другой – «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», с 1 пасеки сняли на «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» кг  мёда больше, чем со второй. Сколько кг мёда сняли с каждой пасеки, если с каждого улья получали поровн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00720" y="5229360"/>
            <a:ext cx="19321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5:53:29Z</dcterms:created>
  <dc:creator>marina</dc:creator>
  <dc:description/>
  <dc:language>en-US</dc:language>
  <cp:lastModifiedBy>User</cp:lastModifiedBy>
  <dcterms:modified xsi:type="dcterms:W3CDTF">2011-11-25T11:04:54Z</dcterms:modified>
  <cp:revision>18</cp:revision>
  <dc:subject/>
  <dc:title>Линейные алгоритмы.  Решение задач. </dc:title>
</cp:coreProperties>
</file>