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929-0EBB-4014-8DF1-8F6A1645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DD2-8384-4193-90AD-8941C72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1DA-6366-4703-810E-38EA4A84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AF4-CF1D-4AD0-ACC3-F21D1605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7F47-2B1C-4DED-ADBB-1DEFAFD4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058-711C-4011-A6FA-167AA11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8228-55CC-4E7F-BD9B-B178271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38CE-E61D-4D94-AC3F-64B9C795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0009-4EA0-449E-8971-D9F9199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E630-2848-493E-8A3A-2AAFB6B7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7F3-6E98-4C2D-BFC3-66FD5D4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B7B-11BF-4B47-949C-8141AACE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0CE-8706-4F72-8214-250C2CA4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119-B845-4DB5-BAB1-E805F54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0BA2-252D-40F7-B0A2-2543E6CB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F3D5-BFED-4FA1-AD54-9B24594E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C03D-59F9-49CF-925A-14404C0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A90-4B8D-437B-971D-35F5B0F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8D8-6F03-46E0-BC83-ABCD73F3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582-90AF-482A-9BFA-5DD4C0C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4FB-E17D-4467-8D03-286E849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884-C313-4615-B229-9997956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2F-3EA3-480E-9BB8-E6B74B7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7DC-E9E3-4B1E-8500-15E1A92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1" name="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"/>
            <p:cNvSpPr/>
            <p:nvPr/>
          </p:nvSpPr>
          <p:spPr>
            <a:xfrm>
              <a:off x="63000" y="1523880"/>
              <a:ext cx="819720" cy="914400"/>
            </a:xfrm>
            <a:custGeom>
              <a:avLst/>
              <a:gdLst/>
              <a:ahLst/>
              <a:rect l="l" t="t" r="r" b="b"/>
              <a:pathLst>
                <a:path w="777" h="714">
                  <a:moveTo>
                    <a:pt x="48" y="0"/>
                  </a:moveTo>
                  <a:lnTo>
                    <a:pt x="480" y="336"/>
                  </a:lnTo>
                  <a:lnTo>
                    <a:pt x="432" y="336"/>
                  </a:lnTo>
                  <a:lnTo>
                    <a:pt x="720" y="624"/>
                  </a:lnTo>
                  <a:cubicBezTo>
                    <a:pt x="776" y="676"/>
                    <a:pt x="761" y="631"/>
                    <a:pt x="768" y="645"/>
                  </a:cubicBezTo>
                  <a:cubicBezTo>
                    <a:pt x="776" y="653"/>
                    <a:pt x="777" y="698"/>
                    <a:pt x="761" y="706"/>
                  </a:cubicBezTo>
                  <a:cubicBezTo>
                    <a:pt x="745" y="714"/>
                    <a:pt x="729" y="701"/>
                    <a:pt x="713" y="693"/>
                  </a:cubicBezTo>
                  <a:cubicBezTo>
                    <a:pt x="697" y="685"/>
                    <a:pt x="696" y="656"/>
                    <a:pt x="672" y="624"/>
                  </a:cubicBezTo>
                  <a:lnTo>
                    <a:pt x="528" y="480"/>
                  </a:lnTo>
                  <a:lnTo>
                    <a:pt x="528" y="528"/>
                  </a:lnTo>
                  <a:lnTo>
                    <a:pt x="480" y="480"/>
                  </a:lnTo>
                  <a:lnTo>
                    <a:pt x="384" y="336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0A8-5713-4B71-8EFF-B33F6B9F7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58" name="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4C10-382A-428D-A519-7E363B42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6197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очинение «Подснежник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ут подснежник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ут подснежник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жи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ж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ва сух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хой валежник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, всё меня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ёт подснежник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вый вестни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пла и свет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ны ровесн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ны при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кала Снегуроч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у провож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а за ней печальн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в лесу чуж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, где шла и плака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гая берёз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осли подснежники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урочк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глянул подснежн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олутьме лесной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енький разведч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анный весной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еще над лес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ствуют снег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лежат под снег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нные луга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на спящей речк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движен лед,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пришел разведч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есна при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52388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СНЕЖ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4038840" cy="269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328284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30492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ступление вес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ерво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акие чувства вызывает цв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Соответствует ли содержание текста 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Не пропущено ли главное, подтверждена ли фактами основная мыс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Нет ли в тексте лишних факторов, предложений,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ично ли построен текст, не надо ли что-то перестав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ли связаны между собой части текста и соседние предложения? Выделены ли части текста красной стро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 ли слова отобраны для раскрытия темы? Правильно ли построены предл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есно и понятно ли все изложение слуша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5-03-30T16:03:01Z</dcterms:modified>
  <cp:revision>8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