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0E2-AAC6-4FCD-9BD2-D2190D2D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5C6-21C7-4734-B4CD-B34512BD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FCA-6AC3-451E-A94C-5AD2D2EB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1B1-E8C9-4760-905B-AF30FC10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757B5-3681-400D-A610-91A7D067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09506-AB6D-4772-92A5-8CCC7F4A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130D0-8FB2-4B90-9046-250314FA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8E5EC-F796-48D1-AEEF-2BCA9E97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AFDCE-30D1-4FFD-B9A4-CB48383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A2F4B-3987-4453-ADC1-2A0A907A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5C3BE-E9A8-4E7E-A27E-488B590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960-B438-45E7-BED2-11B5299B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F9F39-7301-42F9-80BA-4AEE64C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DEBA8-2AC4-4698-8223-2B2F80B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ADB4C-00FF-47B0-8E02-23731C65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F90AE-59BC-4E20-8A65-58B24DD4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31F1E-2B90-4B10-9FBD-61A3CB90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F6A-A5C3-4CFF-A320-2693BB24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2EF-1325-492B-B8FA-83B09AA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CF3-C910-4EE0-9306-56BC04B8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FA4-3F46-4BDE-B788-1D272ED0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593-F0FB-4DC8-9BC3-A47D3EC3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3C1-5005-4CCB-BEA7-4674855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576-EA44-4894-B349-8D39F3F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4D15-447C-4A25-A670-2F6448761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258A-ABD5-4833-A840-391C404AAC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cola_18@mail.ru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olnet.ee/sol/001/s_000.html" TargetMode="External"/><Relationship Id="rId2" Type="http://schemas.openxmlformats.org/officeDocument/2006/relationships/hyperlink" Target="http://www.solnet.ee/parents/p1_s00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lnet.ee/names/index.html" TargetMode="External"/><Relationship Id="rId2" Type="http://schemas.openxmlformats.org/officeDocument/2006/relationships/hyperlink" Target="http://www.solnet.ee/parents/p1_58.html#Slide 3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3066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УНИЦИПАЛЬНОЕ АВТОНОМ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Средняя общеобразовательная школа № 18 г. Магадана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85000 г. Магадан, ул. Комсомольская, д. 47-а. Тел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. 65-75-31, 65-76-98, 65-79-03, e-mail: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1"/>
              </a:rPr>
              <a:t>shcola_18 @ mail.ru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ртфолио ученика как одна из форм оценивания результатов образования  в условиях реализации ФГОС НО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боль Валентина Дмитриев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АОУ СОШ №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Магадан 201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  <a:ea typeface="宋体"/>
              </a:rPr>
              <a:t>6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Мой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 об учащихся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Мои уч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 о классном руководителе и других учителях, преподающих в кла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Мои школьные предм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ольшие заметки о любимых школьных предметах, построенные по принципу "мне нравится..., потому что...". Также неплох вариант с названием 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"Школьные предметы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При этом ребенок может высказаться о каждом предмете, найдя в нём что-то важное и нужное для себ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5.Моя общественная рабо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мероприятия, которые проводятся вне рамок учебной деятельности можно отнести к общественной работе (поручениям). Может быть, ребенок играл роль в школьном спектакле, или читал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стих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на торжественной линейке, или оформил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тенгазет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к празднику или выступал на утреннике… Вариантов очень много. Оформлять этот раздел желательно с использованием фотографий и кратких сообщений на тему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и успехи».</a:t>
            </a:r>
            <a:br>
              <a:rPr sz="4800"/>
            </a:b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Моя учеба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C:\Documents and Settings\User\Рабочий стол\izo.jpg"/>
          <p:cNvPicPr/>
          <p:nvPr/>
        </p:nvPicPr>
        <p:blipFill>
          <a:blip r:embed="rId1"/>
          <a:stretch/>
        </p:blipFill>
        <p:spPr>
          <a:xfrm>
            <a:off x="1676520" y="4486320"/>
            <a:ext cx="1676160" cy="237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ocuments and Settings\User\Рабочий стол\mini_4.jpg"/>
          <p:cNvPicPr/>
          <p:nvPr/>
        </p:nvPicPr>
        <p:blipFill>
          <a:blip r:embed="rId2"/>
          <a:stretch/>
        </p:blipFill>
        <p:spPr>
          <a:xfrm>
            <a:off x="3048120" y="4648320"/>
            <a:ext cx="308916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Documents and Settings\User\Рабочий стол\rusjaz.jpg"/>
          <p:cNvPicPr/>
          <p:nvPr/>
        </p:nvPicPr>
        <p:blipFill>
          <a:blip r:embed="rId3"/>
          <a:stretch/>
        </p:blipFill>
        <p:spPr>
          <a:xfrm>
            <a:off x="0" y="4425840"/>
            <a:ext cx="1719360" cy="2432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User\Рабочий стол\okrmir.jpg"/>
          <p:cNvPicPr/>
          <p:nvPr/>
        </p:nvPicPr>
        <p:blipFill>
          <a:blip r:embed="rId4"/>
          <a:stretch/>
        </p:blipFill>
        <p:spPr>
          <a:xfrm>
            <a:off x="7527960" y="4572000"/>
            <a:ext cx="16160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User\Рабочий стол\liter(1).jpg"/>
          <p:cNvPicPr/>
          <p:nvPr/>
        </p:nvPicPr>
        <p:blipFill>
          <a:blip r:embed="rId5"/>
          <a:stretch/>
        </p:blipFill>
        <p:spPr>
          <a:xfrm>
            <a:off x="5867280" y="4627440"/>
            <a:ext cx="15764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Раздел « Мои успехи».</a:t>
            </a:r>
            <a:br>
              <a:rPr sz="4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Моё творчество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048120" cy="381456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оё творче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886200" cy="27921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962520" cy="286848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Раздел « Мои успехи»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3. Мои достижения и пла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960640" y="1905120"/>
            <a:ext cx="322092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ahoma"/>
              </a:rPr>
              <a:t>Раздел « Мои успехи»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Моя занятость в кружках, секциях и клубах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2938320" y="1905120"/>
            <a:ext cx="326556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Раздел « Мои успехи»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Показатели моей техники чт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анном разделе отмечаются достижения учащегося в скорости чтения. Ориентировочные показатели по скорости чтения в начальных классах следующие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I класс. Первое полугодие - 25 - 30 слов в минуту. Второе полугодия - 30-40 слов в мину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II класс. Первое полугодие - 40-50 слов в минуту. Второе полугодие - 50-60 слов в мину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III класс. Первое полугодие - 60-70 слов в минуту. Второе полугодие - 70- 80 слов в мину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IV класс. Первое полугодие - 80-90 слов в минуту. Второе полугодие - 100-120 слов в мину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яде школ повышенного уровня требования по скорости чтения увеличены на 30-50 процентов. В начальных классах рекомендуется больше читать вслух, т.к. скорость чтения про себя обычно на 20 и более слов быстре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визом работы с портфолио ученика начальной школы должна стать фраза: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"Каждодневный творческий процесс ученика должен быть зафиксирован"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ычно это папка с файлами, которая предназначена для сбора лучших работ и результатов обучения школьника. В файлы вкладываются листы, позволяющие систематизировать проделанную учеником работу, отразить его достижения и активность в школьной жизни, раскрыть его личностные да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Раздел « Мои успехи». </a:t>
            </a:r>
            <a:br>
              <a:rPr sz="1600"/>
            </a:b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Участие в конкурс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3511440" cy="263232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867040" cy="416232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и успехи».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7 . Табель успеваемости</a:t>
            </a:r>
            <a:br>
              <a:rPr sz="20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10800000">
            <a:off x="457200" y="2819160"/>
            <a:ext cx="77724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Раздел « Отзывы и пожелания»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олняют преподаватели школы и внешкольных учрежд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ариант портфолио ученика начальной школы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Титульный лис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351320" y="1066680"/>
            <a:ext cx="3751200" cy="53625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91" name="Rectangle 6"/>
          <p:cNvSpPr/>
          <p:nvPr/>
        </p:nvSpPr>
        <p:spPr>
          <a:xfrm>
            <a:off x="1800" y="42202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здел «Мой мир».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«Моё им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я о том,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что означает им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можно написать о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знаменитых людях, носивших и носящих это им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Если у ребенка редкая или интересная фамилия, можно найти информацию о том, что она означа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Моя семья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20184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3.         Мои друз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066680" y="2413080"/>
            <a:ext cx="3581640" cy="239544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99" name="Rectangle 6"/>
          <p:cNvSpPr/>
          <p:nvPr/>
        </p:nvSpPr>
        <p:spPr>
          <a:xfrm>
            <a:off x="457200" y="164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5" descr="DSC_9980"/>
          <p:cNvPicPr/>
          <p:nvPr/>
        </p:nvPicPr>
        <p:blipFill>
          <a:blip r:embed="rId2"/>
          <a:stretch/>
        </p:blipFill>
        <p:spPr>
          <a:xfrm>
            <a:off x="5486400" y="1981080"/>
            <a:ext cx="273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«Мои увлечения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952720" y="1905120"/>
            <a:ext cx="323712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. Мой режим дн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946240" y="1905120"/>
            <a:ext cx="3251520" cy="4114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Раздел « Моя школа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Моя шк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 о шк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DA</cp:lastModifiedBy>
  <dcterms:modified xsi:type="dcterms:W3CDTF">2016-03-29T11:27:21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