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8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BB68-5684-45B4-8D2C-6E28341C1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1205-A596-418F-8D6B-BFB5F50B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165F-F1F6-4999-AF26-3507D08A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0BDD-F357-4FDB-B49A-D874FF5EA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4293C-D117-4A51-BD27-9C5AD15D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8987E-C0C0-4610-837F-99C83F79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5199E-EAF4-47C0-B5B7-3A9955CA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22391-508B-4B1A-8A31-03CF5F90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9B16A-1822-4B31-AAED-396CEA87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80735-4D5D-4F90-BCA4-9FED604C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0FCFC-21E9-460A-A718-8AADB445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AE73-CE90-4FFC-A10E-03C7904F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159E8-DFA0-4A44-A452-97B4FC57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0CF4A-FA75-42E5-AEAF-B9C67C6D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EC517-5616-4228-BA59-3D67702A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77D6B-3357-4AAA-8AEA-C6D717C7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D822E-45AF-45A4-8244-077EE21C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AE4B-3BE3-43B9-9206-AB63AEEF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6531-444A-474B-B3B7-2757DF04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5854-D2D5-456E-9EDF-32C75446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10F8-19F6-427E-A35A-1C00C903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228E-EFAE-443A-9AE0-3F259085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2880-0119-41F5-AD73-01C85767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D969-A11C-42B5-9FC0-48469227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F274-A8E3-4903-8FC5-2B13D788D7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3FE3-B3A9-4062-B69E-FFB35A4ED4E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hcola_18@mail.ru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olnet.ee/sol/001/s_000.html" TargetMode="External"/><Relationship Id="rId2" Type="http://schemas.openxmlformats.org/officeDocument/2006/relationships/hyperlink" Target="http://www.solnet.ee/parents/p1_s00.html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olnet.ee/names/index.html" TargetMode="External"/><Relationship Id="rId2" Type="http://schemas.openxmlformats.org/officeDocument/2006/relationships/hyperlink" Target="http://www.solnet.ee/parents/p1_58.html#Slide 3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696080" cy="3066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МУНИЦИПАЛЬНОЕ АВТОНОМНОЕ ОБЩЕОБРАЗОВАТЕЛЬНОЕ УЧРЕЖДЕНИ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«Средняя общеобразовательная школа № 18 г. Магадана»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685000 г. Магадан, ул. Комсомольская, д. 47-а. Тел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  <a:ea typeface="宋体"/>
              </a:rPr>
              <a:t>. 65-75-31, 65-76-98, 65-79-03, e-mail: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ea typeface="宋体"/>
                <a:hlinkClick r:id="rId1"/>
              </a:rPr>
              <a:t>shcola_18 @ mail.ru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ртфолио ученика как одна из форм оценивания результатов образования  в условиях реализации ФГОС НО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Соболь Валентина Дмитриевна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МАОУ СОШ № 1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ahoma"/>
              </a:rPr>
              <a:t>Магадан 201</a:t>
            </a:r>
            <a:r>
              <a:rPr b="1" i="1" lang="ru-RU" sz="1200" spc="-1" strike="noStrike">
                <a:solidFill>
                  <a:srgbClr val="ffffff"/>
                </a:solidFill>
                <a:latin typeface="Tahoma"/>
                <a:ea typeface="宋体"/>
              </a:rPr>
              <a:t>6</a:t>
            </a:r>
            <a:r>
              <a:rPr b="1" i="1" lang="ru-RU" sz="1200" spc="-1" strike="noStrike">
                <a:solidFill>
                  <a:srgbClr val="ffffff"/>
                </a:solidFill>
                <a:latin typeface="Tahoma"/>
              </a:rPr>
              <a:t>г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ahoma"/>
              </a:rPr>
              <a:t>Раздел « Моя школа»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2.Мой клас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каз об учащихся клас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ahoma"/>
              </a:rPr>
              <a:t>Раздел « Моя школа»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3.Мои учител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каз о классном руководителе и других учителях, преподающих в класс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ahoma"/>
              </a:rPr>
              <a:t>Раздел « Моя школа»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4.Мои школьные предме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  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большие заметки о любимых школьных предметах, построенные по принципу "мне нравится..., потому что...". Также неплох вариант с названием 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"Школьные предметы"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При этом ребенок может высказаться о каждом предмете, найдя в нём что-то важное и нужное для себя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ahoma"/>
              </a:rPr>
              <a:t>Раздел « Моя школа»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5.Моя общественная работ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 мероприятия, которые проводятся вне рамок учебной деятельности можно отнести к общественной работе (поручениям). Может быть, ребенок играл роль в школьном спектакле, или читал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стих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на торжественной линейке, или оформил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стенгазет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к празднику или выступал на утреннике… Вариантов очень много. Оформлять этот раздел желательно с использованием фотографий и кратких сообщений на тему.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67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ahoma"/>
              </a:rPr>
              <a:t>Раздел « Мои успехи».</a:t>
            </a:r>
            <a:br>
              <a:rPr sz="4800"/>
            </a:b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1. Моя учеба</a:t>
            </a: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C:\Documents and Settings\User\Рабочий стол\izo.jpg"/>
          <p:cNvPicPr/>
          <p:nvPr/>
        </p:nvPicPr>
        <p:blipFill>
          <a:blip r:embed="rId1"/>
          <a:stretch/>
        </p:blipFill>
        <p:spPr>
          <a:xfrm>
            <a:off x="1676520" y="4486320"/>
            <a:ext cx="1676160" cy="2371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C:\Documents and Settings\User\Рабочий стол\mini_4.jpg"/>
          <p:cNvPicPr/>
          <p:nvPr/>
        </p:nvPicPr>
        <p:blipFill>
          <a:blip r:embed="rId2"/>
          <a:stretch/>
        </p:blipFill>
        <p:spPr>
          <a:xfrm>
            <a:off x="3048120" y="4648320"/>
            <a:ext cx="3089160" cy="2057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C:\Documents and Settings\User\Рабочий стол\rusjaz.jpg"/>
          <p:cNvPicPr/>
          <p:nvPr/>
        </p:nvPicPr>
        <p:blipFill>
          <a:blip r:embed="rId3"/>
          <a:stretch/>
        </p:blipFill>
        <p:spPr>
          <a:xfrm>
            <a:off x="0" y="4425840"/>
            <a:ext cx="1719360" cy="2432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C:\Documents and Settings\User\Рабочий стол\okrmir.jpg"/>
          <p:cNvPicPr/>
          <p:nvPr/>
        </p:nvPicPr>
        <p:blipFill>
          <a:blip r:embed="rId4"/>
          <a:stretch/>
        </p:blipFill>
        <p:spPr>
          <a:xfrm>
            <a:off x="7527960" y="4572000"/>
            <a:ext cx="1616040" cy="2286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C:\Documents and Settings\User\Рабочий стол\liter(1).jpg"/>
          <p:cNvPicPr/>
          <p:nvPr/>
        </p:nvPicPr>
        <p:blipFill>
          <a:blip r:embed="rId5"/>
          <a:stretch/>
        </p:blipFill>
        <p:spPr>
          <a:xfrm>
            <a:off x="5867280" y="4627440"/>
            <a:ext cx="157644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252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ahoma"/>
              </a:rPr>
              <a:t>Раздел « Мои успехи».</a:t>
            </a:r>
            <a:br>
              <a:rPr sz="4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. Моё творчество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124080" y="2819520"/>
            <a:ext cx="3048120" cy="3814560"/>
          </a:xfrm>
          <a:prstGeom prst="rect">
            <a:avLst/>
          </a:prstGeom>
          <a:ln w="0">
            <a:solidFill>
              <a:srgbClr val="808080"/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Моё творчеств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3886200" cy="2792160"/>
          </a:xfrm>
          <a:prstGeom prst="rect">
            <a:avLst/>
          </a:prstGeom>
          <a:ln w="0">
            <a:solidFill>
              <a:srgbClr val="808080"/>
            </a:solidFill>
          </a:ln>
        </p:spPr>
      </p:pic>
      <p:pic>
        <p:nvPicPr>
          <p:cNvPr id="126" name="Picture 5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962520" cy="2868480"/>
          </a:xfrm>
          <a:prstGeom prst="rect">
            <a:avLst/>
          </a:prstGeom>
          <a:ln w="0">
            <a:solidFill>
              <a:srgbClr val="808080"/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ahoma"/>
              </a:rPr>
              <a:t>Раздел « Мои успехи».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3. Мои достижения и план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2960640" y="1905120"/>
            <a:ext cx="3220920" cy="4114800"/>
          </a:xfrm>
          <a:prstGeom prst="rect">
            <a:avLst/>
          </a:prstGeom>
          <a:ln w="0">
            <a:solidFill>
              <a:srgbClr val="808080"/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ahoma"/>
              </a:rPr>
              <a:t>Раздел « Мои успехи». 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Моя занятость в кружках, секциях и клубах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2938320" y="1905120"/>
            <a:ext cx="3265560" cy="4114800"/>
          </a:xfrm>
          <a:prstGeom prst="rect">
            <a:avLst/>
          </a:prstGeom>
          <a:ln w="0">
            <a:solidFill>
              <a:srgbClr val="808080"/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ahoma"/>
              </a:rPr>
              <a:t>Раздел « Мои успехи». 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      Показатели моей техники чт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данном разделе отмечаются достижения учащегося в скорости чтения. Ориентировочные показатели по скорости чтения в начальных классах следующие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I класс. Первое полугодие - 25 - 30 слов в минуту. Второе полугодия - 30-40 слов в минуту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II класс. Первое полугодие - 40-50 слов в минуту. Второе полугодие - 50-60 слов в минуту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III класс. Первое полугодие - 60-70 слов в минуту. Второе полугодие - 70- 80 слов в минуту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IV класс. Первое полугодие - 80-90 слов в минуту. Второе полугодие - 100-120 слов в минуту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ряде школ повышенного уровня требования по скорости чтения увеличены на 30-50 процентов. В начальных классах рекомендуется больше читать вслух, т.к. скорость чтения про себя обычно на 20 и более слов быстрее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визом работы с портфолио ученика начальной школы должна стать фраза: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"Каждодневный творческий процесс ученика должен быть зафиксирован"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ычно это папка с файлами, которая предназначена для сбора лучших работ и результатов обучения школьника. В файлы вкладываются листы, позволяющие систематизировать проделанную учеником работу, отразить его достижения и активность в школьной жизни, раскрыть его личностные данны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ahoma"/>
              </a:rPr>
              <a:t>Раздел « Мои успехи». </a:t>
            </a:r>
            <a:br>
              <a:rPr sz="1600"/>
            </a:b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       Участие в конкурс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533520" y="2895480"/>
            <a:ext cx="3511440" cy="2632320"/>
          </a:xfrm>
          <a:prstGeom prst="rect">
            <a:avLst/>
          </a:prstGeom>
          <a:ln w="0">
            <a:solidFill>
              <a:srgbClr val="808080"/>
            </a:solidFill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5257800" y="2133720"/>
            <a:ext cx="2867040" cy="4162320"/>
          </a:xfrm>
          <a:prstGeom prst="rect">
            <a:avLst/>
          </a:prstGeom>
          <a:ln w="0">
            <a:solidFill>
              <a:srgbClr val="808080"/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428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ahoma"/>
              </a:rPr>
              <a:t>Раздел « Мои успехи».</a:t>
            </a:r>
            <a:br>
              <a:rPr sz="4800"/>
            </a:b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7 . Табель успеваемости</a:t>
            </a:r>
            <a:br>
              <a:rPr sz="20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 rot="10800000">
            <a:off x="457200" y="2819160"/>
            <a:ext cx="7772400" cy="32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ahoma"/>
              </a:rPr>
              <a:t>Раздел « Отзывы и пожелания»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полняют преподаватели школы и внешкольных учрежд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пасибо за внимани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ариант портфолио ученика начальной школы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. Титульный лист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4351320" y="1066680"/>
            <a:ext cx="3751200" cy="5362560"/>
          </a:xfrm>
          <a:prstGeom prst="rect">
            <a:avLst/>
          </a:prstGeom>
          <a:ln w="0">
            <a:solidFill>
              <a:srgbClr val="808080"/>
            </a:solidFill>
          </a:ln>
        </p:spPr>
      </p:pic>
      <p:sp>
        <p:nvSpPr>
          <p:cNvPr id="91" name="Rectangle 6"/>
          <p:cNvSpPr/>
          <p:nvPr/>
        </p:nvSpPr>
        <p:spPr>
          <a:xfrm>
            <a:off x="1800" y="4220280"/>
            <a:ext cx="18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                          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Раздел «Мой мир».</a:t>
            </a: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 </a:t>
            </a:r>
            <a:br>
              <a:rPr sz="24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1«Моё имя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формация о том, 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что означает им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можно написать о 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знаменитых людях, носивших и носящих это им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Если у ребенка редкая или интересная фамилия, можно найти информацию о том, что она означает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. Моя семья.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2970360" y="1905120"/>
            <a:ext cx="3201840" cy="4114800"/>
          </a:xfrm>
          <a:prstGeom prst="rect">
            <a:avLst/>
          </a:prstGeom>
          <a:ln w="0">
            <a:solidFill>
              <a:srgbClr val="808080"/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3.         Мои друзь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1066680" y="2413080"/>
            <a:ext cx="3581640" cy="2395440"/>
          </a:xfrm>
          <a:prstGeom prst="rect">
            <a:avLst/>
          </a:prstGeom>
          <a:ln w="0">
            <a:solidFill>
              <a:srgbClr val="808080"/>
            </a:solidFill>
          </a:ln>
        </p:spPr>
      </p:pic>
      <p:sp>
        <p:nvSpPr>
          <p:cNvPr id="99" name="Rectangle 6"/>
          <p:cNvSpPr/>
          <p:nvPr/>
        </p:nvSpPr>
        <p:spPr>
          <a:xfrm>
            <a:off x="457200" y="1646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15" descr="DSC_9980"/>
          <p:cNvPicPr/>
          <p:nvPr/>
        </p:nvPicPr>
        <p:blipFill>
          <a:blip r:embed="rId2"/>
          <a:stretch/>
        </p:blipFill>
        <p:spPr>
          <a:xfrm>
            <a:off x="5486400" y="1981080"/>
            <a:ext cx="2732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4. «Мои увлечения.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952720" y="1905120"/>
            <a:ext cx="3237120" cy="4114800"/>
          </a:xfrm>
          <a:prstGeom prst="rect">
            <a:avLst/>
          </a:prstGeom>
          <a:ln w="0">
            <a:solidFill>
              <a:srgbClr val="808080"/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5. Мой режим дня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2946240" y="1905120"/>
            <a:ext cx="3251520" cy="4114800"/>
          </a:xfrm>
          <a:prstGeom prst="rect">
            <a:avLst/>
          </a:prstGeom>
          <a:ln w="0">
            <a:solidFill>
              <a:srgbClr val="808080"/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ahoma"/>
              </a:rPr>
              <a:t>Раздел « Моя школа»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1.Моя шко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каз о школ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DA</cp:lastModifiedBy>
  <dcterms:modified xsi:type="dcterms:W3CDTF">2016-03-29T11:27:21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