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C128-3080-4877-BB41-F216B11F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37F7-17C3-4455-A9F1-5392CBD8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D12C-4184-47EB-93A4-43C614E66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D80F-AC2E-49D3-B1AF-545D7BD0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F95D-1EF6-4300-AF96-81CEA4F6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B8F3-839D-4F4F-BA7C-13696F09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CC28-2E8E-480E-8898-2F1B6FC8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BC8D-DB41-4E77-A102-1D8A29AD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B8CC-35D4-4088-8910-1AD6EAF6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8BF7-6DCE-4E0A-ABA1-411116D0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958F-E1E5-4F49-87E8-87490A7A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4307-AB66-49F0-A279-BB744BB1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3399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3399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01BA-7800-4DBF-8CD4-E05B950243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3399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384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Урок литературного чтения в 4 Аклассе </a:t>
            </a:r>
            <a:br>
              <a:rPr sz="4400"/>
            </a:b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по теме:</a:t>
            </a:r>
            <a:br>
              <a:rPr sz="4400"/>
            </a:b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«Л.Н.Толстой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</a:rPr>
              <a:t>. </a:t>
            </a: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Главы из повести «Детство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4076640"/>
            <a:ext cx="82072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готовила: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шкова А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ОУ «СОШ №16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 Альметьев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бегавшись досыта,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идиш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бывало, за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чайны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олом, на своём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ысок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реслице; уже поздно, недавно выпил свою чашку молока с сахаром, сон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мыка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лаза, но не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трогаешь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 места,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идиш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слушаешь. И как не слушать?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man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ворит с кем – нибудь, и звуки голоса её так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лад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ак приветлив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e46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4649"/>
                </a:solidFill>
                <a:latin typeface="Arial"/>
              </a:rPr>
              <a:t>Сегодня на уроке я узна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e46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e46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4649"/>
                </a:solidFill>
                <a:latin typeface="Arial"/>
              </a:rPr>
              <a:t>На этом уроке я похвалил бы себя з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e46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e46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4649"/>
                </a:solidFill>
                <a:latin typeface="Arial"/>
              </a:rPr>
              <a:t>После урока мне захотелос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e46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e46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4649"/>
                </a:solidFill>
                <a:latin typeface="Arial"/>
              </a:rPr>
              <a:t>Сегодня я смог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азительное чтение отрывков из повести «Детств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исать внешность своей мамы. Рассказать о каком-нибудь эпизоде из её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27236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48836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должи предло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Л.Н.Толстой родился …, а умер 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Родился и жил он в основном в 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Лев Николаевич рано остался без 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В Ясной Поляне он открыл 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Л.Н.Толстой сам написал для них 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Всю свою жизнь он посвятил 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. Полное собрание сочинений составляет 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detstvo_-_eto_ya_i_tyi.MP3" descr=""/>
          <p:cNvPicPr/>
          <p:nvPr/>
        </p:nvPicPr>
        <p:blipFill>
          <a:blip r:embed="rId1"/>
          <a:stretch/>
        </p:blipFill>
        <p:spPr>
          <a:xfrm>
            <a:off x="6012000" y="4508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дети 1"/>
          <p:cNvPicPr/>
          <p:nvPr/>
        </p:nvPicPr>
        <p:blipFill>
          <a:blip r:embed="rId2"/>
          <a:stretch/>
        </p:blipFill>
        <p:spPr>
          <a:xfrm>
            <a:off x="1258920" y="1197000"/>
            <a:ext cx="698508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354954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6191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Arial"/>
              </a:rPr>
              <a:t>Проверяе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 групп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                                   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 групп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тарый дед и внучек»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Аку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рыж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Филипп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Лев и собач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4078440" y="2205000"/>
            <a:ext cx="2006280" cy="1862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6372360" y="2205000"/>
            <a:ext cx="2484360" cy="1862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3"/>
          <a:stretch/>
        </p:blipFill>
        <p:spPr>
          <a:xfrm>
            <a:off x="2916360" y="4457880"/>
            <a:ext cx="1963440" cy="1473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4"/>
          <a:stretch/>
        </p:blipFill>
        <p:spPr>
          <a:xfrm>
            <a:off x="7147080" y="4213080"/>
            <a:ext cx="1908000" cy="2133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5"/>
          <a:stretch/>
        </p:blipFill>
        <p:spPr>
          <a:xfrm>
            <a:off x="4879800" y="4249800"/>
            <a:ext cx="211464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3 груп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епкую дружбу и топором не разруби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то родителей почитает, тот во век не погиб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учше горькая правда, чем красивая лож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то грамоте горазд, тому не проп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Филиппо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Косточ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Лев и собач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Старый дед и внуче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Прямая со стрелкой 7"/>
          <p:cNvCxnSpPr/>
          <p:nvPr/>
        </p:nvCxnSpPr>
        <p:spPr>
          <a:xfrm>
            <a:off x="3708000" y="1844280"/>
            <a:ext cx="108036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" name="Прямая со стрелкой 9"/>
          <p:cNvCxnSpPr/>
          <p:nvPr/>
        </p:nvCxnSpPr>
        <p:spPr>
          <a:xfrm>
            <a:off x="2916000" y="3716280"/>
            <a:ext cx="187236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" name="Прямая со стрелкой 11"/>
          <p:cNvCxnSpPr/>
          <p:nvPr/>
        </p:nvCxnSpPr>
        <p:spPr>
          <a:xfrm flipV="1">
            <a:off x="3419280" y="2636640"/>
            <a:ext cx="1369080" cy="180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Прямая со стрелкой 13"/>
          <p:cNvCxnSpPr/>
          <p:nvPr/>
        </p:nvCxnSpPr>
        <p:spPr>
          <a:xfrm flipV="1">
            <a:off x="3995280" y="1988280"/>
            <a:ext cx="793080" cy="331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4000" y="4365720"/>
            <a:ext cx="8002440" cy="17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6633"/>
                </a:solidFill>
                <a:uFillTx/>
                <a:latin typeface="Arial"/>
              </a:rPr>
              <a:t>Три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три произведения одного автора (писателя, музыканта), объединённые общим замыслом и преемственностью сюж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.И.Ожег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417672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24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284280"/>
            <a:ext cx="6400800" cy="23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«Л.Н.Толстой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</a:rPr>
              <a:t>. </a:t>
            </a: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Главы из повести «Детство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Arial"/>
              </a:rPr>
              <a:t>План работы над произведение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читать отрывки из повести «Детств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вать главных героев произведения и проследить за их взаимоотноше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означить идею произ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Arial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леять воспоминания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вышают мою душу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учшие наслаждения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уманенными дремотой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адкие грёзы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точный халатец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одетел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ле меня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бегавшись досыта, стоишь, бывало, за обеденным столом, на своём маленьком креслице; уже поздно, недавно выпил свою чашку молока с сахаром, сон смежает глаза, но не двигаешься с места, стоишь и слушаешь. И как не слушать!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man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ворит с кем – нибудь, и звуки голоса её так нежны, так приветлив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7:09:31Z</dcterms:created>
  <dc:creator>Irina</dc:creator>
  <dc:description/>
  <dc:language>en-US</dc:language>
  <cp:lastModifiedBy>User</cp:lastModifiedBy>
  <dcterms:modified xsi:type="dcterms:W3CDTF">2017-08-27T15:55:30Z</dcterms:modified>
  <cp:revision>12</cp:revision>
  <dc:subject/>
  <dc:title>Урок литературы в 4 классе  по теме: «Л.Н.Толстой «Детство».</dc:title>
</cp:coreProperties>
</file>