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988-6387-43A2-AD40-16BA3430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A66-69D6-45C4-8B82-190925F8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803-16CD-4A95-B816-DF449796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B4F-2182-4A8F-9704-FAE5B9A6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F02-A83C-4246-863D-E370443D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884-DD4D-4FBD-A270-E3A54817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0AE-B5C5-423E-8BCD-B4A8C459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D02-6599-4E96-AB62-140834DE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5D6-23C8-4F5D-B46B-4068774A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428-93FE-46BB-8D89-9D6277F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AB1-D899-4C0E-B509-84623F2C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5A6-193D-454A-812F-DA3FAD6B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3399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3399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C38D-36BA-4612-B871-8F8D07B90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3399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Урок литературного чтения в 4 Аклассе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по теме: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«Л.Н.Толстой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Главы из повести «Детство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407664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ила: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шкова А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ОУ «СОШ №1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Альметье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егавшись досыта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диш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бывало, з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ай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лом, на своём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сок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реслице; уже поздно, недавно выпил свою чашку молока с сахаром, сон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мык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а, но н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огаешь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места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диш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слушаешь. И как не слушать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a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ит с кем – нибудь, и звуки голоса её так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ад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ак приветлив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4649"/>
                </a:solidFill>
                <a:latin typeface="Arial"/>
              </a:rPr>
              <a:t>Сегодня на уроке 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4649"/>
                </a:solidFill>
                <a:latin typeface="Arial"/>
              </a:rPr>
              <a:t>На этом уроке я похвалил бы себя з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4649"/>
                </a:solidFill>
                <a:latin typeface="Arial"/>
              </a:rPr>
              <a:t>После урока мне захоте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4649"/>
                </a:solidFill>
                <a:latin typeface="Arial"/>
              </a:rPr>
              <a:t>Сегодня я смог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ельное чтение отрывков из повести «Дет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ть внешность своей мамы. Рассказать о каком-нибудь эпизоде из её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27236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48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 пред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Л.Н.Толстой родился …, а умер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Родился и жил он в основном в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Лев Николаевич рано остался без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В Ясной Поляне он открыл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Л.Н.Толстой сам написал для них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Всю свою жизнь он посвятил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Полное собрание сочинений составляет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detstvo_-_eto_ya_i_tyi.MP3" descr=""/>
          <p:cNvPicPr/>
          <p:nvPr/>
        </p:nvPicPr>
        <p:blipFill>
          <a:blip r:embed="rId1"/>
          <a:stretch/>
        </p:blipFill>
        <p:spPr>
          <a:xfrm>
            <a:off x="6012000" y="450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дети 1"/>
          <p:cNvPicPr/>
          <p:nvPr/>
        </p:nvPicPr>
        <p:blipFill>
          <a:blip r:embed="rId2"/>
          <a:stretch/>
        </p:blipFill>
        <p:spPr>
          <a:xfrm>
            <a:off x="1258920" y="1197000"/>
            <a:ext cx="69850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5495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Проверя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групп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групп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тарый дед и внучек»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ку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ыж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Филипп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ев и соба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078440" y="2205000"/>
            <a:ext cx="2006280" cy="1862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6372360" y="2205000"/>
            <a:ext cx="2484360" cy="186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2916360" y="4457880"/>
            <a:ext cx="1963440" cy="147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7147080" y="4213080"/>
            <a:ext cx="190800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4879800" y="4249800"/>
            <a:ext cx="21146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3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пкую дружбу и топором не разруб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родителей почитает, тот во век не погиб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е горькая правда, чем красивая ло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грамоте горазд, тому не проп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Филипп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Кост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Лев и соба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тарый дед и внуче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Прямая со стрелкой 7"/>
          <p:cNvCxnSpPr/>
          <p:nvPr/>
        </p:nvCxnSpPr>
        <p:spPr>
          <a:xfrm>
            <a:off x="3708000" y="1844280"/>
            <a:ext cx="10803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Прямая со стрелкой 9"/>
          <p:cNvCxnSpPr/>
          <p:nvPr/>
        </p:nvCxnSpPr>
        <p:spPr>
          <a:xfrm>
            <a:off x="2916000" y="3716280"/>
            <a:ext cx="18723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11"/>
          <p:cNvCxnSpPr/>
          <p:nvPr/>
        </p:nvCxnSpPr>
        <p:spPr>
          <a:xfrm flipV="1">
            <a:off x="3419280" y="2636640"/>
            <a:ext cx="1369080" cy="18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13"/>
          <p:cNvCxnSpPr/>
          <p:nvPr/>
        </p:nvCxnSpPr>
        <p:spPr>
          <a:xfrm flipV="1">
            <a:off x="3995280" y="1988280"/>
            <a:ext cx="793080" cy="331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4365720"/>
            <a:ext cx="800244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Три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три произведения одного автора (писателя, музыканта), объединённые общим замыслом и преемственностью сюж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.И.Оже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1767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«Л.Н.Толстой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Главы из повести «Детство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План работы над произведени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итать отрывки из повести «Дет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ть главных героев произведения и проследить за их взаимоотно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значить идею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леять воспомина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вышают мою душу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ие наслаждени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уманенными дремотой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дкие грёз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очный халатец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детел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ле меня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егавшись досыта, стоишь, бывало, за обеденным столом, на своём маленьком креслице; уже поздно, недавно выпил свою чашку молока с сахаром, сон смежает глаза, но не двигаешься с места, стоишь и слушаешь. И как не слушать!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a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ит с кем – нибудь, и звуки голоса её так нежны, так приветлив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7:09:31Z</dcterms:created>
  <dc:creator>Irina</dc:creator>
  <dc:description/>
  <dc:language>en-US</dc:language>
  <cp:lastModifiedBy>User</cp:lastModifiedBy>
  <dcterms:modified xsi:type="dcterms:W3CDTF">2017-08-27T15:55:30Z</dcterms:modified>
  <cp:revision>12</cp:revision>
  <dc:subject/>
  <dc:title>Урок литературы в 4 классе  по теме: «Л.Н.Толстой «Детство».</dc:title>
</cp:coreProperties>
</file>