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166F-F96F-4F9E-AB22-831446E5A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C2F3-B1CC-42D6-AE32-BD7B8051A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16E-9E57-4C0A-A22B-1F3BDDE3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63B-97E6-4779-9502-D8E8D45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FD8-C36F-49BF-BCBA-CE3299F7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21F-F64E-48BF-8948-9B028679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2B6-6B03-4180-85E9-FB20BA8A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C31-CBFD-4250-92D0-A2535C12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D6F-1959-47C6-9C28-18B75912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FDF-501C-42B9-BD4D-2176E039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F51-44BC-478D-B17C-0620D392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479-6204-4DA4-B01F-4178CE9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CD2-196F-49A3-935F-E5DE3615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34B-6630-4E90-AE5E-49E9046B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B3B-1DF0-4DF5-8CCF-6FDFCA09D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3068280"/>
            <a:ext cx="7704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Calibri"/>
              </a:rPr>
              <a:t>Составила учитель-дефектолог Андрианова Е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24000" y="170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зрительного восприятия посредством составления сериаци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ьми с нарушениями зрения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P2117212.JPG"/>
          <p:cNvPicPr/>
          <p:nvPr/>
        </p:nvPicPr>
        <p:blipFill>
          <a:blip r:embed="rId1"/>
          <a:stretch/>
        </p:blipFill>
        <p:spPr>
          <a:xfrm>
            <a:off x="0" y="7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IMG_3980.JPG"/>
          <p:cNvPicPr/>
          <p:nvPr/>
        </p:nvPicPr>
        <p:blipFill>
          <a:blip r:embed="rId2"/>
          <a:stretch/>
        </p:blipFill>
        <p:spPr>
          <a:xfrm>
            <a:off x="4680000" y="3573360"/>
            <a:ext cx="446400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50920" y="371628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яда по величине, закрепление представлений о длине, при различном расположении элементов в микро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P2117200.JPG"/>
          <p:cNvPicPr/>
          <p:nvPr/>
        </p:nvPicPr>
        <p:blipFill>
          <a:blip r:embed="rId1"/>
          <a:stretch/>
        </p:blipFill>
        <p:spPr>
          <a:xfrm>
            <a:off x="4500720" y="7920"/>
            <a:ext cx="4643280" cy="3475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IMG_3988.JPG"/>
          <p:cNvPicPr/>
          <p:nvPr/>
        </p:nvPicPr>
        <p:blipFill>
          <a:blip r:embed="rId2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395280" y="404640"/>
            <a:ext cx="38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яда по таким понятиям величины, как высота и толщ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я на вертикальной плоскости и на наклонной поверх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IMG_3982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IMG_3983.JPG"/>
          <p:cNvPicPr/>
          <p:nvPr/>
        </p:nvPicPr>
        <p:blipFill>
          <a:blip r:embed="rId2"/>
          <a:stretch/>
        </p:blipFill>
        <p:spPr>
          <a:xfrm>
            <a:off x="71280" y="3429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IMG_3984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375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0" y="549360"/>
            <a:ext cx="46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яда по чередованию элементов по такому признаку, как нап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жнение – составление ряда по двум признакам: цвет и направление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P2127234.JPG"/>
          <p:cNvPicPr/>
          <p:nvPr/>
        </p:nvPicPr>
        <p:blipFill>
          <a:blip r:embed="rId1"/>
          <a:stretch/>
        </p:blipFill>
        <p:spPr>
          <a:xfrm>
            <a:off x="4572000" y="7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P2127236.JPG"/>
          <p:cNvPicPr/>
          <p:nvPr/>
        </p:nvPicPr>
        <p:blipFill>
          <a:blip r:embed="rId2"/>
          <a:stretch/>
        </p:blipFill>
        <p:spPr>
          <a:xfrm>
            <a:off x="0" y="3436920"/>
            <a:ext cx="4572000" cy="3421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50920" y="40464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Составление ряда по двум сенсорным признака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и велич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и направление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IMG_3986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IMG_3992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250920" y="3645000"/>
            <a:ext cx="417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Составление ряда по двум призна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и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на развитие внимания: «Найди ошибк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P2127240.JPG"/>
          <p:cNvPicPr/>
          <p:nvPr/>
        </p:nvPicPr>
        <p:blipFill>
          <a:blip r:embed="rId1"/>
          <a:stretch/>
        </p:blipFill>
        <p:spPr>
          <a:xfrm>
            <a:off x="4572000" y="7920"/>
            <a:ext cx="4572000" cy="3421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611280" y="1846440"/>
            <a:ext cx="4103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Составление ряда по двум призна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и на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зрительному образцу, на вертикальной поверх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4618080" y="3465360"/>
            <a:ext cx="4525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P2127239.JPG"/>
          <p:cNvPicPr/>
          <p:nvPr/>
        </p:nvPicPr>
        <p:blipFill>
          <a:blip r:embed="rId1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P2127242.JPG"/>
          <p:cNvPicPr/>
          <p:nvPr/>
        </p:nvPicPr>
        <p:blipFill>
          <a:blip r:embed="rId2"/>
          <a:stretch/>
        </p:blipFill>
        <p:spPr>
          <a:xfrm>
            <a:off x="4572000" y="7920"/>
            <a:ext cx="4572000" cy="3421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1280" y="3457440"/>
            <a:ext cx="4500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Составление ряда по трем сенсорным призна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, оттенок, нап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на индивидуальной наклонной поверх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0" y="7920"/>
            <a:ext cx="45720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P2127250.JPG"/>
          <p:cNvPicPr/>
          <p:nvPr/>
        </p:nvPicPr>
        <p:blipFill>
          <a:blip r:embed="rId1"/>
          <a:stretch/>
        </p:blipFill>
        <p:spPr>
          <a:xfrm>
            <a:off x="4572000" y="7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P2117225.JPG"/>
          <p:cNvPicPr/>
          <p:nvPr/>
        </p:nvPicPr>
        <p:blipFill>
          <a:blip r:embed="rId2"/>
          <a:stretch/>
        </p:blipFill>
        <p:spPr>
          <a:xfrm>
            <a:off x="6615000" y="3429000"/>
            <a:ext cx="256536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P2117226.JPG"/>
          <p:cNvPicPr/>
          <p:nvPr/>
        </p:nvPicPr>
        <p:blipFill>
          <a:blip r:embed="rId3"/>
          <a:stretch/>
        </p:blipFill>
        <p:spPr>
          <a:xfrm>
            <a:off x="4238640" y="3429000"/>
            <a:ext cx="256536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9" descr="P2117221.JPG"/>
          <p:cNvPicPr/>
          <p:nvPr/>
        </p:nvPicPr>
        <p:blipFill>
          <a:blip r:embed="rId4"/>
          <a:stretch/>
        </p:blipFill>
        <p:spPr>
          <a:xfrm>
            <a:off x="0" y="3436920"/>
            <a:ext cx="4284720" cy="3421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179280" y="83664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ивная деятельност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узоров по принципу чередования на предметах одежды способом штамп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image006.jpg"/>
          <p:cNvPicPr/>
          <p:nvPr/>
        </p:nvPicPr>
        <p:blipFill>
          <a:blip r:embed="rId1"/>
          <a:stretch/>
        </p:blipFill>
        <p:spPr>
          <a:xfrm>
            <a:off x="4572000" y="189000"/>
            <a:ext cx="4392720" cy="43923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539640" y="40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«сериаци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179280" y="105264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ейший пример сериации – сбор ребенком обычной пирами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6"/>
          <p:cNvSpPr/>
          <p:nvPr/>
        </p:nvSpPr>
        <p:spPr>
          <a:xfrm>
            <a:off x="71280" y="83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иация – основа понимания и правильного обращения с различными шкалами и  инструментами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8" descr="bimba.gif"/>
          <p:cNvPicPr/>
          <p:nvPr/>
        </p:nvPicPr>
        <p:blipFill>
          <a:blip r:embed="rId1"/>
          <a:stretch/>
        </p:blipFill>
        <p:spPr>
          <a:xfrm>
            <a:off x="4643280" y="189000"/>
            <a:ext cx="4249800" cy="3319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2" descr="57812236.jpg"/>
          <p:cNvPicPr/>
          <p:nvPr/>
        </p:nvPicPr>
        <p:blipFill>
          <a:blip r:embed="rId2"/>
          <a:stretch/>
        </p:blipFill>
        <p:spPr>
          <a:xfrm>
            <a:off x="203040" y="3478320"/>
            <a:ext cx="42246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P2137255.JPG"/>
          <p:cNvPicPr/>
          <p:nvPr/>
        </p:nvPicPr>
        <p:blipFill>
          <a:blip r:embed="rId1"/>
          <a:stretch/>
        </p:blipFill>
        <p:spPr>
          <a:xfrm>
            <a:off x="0" y="7920"/>
            <a:ext cx="4475160" cy="3349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P2127253.JPG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P2057138.JPG"/>
          <p:cNvPicPr/>
          <p:nvPr/>
        </p:nvPicPr>
        <p:blipFill>
          <a:blip r:embed="rId3"/>
          <a:stretch/>
        </p:blipFill>
        <p:spPr>
          <a:xfrm>
            <a:off x="4467240" y="3357720"/>
            <a:ext cx="4676760" cy="3500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24000" y="386064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ие элементов в ряду горизонтально, с ориентир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иагонали с ориент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5" descr="IMG_3978.JPG"/>
          <p:cNvPicPr/>
          <p:nvPr/>
        </p:nvPicPr>
        <p:blipFill>
          <a:blip r:embed="rId1"/>
          <a:stretch/>
        </p:blipFill>
        <p:spPr>
          <a:xfrm>
            <a:off x="144360" y="115920"/>
            <a:ext cx="4356360" cy="3241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P2127247.JPG"/>
          <p:cNvPicPr/>
          <p:nvPr/>
        </p:nvPicPr>
        <p:blipFill>
          <a:blip r:embed="rId2"/>
          <a:stretch/>
        </p:blipFill>
        <p:spPr>
          <a:xfrm>
            <a:off x="4572000" y="115920"/>
            <a:ext cx="4389480" cy="3284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P2137256.JPG"/>
          <p:cNvPicPr/>
          <p:nvPr/>
        </p:nvPicPr>
        <p:blipFill>
          <a:blip r:embed="rId3"/>
          <a:stretch/>
        </p:blipFill>
        <p:spPr>
          <a:xfrm>
            <a:off x="4572000" y="3436920"/>
            <a:ext cx="4392720" cy="3286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0" y="3573360"/>
            <a:ext cx="44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ладывание сериации по принципу насыщенности основ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ы действия при раскладывнии сери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ое примеривание (приложе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ительное соотне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P2127228.JPG"/>
          <p:cNvPicPr/>
          <p:nvPr/>
        </p:nvPicPr>
        <p:blipFill>
          <a:blip r:embed="rId1"/>
          <a:stretch/>
        </p:blipFill>
        <p:spPr>
          <a:xfrm>
            <a:off x="34920" y="71280"/>
            <a:ext cx="4487760" cy="3357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P2127249.JPG"/>
          <p:cNvPicPr/>
          <p:nvPr/>
        </p:nvPicPr>
        <p:blipFill>
          <a:blip r:embed="rId2"/>
          <a:stretch/>
        </p:blipFill>
        <p:spPr>
          <a:xfrm>
            <a:off x="4572000" y="71280"/>
            <a:ext cx="448632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P2137257.JPG"/>
          <p:cNvPicPr/>
          <p:nvPr/>
        </p:nvPicPr>
        <p:blipFill>
          <a:blip r:embed="rId3"/>
          <a:stretch/>
        </p:blipFill>
        <p:spPr>
          <a:xfrm>
            <a:off x="4572000" y="3473280"/>
            <a:ext cx="4464000" cy="33404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3645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ладывание сериации с предметными изображ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P2117194.JPG"/>
          <p:cNvPicPr/>
          <p:nvPr/>
        </p:nvPicPr>
        <p:blipFill>
          <a:blip r:embed="rId1"/>
          <a:stretch/>
        </p:blipFill>
        <p:spPr>
          <a:xfrm>
            <a:off x="3492360" y="2781360"/>
            <a:ext cx="2721240" cy="2038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P2117202.JPG"/>
          <p:cNvPicPr/>
          <p:nvPr/>
        </p:nvPicPr>
        <p:blipFill>
          <a:blip r:embed="rId2"/>
          <a:stretch/>
        </p:blipFill>
        <p:spPr>
          <a:xfrm>
            <a:off x="3492360" y="333360"/>
            <a:ext cx="2722680" cy="2068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P2117198.JPG"/>
          <p:cNvPicPr/>
          <p:nvPr/>
        </p:nvPicPr>
        <p:blipFill>
          <a:blip r:embed="rId3"/>
          <a:stretch/>
        </p:blipFill>
        <p:spPr>
          <a:xfrm>
            <a:off x="6372360" y="105264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P2117211.JPG"/>
          <p:cNvPicPr/>
          <p:nvPr/>
        </p:nvPicPr>
        <p:blipFill>
          <a:blip r:embed="rId4"/>
          <a:stretch/>
        </p:blipFill>
        <p:spPr>
          <a:xfrm>
            <a:off x="6300720" y="2781360"/>
            <a:ext cx="2747880" cy="2057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108000" y="1268280"/>
            <a:ext cx="3240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й из разновидностей сериации является черед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Черед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повторение элементов ряда по какому-либо призн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составление ряда чередования по оттенкам основ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P2117208.JPG"/>
          <p:cNvPicPr/>
          <p:nvPr/>
        </p:nvPicPr>
        <p:blipFill>
          <a:blip r:embed="rId1"/>
          <a:stretch/>
        </p:blipFill>
        <p:spPr>
          <a:xfrm>
            <a:off x="4572000" y="7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P2117209.JPG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1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108000" y="69228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яда по оттенкам цветов. Закрепление представлений о четырехугольниках и оттенках основ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на индивидуальной наклонной поверх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P2057150.JPG"/>
          <p:cNvPicPr/>
          <p:nvPr/>
        </p:nvPicPr>
        <p:blipFill>
          <a:blip r:embed="rId1"/>
          <a:stretch/>
        </p:blipFill>
        <p:spPr>
          <a:xfrm>
            <a:off x="4635360" y="79200"/>
            <a:ext cx="4508640" cy="4070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P2057152.JPG"/>
          <p:cNvPicPr/>
          <p:nvPr/>
        </p:nvPicPr>
        <p:blipFill>
          <a:blip r:embed="rId2"/>
          <a:stretch/>
        </p:blipFill>
        <p:spPr>
          <a:xfrm>
            <a:off x="71280" y="4105440"/>
            <a:ext cx="4572000" cy="2563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179280" y="1341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яда по чередованию объемных форм на индивидуальном фланелегра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10:06Z</dcterms:created>
  <dc:creator>Виталий</dc:creator>
  <dc:description/>
  <dc:language>en-US</dc:language>
  <cp:lastModifiedBy>Wit</cp:lastModifiedBy>
  <dcterms:modified xsi:type="dcterms:W3CDTF">2017-08-27T15:50:19Z</dcterms:modified>
  <cp:revision>115</cp:revision>
  <dc:subject/>
  <dc:title>Слайд 1</dc:title>
</cp:coreProperties>
</file>