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0ABD-B462-4858-A3DF-03616EB3C7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C21F-4FB3-4CD2-B8A0-696264E63FC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DFCC-08A9-43E4-906F-3E3A376D666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A738-0BF9-4469-BAA5-D57128AA54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16E-E1A7-454E-BE12-D00122D5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DE7-3BB6-49EA-BB1C-142EE73E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ECD-A1E1-4C9A-9804-CD739217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0E1-C97D-43D0-AB1B-DF3375A2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4F78-EB9B-4027-B542-04A81F42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3AF8-8EB1-4B36-9916-7EA66452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0ADD-60E8-4D2C-9046-459D7D3A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762D-B322-4360-A7B1-E8817E0E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5388-774E-4F75-9C62-31FBBEDC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2D4D-D0D5-4EB7-94C4-E2BF3A9A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ECC8-2518-4FF6-A15A-AAC0CBD6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2B9-35A0-4233-A4AE-B7E6E6EE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3727-AF39-41DD-80F7-A918F57A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A21F-5F9F-44BF-A04B-0EAA5997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6949-3A48-4675-AB1B-7334D104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4505-BDF5-42E1-907E-7577BCD2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EF3C-D788-432E-9ED9-AC8A84C2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C61CF-CEE9-43F1-9321-A3499F1F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31FDD-2D8F-4DBB-97EE-E143D159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A1BF-5BA8-4E09-BA59-318A3C50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8FDF3-4505-4AED-B04A-42E0F277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FD90-9D24-47D4-BF30-C888E0AA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9FD-EE85-46F8-B633-1F2177B5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29D60-9CD8-4BFC-B82B-F8FD5EF4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BD76F-BA4B-41EF-AEF9-23681C50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01034-2ED0-45F7-B9B2-25970A0A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61A9-31E2-4F97-9205-339893EE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F576-0913-49CD-A735-37530875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2FDF0-2251-4B5F-9F04-42E5A23E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444CC-1802-460C-B1A2-DF67CE5B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1E9F1-A198-4700-A794-C7D1A01F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16045-EFF1-41BC-B543-9462025B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B6F4D-66F5-42CE-84CC-C7454B00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404-4F4F-442F-BE8D-5859654C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100B3-9A31-420E-8B47-58FD96BD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3C944-B2BE-4E3E-8080-AC704DA9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FDBBB-660B-428A-9C52-CAA5CEBE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F4893-881C-47A9-9409-A6AE7AA7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F39A7-CCE0-4B9A-8254-D8D7B9D6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E56A1-8CA1-448A-962C-7DF58188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49E11-08C8-4350-AB45-37C40446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01EC-E5DE-4EAF-A7AC-3620E6AD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6C622-B15B-47FE-A74A-796139A2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0C369-AA2E-4683-81F2-9D9B1DE7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7DD-82A1-408F-A99B-11AD6703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A6896-DF91-454B-AABC-E386D022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0AC74-12E2-45E4-8378-70036CA3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B8FC1-AF4B-415D-A56F-ED3D1255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41485-E733-4E12-B21A-7D89F173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53456-E78F-468B-BE20-478D5735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BE3CB-FF16-4DDD-954F-07F49435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3EE68-10F1-4552-BFD7-B8A6DF8B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0F36D-D399-4701-86A9-1AA516FE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A5A07-4C8F-4AB7-8CB5-6D81A086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A1EDE-7F7E-4399-BCDE-C0814817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B98-C1EE-48C6-968C-B2A10E6B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B6B53-2DF9-403D-A5B1-213EA490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57CEB-8E0D-44F5-A220-FCE3BEBA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1AB8B-EDFE-41C3-877A-A0003074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CE6A1-88DE-42D3-8799-34249E6A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49CC5-FAD3-49AB-9B46-69161FA2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4B1DB-3A9E-4034-BC8F-CF604C4F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4DE3C-A426-4C2B-B509-229EF8E6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C1B06-A809-41F2-BE2B-C5516520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11C8F-B40C-449D-85C1-ED5417AE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18A44-D6E3-4C61-B391-2CCA268C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E7E-5044-4DCE-899B-C4D85F92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E1E5C-47F2-48ED-B5F3-884B424D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C2AB1-962D-4473-81A4-0A3EEDAC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F1B8F-76E3-4547-951F-11324DD3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BCDDB-572C-4134-9C5C-3919CF3C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C4DA3-54F2-4460-851C-7A97C7D7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116EA-9815-4B61-9656-D85A05C8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44717-8EC3-490D-9896-8EA8DB63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69FC7-11F0-46B3-AB4D-1C31845F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DFC96-7518-4753-AEAF-3D7A369B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1E7FA-9C16-463B-A278-DB2701C3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665-E89E-4C87-8EB2-632E1422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2752B-EC25-4181-8C5E-0125AAFF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9845C-BD7C-4E43-A105-3FB78C02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333B5-8322-4E87-9005-C1514568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FC40B-1138-4B76-8B44-DBB1B939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1FD26-4FDD-4625-A108-E37D60F1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F1979-4FF0-4645-A14A-AA5C53BE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FB616-61ED-4440-B42D-650406D3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DD2CE-595B-45B2-B038-05970E1A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7293D-30FC-476F-8C91-94F2F8D2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34441-E32E-4236-8078-F2BBBBA1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298-C162-4E52-A2F3-AC88EBC8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1B783-DE9A-4227-86E0-DC9DF97A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977A3-6E8D-4E89-955A-78A7800E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19EAD-F241-4D4A-96FA-25162E96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39F46-B1B2-4CD8-9FA0-F24F48C0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CF013-4F80-407E-AD9F-B80F8212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6DC07-CF61-4416-B444-7E1E8DC4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BA161-102F-4F75-968C-2E220644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2A2A-14B3-49AA-9402-9C5034BDE4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F0CF-C452-4C9D-B633-894FF4E6810F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52D3-4FCA-4F17-A31D-158AE00B72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1EA4-D6F0-4424-B63A-F06D7157F4C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A12A-0BC4-4E0B-8A46-ECA5E9E9EC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B2C9-470C-48FB-85B3-0375C899048F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1E89-FB47-4E75-B9BF-6209B1E88EE9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E4A4-3F93-49DD-BAD5-F683C56352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4" descr=""/>
          <p:cNvPicPr/>
          <p:nvPr/>
        </p:nvPicPr>
        <p:blipFill>
          <a:blip r:embed="rId1"/>
          <a:stretch/>
        </p:blipFill>
        <p:spPr>
          <a:xfrm>
            <a:off x="895320" y="255600"/>
            <a:ext cx="7931160" cy="137808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5" descr=""/>
          <p:cNvPicPr/>
          <p:nvPr/>
        </p:nvPicPr>
        <p:blipFill>
          <a:blip r:embed="rId2"/>
          <a:stretch/>
        </p:blipFill>
        <p:spPr>
          <a:xfrm>
            <a:off x="1450800" y="1695600"/>
            <a:ext cx="6504120" cy="397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1011240" y="139680"/>
            <a:ext cx="7840800" cy="10922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042920" y="1197000"/>
            <a:ext cx="7850160" cy="4464000"/>
          </a:xfrm>
          <a:prstGeom prst="rect">
            <a:avLst/>
          </a:prstGeom>
          <a:solidFill>
            <a:srgbClr val="ece7dc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2124000" y="1916280"/>
            <a:ext cx="5400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3132000" y="4653000"/>
            <a:ext cx="3527640" cy="627120"/>
          </a:xfrm>
          <a:prstGeom prst="rect">
            <a:avLst/>
          </a:prstGeom>
          <a:solidFill>
            <a:srgbClr val="3891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ЩЕСТВО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900000" y="5661000"/>
            <a:ext cx="7993080" cy="131220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воря об обособлении общества от природы, мы имеем в виду его качественную специфику, но не оторванность от природы и процессов ее естественного развития.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132000" y="1341360"/>
            <a:ext cx="3383280" cy="647640"/>
          </a:xfrm>
          <a:prstGeom prst="rect">
            <a:avLst/>
          </a:prstGeom>
          <a:solidFill>
            <a:srgbClr val="3891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РОДА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2411280" y="1341360"/>
            <a:ext cx="648000" cy="446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801000 h 4464000"/>
              <a:gd name="textAreaBottom" fmla="*/ 31219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51" stAng="-5400000" swAng="-5400000"/>
                <a:lnTo>
                  <a:pt x="0" y="11230"/>
                </a:lnTo>
                <a:arcTo wR="21600" hR="7751" stAng="10800000" swAng="-2856501"/>
                <a:lnTo>
                  <a:pt x="14876" y="21215"/>
                </a:lnTo>
                <a:lnTo>
                  <a:pt x="21600" y="17242"/>
                </a:lnTo>
                <a:lnTo>
                  <a:pt x="14876" y="12498"/>
                </a:lnTo>
                <a:lnTo>
                  <a:pt x="14876" y="15117"/>
                </a:lnTo>
                <a:arcTo wR="21600" hR="7751" stAng="7943499" swAng="2573048"/>
                <a:lnTo>
                  <a:pt x="551" y="9491"/>
                </a:lnTo>
                <a:arcTo wR="21600" hR="7751" stAng="-10516547" swAng="5116547"/>
                <a:close/>
              </a:path>
              <a:path fill="darkenLess" w="21600" h="21600">
                <a:moveTo>
                  <a:pt x="21600" y="0"/>
                </a:moveTo>
                <a:arcTo wR="21600" hR="7751" stAng="-5400000" swAng="-5400000"/>
                <a:lnTo>
                  <a:pt x="0" y="7751"/>
                </a:lnTo>
                <a:arcTo wR="21600" hR="7751" stAng="10800000" swAng="-283453"/>
                <a:lnTo>
                  <a:pt x="551" y="9491"/>
                </a:lnTo>
                <a:arcTo wR="21600" hR="7751" stAng="-10516547" swAng="5116547"/>
                <a:close/>
              </a:path>
            </a:pathLst>
          </a:cu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AutoShape 13"/>
          <p:cNvSpPr/>
          <p:nvPr/>
        </p:nvSpPr>
        <p:spPr>
          <a:xfrm rot="10665000">
            <a:off x="6659280" y="836640"/>
            <a:ext cx="647640" cy="446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801000 h 4464000"/>
              <a:gd name="textAreaBottom" fmla="*/ 31219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51" stAng="-5400000" swAng="-5400000"/>
                <a:lnTo>
                  <a:pt x="0" y="11230"/>
                </a:lnTo>
                <a:arcTo wR="21600" hR="7751" stAng="10800000" swAng="-2856501"/>
                <a:lnTo>
                  <a:pt x="14876" y="21215"/>
                </a:lnTo>
                <a:lnTo>
                  <a:pt x="21600" y="17242"/>
                </a:lnTo>
                <a:lnTo>
                  <a:pt x="14876" y="12498"/>
                </a:lnTo>
                <a:lnTo>
                  <a:pt x="14876" y="15117"/>
                </a:lnTo>
                <a:arcTo wR="21600" hR="7751" stAng="7943499" swAng="2573048"/>
                <a:lnTo>
                  <a:pt x="551" y="9491"/>
                </a:lnTo>
                <a:arcTo wR="21600" hR="7751" stAng="-10516547" swAng="5116547"/>
                <a:close/>
              </a:path>
              <a:path fill="darkenLess" w="21600" h="21600">
                <a:moveTo>
                  <a:pt x="21600" y="0"/>
                </a:moveTo>
                <a:arcTo wR="21600" hR="7751" stAng="-5400000" swAng="-5400000"/>
                <a:lnTo>
                  <a:pt x="0" y="7751"/>
                </a:lnTo>
                <a:arcTo wR="21600" hR="7751" stAng="10800000" swAng="-283453"/>
                <a:lnTo>
                  <a:pt x="551" y="9491"/>
                </a:lnTo>
                <a:arcTo wR="21600" hR="7751" stAng="-10516547" swAng="5116547"/>
                <a:close/>
              </a:path>
            </a:pathLst>
          </a:cu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Picture 14" descr="4593_negotiations"/>
          <p:cNvPicPr/>
          <p:nvPr/>
        </p:nvPicPr>
        <p:blipFill>
          <a:blip r:embed="rId2"/>
          <a:stretch/>
        </p:blipFill>
        <p:spPr>
          <a:xfrm>
            <a:off x="3059280" y="2060640"/>
            <a:ext cx="3600360" cy="245412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6"/>
          <p:cNvSpPr/>
          <p:nvPr/>
        </p:nvSpPr>
        <p:spPr>
          <a:xfrm>
            <a:off x="971640" y="2205000"/>
            <a:ext cx="1871640" cy="1922760"/>
          </a:xfrm>
          <a:prstGeom prst="rect">
            <a:avLst/>
          </a:prstGeom>
          <a:solidFill>
            <a:srgbClr val="8dc7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казывает воздействие на развитие стран и народов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6877080" y="2349360"/>
            <a:ext cx="2087640" cy="2230200"/>
          </a:xfrm>
          <a:prstGeom prst="rect">
            <a:avLst/>
          </a:prstGeom>
          <a:solidFill>
            <a:srgbClr val="8dc7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лияет на естественную среду обитания человека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+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»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4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401320" cy="2475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3212640"/>
            <a:ext cx="3927600" cy="31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entury Gothic"/>
              </a:rPr>
              <a:t>Материальная культура – здания, транспортные средства, предметы быта, приборы, оборудование и т.д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17960" y="3141720"/>
            <a:ext cx="39276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entury Gothic"/>
              </a:rPr>
              <a:t>Духовная культура – знания, язык символы, ценности, правила и нормы поведения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28440" y="1571760"/>
            <a:ext cx="75452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диционное (доиндустриальное, аграрное)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●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дустриальное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●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индустриальное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информационное)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9" name="Прямоугольник 2" descr=""/>
          <p:cNvPicPr/>
          <p:nvPr/>
        </p:nvPicPr>
        <p:blipFill>
          <a:blip r:embed="rId1"/>
          <a:stretch/>
        </p:blipFill>
        <p:spPr>
          <a:xfrm>
            <a:off x="1384200" y="298440"/>
            <a:ext cx="6973920" cy="112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Прямоугольник 309"/>
          <p:cNvGrpSpPr/>
          <p:nvPr/>
        </p:nvGrpSpPr>
        <p:grpSpPr>
          <a:xfrm>
            <a:off x="-92160" y="-103320"/>
            <a:ext cx="9302760" cy="7016760"/>
            <a:chOff x="-92160" y="-103320"/>
            <a:chExt cx="9302760" cy="7016760"/>
          </a:xfrm>
        </p:grpSpPr>
        <p:pic>
          <p:nvPicPr>
            <p:cNvPr id="411" name="Прямоугольник 309" descr=""/>
            <p:cNvPicPr/>
            <p:nvPr/>
          </p:nvPicPr>
          <p:blipFill>
            <a:blip r:embed="rId1"/>
            <a:stretch/>
          </p:blipFill>
          <p:spPr>
            <a:xfrm>
              <a:off x="-92160" y="-103320"/>
              <a:ext cx="9302760" cy="701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3" name="Text Box 13" descr=""/>
          <p:cNvPicPr/>
          <p:nvPr/>
        </p:nvPicPr>
        <p:blipFill>
          <a:blip r:embed="rId2"/>
          <a:stretch/>
        </p:blipFill>
        <p:spPr>
          <a:xfrm>
            <a:off x="2633760" y="66600"/>
            <a:ext cx="3863880" cy="50652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14"/>
          <p:cNvSpPr/>
          <p:nvPr/>
        </p:nvSpPr>
        <p:spPr>
          <a:xfrm>
            <a:off x="214200" y="7142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Segoe Print"/>
              </a:rPr>
              <a:t>Обществознание </a:t>
            </a:r>
            <a:r>
              <a:rPr b="1" i="1" lang="ru-RU" sz="2000" spc="-1" strike="noStrike">
                <a:solidFill>
                  <a:srgbClr val="ffffff"/>
                </a:solidFill>
                <a:latin typeface="Segoe Print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Segoe Print"/>
              </a:rPr>
              <a:t>это школьная учебная дисциплина, под которой понимается некий синтез базовых знаний общественных наук</a:t>
            </a:r>
            <a:r>
              <a:rPr b="1" i="1" lang="ru-RU" sz="2000" spc="-1" strike="noStrike">
                <a:solidFill>
                  <a:srgbClr val="ffffff"/>
                </a:solidFill>
                <a:latin typeface="Segoe Print"/>
              </a:rPr>
              <a:t>. 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2786040" y="321480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egoe Print"/>
              </a:rPr>
              <a:t>Науки, которые изучают общество и человека в нем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6878520" y="2433600"/>
            <a:ext cx="149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egoe Print"/>
              </a:rPr>
              <a:t>Эстетика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3639960" y="2201760"/>
            <a:ext cx="188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egoe Print"/>
              </a:rPr>
              <a:t>Политология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662040" y="2378160"/>
            <a:ext cx="18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egoe Print"/>
              </a:rPr>
              <a:t>Социология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14"/>
          <p:cNvSpPr/>
          <p:nvPr/>
        </p:nvSpPr>
        <p:spPr>
          <a:xfrm>
            <a:off x="507960" y="52084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egoe Print"/>
              </a:rPr>
              <a:t>Юриспруденция (правоведение)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5856120" y="5168880"/>
            <a:ext cx="322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egoe Print"/>
              </a:rPr>
              <a:t>Экономика (экономическая теория)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176040" y="36939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egoe Print"/>
              </a:rPr>
              <a:t>Этика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3316320" y="58975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egoe Print"/>
              </a:rPr>
              <a:t>Культурология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6541920" y="36939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egoe Print"/>
              </a:rPr>
              <a:t>Этнология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4" name="Прямая со стрелкой 39"/>
          <p:cNvCxnSpPr/>
          <p:nvPr/>
        </p:nvCxnSpPr>
        <p:spPr>
          <a:xfrm flipH="1">
            <a:off x="2156760" y="3823920"/>
            <a:ext cx="967320" cy="108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5" name="Прямая со стрелкой 42"/>
          <p:cNvCxnSpPr/>
          <p:nvPr/>
        </p:nvCxnSpPr>
        <p:spPr>
          <a:xfrm flipH="1">
            <a:off x="2640960" y="4117680"/>
            <a:ext cx="965880" cy="67068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6" name="Прямая со стрелкой 44"/>
          <p:cNvCxnSpPr>
            <a:endCxn id="418" idx="3"/>
          </p:cNvCxnSpPr>
          <p:nvPr/>
        </p:nvCxnSpPr>
        <p:spPr>
          <a:xfrm flipH="1" flipV="1">
            <a:off x="2542680" y="2577240"/>
            <a:ext cx="858240" cy="54540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7" name="Прямая со стрелкой 46"/>
          <p:cNvCxnSpPr>
            <a:stCxn id="415" idx="2"/>
          </p:cNvCxnSpPr>
          <p:nvPr/>
        </p:nvCxnSpPr>
        <p:spPr>
          <a:xfrm flipH="1">
            <a:off x="4346280" y="4230360"/>
            <a:ext cx="2160" cy="84852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8" name="Прямая со стрелкой 49"/>
          <p:cNvCxnSpPr>
            <a:stCxn id="415" idx="0"/>
            <a:endCxn id="417" idx="2"/>
          </p:cNvCxnSpPr>
          <p:nvPr/>
        </p:nvCxnSpPr>
        <p:spPr>
          <a:xfrm flipV="1">
            <a:off x="4348080" y="2601720"/>
            <a:ext cx="234000" cy="61344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9" name="Прямая со стрелкой 52"/>
          <p:cNvCxnSpPr/>
          <p:nvPr/>
        </p:nvCxnSpPr>
        <p:spPr>
          <a:xfrm>
            <a:off x="5522400" y="4156200"/>
            <a:ext cx="864360" cy="59256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30" name="Прямая со стрелкой 55"/>
          <p:cNvCxnSpPr/>
          <p:nvPr/>
        </p:nvCxnSpPr>
        <p:spPr>
          <a:xfrm>
            <a:off x="5571720" y="3785760"/>
            <a:ext cx="950040" cy="108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31" name="Прямая со стрелкой 58"/>
          <p:cNvCxnSpPr>
            <a:endCxn id="416" idx="1"/>
          </p:cNvCxnSpPr>
          <p:nvPr/>
        </p:nvCxnSpPr>
        <p:spPr>
          <a:xfrm flipV="1">
            <a:off x="5737320" y="2633400"/>
            <a:ext cx="1141920" cy="62280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420840" y="762120"/>
            <a:ext cx="80467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0" y="1928880"/>
          <a:ext cx="9144000" cy="4114800"/>
        </p:xfrm>
        <a:graphic>
          <a:graphicData uri="http://schemas.openxmlformats.org/drawingml/2006/table"/>
        </a:graphic>
      </p:graphicFrame>
      <p:sp>
        <p:nvSpPr>
          <p:cNvPr id="434" name="Прямоугольник 3"/>
          <p:cNvSpPr/>
          <p:nvPr/>
        </p:nvSpPr>
        <p:spPr>
          <a:xfrm>
            <a:off x="642960" y="235728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акой смысл обществоведы вкладывают в понятие «общество»? Привлекая знания обществоведческого курса, составьте два предложения: одно предложение, содержащее информацию о науках, изучающих общество, и одно предложение раскрывающее особенности жизнедеятельности человека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231840" y="-85680"/>
            <a:ext cx="8461440" cy="19335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3"/>
          <p:cNvSpPr/>
          <p:nvPr/>
        </p:nvSpPr>
        <p:spPr>
          <a:xfrm>
            <a:off x="142920" y="18748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Без общества, без кооперации, без способов  взаимодействия может ли выжить человек?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иведите 2 аргумента в подтверждение своего мнения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3"/>
          <a:stretch/>
        </p:blipFill>
        <p:spPr>
          <a:xfrm>
            <a:off x="4648320" y="1785960"/>
            <a:ext cx="4038480" cy="442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Общество в узком смысле: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00"/>
                </a:solidFill>
                <a:uFillTx/>
                <a:latin typeface="Century Gothic"/>
              </a:rPr>
              <a:t>Круг людей объединенных общими целями, интересами, происхождением, уровнем жизни </a:t>
            </a:r>
            <a:r>
              <a:rPr b="1" i="1" lang="ru-RU" sz="2400" spc="-1" strike="noStrike">
                <a:solidFill>
                  <a:srgbClr val="003300"/>
                </a:solidFill>
                <a:latin typeface="Century Gothic"/>
              </a:rPr>
              <a:t>(акционерное общество, общество книголюбов, дворянское собрание, крестьянская община, высшее общество);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00"/>
                </a:solidFill>
                <a:uFillTx/>
                <a:latin typeface="Century Gothic"/>
              </a:rPr>
              <a:t>Регион</a:t>
            </a:r>
            <a:r>
              <a:rPr b="1" i="1" lang="ru-RU" sz="2400" spc="-1" strike="noStrike">
                <a:solidFill>
                  <a:srgbClr val="003300"/>
                </a:solidFill>
                <a:latin typeface="Century Gothic"/>
              </a:rPr>
              <a:t> (российское общество, приморцы);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00"/>
                </a:solidFill>
                <a:uFillTx/>
                <a:latin typeface="Century Gothic"/>
              </a:rPr>
              <a:t>По национальному признаку </a:t>
            </a:r>
            <a:r>
              <a:rPr b="1" i="1" lang="ru-RU" sz="2400" spc="-1" strike="noStrike">
                <a:solidFill>
                  <a:srgbClr val="003300"/>
                </a:solidFill>
                <a:latin typeface="Century Gothic"/>
              </a:rPr>
              <a:t>(русский народ,  армянская диаспора);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00"/>
                </a:solidFill>
                <a:uFillTx/>
                <a:latin typeface="Century Gothic"/>
              </a:rPr>
              <a:t>Отдельное конкретное общество, страна, государство;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00"/>
                </a:solidFill>
                <a:uFillTx/>
                <a:latin typeface="Century Gothic"/>
              </a:rPr>
              <a:t>Исторический  этап в развитии человечества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entury Gothic"/>
              </a:rPr>
              <a:t>(феодальное общество, капиталистическое общество);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00"/>
                </a:solidFill>
                <a:uFillTx/>
                <a:latin typeface="Century Gothic"/>
              </a:rPr>
              <a:t>Человечество в целом </a:t>
            </a:r>
            <a:r>
              <a:rPr b="1" i="1" lang="ru-RU" sz="2400" spc="-1" strike="noStrike">
                <a:solidFill>
                  <a:srgbClr val="003300"/>
                </a:solidFill>
                <a:latin typeface="Century Gothic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2"/>
          <p:cNvSpPr/>
          <p:nvPr/>
        </p:nvSpPr>
        <p:spPr>
          <a:xfrm>
            <a:off x="0" y="0"/>
            <a:ext cx="9144000" cy="371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entury Gothic"/>
              </a:rPr>
              <a:t>Общество в широком смысле: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ctr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entury Gothic"/>
              </a:rPr>
              <a:t>Обособившаяся от природы, но тесно связанная с ней часть материального мира, которая включает в себя способы взаимодействия людей и формы их объединения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ctr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entury Gothic"/>
              </a:rPr>
              <a:t>Прошлое, настоящее и будущее человечества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ctr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ctr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ctr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871560" y="176040"/>
            <a:ext cx="8186760" cy="14083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1115640" y="1557360"/>
            <a:ext cx="7559640" cy="4309920"/>
          </a:xfrm>
          <a:prstGeom prst="rect">
            <a:avLst/>
          </a:prstGeom>
          <a:solidFill>
            <a:srgbClr val="ece7dc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Rectangle 4" descr=""/>
          <p:cNvPicPr/>
          <p:nvPr/>
        </p:nvPicPr>
        <p:blipFill>
          <a:blip r:embed="rId2"/>
          <a:stretch/>
        </p:blipFill>
        <p:spPr>
          <a:xfrm>
            <a:off x="2828880" y="1616040"/>
            <a:ext cx="4132440" cy="938160"/>
          </a:xfrm>
          <a:prstGeom prst="rect">
            <a:avLst/>
          </a:prstGeom>
          <a:ln w="0">
            <a:noFill/>
          </a:ln>
        </p:spPr>
      </p:pic>
      <p:pic>
        <p:nvPicPr>
          <p:cNvPr id="359" name="Text Box 5" descr=""/>
          <p:cNvPicPr/>
          <p:nvPr/>
        </p:nvPicPr>
        <p:blipFill>
          <a:blip r:embed="rId3"/>
          <a:stretch/>
        </p:blipFill>
        <p:spPr>
          <a:xfrm>
            <a:off x="884160" y="5084640"/>
            <a:ext cx="8120160" cy="1255680"/>
          </a:xfrm>
          <a:prstGeom prst="rect">
            <a:avLst/>
          </a:prstGeom>
          <a:ln w="0">
            <a:noFill/>
          </a:ln>
        </p:spPr>
      </p:pic>
      <p:pic>
        <p:nvPicPr>
          <p:cNvPr id="360" name="Text Box 9" descr=""/>
          <p:cNvPicPr/>
          <p:nvPr/>
        </p:nvPicPr>
        <p:blipFill>
          <a:blip r:embed="rId4"/>
          <a:stretch/>
        </p:blipFill>
        <p:spPr>
          <a:xfrm>
            <a:off x="1103400" y="2901960"/>
            <a:ext cx="7632720" cy="149400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10"/>
          <p:cNvSpPr/>
          <p:nvPr/>
        </p:nvSpPr>
        <p:spPr>
          <a:xfrm>
            <a:off x="4572000" y="2637000"/>
            <a:ext cx="431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643280" y="4508640"/>
            <a:ext cx="43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871560" y="171360"/>
            <a:ext cx="8059680" cy="12794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1115640" y="1557360"/>
            <a:ext cx="7559640" cy="4309920"/>
          </a:xfrm>
          <a:prstGeom prst="rect">
            <a:avLst/>
          </a:prstGeom>
          <a:solidFill>
            <a:srgbClr val="ece7dc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Rectangle 4" descr=""/>
          <p:cNvPicPr/>
          <p:nvPr/>
        </p:nvPicPr>
        <p:blipFill>
          <a:blip r:embed="rId2"/>
          <a:stretch/>
        </p:blipFill>
        <p:spPr>
          <a:xfrm>
            <a:off x="5278320" y="1311120"/>
            <a:ext cx="3268800" cy="974880"/>
          </a:xfrm>
          <a:prstGeom prst="rect">
            <a:avLst/>
          </a:prstGeom>
          <a:ln w="0">
            <a:noFill/>
          </a:ln>
        </p:spPr>
      </p:pic>
      <p:pic>
        <p:nvPicPr>
          <p:cNvPr id="366" name="Text Box 5" descr=""/>
          <p:cNvPicPr/>
          <p:nvPr/>
        </p:nvPicPr>
        <p:blipFill>
          <a:blip r:embed="rId3"/>
          <a:stretch/>
        </p:blipFill>
        <p:spPr>
          <a:xfrm>
            <a:off x="4767120" y="2273400"/>
            <a:ext cx="4284720" cy="2706480"/>
          </a:xfrm>
          <a:prstGeom prst="rect">
            <a:avLst/>
          </a:prstGeom>
          <a:ln w="0">
            <a:noFill/>
          </a:ln>
        </p:spPr>
      </p:pic>
      <p:pic>
        <p:nvPicPr>
          <p:cNvPr id="367" name="Rectangle 6" descr=""/>
          <p:cNvPicPr/>
          <p:nvPr/>
        </p:nvPicPr>
        <p:blipFill>
          <a:blip r:embed="rId4"/>
          <a:stretch/>
        </p:blipFill>
        <p:spPr>
          <a:xfrm>
            <a:off x="957240" y="1523880"/>
            <a:ext cx="3627360" cy="695520"/>
          </a:xfrm>
          <a:prstGeom prst="rect">
            <a:avLst/>
          </a:prstGeom>
          <a:ln w="0">
            <a:noFill/>
          </a:ln>
        </p:spPr>
      </p:pic>
      <p:pic>
        <p:nvPicPr>
          <p:cNvPr id="368" name="Text Box 7" descr=""/>
          <p:cNvPicPr/>
          <p:nvPr/>
        </p:nvPicPr>
        <p:blipFill>
          <a:blip r:embed="rId5"/>
          <a:stretch/>
        </p:blipFill>
        <p:spPr>
          <a:xfrm>
            <a:off x="785880" y="2346480"/>
            <a:ext cx="4114800" cy="2792160"/>
          </a:xfrm>
          <a:prstGeom prst="rect">
            <a:avLst/>
          </a:prstGeom>
          <a:ln w="0">
            <a:noFill/>
          </a:ln>
        </p:spPr>
      </p:pic>
      <p:pic>
        <p:nvPicPr>
          <p:cNvPr id="369" name="Text Box 8" descr=""/>
          <p:cNvPicPr/>
          <p:nvPr/>
        </p:nvPicPr>
        <p:blipFill>
          <a:blip r:embed="rId6"/>
          <a:stretch/>
        </p:blipFill>
        <p:spPr>
          <a:xfrm>
            <a:off x="963720" y="5383080"/>
            <a:ext cx="7935840" cy="102420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9"/>
          <p:cNvSpPr/>
          <p:nvPr/>
        </p:nvSpPr>
        <p:spPr>
          <a:xfrm>
            <a:off x="7885080" y="5013360"/>
            <a:ext cx="50472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AutoShape 10"/>
          <p:cNvSpPr/>
          <p:nvPr/>
        </p:nvSpPr>
        <p:spPr>
          <a:xfrm>
            <a:off x="1258920" y="5013360"/>
            <a:ext cx="50472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682560" y="390600"/>
            <a:ext cx="7839000" cy="12254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15"/>
          <p:cNvSpPr/>
          <p:nvPr/>
        </p:nvSpPr>
        <p:spPr>
          <a:xfrm>
            <a:off x="642960" y="2643120"/>
            <a:ext cx="8143920" cy="94716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ажным условием жизни человека является 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ЛЛЕКТИВНОСТЬ!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1011240" y="6480"/>
            <a:ext cx="7840800" cy="1225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971280" y="1268280"/>
            <a:ext cx="7848360" cy="4321440"/>
          </a:xfrm>
          <a:prstGeom prst="rect">
            <a:avLst/>
          </a:prstGeom>
          <a:solidFill>
            <a:srgbClr val="e1cea7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бщество – это коллектив коллективов (семья, трудовой коллектив, одноклассники, спортивная команда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8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пределенная совокупность людей, имеющих общие социальные признаки, например социальная группа, профессия, национальность, религиозная принадлежность,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общностью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900000" y="4221000"/>
            <a:ext cx="7993080" cy="239652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образные связи между социальными группами, нациями, а также внутри их в процессе их экономической, социальной, политической, культурной и др. деятельности, называются ОБЩЕСТВЕННЫМИ ОТНОШЕНИЯМИ!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1011240" y="139680"/>
            <a:ext cx="7840800" cy="10922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1042920" y="1197000"/>
            <a:ext cx="7850160" cy="4464000"/>
          </a:xfrm>
          <a:prstGeom prst="rect">
            <a:avLst/>
          </a:prstGeom>
          <a:solidFill>
            <a:srgbClr val="ece7dc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2124000" y="1916280"/>
            <a:ext cx="5400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700360" y="1268280"/>
            <a:ext cx="4103640" cy="914400"/>
          </a:xfrm>
          <a:prstGeom prst="rect">
            <a:avLst/>
          </a:prstGeom>
          <a:solidFill>
            <a:srgbClr val="3891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ЩЕСТВО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1" name="Text Box 13" descr=""/>
          <p:cNvPicPr/>
          <p:nvPr/>
        </p:nvPicPr>
        <p:blipFill>
          <a:blip r:embed="rId2"/>
          <a:stretch/>
        </p:blipFill>
        <p:spPr>
          <a:xfrm>
            <a:off x="1030320" y="2755800"/>
            <a:ext cx="7875720" cy="106056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4"/>
          <p:cNvSpPr/>
          <p:nvPr/>
        </p:nvSpPr>
        <p:spPr>
          <a:xfrm>
            <a:off x="4716360" y="2276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900000" y="5589720"/>
            <a:ext cx="7993080" cy="77652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чем состоит обособление  общества от природы?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011240" y="139680"/>
            <a:ext cx="7840800" cy="10922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1042920" y="1197000"/>
            <a:ext cx="7850160" cy="4680000"/>
          </a:xfrm>
          <a:prstGeom prst="rect">
            <a:avLst/>
          </a:prstGeom>
          <a:solidFill>
            <a:srgbClr val="ece7dc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2124000" y="1916280"/>
            <a:ext cx="5400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71640" y="1268280"/>
            <a:ext cx="7993080" cy="727560"/>
          </a:xfrm>
          <a:prstGeom prst="rect">
            <a:avLst/>
          </a:prstGeom>
          <a:solidFill>
            <a:srgbClr val="3891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ОСОБИТЬСЯ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выделиться из общего, занять особое, изолированное положени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900000" y="5805360"/>
            <a:ext cx="7993080" cy="80676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.В. Мичурин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не можем ждать милостей от природы; взять их у нее - наша задача».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5076720" y="2060640"/>
            <a:ext cx="3743280" cy="792000"/>
          </a:xfrm>
          <a:prstGeom prst="rect">
            <a:avLst/>
          </a:prstGeom>
          <a:solidFill>
            <a:srgbClr val="3891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ЩЕСТВО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нание, воля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1042920" y="2060640"/>
            <a:ext cx="2521080" cy="863640"/>
          </a:xfrm>
          <a:prstGeom prst="rect">
            <a:avLst/>
          </a:prstGeom>
          <a:solidFill>
            <a:srgbClr val="3891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РОДА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ихия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9"/>
          <p:cNvSpPr/>
          <p:nvPr/>
        </p:nvSpPr>
        <p:spPr>
          <a:xfrm>
            <a:off x="1042920" y="4581360"/>
            <a:ext cx="2808360" cy="825480"/>
          </a:xfrm>
          <a:prstGeom prst="rect">
            <a:avLst/>
          </a:prstGeom>
          <a:solidFill>
            <a:srgbClr val="e1ce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бъективные законы развития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30"/>
          <p:cNvSpPr/>
          <p:nvPr/>
        </p:nvSpPr>
        <p:spPr>
          <a:xfrm>
            <a:off x="4859280" y="4581360"/>
            <a:ext cx="3745080" cy="825480"/>
          </a:xfrm>
          <a:prstGeom prst="rect">
            <a:avLst/>
          </a:prstGeom>
          <a:solidFill>
            <a:srgbClr val="e1ce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ет культуру – вторую природу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31"/>
          <p:cNvSpPr/>
          <p:nvPr/>
        </p:nvSpPr>
        <p:spPr>
          <a:xfrm>
            <a:off x="1403280" y="3500280"/>
            <a:ext cx="6913800" cy="520560"/>
          </a:xfrm>
          <a:prstGeom prst="rect">
            <a:avLst/>
          </a:prstGeom>
          <a:solidFill>
            <a:srgbClr val="8dc7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 чему привела такая установка сегодня?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1:08:39Z</dcterms:created>
  <dc:creator>Admin</dc:creator>
  <dc:description/>
  <dc:language>en-US</dc:language>
  <cp:lastModifiedBy>история</cp:lastModifiedBy>
  <dcterms:modified xsi:type="dcterms:W3CDTF">2017-08-27T17:58:53Z</dcterms:modified>
  <cp:revision>9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