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8AEA-8F67-412C-8B3E-7F153BB5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1B6A-719C-4E96-ACD5-67ECB76E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44D7B-6875-428B-A636-1B07E24A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522FD-E81B-48E4-B307-17D4F2F0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C5DCB-A5F3-4B16-AF99-E29D8490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CD006-87DB-4D9C-A6E4-90F01AA4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79114-1B70-4C52-8EA9-5393234F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708FF-C9C7-4AC7-8ECF-48A600F8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366F8-3283-4D8B-B87B-B9AB4A1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AF93E-879B-432D-A634-245E1510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6F84E-8346-49A8-ABAB-37BBF9DE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368872-F366-4813-A9B9-ABF224EC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A55C-31B1-4B3F-82CA-348060AF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3E15FE-2BE8-4930-82A1-B4752932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38C97-0B1A-4F0D-A82F-A6294C26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A81652-18C4-4A88-B072-36146B0D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BAC762-8E46-4FCC-A546-77EFD957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80E667-399D-4097-A135-F6BAF72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E827AA-C40F-47C7-B130-FB113D33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6C2EEB-D3F1-4D4D-9E51-25D0E5CC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AE6833-100E-4D88-A2C1-588C513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D01296-91D6-4C99-8A43-B5619BA2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0E15C9-A531-4EBA-9628-45A18AA9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F4A2-0D34-49F6-8913-F2A46B02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7D9846-E470-4B1B-8F58-0E657904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74A45-1798-4DC3-A693-C9A7B5C4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0AC4A-5EFD-4C6E-827E-10898060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9B13A-CF01-494D-A5BD-1F4D948B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86E5A-3D81-410E-80F6-CF815E6A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FF6E2-5B23-476D-A8CD-19BF5A77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02410-8F0C-45BA-871D-791FAD40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8E1A0-3278-4EEE-A90B-AF61F034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5BC8B-DE5D-4BF6-8307-A22C632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CB354-A795-4746-8504-8DDB1BE5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E9EFE-0D6E-41D7-8EC9-01CC2677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7859C-6276-4323-BF6E-122B6466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19977-047D-475D-9C0C-A5EA6EAF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FED35-BC84-4B3C-85FB-A4377685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856F1-D040-40DA-8F08-73366756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DE98D-60A6-4D5B-8D2E-728FBDDA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FDFB8-41D2-4668-A870-615B7F6B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92D3B-21A4-4D12-873B-89188EF1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B1774-93A3-4607-A8FD-668F9FF6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F1C74-6F1D-4BE3-92A6-4C255342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27396-3E70-498B-8443-F7279934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14E97-DA8C-427A-AB1C-55E444A4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BD8E8-9498-4338-A9F5-E8147D27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4CA24-F014-4198-80D5-404B38F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DBD8D-C233-4ECB-A8A2-97408AA5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009EE-9629-4178-94D7-216F7307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01469-33E7-4333-9E94-2EC0E1B2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B898F3-1B86-4220-A1D6-82C7BF38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D4924A-8EC9-402B-A82D-42EE1B19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CBDF7E-5191-4B21-9E0D-ED95240F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AC3ECD-777A-4EAE-9704-642293A3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95B3C9-DA6F-4A60-8BAF-FD6A1E3F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60B3F-3AC6-4F8C-9A4C-21201B1A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99870C-56F8-438A-8F3D-98643290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A686DA-13F7-4B0F-8299-DB446BCC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5DA3CC-7E54-4004-9B24-2A045C46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66AFC5-24A4-4D54-B9A0-18A0EF5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122F4A-082E-4B0A-A4CE-C634F6A6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682FAD-4587-4685-85B3-4E482772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C06AF8-7E69-4214-BC46-7678E0CF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92C6A-15D4-415F-8167-C742E43A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3D41C-E1A5-4E9D-884A-DA50B1CF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D2BC8-2EF6-440E-9F87-10CDAE1E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88FB6-4859-4D04-81C3-39120524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B6124-C448-4C47-A1B8-5923A89C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7DA1C-B2EE-4DB9-A05F-4CE3F7FD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5AAD6-F956-4E3C-ACCE-C4DB980A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B283E-B055-4E75-8BCD-CBD7E42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9CDBA-4279-4CB5-897D-77F247BD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78246-CDB9-401E-AC0E-6DED8EEB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9E45F-8ED8-4394-8253-992D963B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20268-6C3D-462D-8FB1-C43D80AA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642CE-5D87-47A2-B8DC-58A31C80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3C60E-0C1B-4774-8768-658B7B13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B6C18-58EF-46F8-85D5-43834D94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5BC44-F93B-4C12-B92F-8437F369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04CBF-3B1B-4204-94BC-874213E5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40016-8B8B-49B8-B708-86114945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2D243-37AB-4E63-90BE-BD080B9A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2F4E0-BE09-488B-BB48-8662A44A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BEE7EA-255D-4B79-8DE7-A6E509B0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A018E-B908-4AF3-9272-E211D274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96DBA-E7D8-47DE-8B98-32481115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2A78C2-7B9B-4CDE-A8C5-BF8EADB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02640-CE3C-437F-A39E-86EA270F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EF963-904F-4CFD-9080-D9EE50E3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B2C05-FFB0-4E0D-9FAE-EE538BC3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082BB-E3AA-42CF-92DA-3CD01A04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7A85C-5D09-4975-8C84-C68B9660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C4A15-56D7-43DC-94E0-C0847FB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74C11-4833-43DD-9162-9A4FD29E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0F5E0-22C0-414F-B437-E37999A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CE2C7-2933-4B0A-85A7-877DF6D0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9A344-340D-4A4E-8194-6A481F82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70B1F-9DD9-412A-83FD-5C97D38B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63966-DDE1-4F1D-B9E7-3AEDCE41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9A299-D61C-469F-96B0-387CCAD5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59063-A130-418E-BF98-9FE3FB3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54CE8-E69F-4F89-BDB3-AFEF8CEF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BB92F-7042-4898-B518-B9A10EA4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4D24-B0DE-45C2-8228-57CCA5FB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F3DB4-D230-47A0-B9C1-E4271381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6EE54-A222-402C-A84D-81A5F847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12DA6-2E58-4598-AC7C-D7ADF7EA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B311D-15C0-4078-B618-7DDB812E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9A580-F3F5-4AFC-85E2-0E7C8F7E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E011-60F6-41DD-A96B-F4DB4DE7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3582-8686-4F5C-9306-707ABD73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682B-E3D9-468F-86C5-919B9A20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6B9D1-B5FD-4197-BCD7-5D07F6DF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3351-E21C-40B5-A549-1070BE7A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D40C-5DC1-4310-BABA-3C1BA456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A4BE-BB28-4607-B6EE-D6E1480B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37118-B1EF-4678-BDB5-63F50C90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C4C5-6092-4147-89CC-70D27021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65E2-03BD-4606-B359-8389F2CB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CF07-56B5-496D-9406-8383CCB6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199EE-3899-4048-9052-E329446C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D9DA-AE25-4B90-8469-3948F827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FD114-1905-47C7-8F37-1678EDA2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DCB1-5BAD-4C3B-B038-85406D96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6F34-D73B-4245-91F1-AD1044B9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8C17-400F-45B8-A73C-306CAB11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F2BCC-AB74-43FF-8B7C-78765EDD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03BA-908D-4C68-80BA-E1DF7A91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717F-0CA3-46D7-BF78-E4E18056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5FE7-8843-441C-9DF7-8FAFA49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FC05-5935-485E-82A4-1C8EF2D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54D41-C08F-4221-B0E7-B499B527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887C-0F04-40BA-AB20-DC4CB5F5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95A6-5687-4990-A3D2-BC43E7DE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DFF0F-3B55-410D-A2B4-8D9C23E0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19E2A-16C9-412B-9704-3DAD2A18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3CAD-9107-4088-AC41-7BBC0A82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8667A-AAE1-456C-A89B-D3A92F63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643D3-EB54-4F16-BB07-B182EADA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CE851-D0AC-4602-984F-BA6A452A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C07FA-D895-4B01-AEAE-140EB7C8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E3055-BA73-4DF2-9B39-64F2BEF2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3D28E-B7BC-4FFF-858F-2F7AEF2E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3F793-EFD4-4D04-BFC6-DE6850A7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E3997-1AD7-49FC-A1F7-A54AA5DA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86972-716E-46D1-87CF-A13E9EDB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D706E-30CF-4A8B-8DD6-F827C607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70A9-4133-4DC2-978F-77D59818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8AE56-F467-4FDA-9B71-BF0908EA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B2128-3593-4A80-AB57-5B0647CA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FAADD-5C88-4782-9D0B-2DD091C2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38227-1F6D-4ED2-AC94-1DD5BDA4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9F5B-2BC4-4A81-8A36-BAA6832B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BC3F1-D512-455E-B93A-FF74DCB9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37A06-79C1-427E-94B3-B0FE2FEE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2616C-0567-46EB-A72B-CEA4469D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0CC12-7BDA-48D9-BFA4-C7D6FFD6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9142D-5AF0-4B4A-B863-1CDE4F1D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DCF3-9FA5-49AC-A05E-D6F2A218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09DCB-F7F8-4EB5-82BE-1EF7C76E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6C836-739B-49E5-BE1B-1493B5DB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77107-25F3-48C9-A580-02159ED7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E34A2-BBC3-4573-AE00-1B2BCBFF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9771F-0640-45C0-BE32-2C1F4EC3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B2643-6EA9-4A0D-8E3D-1C031636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E569-5062-4550-8D9A-A5DD279C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C6BC8-254B-40EE-BC37-68C0FF10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6EE6E-BD8F-43FD-B9E9-4B1C04E9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3AC71-DE78-4BC3-B613-C64CD6B0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A3B5-7FD7-45EF-94A0-A6B7F4F3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B7E7F-584E-48E4-B26F-EEEADB72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E467-6370-4381-AD74-46CAF758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5C4AA-B509-49FE-A188-4F009874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11424-F511-4E08-8B7B-C50066B3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308BE-EA86-4EA5-882C-47584054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6C1535-4EE5-43A9-B4BA-AAEDD6C8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1DA3ED-8048-441A-98F4-E98E910A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77E804-65DD-49A3-9243-55DB4E67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02BC35-27FF-4BCE-85CF-91CBF83C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936073-EC3A-4BBE-ACD7-3E7F727E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9087-CDF6-48DA-8953-D88BFD53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C0E65-1F24-4D8B-A06B-1AFEF148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A9B8F1-4CCE-4177-B709-F5D72C9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215163-4DA7-4A63-96A3-0D3DD35C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50443E-95AA-4FB5-93D3-7DBBD5E4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E242D-C26B-4376-8B2C-35647CD4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DA6D50-879A-41A2-8281-45A57635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A27F35-0AD6-4D62-8D41-94A7882B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45E8C-31B4-4298-AE7E-32DD4070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ABF0A-F0FC-49C7-8112-5460DD72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5733F-838E-4CF7-9D50-0A48DFD1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DA36-FBE9-4910-8379-CEDC4E267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4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4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4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DA7B-9BC7-41EB-8A67-E969E97DF3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03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06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80FE-623F-4FE4-9D35-1F3414352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54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57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3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3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3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C89E-C0F7-450D-BDC7-CC5006BF5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0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EF77-2460-47D6-8B4E-1AC750AA20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6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AEF6-1372-4B36-885A-F191D8E93F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2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6732-6722-4615-8CEA-554A9E659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7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77A4-6233-4897-B3A5-AE173FD8C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8B50-51DB-4CA7-9E34-C008D2D76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9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9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C29E-4D1F-4166-AAB6-8481E47514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4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4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5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017D-065C-4931-BD80-BFD4DA4AFA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FAAB-D352-4240-93EF-1A88621189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1E11-0635-4E15-9703-C1834B709890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70CD-C6BA-4D56-AB85-9B78C7523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72CD-6423-4949-B2B5-21A429F78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8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8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9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B4CD-CFF8-406E-9104-B84BCE2A83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4360" y="2964960"/>
            <a:ext cx="7772400" cy="41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«Журнал чудес России»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Monotype Corsiva"/>
              </a:rPr>
              <a:t>Озеро Байкал</a:t>
            </a:r>
            <a:endParaRPr b="0" lang="en-US" sz="1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5572080" cy="431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835280" y="249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i="1" lang="en-US" sz="6600" spc="-1" strike="noStrike">
                <a:solidFill>
                  <a:srgbClr val="ffffb7"/>
                </a:solidFill>
                <a:latin typeface="Rockwell Extra Bold"/>
              </a:rPr>
              <a:t>Развитие международного туризм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pull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1" i="1" lang="en-US" sz="70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1" i="1" lang="ru-RU" sz="7000" spc="-1" strike="noStrike">
                <a:solidFill>
                  <a:srgbClr val="ffffcc"/>
                </a:solidFill>
                <a:latin typeface="Tahoma"/>
              </a:rPr>
              <a:t>ast </a:t>
            </a:r>
            <a:r>
              <a:rPr b="1" i="1" lang="en-US" sz="7000" spc="-1" strike="noStrike">
                <a:solidFill>
                  <a:srgbClr val="ffffcc"/>
                </a:solidFill>
                <a:latin typeface="Tahoma"/>
              </a:rPr>
              <a:t>or West</a:t>
            </a:r>
            <a:r>
              <a:rPr b="1" i="1" lang="ru-RU" sz="7000" spc="-1" strike="noStrike">
                <a:solidFill>
                  <a:srgbClr val="ffffcc"/>
                </a:solidFill>
                <a:latin typeface="Tahoma"/>
              </a:rPr>
              <a:t> – </a:t>
            </a:r>
            <a:r>
              <a:rPr b="1" i="1" lang="en-US" sz="7000" spc="-1" strike="noStrike">
                <a:solidFill>
                  <a:srgbClr val="ffffcc"/>
                </a:solidFill>
                <a:latin typeface="Tahoma"/>
              </a:rPr>
              <a:t>Home is Best</a:t>
            </a:r>
            <a:r>
              <a:rPr b="1" i="1" lang="ru-RU" sz="70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7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666520" y="549000"/>
            <a:ext cx="62866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i="1" lang="en-US" sz="7200" spc="-1" strike="noStrike">
                <a:solidFill>
                  <a:srgbClr val="eaeaea"/>
                </a:solidFill>
                <a:latin typeface="Monotype Corsiva"/>
              </a:rPr>
              <a:t>Цели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Sylfaen"/>
              </a:rPr>
              <a:t>1.Исследовательская: Изучить и литературу по данной т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Sylfaen"/>
              </a:rPr>
              <a:t>2.Практическая: Сделать календар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Sylfaen"/>
              </a:rPr>
              <a:t>3. Ознакомительная: Ознакомить с 12 чудесами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Monotype Corsiva"/>
              </a:rPr>
              <a:t>                   </a:t>
            </a:r>
            <a:r>
              <a:rPr b="1" lang="en-US" sz="8000" spc="-1" strike="noStrike">
                <a:solidFill>
                  <a:srgbClr val="eaeaea"/>
                </a:solidFill>
                <a:latin typeface="Monotype Corsiva"/>
              </a:rPr>
              <a:t>Задачи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042560" y="2708280"/>
            <a:ext cx="75438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Script MT Bold"/>
              </a:rPr>
              <a:t>Найти и обработать матери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Script MT Bold"/>
              </a:rPr>
              <a:t>Сделать журнал-календар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481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560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                  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Голосование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599840" y="1484280"/>
            <a:ext cx="754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Варианты: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Эльбрус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зеро Байкал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17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Река Волга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олина гейзеров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Ленские столбы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7,6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Каспийское море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6,4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зеро Медвежье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Синий камень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4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зеро Морской глаз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Каменная речка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Водопад Кивач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Вулкан «Спящая красавица»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99ff99"/>
                </a:solidFill>
                <a:latin typeface="Monotype Corsiva"/>
              </a:rPr>
              <a:t>Ленские столбы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1763640" y="1916280"/>
            <a:ext cx="5715000" cy="3981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3e3ff"/>
                </a:solidFill>
                <a:latin typeface="Monotype Corsiva"/>
              </a:rPr>
              <a:t>Долина Гейзеров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257880" cy="4694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cc"/>
                </a:solidFill>
                <a:latin typeface="Monotype Corsiva"/>
              </a:rPr>
              <a:t>Синий камень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620120" cy="5092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14200" spc="-1" strike="noStrike">
                <a:solidFill>
                  <a:srgbClr val="ffffff"/>
                </a:solidFill>
                <a:latin typeface="Monotype Corsiva"/>
              </a:rPr>
              <a:t>Волга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1763640" y="1916280"/>
            <a:ext cx="584856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Медвежье озеро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113440" cy="3836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3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4:52:02Z</dcterms:created>
  <dc:creator>Customer</dc:creator>
  <dc:description/>
  <dc:language>en-US</dc:language>
  <cp:lastModifiedBy>Customer</cp:lastModifiedBy>
  <dcterms:modified xsi:type="dcterms:W3CDTF">2009-01-29T19:24:15Z</dcterms:modified>
  <cp:revision>4</cp:revision>
  <dc:subject/>
  <dc:title>«Журнал чудес России»</dc:title>
</cp:coreProperties>
</file>