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3D2-020B-4DDB-B797-1C75BFDF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07C-3E13-468F-8E0E-20343FE1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559-D271-4754-9878-D5A88B6C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F2A-1A86-46C3-BD6C-B9CB5760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F3B-AE11-40B1-8715-8674F836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F0DA-48EF-485B-8521-7FCED229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86FC-72DD-41F7-8804-E91814A4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C8AD-DAC7-48E0-8EA6-8CCBF415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20DE-AB11-4DC7-B8F5-140D53EC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5382-432E-4DDA-88B8-4CB7C1BB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EA3D-28F5-4FA2-A0C1-E507C98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BB9-865D-4A24-88C3-89ED2F1F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C002-70FD-42BD-A1E4-1B111B5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3E70-563C-4295-9C72-864AC15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5AA1-82D6-44E8-8C93-FF53FDB4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9896-6F40-4EEF-A51F-68A689B7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8D30-3B41-44BE-8A15-4EFFDADD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8CA-D20C-4DED-8AE7-D3064D83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72D-8F03-4998-9284-EE34BE0E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522-010E-4E15-A753-FA3C2454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154-9A34-48DA-9B02-0CC72C97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E82-7EA4-40B1-9B65-422C280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45A-CD51-4F9B-9C0D-6E8170B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3E7-5641-432E-9C56-2D53453B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B000-F67B-4E02-87D7-2D288C368B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E36A-5D4B-47CF-828C-138572141D4A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Родительское собрание.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Тема: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«Воспитание сознательной дисциплины»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06720" y="3885840"/>
            <a:ext cx="5237280" cy="29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Цель: познакомить родителей с методами воспитания у детей сознательной дисципли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Учитель начальных классов Булатова Марина Александровн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Picture 5" descr="http://o-dosuge.ru/wp-content/uploads/2009/12/Semja.jpg"/>
          <p:cNvPicPr/>
          <p:nvPr/>
        </p:nvPicPr>
        <p:blipFill>
          <a:blip r:embed="rId1"/>
          <a:stretch/>
        </p:blipFill>
        <p:spPr>
          <a:xfrm>
            <a:off x="0" y="4221000"/>
            <a:ext cx="39067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За что тебя хваля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6000" y="167652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«5», за хорошие оценки -19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омощь - 6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хорошее поведение – 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хороший почерк - 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хорошие поступки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трудолюбие 1-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0000" y="25200"/>
            <a:ext cx="788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Как тебя поощряю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7280" y="105228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ают сладкое – 8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ают деньги – 4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Хвалят- 4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икак – 3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ают играть на компьютере- 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купают игры 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купают всё, что захочу 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Ходят в кино – 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ают смотреть телевизор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Целуют-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бнимают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ладят по голове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Управляющая кнопка: домой 1"/>
          <p:cNvSpPr/>
          <p:nvPr/>
        </p:nvSpPr>
        <p:spPr>
          <a:xfrm>
            <a:off x="67327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13206" y="3837"/>
                </a:moveTo>
                <a:lnTo>
                  <a:pt x="15782" y="6448"/>
                </a:ln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lnTo>
                  <a:pt x="20169" y="10800"/>
                </a:lnTo>
                <a:lnTo>
                  <a:pt x="18515" y="10800"/>
                </a:lnTo>
                <a:lnTo>
                  <a:pt x="18515" y="17989"/>
                </a:lnTo>
                <a:lnTo>
                  <a:pt x="7897" y="17989"/>
                </a:lnTo>
                <a:lnTo>
                  <a:pt x="7897" y="10800"/>
                </a:lnTo>
                <a:lnTo>
                  <a:pt x="6243" y="10800"/>
                </a:lnTo>
                <a:close/>
              </a:path>
              <a:path fill="darkenLess" w="26412" h="21600">
                <a:moveTo>
                  <a:pt x="15782" y="6448"/>
                </a:move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close/>
              </a:path>
              <a:path fill="darkenLess" w="26412" h="21600">
                <a:moveTo>
                  <a:pt x="12283" y="14299"/>
                </a:moveTo>
                <a:lnTo>
                  <a:pt x="14129" y="14299"/>
                </a:lnTo>
                <a:lnTo>
                  <a:pt x="14129" y="17989"/>
                </a:lnTo>
                <a:lnTo>
                  <a:pt x="18515" y="17989"/>
                </a:lnTo>
                <a:lnTo>
                  <a:pt x="18515" y="10800"/>
                </a:lnTo>
                <a:lnTo>
                  <a:pt x="7897" y="10800"/>
                </a:lnTo>
                <a:lnTo>
                  <a:pt x="7897" y="17989"/>
                </a:lnTo>
                <a:lnTo>
                  <a:pt x="12283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27236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зание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– это отрицательная оценка поведения ребёнка в случае нарушения норм нравственност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Педагогический смысл наказания заключается в пробуждении угрызений совести, чувства неудовлетворённости своим поведением, что должно сопровождать всякое нарушение этических норм и правил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7" name="Picture 4" descr="MCj02321000000[1]"/>
          <p:cNvPicPr/>
          <p:nvPr/>
        </p:nvPicPr>
        <p:blipFill>
          <a:blip r:embed="rId1"/>
          <a:stretch/>
        </p:blipFill>
        <p:spPr>
          <a:xfrm>
            <a:off x="7740720" y="533520"/>
            <a:ext cx="14032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За что тебя ругаю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7280" y="90792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лохие оценки – 10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лохое поведение – 8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Долго играю на компьютере -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лохие дела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то, что я кричу – 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лохой почерк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непослушание -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то, что я делаю всё не так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Как тебя наказываю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016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икак – 8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Ставят в угол – 6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 дают играть на компьютере -4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Бьют ремнём – 4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 разговаривают – 3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угают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 дают смотреть телевизор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Управляющая кнопка: домой 1"/>
          <p:cNvSpPr/>
          <p:nvPr/>
        </p:nvSpPr>
        <p:spPr>
          <a:xfrm>
            <a:off x="7308720" y="5877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700000" y="692280"/>
            <a:ext cx="604836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авила: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1.Обращайтесь к ребёнку с просьбой вежливо, исключайте командный то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2. Старайтесь вызвать у ребёнка ответственное отношение к выполнению вашей просьб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3. Обращаясь с просьбой, давайте  ребёнку инструкции её выполнен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4. Не просите ребёнка выполнить то, что ему сделать не по силам. Сначала научит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5. Не забывайте, пожалуйста, выразить родительскую признательность за выполненную просьб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Picture 4" descr="MCj04303700000[1]"/>
          <p:cNvPicPr/>
          <p:nvPr/>
        </p:nvPicPr>
        <p:blipFill>
          <a:blip r:embed="rId1"/>
          <a:stretch/>
        </p:blipFill>
        <p:spPr>
          <a:xfrm>
            <a:off x="0" y="1773360"/>
            <a:ext cx="271296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Синквэйн 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по теме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«Дисциплина»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(способ изложения своих идей и чувств в пятистрочной форме)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1 строка – тема (кто? что?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2 строка – описание темы (два прилагательных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3 строка – действие темы (три глагола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4 строка – отношение к теме (чувство, выражение фразой из четырёх сло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5 строка – синоним темы (одно слово)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7" name="Picture 5" descr="http://go1.imgsmail.ru/imgpreview?key=http%3A//900igr.net/datai/obschestvoznanie/Semja-1/0088-029-Ljubvi.png&amp;mb=imgdb_preview_108"/>
          <p:cNvPicPr/>
          <p:nvPr/>
        </p:nvPicPr>
        <p:blipFill>
          <a:blip r:embed="rId1"/>
          <a:stretch/>
        </p:blipFill>
        <p:spPr>
          <a:xfrm>
            <a:off x="6718320" y="60480"/>
            <a:ext cx="22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600" y="11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В «Словаре русского языка» С.И. Ожегова записано: «Дисциплина - …обязательное для всех членов какого-нибудь коллектива подчинение установленному порядку, правилам»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6" name="Picture 8" descr="Ожегов Портрет гравюра 1950е.jpg"/>
          <p:cNvPicPr/>
          <p:nvPr/>
        </p:nvPicPr>
        <p:blipFill>
          <a:blip r:embed="rId1"/>
          <a:stretch/>
        </p:blipFill>
        <p:spPr>
          <a:xfrm>
            <a:off x="3564000" y="3284640"/>
            <a:ext cx="26636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90680" y="9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«Энциклопедический словарь» -дисциплина это «определённый порядок поведения людей, отвечающий сложившимся в обществе нормам права и морали, а также требованиям той или иной организации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3" descr="C:\Users\1\AppData\Local\Microsoft\Windows\Temporary Internet Files\Content.IE5\T89SNCHX\MP900426559[1].jpg"/>
          <p:cNvPicPr/>
          <p:nvPr/>
        </p:nvPicPr>
        <p:blipFill>
          <a:blip r:embed="rId1"/>
          <a:stretch/>
        </p:blipFill>
        <p:spPr>
          <a:xfrm>
            <a:off x="3300480" y="3724200"/>
            <a:ext cx="3697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Росс Кэмпбелл считает, что «в области воспитания детей дисциплина – это тренировка ума и характера ребёнка, чтобы он стал самостоятельным, умеющим владеть собой, достойным конструктивным членом общества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Picture 6" descr="http://vyatsu.com/uploads/posts/2012-09/1347699440_56.jpg"/>
          <p:cNvPicPr/>
          <p:nvPr/>
        </p:nvPicPr>
        <p:blipFill>
          <a:blip r:embed="rId1"/>
          <a:srcRect l="0" t="0" r="0" b="-3181"/>
          <a:stretch/>
        </p:blipFill>
        <p:spPr>
          <a:xfrm>
            <a:off x="4859280" y="3716280"/>
            <a:ext cx="3457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635640" y="3900600"/>
            <a:ext cx="2670840" cy="581400"/>
          </a:xfrm>
          <a:prstGeom prst="rect">
            <a:avLst/>
          </a:prstGeom>
          <a:solidFill>
            <a:srgbClr val="ff99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39840" y="2786040"/>
            <a:ext cx="313380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1. Любовь близких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168960" y="2779560"/>
            <a:ext cx="2664000" cy="454320"/>
          </a:xfrm>
          <a:prstGeom prst="rect">
            <a:avLst/>
          </a:prstGeom>
          <a:solidFill>
            <a:srgbClr val="99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2. Поощрен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547640" y="5479920"/>
            <a:ext cx="259272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3. Наказани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345360" y="5157720"/>
            <a:ext cx="2374920" cy="1513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4. Просьбы устные и письменны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cxnSp>
        <p:nvCxnSpPr>
          <p:cNvPr id="107" name="Прямая со стрелкой 3"/>
          <p:cNvCxnSpPr/>
          <p:nvPr/>
        </p:nvCxnSpPr>
        <p:spPr>
          <a:xfrm flipH="1" flipV="1">
            <a:off x="2898000" y="3458520"/>
            <a:ext cx="731160" cy="43236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cxnSp>
        <p:nvCxnSpPr>
          <p:cNvPr id="108" name="Прямая со стрелкой 12"/>
          <p:cNvCxnSpPr/>
          <p:nvPr/>
        </p:nvCxnSpPr>
        <p:spPr>
          <a:xfrm>
            <a:off x="6313320" y="4494240"/>
            <a:ext cx="635760" cy="51984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cxnSp>
        <p:nvCxnSpPr>
          <p:cNvPr id="109" name="Прямая со стрелкой 13"/>
          <p:cNvCxnSpPr/>
          <p:nvPr/>
        </p:nvCxnSpPr>
        <p:spPr>
          <a:xfrm flipV="1">
            <a:off x="6311520" y="3458880"/>
            <a:ext cx="793080" cy="44208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cxnSp>
        <p:nvCxnSpPr>
          <p:cNvPr id="110" name="Прямая со стрелкой 14"/>
          <p:cNvCxnSpPr/>
          <p:nvPr/>
        </p:nvCxnSpPr>
        <p:spPr>
          <a:xfrm flipH="1">
            <a:off x="3131280" y="4493880"/>
            <a:ext cx="491400" cy="64044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2806560" y="66600"/>
            <a:ext cx="35942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916000" y="333360"/>
            <a:ext cx="622764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юбовь близких: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1. Обеспечение возможности учитьс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2. Эмоциональная уравновешенность. Умение слушать и понимать ребёнк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3. Пример взрослых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4. Обучение, просвещение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5. Жизненный опыт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6. Моделирование ситуаци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Picture 4" descr="MCj04301210000[1]"/>
          <p:cNvPicPr/>
          <p:nvPr/>
        </p:nvPicPr>
        <p:blipFill>
          <a:blip r:embed="rId1"/>
          <a:stretch/>
        </p:blipFill>
        <p:spPr>
          <a:xfrm>
            <a:off x="0" y="1700280"/>
            <a:ext cx="28432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Какие качества твоего характера родителям нравятся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5892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обрый(ая)-18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ообразительный(ая), умный(ая) -7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Хороший(ая) -6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покойный(ая) – 3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юбознательный (ая)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есёлый(ая)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юбовь к родным - 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Трудолюбивый(ая)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ушный(ая) -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асковый(ая) -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естный(ая) -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Какие качества твоего характера родителям не нравятся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58920" y="141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послушный(ая)- 8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лой(ая) – 6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Грубый(ая)-4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Упрямый(ая) -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Ленивый(ая)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Лживый(ая)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лаксивый(ая) -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икакие – 3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 ответили – 3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Управляющая кнопка: домой 1"/>
          <p:cNvSpPr/>
          <p:nvPr/>
        </p:nvSpPr>
        <p:spPr>
          <a:xfrm>
            <a:off x="752472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69800" y="333360"/>
            <a:ext cx="57942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ощрение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– это проявление положительной оценки поведения ребён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Важно «вызывать» чувство удовлетворения, чтобы всё, что  связано с исполнением норм и правил высоконравственного поведения, сопровождалось положительными переживаниями.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0" name="Picture 5" descr="MCj04295730000[1]"/>
          <p:cNvPicPr/>
          <p:nvPr/>
        </p:nvPicPr>
        <p:blipFill>
          <a:blip r:embed="rId1"/>
          <a:stretch/>
        </p:blipFill>
        <p:spPr>
          <a:xfrm>
            <a:off x="7129440" y="1589040"/>
            <a:ext cx="20145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1:13:34Z</dcterms:created>
  <dc:creator>Стеценко</dc:creator>
  <dc:description/>
  <dc:language>en-US</dc:language>
  <cp:lastModifiedBy>Марина и Михаил</cp:lastModifiedBy>
  <dcterms:modified xsi:type="dcterms:W3CDTF">2017-08-28T14:00:41Z</dcterms:modified>
  <cp:revision>16</cp:revision>
  <dc:subject/>
  <dc:title>Родительское собрание. Тема: «Воспитание сознательной дисциплины».</dc:title>
</cp:coreProperties>
</file>