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321-41F5-4B96-999F-907920C0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6BF-D388-4DAE-8871-43D08DFD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D79-D05D-4EF4-9481-050A85FF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587-55BC-4177-8CE0-F98F8ECD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DC3-5616-47A2-AC7B-810E3489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BB5-381B-4EB6-8FEF-2BB32261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432-C90E-41A5-BE2D-ADCD8078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0CC-6468-465C-A8AB-F1869919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1E8-DC84-437D-86B9-079B5658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D30-09E2-4846-A6FB-957CC2C5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BAE-50D1-4A31-A790-AA6C9F86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3D6-D8D5-4422-B102-BE852562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26DA-38A9-4F5F-80B0-F3505572AF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195640" y="549360"/>
            <a:ext cx="694836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843c0c"/>
                </a:solidFill>
                <a:latin typeface="Monotype Corsiva"/>
                <a:ea typeface="Tahoma"/>
              </a:rPr>
              <a:t>Герои моей семь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258920" y="278136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3c0c"/>
                </a:solidFill>
                <a:latin typeface="Arial"/>
              </a:rPr>
              <a:t>Исследовательский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3c0c"/>
                </a:solidFill>
                <a:latin typeface="Arial"/>
              </a:rPr>
              <a:t>Ученицы 1 «А»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3c0c"/>
                </a:solidFill>
                <a:latin typeface="Arial"/>
              </a:rPr>
              <a:t>КОВАЛЕВСКОЙ ЭВЕЛ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349000" y="522936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3c0c"/>
                </a:solidFill>
                <a:latin typeface="Arial"/>
              </a:rPr>
              <a:t>Руководитель Тимошенкова О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3" descr="01_русский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2141280" y="1268280"/>
            <a:ext cx="618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43c0c"/>
                </a:solidFill>
                <a:latin typeface="Arial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43c0c"/>
                </a:solidFill>
                <a:latin typeface="Arial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01_русский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1692360" y="404640"/>
            <a:ext cx="684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 проекта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Arial"/>
              </a:rPr>
              <a:t>Узнать кого из членов нашей семьи можно считать геро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ча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Arial"/>
              </a:rPr>
              <a:t>1.Беседа с родителями о интересных людях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Arial"/>
              </a:rPr>
              <a:t>2. Просмотреть семейный фотоарх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Arial"/>
              </a:rPr>
              <a:t>3. Создать электронную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Arial"/>
              </a:rPr>
              <a:t>4. Защит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01_1_русский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43c0c"/>
                </a:solidFill>
                <a:latin typeface="Calibri Light"/>
              </a:rPr>
              <a:t>Прадедуш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TextBox 2"/>
          <p:cNvSpPr/>
          <p:nvPr/>
        </p:nvSpPr>
        <p:spPr>
          <a:xfrm flipH="1">
            <a:off x="250200" y="126828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Мой прапрадедушка Загоруйко Арсений Кондратьевич родился  в 1898 году городе Лесичанск на Укра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http://24daily.net/wp-content/uploads/2014/07/lisichansk.jpg"/>
          <p:cNvPicPr/>
          <p:nvPr/>
        </p:nvPicPr>
        <p:blipFill>
          <a:blip r:embed="rId2"/>
          <a:stretch/>
        </p:blipFill>
        <p:spPr>
          <a:xfrm>
            <a:off x="4284720" y="2781360"/>
            <a:ext cx="4224240" cy="316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Ольга\Desktop\2017 проектная деятельность\ковалевская эвелина\1_0006.jpg"/>
          <p:cNvPicPr/>
          <p:nvPr/>
        </p:nvPicPr>
        <p:blipFill>
          <a:blip r:embed="rId3"/>
          <a:srcRect l="5133" t="0" r="0" b="0"/>
          <a:stretch/>
        </p:blipFill>
        <p:spPr>
          <a:xfrm>
            <a:off x="468360" y="2852640"/>
            <a:ext cx="265896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01_1_русский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43c0c"/>
                </a:solidFill>
                <a:latin typeface="Calibri Light"/>
              </a:rPr>
              <a:t>Репресс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24000" y="1484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В 1938 году прапрадедушка вместе с семьёй был репрессирован на Кавказ в город На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s://chronolines.ru/upload/line/134/timeline/media/Ill.34.Deportaciya.Foto..jpg"/>
          <p:cNvPicPr/>
          <p:nvPr/>
        </p:nvPicPr>
        <p:blipFill>
          <a:blip r:embed="rId2"/>
          <a:stretch/>
        </p:blipFill>
        <p:spPr>
          <a:xfrm>
            <a:off x="2771640" y="2565360"/>
            <a:ext cx="5097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01_1_русский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707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Calibri Light"/>
              </a:rPr>
              <a:t>Трудовая деятельность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619280" y="981000"/>
            <a:ext cx="70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В Нальчике он устроился работать на Машзавод. Прапрадедушка работал кузнецом, а потом начальником ц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://mtdata.ru/u24/photo31B3/20605079616-0/original.jpg"/>
          <p:cNvPicPr/>
          <p:nvPr/>
        </p:nvPicPr>
        <p:blipFill>
          <a:blip r:embed="rId2"/>
          <a:stretch/>
        </p:blipFill>
        <p:spPr>
          <a:xfrm>
            <a:off x="3419640" y="2924280"/>
            <a:ext cx="5184720" cy="346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:\Users\Ольга\Desktop\2017 проектная деятельность\ковалевская эвелина\1_0007.jpg"/>
          <p:cNvPicPr/>
          <p:nvPr/>
        </p:nvPicPr>
        <p:blipFill>
          <a:blip r:embed="rId3"/>
          <a:stretch/>
        </p:blipFill>
        <p:spPr>
          <a:xfrm>
            <a:off x="468360" y="2421000"/>
            <a:ext cx="28288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01_1_русский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86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43c0c"/>
                </a:solidFill>
                <a:latin typeface="Calibri Light"/>
              </a:rPr>
              <a:t>Эвакуац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395280" y="11253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В 1943 году семья прапрадедушки была эвакуирована в Грузию. На заводе прапрадедушка изготовлял снаряды для фр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http://megabook.ru/stream/mediapreview?Key=%D0%90%D0%B2%D0%B8%D0%B0%D0%B1%D0%BE%D0%BC%D0%B1%D1%8B%2C%20%D0%B2%D1%8B%D0%BF%D1%83%D1%89%D0%B5%D0%BD%D0%BD%D1%8B%D0%B5%20%D1%81%D0%B2%D0%B5%D1%80%D1%85%20%D0%BF%D0%BB%D0%B0%D0%BD%D0%B0%2C%20%D0%B2%20%D1%86%D0%B5%D1%85%D0%B5%20%D0%BE%D0%B1%D0%BE%D1%80%D0%BE%D0%BD%D0%BD%D0%BE%D0%B3%D0%BE%20%D0%B7%D0%B0%D0%B2%D0%BE%D0%B4%D0%B0.%20%D0%A1%D0%B8%D0%B1%D0%B8%D1%80%D1%8C.%201942%20%D0%B3%D0%BE%D0%B4%20%5B%D0%A2%D1%8B%D0%BB%20%D1%84%D1%80%D0%BE%D0%BD%D1%82%D1%83%5D&amp;Width=654&amp;Height=654"/>
          <p:cNvPicPr/>
          <p:nvPr/>
        </p:nvPicPr>
        <p:blipFill>
          <a:blip r:embed="rId2"/>
          <a:stretch/>
        </p:blipFill>
        <p:spPr>
          <a:xfrm>
            <a:off x="611280" y="2852640"/>
            <a:ext cx="4897440" cy="351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Ольга\Desktop\2017 проектная деятельность\ковалевская эвелина\1_0008.jpg"/>
          <p:cNvPicPr/>
          <p:nvPr/>
        </p:nvPicPr>
        <p:blipFill>
          <a:blip r:embed="rId3"/>
          <a:srcRect l="18936" t="8948" r="14808" b="4117"/>
          <a:stretch/>
        </p:blipFill>
        <p:spPr>
          <a:xfrm>
            <a:off x="6227640" y="2060640"/>
            <a:ext cx="2305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01_1_русский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365040"/>
            <a:ext cx="8497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43c0c"/>
                </a:solidFill>
                <a:latin typeface="Calibri Light"/>
              </a:rPr>
              <a:t>Орден Лени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3924360" y="1268280"/>
            <a:ext cx="482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После войны работа прапрадедушки была отмечена Орденом Лен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Орден прапрадедушки находится в Краеведческом музее города Наль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http://img0.liveinternet.ru/images/attach/b/3/42/91/42091009_ordenlenina_b_copy.gif"/>
          <p:cNvPicPr/>
          <p:nvPr/>
        </p:nvPicPr>
        <p:blipFill>
          <a:blip r:embed="rId2"/>
          <a:stretch/>
        </p:blipFill>
        <p:spPr>
          <a:xfrm>
            <a:off x="826920" y="1628640"/>
            <a:ext cx="3391200" cy="446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www.riakchr.ru/image/2016/07-jule/14/frontoviki_ratuyut_za_spasenie_nacionalnogo_muzeya_kbr.jpg"/>
          <p:cNvPicPr/>
          <p:nvPr/>
        </p:nvPicPr>
        <p:blipFill>
          <a:blip r:embed="rId3"/>
          <a:stretch/>
        </p:blipFill>
        <p:spPr>
          <a:xfrm>
            <a:off x="4859280" y="4365720"/>
            <a:ext cx="35100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01_1_русский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3c0c"/>
                </a:solidFill>
                <a:latin typeface="Calibri Light"/>
              </a:rPr>
              <a:t>Василий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1187280" y="141300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Calibri"/>
              </a:rPr>
              <a:t>У прапрадедушки Арсентия был сын Василий. Во время войны он служил танкистом  и дошел до Бер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posleduvremeni.ru/wp-content/uploads/2015/04/getImage-8.jpg"/>
          <p:cNvPicPr/>
          <p:nvPr/>
        </p:nvPicPr>
        <p:blipFill>
          <a:blip r:embed="rId2"/>
          <a:stretch/>
        </p:blipFill>
        <p:spPr>
          <a:xfrm>
            <a:off x="4859280" y="3789360"/>
            <a:ext cx="3241800" cy="2451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1_0005.jpg"/>
          <p:cNvPicPr/>
          <p:nvPr/>
        </p:nvPicPr>
        <p:blipFill>
          <a:blip r:embed="rId3"/>
          <a:srcRect l="0" t="1692" r="9507" b="6927"/>
          <a:stretch/>
        </p:blipFill>
        <p:spPr>
          <a:xfrm>
            <a:off x="971640" y="2708280"/>
            <a:ext cx="2736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01_русский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727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Я горжусь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611280" y="1628640"/>
            <a:ext cx="374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Arial"/>
              </a:rPr>
              <a:t>Я учусь в 1 классе. У меня есть хороший пример не только для гордости, но и для подражания. Я сделаю все, чтобы мной тоже гордились в нашей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IMG_4776.JPG"/>
          <p:cNvPicPr/>
          <p:nvPr/>
        </p:nvPicPr>
        <p:blipFill>
          <a:blip r:embed="rId2"/>
          <a:srcRect l="27090" t="43231" r="25892" b="0"/>
          <a:stretch/>
        </p:blipFill>
        <p:spPr>
          <a:xfrm>
            <a:off x="4716360" y="476280"/>
            <a:ext cx="3888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6T13:46:48Z</dcterms:created>
  <dc:creator>Ольга</dc:creator>
  <dc:description/>
  <dc:language>en-US</dc:language>
  <cp:lastModifiedBy>Ольга</cp:lastModifiedBy>
  <dcterms:modified xsi:type="dcterms:W3CDTF">2017-02-05T15:38:34Z</dcterms:modified>
  <cp:revision>24</cp:revision>
  <dc:subject/>
  <dc:title>Слайд 1</dc:title>
</cp:coreProperties>
</file>