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80B-AD1D-4D35-A438-F68DE207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13F-8910-4389-88C8-6A192C4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A1568-2713-40E3-A457-5658FF9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40AD2-726E-4D12-AB3D-260C0927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B99C96-3840-47D6-801C-839BCC75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FA18B-F76D-42B4-9561-8C5BC4B3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64AFC-63CE-44A8-BC24-232EEAC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E5C3C-F877-4161-841C-C1B35DA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47C20-3BCC-4810-90EC-FD8A8B3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B71D2-CF14-4B42-BC9B-2469517C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BA59B-ED3C-4B9F-A2EE-5A4B13CB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85313-D163-40E8-BDB8-81E1A51A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8BF-134F-47A4-AD0A-4C5EDC56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96DE8-3F07-481D-B9DA-0AC647C8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E1009-7EB7-4505-A09E-8EBC7362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CB563-FEA7-4DE8-8368-47491DF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C1C33-D705-4AE5-8440-D7EBBC4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6C5E8-1A41-45B4-AD85-0178E90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2023-D5F4-45BA-A2BE-F80A68C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8A208-495D-45D0-B4B2-F3E86DEA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56D0C-3411-4799-9202-FE301C36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FEAE2-4D59-4BF8-A21D-EE2F900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A99A-13C2-442D-BDD9-DE9780E6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A54-3F55-4760-8A0C-E4ABF2E4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C39E8-CCF6-4C5B-BA64-41D0D84B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4460F-D84D-4BEA-B5F5-A5B4FAE3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B151B-4D1B-4C51-B79E-0550FB2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272AB-A354-4785-A2D4-48EA482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B6D8B-332B-4FB9-B0B2-6C3C319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1246C-ED86-430F-A58E-B77535B1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7139B-3C21-4EE8-A39E-83B75F3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14AE-A5E1-47E9-8A5D-BAE7DCA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9AC07-6B88-43A5-8692-A1FA3CB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0D149-6ED9-48E0-A5B8-BC5761C4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677-A48F-421B-87C1-61DF8DCB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D55E-7D90-49F9-B098-CAAE761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3DAC2-E200-4159-9E65-B95087B4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8BC11-CD33-4228-A5A3-2D1937E8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C3658-05F1-4EF6-A061-65C410B3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16DE4-AEB8-4BC5-B75F-E86E4971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4A552-1D99-404E-B96D-AED0E6B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E646-018A-4160-93A3-ADE7F41D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B9D0D-E3F5-4B43-A2F6-D1344B2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27457-773C-482A-9D63-7C408671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6474C-E49B-477C-A473-8A451F2D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1169-2218-43BD-A66E-7ED7BB3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1AB38-54B0-4301-9A9B-5C9462A7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0E73F-B56C-4232-BFC3-8570380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49DF2-D30C-4B09-A739-A711C703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F0A16-F8AF-42F6-A942-80161244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0E629-30D0-4231-BB1A-92565BF8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173A1-4F91-4F70-A932-6D81381B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9FCFA-1195-47A5-AA4E-34F3F85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201D8-3759-4D81-AEBE-6F493A2C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F517B-B6AC-4B00-94DB-6548D9B2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077A7-07D9-42EC-A58B-06E62D00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3C26-BD5B-495D-BCD4-EF26C709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1911A-B407-4DF5-B28E-8CC5E89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5C9D1-26DC-4E9F-B7B1-876C0B3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0EBD0-84CF-49CD-96CE-954DF4E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05F9B-CF76-4E96-8982-B379039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AFFB9-719B-4B39-8EF8-4071A16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44F06-3C01-43B9-9483-103C39CB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84F99-66D0-4EBB-9B89-C7EDAADD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D1863-4FE2-40C3-ABDE-AE45E162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C633A-FECF-4E2E-846F-D03AC852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15A2B-3E55-466B-8471-6E1734CA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F566-5E58-4A2E-9AED-7D70C663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5ECCC-D7C9-42E9-A7F6-95A6F340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619C9-4B8D-40CD-9A96-04D9D572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8D35F-C01F-4E1D-80D9-0CDFA35B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60CB3-AB9C-4A5F-A3D2-AAD3AD9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30909-DB55-443E-AAD1-7C5EAD4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D4AAE-F590-4799-9B6E-17F8CEE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621DE-BFB7-436E-BAC6-05C3D15B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7415E-3313-4172-9528-25A16DDE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EAC19-1E10-4ACC-ADBF-640C8023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8F8FD-0999-4A5A-A5BD-34859FFE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21E3-0973-464D-A88E-E1412CA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48739-0A9B-41DB-B1BF-45501E77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C8A32-410C-4C73-AA71-C04B7F9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1C671-A9AC-477E-BAF0-1DD2FBD8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7AAD4-6F76-4B9C-AB1D-8C2689B5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72FD8-5860-4836-85E5-AB6F726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8367B-D765-4670-AD82-676AB16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0FF92-E61E-4270-8FF9-8E73D1B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DFE384-F50E-497B-A47F-D83FA8FB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828D5-90CC-4F2E-AC48-0D76B46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30164-80A2-4207-B8FF-4C1DDC5B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8FB5-D2C7-4862-B108-89D2C950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284B7-A1A4-47FC-8A40-4DAC8E3A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D04AC-C9F0-454D-A4C6-3B1E1EF8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65D02-F4AB-4DE0-A419-3E0DCD6E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403F5-36E2-4F5C-90F1-37E0D89D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4470B-C051-44BC-A988-A5681A8C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DEF60-2D59-477A-8AB3-87F43514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20C94-C029-4516-AD5B-87122B2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9B0ED-AAB3-407D-9A57-CC55B89E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6A857-CBEB-4CE5-88DF-EAF9843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AB5AA-68E2-4263-9743-6FAD432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D21A-34F2-43E8-A06C-BFB3472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23B96-BEFD-42CF-96FB-90261B8C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3D0E2-0BC4-468D-A781-D75C0B74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047C3-AE11-431A-8CA7-217CC92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4EBD9-2D61-4D9D-AFC8-0D74D6B9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24AED-EC39-43FD-BE98-F05B43E2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8FD65-48D8-492B-996A-F47B666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DC885-E95F-4930-9A7D-502344E0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374A1-4F18-44B3-82AE-88B1998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9B791-3A54-427C-ABE9-1D27964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B7079-F8EF-466F-B58B-FFE9E7A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F81-8852-46A7-ABDB-C4F78E86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612-6C43-4004-B505-42C0125C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FD6EB-1A80-4B1F-BF82-8BD7CAD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F7028-67AA-48C2-BE28-923D9A8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ACBC8-896C-4BD6-A0BF-C709BE62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E8917-6A81-4201-8590-0F7183EF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5A4F3-26B6-49A6-8FD3-173ECC52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F0B9-2CFE-4702-8915-F455D9B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310B-967B-4AE9-B7C2-2B286A4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1172-D8ED-4E48-8593-5D32336A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E54D-9FEF-42BE-9D05-401C537C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984E-2D0D-422A-814F-C2E087A6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B19E-CDBC-439F-B86F-9BC1D52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A496-D6A9-45D2-84B4-D40DCE66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4B3B-5F29-466C-97A1-289D11FC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C08D-984F-472D-B64C-CE5B745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C93-4049-4B3A-8DC0-D82B1E9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113F-9989-4CD1-A29F-5743A6B3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05FE-D1BC-408F-9D7A-5F6FD64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32EA-58D5-44AB-B219-E730918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2FE3-7784-4661-BDD0-5BC07FA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C5D8-901E-42E2-AFA4-2D22B938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5994-D3AE-4AB3-B82D-6EFBA2D4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72C5-7FF8-4D6F-974C-FFBF314A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7CD7D-D91C-4424-9A74-8EC48F31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4A07-D0A6-49FE-8E9B-8C78F381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4075-C29F-4FB0-9995-1475F0A4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A9D-E4D1-4D1F-9FB5-26641E80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E47F-D4C7-46A7-8010-C1D36EFB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4C97-37B8-4CA9-BC99-2F09F19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04DB-ABE0-4AB1-895A-382C8A2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B798-B6DE-47C8-94F3-EC1E7241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CC4F-6110-4FEA-955A-856247F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4DA6-FE03-475A-835A-99C84E9D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7AF4-21DF-4464-AE30-64B46541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D263-20C0-430B-AADB-1CC27138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9784-84A3-4EDE-853E-772628E7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4F32-9162-4F1B-8B6D-E6FE8010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769-5D56-4DD8-8E86-5CAD4F32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5D04-6D8C-4950-81C6-1137C47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1ABE-0AFC-44AA-9565-19604A65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DC93-D531-4DBB-BC83-289B7141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0A719-61E3-4F77-97C7-FF14146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57AA-31CF-4FA1-9592-BBF5C6D4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43FF-08FD-46B5-861A-61F45A2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AE394-CE75-465E-8302-811F605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465C8-B7FB-4C4C-B672-CC3EA3F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F515-74AD-44AB-BF05-3E05A371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E6CB-11B4-4F7C-AF6F-C5A8D240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8FB-CCF0-4AD6-A72E-B968160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5736-D822-427F-A7FE-E1736600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58DC-72ED-402B-8BB1-E316EB34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80C4-3909-4B47-A843-EE983575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361D-0B7E-4A58-B472-52D071DD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DD8F-4370-4253-BAA8-0B8B2F8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EBC9F-296A-42AA-AD59-7D532BE0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FC93-A6E5-4636-8DB6-CC706B08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7349-FA89-4030-8F6C-93AD707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C1A88-1736-4782-80E8-E5EC3B3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E663-7E17-45D5-A19B-72C8E69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32D-F528-4FBD-B6B0-2BD03E66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EF33-D13F-4E82-B9BB-6CCFA677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5415-7DAA-47CB-BAA6-FC57578B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E78C-9E59-4F5D-BCF7-BDAE5C34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F4078-2678-443C-9480-4D1762D3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32013-D9E7-4C00-B329-F0D2BD9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D0D5A-71F3-4540-A43F-D6929458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B15D7-890E-44EF-B1FD-E8F08260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ADE6E-A9A6-45F5-B21A-D51629C3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D216B-3358-484D-8DED-0157F093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375E8-373A-47E5-B0D5-AD78F08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3C4-F2DB-427F-96C4-3797FBE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5B660-E577-41FA-ABCD-7086DFA6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A97D1-9AD7-4F23-BBDA-CA0C6C62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3436E-2606-4DEC-93B7-BFD450B1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AFBEC-C879-4C4F-91BE-6E6ED843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2D888-9B9D-41F0-A451-41DB8D5A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64F9-7E1B-4EE6-8AB6-5260A6D7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4845D-C119-4325-ABA1-3B726AA0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DD306-A0C9-4158-8F38-5167D9BB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0377F-DA3C-4EC8-A82A-1E47513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35BA-95FB-483D-8D12-7B0402A3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E8F-D126-4368-A894-6701FFE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E7B64-23E6-4D3D-B914-26A072E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93B1-1919-4B37-B6E3-03E2947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0CAD-5F65-4FEE-95E4-8B04341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B55F6-D307-4A25-9D1E-EC6B136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FF21-E2E9-4B91-B55A-F3EDFE9A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5DBED-C88B-40D9-9202-4ACCEA2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9126-FC10-4994-89D9-05327255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C1CB6-887E-42E3-9F87-5B61F141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C6078-C87C-47F9-BD6F-61CFA75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531777-AAEB-43D2-AE14-58F3FC7A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445-7C29-4397-909E-59033EADC3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E82A-CCAD-4BD3-8261-B35B7F7EA6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1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FD6-561D-42A2-87F1-C46E7DB56E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C58-F38E-4691-80E6-AA69E586D7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0CA7-2930-4C82-8989-4DAD757F59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1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36AF-4558-451E-9A9A-480761BF3F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6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6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4B2B-9848-4D72-AD32-226F7B3B34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A306-A9D1-479C-BA49-42EC9C8931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4DD-2812-4D25-9963-C5C47FB4E5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918-E990-46E2-AC33-14E7944F7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922C-7E42-406C-A55E-A643F31B65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59D-3154-47D5-B6D7-3929BFD3BAB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477-E589-4F9D-AE1E-B6E703AE8F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456-111A-4C20-A044-708EBCDE3C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F1E7-915D-4901-9ACA-840523DDD1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0585-0FC6-4155-A382-07022F462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B4E-B2E7-4300-9FC0-430ABE9953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5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6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785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66"/>
                </a:solidFill>
                <a:latin typeface="Arial"/>
              </a:rPr>
              <a:t>«Формирование толерантных межнациональных отношений у старшеклассников»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859280" y="5510160"/>
            <a:ext cx="385128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ифуллин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5" descr="i (6)"/>
          <p:cNvPicPr/>
          <p:nvPr/>
        </p:nvPicPr>
        <p:blipFill>
          <a:blip r:embed="rId1"/>
          <a:stretch/>
        </p:blipFill>
        <p:spPr>
          <a:xfrm>
            <a:off x="900000" y="289728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49160" y="517680"/>
            <a:ext cx="785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пражнение «Мировое приветствие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- объятие и троекратное лобызание поочерёдно в обе щ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 – лёгкий поклон со скрещенными на груди ру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я – рукопожатие и поцелуй в обе щ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я – лёгкий поклон, ладони вытянуты по бо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пония – лёгкий поклон, ладони прижаты друг к другу перед груд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ания - поцелуй в щёку, ладони лежат на предплечья партнё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мания – простое рукопожа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згляд в гла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айзия – мягкое рукопожа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ими руками, касани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чиками пальц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скимосы – потереться д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друга но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4" descr="rukopozhtie"/>
          <p:cNvPicPr/>
          <p:nvPr/>
        </p:nvPicPr>
        <p:blipFill>
          <a:blip r:embed="rId1"/>
          <a:stretch/>
        </p:blipFill>
        <p:spPr>
          <a:xfrm>
            <a:off x="4788000" y="3589200"/>
            <a:ext cx="4356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гра «Чем мы похожи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500364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глашаются в круг (члены группы сидят в кругу) один из участников на основе какого-либо реального или воображаемого сходства с соб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пример: «Таня, выйди, пожалуйста, ко мне, потому что у нас с тобой одинаковый цвет волос», Таня выходит в круг и приглашает выйти кого-нибудь из участников таким же образ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7" name="Picture 4" descr="i (4)"/>
          <p:cNvPicPr/>
          <p:nvPr/>
        </p:nvPicPr>
        <p:blipFill>
          <a:blip r:embed="rId1"/>
          <a:stretch/>
        </p:blipFill>
        <p:spPr>
          <a:xfrm>
            <a:off x="0" y="1773360"/>
            <a:ext cx="4500720" cy="300168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5"/>
          <p:cNvSpPr/>
          <p:nvPr/>
        </p:nvSpPr>
        <p:spPr>
          <a:xfrm>
            <a:off x="0" y="5950080"/>
            <a:ext cx="91440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ается вывод: в любом человеке можно найти сходство с соб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4. Результаты проекта:</a:t>
            </a:r>
            <a:br>
              <a:rPr sz="40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анкета Доминик Де Сент Марса)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90" name="Object 4"/>
          <p:cNvGraphicFramePr/>
          <p:nvPr/>
        </p:nvGraphicFramePr>
        <p:xfrm>
          <a:off x="0" y="1197000"/>
          <a:ext cx="9559800" cy="62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559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4" descr="bimb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5"/>
          <p:cNvSpPr/>
          <p:nvPr/>
        </p:nvSpPr>
        <p:spPr>
          <a:xfrm>
            <a:off x="900000" y="204840"/>
            <a:ext cx="777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На огромной на планете очень разные есть дети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Тихие и шумные, глупые и умные,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Есть худые, есть толстушки, молчуны и хохотушки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Кто-то ростом невелик, кто-то слабый ученик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Кто- то рыж, а кто-то бел, кто-то в играх неумел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Ни над кем нельзя смеяться, никого нельзя дразнить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Нужно очень постараться, словно братьев всех любить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И тогда на белом свете так чудесно будет жить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!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 обосновать и экспериментально проверить эффективность средств, способствующих формированию культуры межнациональных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формирования культуры межнациональныго общения у девятиклассников МБОУ «Байсаровская ООШ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окупность средств, направленных на формирование культуры межэтнических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и помощи анкетирования выяснить отношения девятиклассников к лицам других националь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зучить основные средства формирования доброжелательных международных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работать методическую систему, направленную на развитие толерантного межнационального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овести эксперимент с целью апробации разработанной методическ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пределить её эффе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4643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Мы жители одной планеты, пассажиры одного корабл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А. де Сент-Экзюпер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4" name="Picture 4" descr="KMO_142333_00005_1_t210_145433"/>
          <p:cNvPicPr/>
          <p:nvPr/>
        </p:nvPicPr>
        <p:blipFill>
          <a:blip r:embed="rId1"/>
          <a:stretch/>
        </p:blipFill>
        <p:spPr>
          <a:xfrm>
            <a:off x="4643280" y="17640"/>
            <a:ext cx="4500720" cy="6840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i"/>
          <p:cNvPicPr/>
          <p:nvPr/>
        </p:nvPicPr>
        <p:blipFill>
          <a:blip r:embed="rId2"/>
          <a:stretch/>
        </p:blipFill>
        <p:spPr>
          <a:xfrm>
            <a:off x="0" y="3257640"/>
            <a:ext cx="464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6"/>
          <p:cNvSpPr/>
          <p:nvPr/>
        </p:nvSpPr>
        <p:spPr>
          <a:xfrm flipV="1" rot="11467200">
            <a:off x="694440" y="2561760"/>
            <a:ext cx="3025800" cy="158760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14166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Freeform 27"/>
          <p:cNvSpPr/>
          <p:nvPr/>
        </p:nvSpPr>
        <p:spPr>
          <a:xfrm rot="20677200">
            <a:off x="5362200" y="2831760"/>
            <a:ext cx="3133800" cy="14619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00b1f0"/>
              </a:gs>
              <a:gs pos="100000">
                <a:srgbClr val="00526f"/>
              </a:gs>
            </a:gsLst>
            <a:lin ang="3624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Group 38" descr=""/>
          <p:cNvPicPr/>
          <p:nvPr/>
        </p:nvPicPr>
        <p:blipFill>
          <a:blip r:embed="rId1"/>
          <a:stretch/>
        </p:blipFill>
        <p:spPr>
          <a:xfrm>
            <a:off x="1176480" y="189000"/>
            <a:ext cx="7345080" cy="611964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34"/>
          <p:cNvSpPr/>
          <p:nvPr/>
        </p:nvSpPr>
        <p:spPr>
          <a:xfrm rot="19476600">
            <a:off x="5151960" y="186228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Text Box 34"/>
          <p:cNvSpPr/>
          <p:nvPr/>
        </p:nvSpPr>
        <p:spPr>
          <a:xfrm rot="5400000">
            <a:off x="3887280" y="1406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58" descr="information_items_2912"/>
          <p:cNvPicPr/>
          <p:nvPr/>
        </p:nvPicPr>
        <p:blipFill>
          <a:blip r:embed="rId1"/>
          <a:stretch/>
        </p:blipFill>
        <p:spPr>
          <a:xfrm>
            <a:off x="0" y="2708280"/>
            <a:ext cx="3203640" cy="21366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59" descr="img19"/>
          <p:cNvPicPr/>
          <p:nvPr/>
        </p:nvPicPr>
        <p:blipFill>
          <a:blip r:embed="rId2"/>
          <a:stretch/>
        </p:blipFill>
        <p:spPr>
          <a:xfrm>
            <a:off x="-181080" y="0"/>
            <a:ext cx="3384720" cy="263700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60"/>
          <p:cNvSpPr/>
          <p:nvPr/>
        </p:nvSpPr>
        <p:spPr>
          <a:xfrm>
            <a:off x="250920" y="2492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коном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4" name="Picture 61" descr="i (2)"/>
          <p:cNvPicPr/>
          <p:nvPr/>
        </p:nvPicPr>
        <p:blipFill>
          <a:blip r:embed="rId3"/>
          <a:stretch/>
        </p:blipFill>
        <p:spPr>
          <a:xfrm>
            <a:off x="5940360" y="260280"/>
            <a:ext cx="3816360" cy="220500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2"/>
          <p:cNvSpPr/>
          <p:nvPr/>
        </p:nvSpPr>
        <p:spPr>
          <a:xfrm>
            <a:off x="6156360" y="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льтурно-язык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6" name="Picture 63" descr="full_photo"/>
          <p:cNvPicPr/>
          <p:nvPr/>
        </p:nvPicPr>
        <p:blipFill>
          <a:blip r:embed="rId4"/>
          <a:stretch/>
        </p:blipFill>
        <p:spPr>
          <a:xfrm>
            <a:off x="3132000" y="333360"/>
            <a:ext cx="3167280" cy="215892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64"/>
          <p:cNvSpPr/>
          <p:nvPr/>
        </p:nvSpPr>
        <p:spPr>
          <a:xfrm>
            <a:off x="399564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лигиоз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8" name="Picture 65" descr="449954-original"/>
          <p:cNvPicPr/>
          <p:nvPr/>
        </p:nvPicPr>
        <p:blipFill>
          <a:blip r:embed="rId5"/>
          <a:stretch/>
        </p:blipFill>
        <p:spPr>
          <a:xfrm>
            <a:off x="179280" y="4924440"/>
            <a:ext cx="3492720" cy="193356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6"/>
          <p:cNvSpPr/>
          <p:nvPr/>
        </p:nvSpPr>
        <p:spPr>
          <a:xfrm>
            <a:off x="0" y="458136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ческое прошлое народ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0" name="Picture 67" descr="210_nacionalnost"/>
          <p:cNvPicPr/>
          <p:nvPr/>
        </p:nvPicPr>
        <p:blipFill>
          <a:blip r:embed="rId6"/>
          <a:stretch/>
        </p:blipFill>
        <p:spPr>
          <a:xfrm>
            <a:off x="4427640" y="4746600"/>
            <a:ext cx="4716360" cy="211140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68"/>
          <p:cNvSpPr/>
          <p:nvPr/>
        </p:nvSpPr>
        <p:spPr>
          <a:xfrm>
            <a:off x="5292720" y="4724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нодемограф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Text Box 69"/>
          <p:cNvSpPr/>
          <p:nvPr/>
        </p:nvSpPr>
        <p:spPr>
          <a:xfrm>
            <a:off x="2916360" y="2924280"/>
            <a:ext cx="62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сновные причины возникновения межнациональных конфли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AutoShape 72"/>
          <p:cNvSpPr/>
          <p:nvPr/>
        </p:nvSpPr>
        <p:spPr>
          <a:xfrm rot="1688400">
            <a:off x="3131640" y="2637000"/>
            <a:ext cx="1008360" cy="431640"/>
          </a:xfrm>
          <a:prstGeom prst="leftArrow">
            <a:avLst>
              <a:gd name="adj1" fmla="val 50000"/>
              <a:gd name="adj2" fmla="val 584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AutoShape 74"/>
          <p:cNvSpPr/>
          <p:nvPr/>
        </p:nvSpPr>
        <p:spPr>
          <a:xfrm>
            <a:off x="2987640" y="3357720"/>
            <a:ext cx="1008000" cy="431640"/>
          </a:xfrm>
          <a:prstGeom prst="lef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AutoShape 76"/>
          <p:cNvSpPr/>
          <p:nvPr/>
        </p:nvSpPr>
        <p:spPr>
          <a:xfrm rot="14609400">
            <a:off x="3798000" y="4088520"/>
            <a:ext cx="433440" cy="863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AutoShape 77"/>
          <p:cNvSpPr/>
          <p:nvPr/>
        </p:nvSpPr>
        <p:spPr>
          <a:xfrm rot="19884000">
            <a:off x="6227280" y="4220640"/>
            <a:ext cx="360360" cy="470160"/>
          </a:xfrm>
          <a:prstGeom prst="downArrow">
            <a:avLst>
              <a:gd name="adj1" fmla="val 50000"/>
              <a:gd name="adj2" fmla="val 326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AutoShape 78"/>
          <p:cNvSpPr/>
          <p:nvPr/>
        </p:nvSpPr>
        <p:spPr>
          <a:xfrm rot="15991800">
            <a:off x="4984560" y="2584080"/>
            <a:ext cx="567000" cy="382680"/>
          </a:xfrm>
          <a:prstGeom prst="rightArrow">
            <a:avLst>
              <a:gd name="adj1" fmla="val 50000"/>
              <a:gd name="adj2" fmla="val 37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AutoShape 79"/>
          <p:cNvSpPr/>
          <p:nvPr/>
        </p:nvSpPr>
        <p:spPr>
          <a:xfrm rot="19105200">
            <a:off x="6587640" y="2565000"/>
            <a:ext cx="648000" cy="406440"/>
          </a:xfrm>
          <a:prstGeom prst="rightArrow">
            <a:avLst>
              <a:gd name="adj1" fmla="val 50000"/>
              <a:gd name="adj2" fmla="val 398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Рисунок 1" descr=""/>
          <p:cNvPicPr/>
          <p:nvPr/>
        </p:nvPicPr>
        <p:blipFill>
          <a:blip r:embed="rId1"/>
          <a:stretch/>
        </p:blipFill>
        <p:spPr>
          <a:xfrm>
            <a:off x="4681440" y="2060640"/>
            <a:ext cx="4462560" cy="334152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Этапы эксперимен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4392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Диагностиче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Организацион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Практиче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Обобщающи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-685800">
              <a:lnSpc>
                <a:spcPct val="90000"/>
              </a:lnSpc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зультаты анкетирования:</a:t>
            </a:r>
            <a:br>
              <a:rPr sz="32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сформированность межнациональной культуры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73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874" name="Object 17"/>
          <p:cNvGraphicFramePr/>
          <p:nvPr/>
        </p:nvGraphicFramePr>
        <p:xfrm>
          <a:off x="2411280" y="2492280"/>
          <a:ext cx="509436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492280"/>
                    <a:ext cx="50943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2. Изученная нами литератур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дулкаримов, Г.Г. Об опыте работы по формированию у детей этнической толеран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И. Буренко, Н.Е. Иванюшкин «Воспитание культуры межнационального общ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дина А.А. «Программа по формированию толерантности у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мках классного коллекти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 Л. С. «Дилемма XX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: толерантность и конфли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i (3)"/>
          <p:cNvPicPr/>
          <p:nvPr/>
        </p:nvPicPr>
        <p:blipFill>
          <a:blip r:embed="rId1"/>
          <a:stretch/>
        </p:blipFill>
        <p:spPr>
          <a:xfrm>
            <a:off x="4994280" y="3584520"/>
            <a:ext cx="4149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Виды работ, использованные 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492000" y="2106720"/>
            <a:ext cx="5651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показ фильмов культур различных народов с последующим обсужд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словарная раб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равнивали пословицы и поговор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роводили конкурсы рисун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просматривали книги о культурах и традициях разных националь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проводили ле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организовали конкурс сочи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)проводили театрализованные с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)проводили игры с атрибутами разных нар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5" descr="Рисунок1"/>
          <p:cNvPicPr/>
          <p:nvPr/>
        </p:nvPicPr>
        <p:blipFill>
          <a:blip r:embed="rId1"/>
          <a:stretch/>
        </p:blipFill>
        <p:spPr>
          <a:xfrm>
            <a:off x="0" y="2276640"/>
            <a:ext cx="37083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6T04:15:00Z</dcterms:created>
  <dc:creator>Admin</dc:creator>
  <dc:description/>
  <dc:language>en-US</dc:language>
  <cp:lastModifiedBy>Admin</cp:lastModifiedBy>
  <dcterms:modified xsi:type="dcterms:W3CDTF">2017-08-28T05:32:29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