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839-3350-436B-8A39-AE6E8DAE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0E2-8DEA-4776-99D6-0608D423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891-836B-4C40-8278-E221DBF1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72EE-DF66-4492-8DE1-6869C539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5F28-DEB0-464C-8B7B-92872321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E659-B11E-4B4A-A99E-CF5BF7D4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844A-C44D-46E4-AB74-A56384E6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F51A-657E-4DCB-8010-47554466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48FC-737A-4AD0-B001-BA96F225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08D3-D262-4D5D-918E-141062FB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4274-0BA1-4420-8E46-CFAA1712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6FB-6065-4054-85BB-5DB6EDDC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15D8-F9F0-422D-9DBC-8C2BEAD9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142B-9A13-4FB1-BA0D-5416C620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678B-BCA7-49D7-8A79-A7619EFE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08BF-042D-4DA5-86E7-81FD0316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5362-FB50-463D-8A4F-D6023134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8A4-BFE0-406A-80F0-4A0398E0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A8F-E850-4C21-B763-65F1584D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4CA-94C3-4566-ADF8-586DFB01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F01-D2BA-436C-AB56-C38AA993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40CB-AF21-4D03-8D03-BB7B988A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D0A-FDD6-416E-858D-4E4A6696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7FD-9CF2-4220-AFE7-5778C179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8B2B-9A9B-4579-A3E8-A2701BF694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5B1C-7332-48BB-B685-129F165838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ihi.ru/avtor/gyslyanka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0437a"/>
                </a:solidFill>
                <a:latin typeface="Times New Roman"/>
              </a:rPr>
              <a:t>НАЛИЧНИКИ   ДЛЯ  НОВОГО   ДОМА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ворческий проект по ИЗО подготовила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ца 7 «В» класса Чеглова  Дар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ководитель: Лысенкова Л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У СОШ №13 г. Павловский Посад М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88640"/>
            <a:ext cx="403848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усские изб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Токарева Анн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т Оки до Двины и Онеги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т московских до псковских дорог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адить лапти, ладьи и телег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г любой на Руси мужичок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городах, деревнях – повсеместно –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Хоть парнишка, хоть вовсе малец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нал топор, долото и стамеску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работал с душой, удалец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ыли русские избы нарядны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 ладони умельцев - грубы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крашались любовно фасады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ужевами тончайшей резьбы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 окошек Авдотьи и Фёклы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шивали и пряли порой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сверкали в наличниках стёкла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ловно девичьи очи весно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ятистенка, родная избушка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ы – праматерь часовен, церквей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от пят и до самой макушк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растали совсем без гвоздей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холмах, крутоярах, в селеньях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крашая излучины рек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звышались над миром творенья –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укотворная радость навек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елый свет, он с избою прекрасней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 порогом расступится тьма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ловом, что ни деревня, то праздник –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олотые из сосен дома!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8" descr="DSC03332"/>
          <p:cNvPicPr/>
          <p:nvPr/>
        </p:nvPicPr>
        <p:blipFill>
          <a:blip r:embed="rId2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ОИ   РАБО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8" descr="зима 2011-12год 138"/>
          <p:cNvPicPr/>
          <p:nvPr/>
        </p:nvPicPr>
        <p:blipFill>
          <a:blip r:embed="rId1"/>
          <a:stretch/>
        </p:blipFill>
        <p:spPr>
          <a:xfrm>
            <a:off x="776160" y="1600200"/>
            <a:ext cx="3399120" cy="453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зима 2011-12год 135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зима 2011-12год 133"/>
          <p:cNvPicPr/>
          <p:nvPr/>
        </p:nvPicPr>
        <p:blipFill>
          <a:blip r:embed="rId3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ЕЛИ ПРОЕК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работать и выполнить творческий поек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снить в каком виде сохранился в Павловском Посаде один из видов прикладного искусства- домовая резьба народного жилищ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знакомиться с историей появления рез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БОСНОВАНИЕ ЦЕЛ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8" descr="DSC03314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DSC03315"/>
          <p:cNvPicPr/>
          <p:nvPr/>
        </p:nvPicPr>
        <p:blipFill>
          <a:blip r:embed="rId2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-81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64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естьянский дом называли родной, родимый, как называют дорогого человека.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До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кров по своей значимости находился в одном ряду таких понятий как жизнь, добро, родная земля. В устройстве жилища человек стремился привнести порядок, образно осмыслить его, наполнить образами. Это делалось, чтобы привлечь к дому силы света, добра, а от злых сил уберечься. Крестьянский дом становился словно маленькой Вселенной, символизируя связь человека с космос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Конёк (князёк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- верхний стык двух скатов кров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Жёлоб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водосток для дождевой вод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олотенце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ороткая резная доска для закрытия стыка причел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ричелины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резная доска для закрытия наружных торцов слег под кровлей, служит декоративным украшени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м смотрел на мир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кнами – очам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Наличники с пышным навершьем выглядели как драгоценная оправа. Ярусы наличников украшают сказочно-диковинные образы. Нижний ярус наличника олицетворял нижний, подземный мир, который представлялся человеку таинственным и загадочным. В узорном убранстве изб можно увидеть символические образы солнца, птиц, растений, животных, фантастических существ, которые олицетворяли небесную сферу, землю и водную стихию. Всё, чего касалась талантливая рука народного мастера, приобретало праздничную наряд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9" descr="DSC03317"/>
          <p:cNvPicPr/>
          <p:nvPr/>
        </p:nvPicPr>
        <p:blipFill>
          <a:blip r:embed="rId1"/>
          <a:stretch/>
        </p:blipFill>
        <p:spPr>
          <a:xfrm>
            <a:off x="776160" y="1600200"/>
            <a:ext cx="3399120" cy="4530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иды резьбы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луха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в целой доске вырезался или выдалбливался риунок по намеченному углём контуру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пильна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сквозной рисунок выполнялся с помощью лобзиковых пил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кладна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выполнялась из элементов пропильного орнамен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хняя часть окошка называлась 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кошни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Нижняя часть окна называлась 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арту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1"/>
          <a:stretch/>
        </p:blipFill>
        <p:spPr>
          <a:xfrm>
            <a:off x="5167440" y="1600200"/>
            <a:ext cx="2998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 УЛИЦАХ РОДНОГО ГОРОД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9" descr="DSC03310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DSC03311"/>
          <p:cNvPicPr/>
          <p:nvPr/>
        </p:nvPicPr>
        <p:blipFill>
          <a:blip r:embed="rId2"/>
          <a:stretch/>
        </p:blipFill>
        <p:spPr>
          <a:xfrm>
            <a:off x="1655640" y="394164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DSC03319"/>
          <p:cNvPicPr/>
          <p:nvPr/>
        </p:nvPicPr>
        <p:blipFill>
          <a:blip r:embed="rId3"/>
          <a:stretch/>
        </p:blipFill>
        <p:spPr>
          <a:xfrm>
            <a:off x="5846760" y="160020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DSC03318"/>
          <p:cNvPicPr/>
          <p:nvPr/>
        </p:nvPicPr>
        <p:blipFill>
          <a:blip r:embed="rId4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8" descr="DSC03320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DSC03323"/>
          <p:cNvPicPr/>
          <p:nvPr/>
        </p:nvPicPr>
        <p:blipFill>
          <a:blip r:embed="rId2"/>
          <a:stretch/>
        </p:blipFill>
        <p:spPr>
          <a:xfrm>
            <a:off x="4788000" y="1773360"/>
            <a:ext cx="1641240" cy="2189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DSC03328"/>
          <p:cNvPicPr/>
          <p:nvPr/>
        </p:nvPicPr>
        <p:blipFill>
          <a:blip r:embed="rId3"/>
          <a:stretch/>
        </p:blipFill>
        <p:spPr>
          <a:xfrm>
            <a:off x="2916360" y="3789360"/>
            <a:ext cx="1641240" cy="2189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DSC03333"/>
          <p:cNvPicPr/>
          <p:nvPr/>
        </p:nvPicPr>
        <p:blipFill>
          <a:blip r:embed="rId4"/>
          <a:stretch/>
        </p:blipFill>
        <p:spPr>
          <a:xfrm>
            <a:off x="6300720" y="3645000"/>
            <a:ext cx="1641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АМОЕ   ИНТЕРЕСНО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СЛОВИЦЫ О ДОМ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сякий дом хозяином держитс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м красится хозяин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ез хозяина дом – сирот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е по дому господин, а дом по господин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е дом хозяина красит, а хозяин д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ово на дому, таково и самом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вой дом – не чужой: из него не уйдеш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8:40:50Z</dcterms:created>
  <dc:creator>nastya</dc:creator>
  <dc:description/>
  <dc:language>en-US</dc:language>
  <cp:lastModifiedBy>user</cp:lastModifiedBy>
  <dcterms:modified xsi:type="dcterms:W3CDTF">2017-08-28T19:01:49Z</dcterms:modified>
  <cp:revision>4</cp:revision>
  <dc:subject/>
  <dc:title>НАЛИЧНИКИ   ДЛЯ  НОВОГО   ДОМА</dc:title>
</cp:coreProperties>
</file>