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26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7BA6-A93C-4A58-A7A7-9FD2B36A6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667B-E31C-422D-B7C1-576AE10DB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B734AD-13F8-446E-8C33-1778A2B0A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9E439E-1B86-4D34-9BE5-AE4D221F5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06A961-E5E9-445B-B430-504CEACFA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629A91-7F0B-4332-B5D5-48EED7AF1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2A9CF0-A577-46FF-A9F9-AAC02A284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C9A734-0072-4390-84E9-70F913060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65A878-BDD3-4A52-9747-4FD7511DE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F87F7A-7BF3-48E2-8F5A-B2978EE84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84EE3D-EC15-44AA-98B4-678CA9E16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AD7573-3BB1-414D-B78C-4E5CB32C5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FD39-6F50-4CFD-B440-B15053159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FF4819-9521-445D-B41E-F61E8B3D4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E81E2F-8EE9-4CD5-A5F5-A924BABA7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213633-3CB0-4E9D-8502-300609034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7EE7E0-44AA-45E0-BA85-CC0E4B90F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B1E0EF-1845-4B1B-8950-42E569C33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C3AB3E-9ABA-443D-A321-18A5F016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7AE9B8-23D1-410C-95F7-E5613C6B9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94114E-ACED-4750-B154-E8CF1E97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3499E5-181B-4CA3-9FBB-E2A9A1B52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B44461-2F08-4BA5-B4E6-85B1C00A1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F2ED-4B60-4783-BEB9-6510D413B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F09DF7-9868-4795-9F59-26CD864AE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E3CF8E-6A28-4AEF-9358-9124CA887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BCF7AA-1F09-4CAE-8628-9CD66B134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D67961-F019-4863-AF85-493B66661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EE4EEB-31FA-4D52-88CB-614550A6B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264464-CEAE-4CDF-BE36-DC8DC7C89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62A020-735F-44FE-9991-9F80D4408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79161D-756E-47C0-AA8F-E89731DCC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D5A878-1B26-45F8-A814-7CBCA3423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81D6E4-34A0-47A4-9BD6-EE4A82C2D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36F81-84A6-48CD-8695-B537067A9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172566-E6E8-4D07-B9CE-3A5913DCA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5FE9F2-AD27-442F-8B5F-BCD411B84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FAD1E6-E7E8-4173-BFA3-8E1A3F952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6A289-D68F-4BC3-A9A6-6A39730E4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7806A-D505-4CC4-A6B2-61D8328C7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2823B-E334-4C21-9568-C27C1EEB6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28CA7-56B3-4415-9D2A-CA81D274C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A552C-222A-4AAA-B961-979A8008F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ECF58-B189-4B73-A09E-E4B871AF2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A7D0-AA41-48BC-8EBB-2061731D6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9B838-CE3F-40AF-9217-7A0298642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D6FDE-BC95-4315-AFAB-DC3536F6F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A0EEB-DA26-4484-BF16-282B634F8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80A92-DAFD-4BFB-82FD-06F82B10B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821F2-F1E4-453A-B270-965482FFC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598D6-51C0-4E12-8A88-185D0C3EE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6C9BF-BFBF-4A5C-A44B-1764D89C8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60423-2467-4EA3-9BAB-B2561D14A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2D417-1345-4909-A970-A63615B53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58DCC-3AF7-4BC4-9CF5-C5F09DD77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2D62-CD18-472A-A4E8-CF22F5DD2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664BE-A2B6-4409-803C-102822456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C18EA-471A-41B6-82D4-17297DA10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634B1-27D6-4E66-B252-DF37967C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DDE1C-7612-47ED-A46F-ABBDB8A4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A1C1B-8939-4760-B263-87C6F08DA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DAFD6-27BF-4754-9A9D-02F253101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5BC1E-BE33-47C6-B285-AD6768CE8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FD4F44-035A-494A-A2CC-BBCDE2E25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7AC0E4-A231-435A-BBE6-6388E1DBE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4A20C0-51CD-4E15-A87D-6299584BE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24F9-CD55-4234-A73B-24120B40D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2E0ED7-8030-4502-BDAA-04770B77C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9A2BF5-25B8-4DF4-8CF9-3C3EC65A9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EB6118-E50C-4B1B-A3F5-D2B8327A0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4FAF3A-03D1-43E8-9EE3-5439A7BFB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0CA803-BACC-4116-BE97-88A5F298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933957-C17A-4405-BC53-5624980EF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64622A-9AB5-4862-8E80-C66C80054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28BAF5-48E3-42DE-BF77-0A9F647CA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20AB77-CCA2-4F7C-B7AB-148FFDFD7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30E1FA-62B2-440C-B8CB-D6CB057F1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ECE2-EB92-4BCB-BA9D-A09F073B3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1999F-BCB3-466F-9DF2-52548D48D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6E9B6-4E08-46AC-88DF-B8F0F0DFE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7223F-1810-45BF-BC4C-B6EFC305A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EB397-89F3-4BCB-9133-904F5E3E8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E0DBC-7F71-4D7F-A7F3-7623A44F0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1E04FA-F2EA-41BB-93E7-5D8E1C9E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65858B-0348-4085-A47F-B092C8D4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82838C-046C-4DCB-B774-C9E8A0C6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E2ACEC-4468-4E3E-9AB1-FCFC151CD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ED850A-7F39-4930-A8DF-808A9509B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5ED3-A5B3-4715-9443-E5E4CFFEF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4C799-A23F-4809-9DCB-585B0668D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7EB52F-30E5-4E69-8C59-036061937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5D7BB6-3B2A-4851-BBB3-9C447ECAF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665CB3-7BB8-44F6-9F7C-338D62215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BF9250-3384-4E86-A1CB-63F24E138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F3A306-6679-4226-AC2A-A83830F37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7CA18D-2233-40F5-836F-5C398D1BF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4E4A54-BAAD-4F8F-8EE5-1464F936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47356F-03D3-42FE-821B-BF710758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A8EF11-FC7E-4B1D-BE74-90E91D0B3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0E46-66BF-4323-9E48-819D533FA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606870-2397-46F9-B38C-D30CF7F05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193384-F29B-4C9B-979B-FDC3F97EE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E07CCB-FBA4-4B38-BBAB-930DEF5F9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460CD6-12BD-4BB3-A419-5CDBB4623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29EA7E-25B4-4767-B3B7-D90E731AF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0EA0B3-BCE8-498F-BD7B-8BCECC45F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61DB9C-CE76-4F28-A3E2-15DC6313E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24AC15-48D5-4B9B-82F2-8F20EEAD8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94773C-1243-4386-9FBD-1CE069912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137311-07FA-4F9E-B9FF-96097B3BD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06F0-6D61-4710-ABCF-6A340309D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04DC95-2885-464C-B453-A98ED35C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00CA7C-52FF-464F-9824-A891E5D5D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170617-3468-4998-8FC1-AF97E0C91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B6A531-B007-49DD-9A19-D6387C9FF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77A394-D2C9-47BD-85DD-80607BB19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42A498-A6D4-4447-95DA-84C6D35A5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4A5BAE-3D0C-4BDC-B1D7-968FB0AE9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9476FA-822B-455D-AB9F-835701270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D51D11-1CD2-4BF8-8F1B-AC468D7FE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8DA6ED-6E2F-41E6-97E3-C3667A652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AA57-39DF-47B6-B07B-600B7155D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C8968A-53DE-4035-ACD8-F318F1C7D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479F79-1F74-444F-8588-E531532D6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BAFF66-BADF-45CA-9D1A-EA527B3E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340697-E4AD-455F-93E4-543A0ADC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5932D4-89BC-401A-9C69-F9FA4C997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FB2E71-79EA-4209-BAD6-0A2AE7CE2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138820-F894-456F-80B8-A44EED9CF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56EEDC-A086-4EDA-AE2E-94402080D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017EB7-3BAC-4BE6-AE25-8C9B0D01C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97B001-5251-4D20-B515-9388F528E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A84F4-51F2-4E84-82DB-69AF187009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532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5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536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1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542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5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546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1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93B85-7CC8-4AF3-8262-2FDF9D108A99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 type="dt" idx="3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 type="sldNum" idx="3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25118-67AF-4378-83C3-D17F0886842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42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44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49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55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8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59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63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67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36481-6AEA-49B7-9ABE-AAD7C562C74F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A2707-7B91-467E-A6EE-01FC4D001FC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056AF-256D-4DE5-BF95-2467C79E913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7FF14-1096-4029-AAC5-08452C3A99ED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28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38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39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2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5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46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54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55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58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59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0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61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9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307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8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6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18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6EC64-FE75-41BE-9DE6-6BB30C4C083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351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352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9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5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366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9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370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3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374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7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378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382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5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06BF9-1588-4830-9750-46D01E98CF5E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59041-8FB7-41F4-AF45-07A58300A61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7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7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96278-D70F-46E3-A58F-3327C906E63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Picture 5" descr="http://4.bp.blogspot.com/-LcCyaeCvaz0/VVfoytTVFCI/AAAAAAAAHh4/4eZXHpxowg4/s1600/FOREST-33251695.jpg"/>
          <p:cNvPicPr/>
          <p:nvPr/>
        </p:nvPicPr>
        <p:blipFill>
          <a:blip r:embed="rId1"/>
          <a:stretch/>
        </p:blipFill>
        <p:spPr>
          <a:xfrm>
            <a:off x="0" y="189000"/>
            <a:ext cx="9524880" cy="6505560"/>
          </a:xfrm>
          <a:prstGeom prst="rect">
            <a:avLst/>
          </a:prstGeom>
          <a:ln w="0">
            <a:noFill/>
          </a:ln>
        </p:spPr>
      </p:pic>
      <p:pic>
        <p:nvPicPr>
          <p:cNvPr id="637" name="Прямоугольник 1" descr=""/>
          <p:cNvPicPr/>
          <p:nvPr/>
        </p:nvPicPr>
        <p:blipFill>
          <a:blip r:embed="rId2"/>
          <a:stretch/>
        </p:blipFill>
        <p:spPr>
          <a:xfrm>
            <a:off x="755640" y="523800"/>
            <a:ext cx="7705800" cy="491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8" name="Picture 5" descr="normal_russian_villag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85672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c0039"/>
                </a:solidFill>
                <a:latin typeface="Arial"/>
              </a:rPr>
              <a:t>Tell us about your favorite animals!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0" y="170028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like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y live in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y are …. (colou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y eat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y can …. (What can they do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y like ….(don’t lik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1f0c"/>
                </a:solidFill>
                <a:latin typeface="Arial"/>
              </a:rPr>
              <a:t>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Box 1"/>
          <p:cNvSpPr/>
          <p:nvPr/>
        </p:nvSpPr>
        <p:spPr>
          <a:xfrm>
            <a:off x="1919160" y="5084640"/>
            <a:ext cx="61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It’s your 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for the next lesson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385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385" fill="hold"/>
                                        <p:tgtEl>
                                          <p:spTgt spid="6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385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385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6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6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6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6" name="Picture 6" descr="http://900igr.net/up/datas/85582/016.jpg"/>
          <p:cNvPicPr/>
          <p:nvPr/>
        </p:nvPicPr>
        <p:blipFill>
          <a:blip r:embed="rId1"/>
          <a:stretch/>
        </p:blipFill>
        <p:spPr>
          <a:xfrm>
            <a:off x="0" y="52560"/>
            <a:ext cx="9036000" cy="6777000"/>
          </a:xfrm>
          <a:prstGeom prst="rect">
            <a:avLst/>
          </a:prstGeom>
          <a:ln w="0">
            <a:noFill/>
          </a:ln>
        </p:spPr>
      </p:pic>
      <p:sp>
        <p:nvSpPr>
          <p:cNvPr id="687" name="TextBox 5"/>
          <p:cNvSpPr/>
          <p:nvPr/>
        </p:nvSpPr>
        <p:spPr>
          <a:xfrm>
            <a:off x="2411280" y="4332240"/>
            <a:ext cx="49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000"/>
                </a:solidFill>
                <a:latin typeface="Arial"/>
              </a:rPr>
              <a:t>Good bye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What animals do you like!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WordArt 4"/>
          <p:cNvSpPr txBox="1"/>
          <p:nvPr/>
        </p:nvSpPr>
        <p:spPr>
          <a:xfrm>
            <a:off x="1747800" y="2349360"/>
            <a:ext cx="534528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245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I like… ..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40" name="Picture 7" descr="http://www.myjulia.ru/data/cache/2011/07/01/808276_8308-800x600.jpg"/>
          <p:cNvPicPr/>
          <p:nvPr/>
        </p:nvPicPr>
        <p:blipFill>
          <a:blip r:embed="rId1"/>
          <a:stretch/>
        </p:blipFill>
        <p:spPr>
          <a:xfrm>
            <a:off x="6154560" y="4502160"/>
            <a:ext cx="2903760" cy="217800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9" descr="http://img.happy-giraffe.ru/v2/thumbs/e26e4ffdce15f4bc6711c767ffa68dac/85/44/af3aee8820738166ba072cf87f05.jpg"/>
          <p:cNvPicPr/>
          <p:nvPr/>
        </p:nvPicPr>
        <p:blipFill>
          <a:blip r:embed="rId2"/>
          <a:stretch/>
        </p:blipFill>
        <p:spPr>
          <a:xfrm>
            <a:off x="68400" y="4581360"/>
            <a:ext cx="3359160" cy="20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Picture 2" descr=""/>
          <p:cNvPicPr/>
          <p:nvPr/>
        </p:nvPicPr>
        <p:blipFill>
          <a:blip r:embed="rId1"/>
          <a:stretch/>
        </p:blipFill>
        <p:spPr>
          <a:xfrm>
            <a:off x="66600" y="60480"/>
            <a:ext cx="4427640" cy="276372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6" descr="лошадь"/>
          <p:cNvPicPr/>
          <p:nvPr/>
        </p:nvPicPr>
        <p:blipFill>
          <a:blip r:embed="rId2"/>
          <a:stretch/>
        </p:blipFill>
        <p:spPr>
          <a:xfrm>
            <a:off x="3348000" y="0"/>
            <a:ext cx="3494160" cy="350208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8" descr="P8186034"/>
          <p:cNvPicPr/>
          <p:nvPr/>
        </p:nvPicPr>
        <p:blipFill>
          <a:blip r:embed="rId3"/>
          <a:stretch/>
        </p:blipFill>
        <p:spPr>
          <a:xfrm>
            <a:off x="5540400" y="3467160"/>
            <a:ext cx="3616200" cy="267012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4" descr="http://www.pavelin.ru/images/stories/zhiraf/zhirafa_019.jpg"/>
          <p:cNvPicPr/>
          <p:nvPr/>
        </p:nvPicPr>
        <p:blipFill>
          <a:blip r:embed="rId4"/>
          <a:stretch/>
        </p:blipFill>
        <p:spPr>
          <a:xfrm>
            <a:off x="6948360" y="0"/>
            <a:ext cx="2259000" cy="328464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6" descr="https://w-dog.ru/wallpapers/6/6/520500764779333/sobaki-raznyx-porod.jpg"/>
          <p:cNvPicPr/>
          <p:nvPr/>
        </p:nvPicPr>
        <p:blipFill>
          <a:blip r:embed="rId5"/>
          <a:stretch/>
        </p:blipFill>
        <p:spPr>
          <a:xfrm>
            <a:off x="0" y="4092480"/>
            <a:ext cx="3270240" cy="267012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11" descr="http://www.v3wall.com/wallpaper/medium/1002/medium_20100225122255277588.jpg"/>
          <p:cNvPicPr/>
          <p:nvPr/>
        </p:nvPicPr>
        <p:blipFill>
          <a:blip r:embed="rId6"/>
          <a:stretch/>
        </p:blipFill>
        <p:spPr>
          <a:xfrm>
            <a:off x="2281320" y="2760840"/>
            <a:ext cx="3552840" cy="2217600"/>
          </a:xfrm>
          <a:prstGeom prst="rect">
            <a:avLst/>
          </a:prstGeom>
          <a:ln w="0">
            <a:noFill/>
          </a:ln>
        </p:spPr>
      </p:pic>
      <p:sp>
        <p:nvSpPr>
          <p:cNvPr id="648" name="WordArt 4"/>
          <p:cNvSpPr txBox="1"/>
          <p:nvPr/>
        </p:nvSpPr>
        <p:spPr>
          <a:xfrm>
            <a:off x="3267000" y="4827600"/>
            <a:ext cx="587700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245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I like… ..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WordArt 4"/>
          <p:cNvSpPr txBox="1"/>
          <p:nvPr/>
        </p:nvSpPr>
        <p:spPr>
          <a:xfrm>
            <a:off x="27000" y="1844640"/>
            <a:ext cx="855360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ff0066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о некоторые имена существительные </a:t>
            </a:r>
            <a:endParaRPr b="0" lang="en-US" sz="4800" spc="1" strike="noStrike">
              <a:ln w="12600">
                <a:solidFill>
                  <a:srgbClr val="ff0066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ff0066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меют особую форму множественного числа.</a:t>
            </a:r>
            <a:endParaRPr b="0" lang="en-US" sz="4800" spc="1" strike="noStrike">
              <a:ln w="12600">
                <a:solidFill>
                  <a:srgbClr val="ff0066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ff0066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х нужно запомнить!</a:t>
            </a:r>
            <a:endParaRPr b="0" lang="en-US" sz="4800" spc="1" strike="noStrike">
              <a:ln w="12600">
                <a:solidFill>
                  <a:srgbClr val="ff0066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50" name="Прямоугольник 1"/>
          <p:cNvSpPr/>
          <p:nvPr/>
        </p:nvSpPr>
        <p:spPr>
          <a:xfrm>
            <a:off x="4479840" y="2967120"/>
            <a:ext cx="1843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Picture 2" descr=""/>
          <p:cNvPicPr/>
          <p:nvPr/>
        </p:nvPicPr>
        <p:blipFill>
          <a:blip r:embed="rId1"/>
          <a:stretch/>
        </p:blipFill>
        <p:spPr>
          <a:xfrm>
            <a:off x="30240" y="31680"/>
            <a:ext cx="8618400" cy="639288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2" descr="https://ds04.infourok.ru/uploads/ex/0622/00008ed9-31d1c826/img8.jpg"/>
          <p:cNvPicPr/>
          <p:nvPr/>
        </p:nvPicPr>
        <p:blipFill>
          <a:blip r:embed="rId2"/>
          <a:stretch/>
        </p:blipFill>
        <p:spPr>
          <a:xfrm>
            <a:off x="4572000" y="1052640"/>
            <a:ext cx="3600360" cy="16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07552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Can you count the animal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Picture 7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50920" y="1413000"/>
            <a:ext cx="3384360" cy="239544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8" descr="http://media.istockphoto.com/photos/pair-of-horses-showing-affection-picture-id157825499?k=6&amp;m=157825499&amp;s=170667a&amp;w=0&amp;h=AL0AUK0w4QST-HwkU36mRBb0fv_Kb-Gc4k-grTlmo24="/>
          <p:cNvPicPr/>
          <p:nvPr/>
        </p:nvPicPr>
        <p:blipFill>
          <a:blip r:embed="rId2"/>
          <a:stretch/>
        </p:blipFill>
        <p:spPr>
          <a:xfrm>
            <a:off x="5516640" y="4375080"/>
            <a:ext cx="3620880" cy="240984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11" descr="http://agrocontech.ru/files/pages/273/1397814514general_pages_razvedenie_gusei_i_utok.jpg"/>
          <p:cNvPicPr/>
          <p:nvPr/>
        </p:nvPicPr>
        <p:blipFill>
          <a:blip r:embed="rId3"/>
          <a:stretch/>
        </p:blipFill>
        <p:spPr>
          <a:xfrm>
            <a:off x="279360" y="3811680"/>
            <a:ext cx="3514680" cy="263664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15" descr="http://www.biotopimage.ru/images/fishki/samyj-krutoj-akvas/d5.jpg"/>
          <p:cNvPicPr/>
          <p:nvPr/>
        </p:nvPicPr>
        <p:blipFill>
          <a:blip r:embed="rId4"/>
          <a:stretch/>
        </p:blipFill>
        <p:spPr>
          <a:xfrm>
            <a:off x="5076720" y="1413000"/>
            <a:ext cx="3544920" cy="199692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10" descr="http://img.humorsharing.com/media/images/1202/i_3672_funny-animals-034.jpg"/>
          <p:cNvPicPr/>
          <p:nvPr/>
        </p:nvPicPr>
        <p:blipFill>
          <a:blip r:embed="rId5"/>
          <a:stretch/>
        </p:blipFill>
        <p:spPr>
          <a:xfrm>
            <a:off x="3046320" y="3301920"/>
            <a:ext cx="3048120" cy="21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Picture 10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307800" y="2516040"/>
            <a:ext cx="3864240" cy="245124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6" descr="http://www.averilac.com/wp-content/uploads/2015/07/koyunn11.jpg"/>
          <p:cNvPicPr/>
          <p:nvPr/>
        </p:nvPicPr>
        <p:blipFill>
          <a:blip r:embed="rId2"/>
          <a:stretch/>
        </p:blipFill>
        <p:spPr>
          <a:xfrm>
            <a:off x="3216240" y="5151600"/>
            <a:ext cx="5904000" cy="168732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13" descr="http://www.publicdomainpictures.net/pictures/170000/velka/three-maine-coon-cats.jpg"/>
          <p:cNvPicPr/>
          <p:nvPr/>
        </p:nvPicPr>
        <p:blipFill>
          <a:blip r:embed="rId3"/>
          <a:stretch/>
        </p:blipFill>
        <p:spPr>
          <a:xfrm>
            <a:off x="4716360" y="2492280"/>
            <a:ext cx="3748320" cy="249732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12" descr="http://greatcats.ru/uploads/gallery/main/43/77317_poster2000.jpg"/>
          <p:cNvPicPr/>
          <p:nvPr/>
        </p:nvPicPr>
        <p:blipFill>
          <a:blip r:embed="rId4"/>
          <a:stretch/>
        </p:blipFill>
        <p:spPr>
          <a:xfrm>
            <a:off x="4859280" y="38160"/>
            <a:ext cx="4289400" cy="2859120"/>
          </a:xfrm>
          <a:prstGeom prst="rect">
            <a:avLst/>
          </a:prstGeom>
          <a:ln w="0">
            <a:noFill/>
          </a:ln>
        </p:spPr>
      </p:pic>
      <p:sp>
        <p:nvSpPr>
          <p:cNvPr id="665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AutoShape 16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AutoShape 18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Picture 19" descr="D:\Рабочая\РИСУНКИ ВСТАВКА\Животные\олени.jpg"/>
          <p:cNvPicPr/>
          <p:nvPr/>
        </p:nvPicPr>
        <p:blipFill>
          <a:blip r:embed="rId5"/>
          <a:stretch/>
        </p:blipFill>
        <p:spPr>
          <a:xfrm>
            <a:off x="41400" y="4989600"/>
            <a:ext cx="4035240" cy="170496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21" descr="http://animalzone.ru/file/photo/x1/3fabdffcbf.jpg"/>
          <p:cNvPicPr/>
          <p:nvPr/>
        </p:nvPicPr>
        <p:blipFill>
          <a:blip r:embed="rId6"/>
          <a:stretch/>
        </p:blipFill>
        <p:spPr>
          <a:xfrm>
            <a:off x="41400" y="38160"/>
            <a:ext cx="3427200" cy="2574720"/>
          </a:xfrm>
          <a:prstGeom prst="rect">
            <a:avLst/>
          </a:prstGeom>
          <a:ln w="0">
            <a:noFill/>
          </a:ln>
        </p:spPr>
      </p:pic>
      <p:sp>
        <p:nvSpPr>
          <p:cNvPr id="670" name="Прямоугольник 6"/>
          <p:cNvSpPr/>
          <p:nvPr/>
        </p:nvSpPr>
        <p:spPr>
          <a:xfrm>
            <a:off x="155520" y="2438280"/>
            <a:ext cx="873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Can you count the animal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1" name="Picture 4" descr="http://www.4vsar.ru/i/news/xxl/193181.jpg"/>
          <p:cNvPicPr/>
          <p:nvPr/>
        </p:nvPicPr>
        <p:blipFill>
          <a:blip r:embed="rId1"/>
          <a:stretch/>
        </p:blipFill>
        <p:spPr>
          <a:xfrm>
            <a:off x="-190440" y="189000"/>
            <a:ext cx="10152000" cy="6264360"/>
          </a:xfrm>
          <a:prstGeom prst="rect">
            <a:avLst/>
          </a:prstGeom>
          <a:ln w="0">
            <a:noFill/>
          </a:ln>
        </p:spPr>
      </p:pic>
      <p:sp>
        <p:nvSpPr>
          <p:cNvPr id="672" name="WordArt 4"/>
          <p:cNvSpPr txBox="1"/>
          <p:nvPr/>
        </p:nvSpPr>
        <p:spPr>
          <a:xfrm>
            <a:off x="2411280" y="2060640"/>
            <a:ext cx="5256360" cy="21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993366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993366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73" name="TextBox 1"/>
          <p:cNvSpPr/>
          <p:nvPr/>
        </p:nvSpPr>
        <p:spPr>
          <a:xfrm>
            <a:off x="2843280" y="2276640"/>
            <a:ext cx="453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00000"/>
                </a:solidFill>
                <a:latin typeface="Arial"/>
              </a:rPr>
              <a:t>Look!!!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00000"/>
                </a:solidFill>
                <a:latin typeface="Arial"/>
              </a:rPr>
              <a:t>It’s raining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Picture 53" descr="http://luxfon.com/download.php?file=201304/1920x1080/luxfon.com-21174.jpg"/>
          <p:cNvPicPr/>
          <p:nvPr/>
        </p:nvPicPr>
        <p:blipFill>
          <a:blip r:embed="rId1"/>
          <a:stretch/>
        </p:blipFill>
        <p:spPr>
          <a:xfrm>
            <a:off x="-4680" y="887400"/>
            <a:ext cx="9296280" cy="5970600"/>
          </a:xfrm>
          <a:prstGeom prst="rect">
            <a:avLst/>
          </a:prstGeom>
          <a:ln w="0">
            <a:noFill/>
          </a:ln>
        </p:spPr>
      </p:pic>
      <p:sp>
        <p:nvSpPr>
          <p:cNvPr id="675" name="WordArt 4"/>
          <p:cNvSpPr txBox="1"/>
          <p:nvPr/>
        </p:nvSpPr>
        <p:spPr>
          <a:xfrm>
            <a:off x="2050920" y="333360"/>
            <a:ext cx="5185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Help us! Fill the missing letters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676" name="Text Box 12"/>
          <p:cNvSpPr/>
          <p:nvPr/>
        </p:nvSpPr>
        <p:spPr>
          <a:xfrm>
            <a:off x="684360" y="974880"/>
            <a:ext cx="2808000" cy="53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__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u__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__e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i__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ep__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an__aro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s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19"/>
          <p:cNvSpPr/>
          <p:nvPr/>
        </p:nvSpPr>
        <p:spPr>
          <a:xfrm>
            <a:off x="4421160" y="961200"/>
            <a:ext cx="2814840" cy="58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__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__cod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__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e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__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ir__ff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__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1T17:17:47Z</dcterms:created>
  <dc:creator>2</dc:creator>
  <dc:description/>
  <dc:language>en-US</dc:language>
  <cp:lastModifiedBy>*</cp:lastModifiedBy>
  <dcterms:modified xsi:type="dcterms:W3CDTF">2017-08-28T17:02:45Z</dcterms:modified>
  <cp:revision>5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