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B51-8C05-415D-B09B-AF6CCE20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463-2BD4-4358-A522-8A2191B4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E4A83-4524-494B-9622-5FF37602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54B9D-B4EC-4850-8892-0B43D1E0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90646-72B9-4658-A1D2-4A924A74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8180A-4A21-42EE-8D07-4D0B08C6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0B1A8-11C0-4392-AAD1-28897A82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2BE3E-D0DC-4BE2-A66A-54BAB03F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F8E7F-DA42-4545-ACBD-6CF55938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39ECF-58B3-4DD3-91C3-20A3991B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66F36-8899-4C44-9F7A-180AB207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135B8-8BBB-4590-B9EA-67E1B1EF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B4AF-5C08-4AB2-9C22-907947E0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2EC6E-14BB-4555-904E-57F2FF0F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83D83-4C1C-4132-873F-07392286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FB386-A167-4972-8296-6BE10374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F943D-373F-4E8D-AC9B-1D95327B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01C77-3C13-4DC1-902A-74E60BEC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33CA9-37AD-426B-99CF-02BC7373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3D56A-4749-4702-8878-E5B6EC56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92AA9-594D-40B1-9A0B-D00EA861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2C033-2E59-4C48-82FA-9F921D7F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2BEE2-2B7C-4D2B-A130-D0C9ADCA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7B2-92C4-45DD-BF30-707ECE5F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3E5C0-033E-4446-AAC2-4A7E8EB9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48D66-F4A4-4E17-A8E7-C7327CD0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A4048-F158-4160-B645-A719DDCE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DE3E9-BF1D-4547-8AF6-6BC71207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3429B-4FB1-434F-8007-658C9C83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BFF1D-AA2B-4E60-A06A-0E95CB40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9AB57-1EA2-4B7C-8E38-1E200002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3AA99-0EE6-462C-97AB-86AAD4B6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C52A4-5617-447A-B15E-A45E5039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46983-9FE2-4D61-ACFA-395E4C4F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58C1-EBB0-4259-92E2-84B2D699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22CA7-69AF-4E70-A0ED-2FD1E423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6F51B-F385-4ED4-8601-8D547908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A1EAD-773A-437B-B2F4-14EBC4D1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FD98-0C50-4F73-8962-65812E7F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B284-A89F-4078-B7E7-4829D32D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DCDA-168F-4729-84EA-171ED4DC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80B5-51E9-4A67-A61C-931F28DC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8E3B-B131-4D7D-B312-AFD3F46F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9923-1839-4E4B-8E14-CC70E107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7AF-E9A2-4B53-869E-53DFF7E8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9187-0FC1-4F07-986D-54BF8D43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90E5-29CC-4A0C-A01F-49400C23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A7E9-AD53-408B-B22A-601022F3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0311-C5A8-407D-B951-9AFADA38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F258-2563-45C3-9696-C28BA7FB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CDB9B-8982-4136-A9AB-B8175D06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53EA9-609C-4939-9185-302C081B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D961B-4FB5-4124-8734-FC0C6CA6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CB1CE-0AA4-44B7-A11E-A284D2AE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F3AC5-0665-4047-8BD7-A2CC64A7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73C-6DBB-40E4-816F-0A20299B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7F79B-60BA-4DF1-BC98-E9B4F7DD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6657F-B350-4C6F-B68F-EAEDFFD0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1AF1E-E378-4ED0-8367-A4E9A397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4E810-7A25-4055-A4D8-3372AEB7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D0F29-CD96-4868-BFB5-FC98A3C2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97F48-C903-436D-960D-717AF749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14755-7BC3-40AD-BED5-1DA29C02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8CA2A3-9789-4539-8EB1-006AE0C4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8DDFA3-0550-4DD4-94E2-9C0E5042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390EEB-016E-42E2-9403-C4C7F536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47F-8C83-429D-860F-2EBCF5EC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12E5B0-FB8E-4D12-AB2A-EF68FD50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1A8667-95E5-4993-AEA9-FA27D975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468320-7897-4C49-80E2-0184EA65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125658-3FF1-4B88-A75E-1FB0CFC2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2FF692-8F35-4F4C-AF72-696D2E92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34751F-03B4-41D9-8992-750C195E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4594FF-0306-4D82-9773-6B973872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995384-D057-4436-BA4B-50B38C36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289779-6E5E-46F4-9B6B-BB2EDFD4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BEB7C-DA8D-43CC-A1C7-4B057936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639-F714-4FD7-8095-4E520385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19BE5-8FE2-4542-A05E-03E98D4B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77337-FC57-421D-B458-60B8520A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5BC6B-0DF9-4E9F-B39F-0F4ACC5A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3996A-A7F8-4785-BA11-7E5D8D25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769E1-3897-4283-BE38-4AF27620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82D82-46A6-4C14-929E-2939F783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C347D-A70F-43AE-9991-528E21D3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E5AFC-A294-4996-9DF6-1A08860C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687CA-E024-4530-A13D-0F7D3DB5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2DD24-1709-42A8-9630-15643C07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8EB-993E-45BB-B922-96BB506A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26842-544D-4C0B-A53B-7CE2D821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23A71-8787-493C-8588-C1432627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EE6E3-C62E-4945-95C7-FDA34571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B1468-9A47-40DF-B6D2-75F20EF8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07CE6-A9E2-421E-B71E-E7DB3A6A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9FF18-3363-4F9D-981E-549CA1BA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B736E-AE59-41B2-942A-9D3B2518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A1EBB-3DD3-44F2-8494-DA93EFF0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1036D-6BFA-421F-B130-2C3A5B2A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3249E-54DE-4A12-98D3-38C05926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869-6CC7-48A6-B131-01413CD1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C424F-5576-4BD0-B9C1-BC94197F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9911F-9548-4F15-AC1B-108E28C8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A7BD1-B2B0-4316-8DD8-EF1BDB27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14A6C-5116-49E3-A419-746B8ADE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45E8E-BDB9-4494-8877-321C4938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640B0-9376-4251-A518-90786729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68171-DE3A-4C62-8556-14FB989F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C4A4F-4534-4F42-BF56-84B930F3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3449E-1B2C-47C2-B901-00A679FC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F6988-6AEF-4797-91A6-333A8FF5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7D0-6606-4702-AABA-6C111098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51B86-0F0E-45A9-8234-1C7F366C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20B6D-7C4B-48DA-920C-8EE27EF7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2C6BA-EEEE-4AFA-87A2-32DA27D0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8CFAF-FAB0-4915-970A-BE5E5648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0382A-3CC5-4B8A-ABB5-92C9A818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4AE87-A2F6-45DC-8C8A-BA7C9EF8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B87BA-215A-469A-BD97-B37A837F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87721-4CAC-486D-AEEF-23FEAEB8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59A97-DFFA-40BB-867F-6D0C580F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3C925-71CC-4918-A5BB-FF4716B9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94C-4E35-4625-BC4F-6FDDE333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D36A4-E748-49A6-9D53-D074CE47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B1F3D-3D39-4555-B537-A8D3033B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F516E-B392-451F-94E8-87D6CB73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70709-13B1-4BAD-85BC-95381CEC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5EF3E-0CC9-470F-B740-42CC6EB4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EE75C-350A-4564-944D-E76529C7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A84B8-12B7-4877-932F-58A1F096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0D56F-06ED-4478-88EE-9C01796B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000AF-13E2-46C7-B63F-6E0A6A74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42779-A153-4CFD-BFEB-FAACE539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BE19-F0E4-42B2-9F68-C33A19D79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3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3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1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42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46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5B40-4B04-49A2-B12C-698466D8363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4744-BC17-4F59-ABFB-AC2990DABE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CE97-81CB-4A07-9956-C223F68C523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3E41-9BB0-434E-B525-75D7E4E7627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43F8-352E-469F-9C4E-30EBD314901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5E4E-A0C3-4DB4-819F-99D53A1C55F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2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3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3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4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5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5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5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6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07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657C-40D9-4F49-B253-CA9E7275033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35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35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36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37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7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7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8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BBD3-9947-45E8-BC5B-B2CC6D2E032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417D-5A94-4343-9E84-262DC5E2DD3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7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EC1B-3451-497B-93E4-0462150FBC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5" descr="http://4.bp.blogspot.com/-LcCyaeCvaz0/VVfoytTVFCI/AAAAAAAAHh4/4eZXHpxowg4/s1600/FOREST-33251695.jpg"/>
          <p:cNvPicPr/>
          <p:nvPr/>
        </p:nvPicPr>
        <p:blipFill>
          <a:blip r:embed="rId1"/>
          <a:stretch/>
        </p:blipFill>
        <p:spPr>
          <a:xfrm>
            <a:off x="0" y="189000"/>
            <a:ext cx="9524880" cy="6505560"/>
          </a:xfrm>
          <a:prstGeom prst="rect">
            <a:avLst/>
          </a:prstGeom>
          <a:ln w="0">
            <a:noFill/>
          </a:ln>
        </p:spPr>
      </p:pic>
      <p:pic>
        <p:nvPicPr>
          <p:cNvPr id="637" name="Прямоугольник 1" descr=""/>
          <p:cNvPicPr/>
          <p:nvPr/>
        </p:nvPicPr>
        <p:blipFill>
          <a:blip r:embed="rId2"/>
          <a:stretch/>
        </p:blipFill>
        <p:spPr>
          <a:xfrm>
            <a:off x="755640" y="523800"/>
            <a:ext cx="7705800" cy="49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5" descr="normal_russian_vill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Tell us about your favorite animals!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lik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live in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are …. (colo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ea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can …. (What can they do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like ….(don’t li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1f0c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"/>
          <p:cNvSpPr/>
          <p:nvPr/>
        </p:nvSpPr>
        <p:spPr>
          <a:xfrm>
            <a:off x="1919160" y="508464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It’s your 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for the next lesson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8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385" fill="hold"/>
                                        <p:tgtEl>
                                          <p:spTgt spid="6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385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385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6" descr="http://900igr.net/up/datas/85582/016.jpg"/>
          <p:cNvPicPr/>
          <p:nvPr/>
        </p:nvPicPr>
        <p:blipFill>
          <a:blip r:embed="rId1"/>
          <a:stretch/>
        </p:blipFill>
        <p:spPr>
          <a:xfrm>
            <a:off x="0" y="52560"/>
            <a:ext cx="9036000" cy="6777000"/>
          </a:xfrm>
          <a:prstGeom prst="rect">
            <a:avLst/>
          </a:prstGeom>
          <a:ln w="0">
            <a:noFill/>
          </a:ln>
        </p:spPr>
      </p:pic>
      <p:sp>
        <p:nvSpPr>
          <p:cNvPr id="687" name="TextBox 5"/>
          <p:cNvSpPr/>
          <p:nvPr/>
        </p:nvSpPr>
        <p:spPr>
          <a:xfrm>
            <a:off x="2411280" y="433224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Arial"/>
              </a:rPr>
              <a:t>Good by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animals do you like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1747800" y="2349360"/>
            <a:ext cx="5345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 like… ..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0" name="Picture 7" descr="http://www.myjulia.ru/data/cache/2011/07/01/808276_8308-800x600.jpg"/>
          <p:cNvPicPr/>
          <p:nvPr/>
        </p:nvPicPr>
        <p:blipFill>
          <a:blip r:embed="rId1"/>
          <a:stretch/>
        </p:blipFill>
        <p:spPr>
          <a:xfrm>
            <a:off x="6154560" y="4502160"/>
            <a:ext cx="2903760" cy="21780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9" descr="http://img.happy-giraffe.ru/v2/thumbs/e26e4ffdce15f4bc6711c767ffa68dac/85/44/af3aee8820738166ba072cf87f05.jpg"/>
          <p:cNvPicPr/>
          <p:nvPr/>
        </p:nvPicPr>
        <p:blipFill>
          <a:blip r:embed="rId2"/>
          <a:stretch/>
        </p:blipFill>
        <p:spPr>
          <a:xfrm>
            <a:off x="68400" y="4581360"/>
            <a:ext cx="33591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66600" y="60480"/>
            <a:ext cx="4427640" cy="27637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" descr="лошадь"/>
          <p:cNvPicPr/>
          <p:nvPr/>
        </p:nvPicPr>
        <p:blipFill>
          <a:blip r:embed="rId2"/>
          <a:stretch/>
        </p:blipFill>
        <p:spPr>
          <a:xfrm>
            <a:off x="3348000" y="0"/>
            <a:ext cx="3494160" cy="35020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8" descr="P8186034"/>
          <p:cNvPicPr/>
          <p:nvPr/>
        </p:nvPicPr>
        <p:blipFill>
          <a:blip r:embed="rId3"/>
          <a:stretch/>
        </p:blipFill>
        <p:spPr>
          <a:xfrm>
            <a:off x="5540400" y="3467160"/>
            <a:ext cx="3616200" cy="26701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http://www.pavelin.ru/images/stories/zhiraf/zhirafa_019.jpg"/>
          <p:cNvPicPr/>
          <p:nvPr/>
        </p:nvPicPr>
        <p:blipFill>
          <a:blip r:embed="rId4"/>
          <a:stretch/>
        </p:blipFill>
        <p:spPr>
          <a:xfrm>
            <a:off x="6948360" y="0"/>
            <a:ext cx="2259000" cy="32846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" descr="https://w-dog.ru/wallpapers/6/6/520500764779333/sobaki-raznyx-porod.jpg"/>
          <p:cNvPicPr/>
          <p:nvPr/>
        </p:nvPicPr>
        <p:blipFill>
          <a:blip r:embed="rId5"/>
          <a:stretch/>
        </p:blipFill>
        <p:spPr>
          <a:xfrm>
            <a:off x="0" y="4092480"/>
            <a:ext cx="3270240" cy="26701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1" descr="http://www.v3wall.com/wallpaper/medium/1002/medium_20100225122255277588.jpg"/>
          <p:cNvPicPr/>
          <p:nvPr/>
        </p:nvPicPr>
        <p:blipFill>
          <a:blip r:embed="rId6"/>
          <a:stretch/>
        </p:blipFill>
        <p:spPr>
          <a:xfrm>
            <a:off x="2281320" y="2760840"/>
            <a:ext cx="3552840" cy="2217600"/>
          </a:xfrm>
          <a:prstGeom prst="rect">
            <a:avLst/>
          </a:prstGeom>
          <a:ln w="0">
            <a:noFill/>
          </a:ln>
        </p:spPr>
      </p:pic>
      <p:sp>
        <p:nvSpPr>
          <p:cNvPr id="648" name="WordArt 4"/>
          <p:cNvSpPr txBox="1"/>
          <p:nvPr/>
        </p:nvSpPr>
        <p:spPr>
          <a:xfrm>
            <a:off x="3267000" y="4827600"/>
            <a:ext cx="5877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 like… ..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WordArt 4"/>
          <p:cNvSpPr txBox="1"/>
          <p:nvPr/>
        </p:nvSpPr>
        <p:spPr>
          <a:xfrm>
            <a:off x="27000" y="1844640"/>
            <a:ext cx="85536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 некоторые имена существительные </a:t>
            </a:r>
            <a:endParaRPr b="0" lang="en-US" sz="4800" spc="1" strike="noStrike">
              <a:ln w="1260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меют особую форму множественного числа.</a:t>
            </a:r>
            <a:endParaRPr b="0" lang="en-US" sz="4800" spc="1" strike="noStrike">
              <a:ln w="1260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х нужно запомнить!</a:t>
            </a:r>
            <a:endParaRPr b="0" lang="en-US" sz="4800" spc="1" strike="noStrike">
              <a:ln w="1260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0" name="Прямоугольник 1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30240" y="31680"/>
            <a:ext cx="8618400" cy="63928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" descr="https://ds04.infourok.ru/uploads/ex/0622/00008ed9-31d1c826/img8.jpg"/>
          <p:cNvPicPr/>
          <p:nvPr/>
        </p:nvPicPr>
        <p:blipFill>
          <a:blip r:embed="rId2"/>
          <a:stretch/>
        </p:blipFill>
        <p:spPr>
          <a:xfrm>
            <a:off x="4572000" y="1052640"/>
            <a:ext cx="3600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55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an you count the anima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7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1413000"/>
            <a:ext cx="3384360" cy="23954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8" descr="http://media.istockphoto.com/photos/pair-of-horses-showing-affection-picture-id157825499?k=6&amp;m=157825499&amp;s=170667a&amp;w=0&amp;h=AL0AUK0w4QST-HwkU36mRBb0fv_Kb-Gc4k-grTlmo24="/>
          <p:cNvPicPr/>
          <p:nvPr/>
        </p:nvPicPr>
        <p:blipFill>
          <a:blip r:embed="rId2"/>
          <a:stretch/>
        </p:blipFill>
        <p:spPr>
          <a:xfrm>
            <a:off x="5516640" y="4375080"/>
            <a:ext cx="3620880" cy="24098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1" descr="http://agrocontech.ru/files/pages/273/1397814514general_pages_razvedenie_gusei_i_utok.jpg"/>
          <p:cNvPicPr/>
          <p:nvPr/>
        </p:nvPicPr>
        <p:blipFill>
          <a:blip r:embed="rId3"/>
          <a:stretch/>
        </p:blipFill>
        <p:spPr>
          <a:xfrm>
            <a:off x="279360" y="3811680"/>
            <a:ext cx="3514680" cy="26366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5" descr="http://www.biotopimage.ru/images/fishki/samyj-krutoj-akvas/d5.jpg"/>
          <p:cNvPicPr/>
          <p:nvPr/>
        </p:nvPicPr>
        <p:blipFill>
          <a:blip r:embed="rId4"/>
          <a:stretch/>
        </p:blipFill>
        <p:spPr>
          <a:xfrm>
            <a:off x="5076720" y="1413000"/>
            <a:ext cx="3544920" cy="19969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0" descr="http://img.humorsharing.com/media/images/1202/i_3672_funny-animals-034.jpg"/>
          <p:cNvPicPr/>
          <p:nvPr/>
        </p:nvPicPr>
        <p:blipFill>
          <a:blip r:embed="rId5"/>
          <a:stretch/>
        </p:blipFill>
        <p:spPr>
          <a:xfrm>
            <a:off x="3046320" y="3301920"/>
            <a:ext cx="304812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10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07800" y="2516040"/>
            <a:ext cx="3864240" cy="24512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" descr="http://www.averilac.com/wp-content/uploads/2015/07/koyunn11.jpg"/>
          <p:cNvPicPr/>
          <p:nvPr/>
        </p:nvPicPr>
        <p:blipFill>
          <a:blip r:embed="rId2"/>
          <a:stretch/>
        </p:blipFill>
        <p:spPr>
          <a:xfrm>
            <a:off x="3216240" y="5151600"/>
            <a:ext cx="5904000" cy="16873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3" descr="http://www.publicdomainpictures.net/pictures/170000/velka/three-maine-coon-cats.jpg"/>
          <p:cNvPicPr/>
          <p:nvPr/>
        </p:nvPicPr>
        <p:blipFill>
          <a:blip r:embed="rId3"/>
          <a:stretch/>
        </p:blipFill>
        <p:spPr>
          <a:xfrm>
            <a:off x="4716360" y="2492280"/>
            <a:ext cx="3748320" cy="24973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2" descr="http://greatcats.ru/uploads/gallery/main/43/77317_poster2000.jpg"/>
          <p:cNvPicPr/>
          <p:nvPr/>
        </p:nvPicPr>
        <p:blipFill>
          <a:blip r:embed="rId4"/>
          <a:stretch/>
        </p:blipFill>
        <p:spPr>
          <a:xfrm>
            <a:off x="4859280" y="38160"/>
            <a:ext cx="4289400" cy="2859120"/>
          </a:xfrm>
          <a:prstGeom prst="rect">
            <a:avLst/>
          </a:prstGeom>
          <a:ln w="0">
            <a:noFill/>
          </a:ln>
        </p:spPr>
      </p:pic>
      <p:sp>
        <p:nvSpPr>
          <p:cNvPr id="665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1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8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9" descr="D:\Рабочая\РИСУНКИ ВСТАВКА\Животные\олени.jpg"/>
          <p:cNvPicPr/>
          <p:nvPr/>
        </p:nvPicPr>
        <p:blipFill>
          <a:blip r:embed="rId5"/>
          <a:stretch/>
        </p:blipFill>
        <p:spPr>
          <a:xfrm>
            <a:off x="41400" y="4989600"/>
            <a:ext cx="4035240" cy="17049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1" descr="http://animalzone.ru/file/photo/x1/3fabdffcbf.jpg"/>
          <p:cNvPicPr/>
          <p:nvPr/>
        </p:nvPicPr>
        <p:blipFill>
          <a:blip r:embed="rId6"/>
          <a:stretch/>
        </p:blipFill>
        <p:spPr>
          <a:xfrm>
            <a:off x="41400" y="38160"/>
            <a:ext cx="3427200" cy="2574720"/>
          </a:xfrm>
          <a:prstGeom prst="rect">
            <a:avLst/>
          </a:prstGeom>
          <a:ln w="0">
            <a:noFill/>
          </a:ln>
        </p:spPr>
      </p:pic>
      <p:sp>
        <p:nvSpPr>
          <p:cNvPr id="670" name="Прямоугольник 6"/>
          <p:cNvSpPr/>
          <p:nvPr/>
        </p:nvSpPr>
        <p:spPr>
          <a:xfrm>
            <a:off x="155520" y="2438280"/>
            <a:ext cx="87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Can you count the animal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4" descr="http://www.4vsar.ru/i/news/xxl/193181.jpg"/>
          <p:cNvPicPr/>
          <p:nvPr/>
        </p:nvPicPr>
        <p:blipFill>
          <a:blip r:embed="rId1"/>
          <a:stretch/>
        </p:blipFill>
        <p:spPr>
          <a:xfrm>
            <a:off x="-190440" y="189000"/>
            <a:ext cx="10152000" cy="6264360"/>
          </a:xfrm>
          <a:prstGeom prst="rect">
            <a:avLst/>
          </a:prstGeom>
          <a:ln w="0">
            <a:noFill/>
          </a:ln>
        </p:spPr>
      </p:pic>
      <p:sp>
        <p:nvSpPr>
          <p:cNvPr id="672" name="WordArt 4"/>
          <p:cNvSpPr txBox="1"/>
          <p:nvPr/>
        </p:nvSpPr>
        <p:spPr>
          <a:xfrm>
            <a:off x="2411280" y="2060640"/>
            <a:ext cx="525636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3" name="TextBox 1"/>
          <p:cNvSpPr/>
          <p:nvPr/>
        </p:nvSpPr>
        <p:spPr>
          <a:xfrm>
            <a:off x="2843280" y="2276640"/>
            <a:ext cx="453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Arial"/>
              </a:rPr>
              <a:t>Look!!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Arial"/>
              </a:rPr>
              <a:t>It’s raining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53" descr="http://luxfon.com/download.php?file=201304/1920x1080/luxfon.com-21174.jpg"/>
          <p:cNvPicPr/>
          <p:nvPr/>
        </p:nvPicPr>
        <p:blipFill>
          <a:blip r:embed="rId1"/>
          <a:stretch/>
        </p:blipFill>
        <p:spPr>
          <a:xfrm>
            <a:off x="-4680" y="887400"/>
            <a:ext cx="9296280" cy="5970600"/>
          </a:xfrm>
          <a:prstGeom prst="rect">
            <a:avLst/>
          </a:prstGeom>
          <a:ln w="0">
            <a:noFill/>
          </a:ln>
        </p:spPr>
      </p:pic>
      <p:sp>
        <p:nvSpPr>
          <p:cNvPr id="675" name="WordArt 4"/>
          <p:cNvSpPr txBox="1"/>
          <p:nvPr/>
        </p:nvSpPr>
        <p:spPr>
          <a:xfrm>
            <a:off x="2050920" y="333360"/>
            <a:ext cx="518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Help us! Fill the missing letters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76" name="Text Box 12"/>
          <p:cNvSpPr/>
          <p:nvPr/>
        </p:nvSpPr>
        <p:spPr>
          <a:xfrm>
            <a:off x="684360" y="974880"/>
            <a:ext cx="28080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__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__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__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__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p__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n__ar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9"/>
          <p:cNvSpPr/>
          <p:nvPr/>
        </p:nvSpPr>
        <p:spPr>
          <a:xfrm>
            <a:off x="4421160" y="961200"/>
            <a:ext cx="281484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__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__cod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__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e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__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r__ff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__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7:17:47Z</dcterms:created>
  <dc:creator>2</dc:creator>
  <dc:description/>
  <dc:language>en-US</dc:language>
  <cp:lastModifiedBy>*</cp:lastModifiedBy>
  <dcterms:modified xsi:type="dcterms:W3CDTF">2017-08-28T17:02:45Z</dcterms:modified>
  <cp:revision>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