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6C1-2810-49EA-AB13-810646BA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32C-1966-4199-B83C-BA42C4A0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38A-FAB3-4B5E-A750-2F43E2B8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BAB-0FDF-4F2C-920C-FD92A42E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DC24-AF91-4D10-9DAF-B1C1B1E9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4C9B-5592-407C-AC9A-EEBD64EC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562B-2AFD-4A99-89A2-658DA37A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CC55-302C-4346-A5F7-D3B5169A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D717-9F1C-4DAB-8308-FF5072D7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68702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992F-39E1-4C1A-8803-47C7970B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C15E-6A1B-4964-BB02-F2629A95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547D-D150-4420-BAC3-58507BD4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D22D-5243-47BA-9C31-94523D79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B624-C6C1-4983-99EE-5592DDD2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582B-C093-4182-9BE1-7FBB9556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26A9-6D66-4D06-BA88-7D8995C5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3409-D461-4293-863E-D5A103B5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526-90FF-47DD-8703-632BB9D3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6A4-C447-44FE-9FE0-6DB9DC60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41A-001B-437F-A46C-9A537632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68702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659-6127-409A-890B-FA3A555D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4B4-B20E-456D-AC95-D0D2BBF3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18B-0EB3-44F9-AFE5-2E1CF7AA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E7C-3F66-409C-A84F-4A3FF20F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1720" cy="208404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2084040"/>
              <a:gd name="textAreaBottom" fmla="*/ 2084400 h 208404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8"/>
          <p:cNvSpPr/>
          <p:nvPr/>
        </p:nvSpPr>
        <p:spPr>
          <a:xfrm rot="18427200">
            <a:off x="7864920" y="24480"/>
            <a:ext cx="1164960" cy="2096640"/>
          </a:xfrm>
          <a:custGeom>
            <a:avLst/>
            <a:gdLst>
              <a:gd name="textAreaLeft" fmla="*/ 0 w 1164960"/>
              <a:gd name="textAreaRight" fmla="*/ 1165320 w 1164960"/>
              <a:gd name="textAreaTop" fmla="*/ 0 h 2096640"/>
              <a:gd name="textAreaBottom" fmla="*/ 2097000 h 209664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Freeform 9"/>
          <p:cNvSpPr/>
          <p:nvPr/>
        </p:nvSpPr>
        <p:spPr>
          <a:xfrm rot="18427200">
            <a:off x="7830720" y="192240"/>
            <a:ext cx="1025280" cy="1571400"/>
          </a:xfrm>
          <a:custGeom>
            <a:avLst/>
            <a:gdLst>
              <a:gd name="textAreaLeft" fmla="*/ 0 w 1025280"/>
              <a:gd name="textAreaRight" fmla="*/ 1025640 w 102528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" name="Group 10"/>
          <p:cNvGrpSpPr/>
          <p:nvPr/>
        </p:nvGrpSpPr>
        <p:grpSpPr>
          <a:xfrm>
            <a:off x="7920" y="5540400"/>
            <a:ext cx="1784160" cy="1245960"/>
            <a:chOff x="7920" y="5540400"/>
            <a:chExt cx="1784160" cy="1245960"/>
          </a:xfrm>
        </p:grpSpPr>
        <p:sp>
          <p:nvSpPr>
            <p:cNvPr id="4" name="Freeform 11"/>
            <p:cNvSpPr/>
            <p:nvPr/>
          </p:nvSpPr>
          <p:spPr>
            <a:xfrm>
              <a:off x="38160" y="5564160"/>
              <a:ext cx="1728360" cy="1029960"/>
            </a:xfrm>
            <a:custGeom>
              <a:avLst/>
              <a:gdLst>
                <a:gd name="textAreaLeft" fmla="*/ 0 w 1728360"/>
                <a:gd name="textAreaRight" fmla="*/ 1728720 w 1728360"/>
                <a:gd name="textAreaTop" fmla="*/ 0 h 1029960"/>
                <a:gd name="textAreaBottom" fmla="*/ 1030320 h 102996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1622520" y="5686560"/>
              <a:ext cx="112320" cy="2044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31680" y="5991120"/>
              <a:ext cx="1257120" cy="65052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50520"/>
                <a:gd name="textAreaBottom" fmla="*/ 650880 h 65052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chemeClr val="tx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204840" y="6045120"/>
              <a:ext cx="833040" cy="59328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593280"/>
                <a:gd name="textAreaBottom" fmla="*/ 593640 h 5932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770040" y="5607000"/>
              <a:ext cx="213840" cy="19188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1017720" y="6608880"/>
              <a:ext cx="120240" cy="1774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00280" y="5726160"/>
              <a:ext cx="306000" cy="60768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1060560" y="5699160"/>
              <a:ext cx="577440" cy="275760"/>
            </a:xfrm>
            <a:custGeom>
              <a:avLst/>
              <a:gdLst>
                <a:gd name="textAreaLeft" fmla="*/ 0 w 577440"/>
                <a:gd name="textAreaRight" fmla="*/ 577800 w 57744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550800" y="5862600"/>
              <a:ext cx="247320" cy="1058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" name="Group 20"/>
            <p:cNvGrpSpPr/>
            <p:nvPr/>
          </p:nvGrpSpPr>
          <p:grpSpPr>
            <a:xfrm>
              <a:off x="7920" y="5540400"/>
              <a:ext cx="1784160" cy="1237680"/>
              <a:chOff x="7920" y="5540400"/>
              <a:chExt cx="1784160" cy="1237680"/>
            </a:xfrm>
          </p:grpSpPr>
          <p:grpSp>
            <p:nvGrpSpPr>
              <p:cNvPr id="14" name="Group 21"/>
              <p:cNvGrpSpPr/>
              <p:nvPr/>
            </p:nvGrpSpPr>
            <p:grpSpPr>
              <a:xfrm>
                <a:off x="792000" y="5654520"/>
                <a:ext cx="869760" cy="1123560"/>
                <a:chOff x="792000" y="5654520"/>
                <a:chExt cx="869760" cy="1123560"/>
              </a:xfrm>
            </p:grpSpPr>
            <p:sp>
              <p:nvSpPr>
                <p:cNvPr id="15" name="Freeform 22"/>
                <p:cNvSpPr/>
                <p:nvPr/>
              </p:nvSpPr>
              <p:spPr>
                <a:xfrm>
                  <a:off x="792000" y="5694480"/>
                  <a:ext cx="248760" cy="137880"/>
                </a:xfrm>
                <a:custGeom>
                  <a:avLst/>
                  <a:gdLst>
                    <a:gd name="textAreaLeft" fmla="*/ 0 w 248760"/>
                    <a:gd name="textAreaRight" fmla="*/ 249120 w 24876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Freeform 23"/>
                <p:cNvSpPr/>
                <p:nvPr/>
              </p:nvSpPr>
              <p:spPr>
                <a:xfrm>
                  <a:off x="1009800" y="6567480"/>
                  <a:ext cx="182160" cy="210600"/>
                </a:xfrm>
                <a:custGeom>
                  <a:avLst/>
                  <a:gdLst>
                    <a:gd name="textAreaLeft" fmla="*/ 0 w 182160"/>
                    <a:gd name="textAreaRight" fmla="*/ 182520 w 18216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" name="Freeform 24"/>
                <p:cNvSpPr/>
                <p:nvPr/>
              </p:nvSpPr>
              <p:spPr>
                <a:xfrm>
                  <a:off x="1593720" y="5654520"/>
                  <a:ext cx="68040" cy="18540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" name="Freeform 25"/>
              <p:cNvSpPr/>
              <p:nvPr/>
            </p:nvSpPr>
            <p:spPr>
              <a:xfrm>
                <a:off x="120600" y="5924520"/>
                <a:ext cx="944280" cy="39636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" name="Freeform 26"/>
              <p:cNvSpPr/>
              <p:nvPr/>
            </p:nvSpPr>
            <p:spPr>
              <a:xfrm>
                <a:off x="412920" y="6168960"/>
                <a:ext cx="387000" cy="234720"/>
              </a:xfrm>
              <a:custGeom>
                <a:avLst/>
                <a:gdLst>
                  <a:gd name="textAreaLeft" fmla="*/ 0 w 387000"/>
                  <a:gd name="textAreaRight" fmla="*/ 387360 w 3870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" name="Freeform 27"/>
              <p:cNvSpPr/>
              <p:nvPr/>
            </p:nvSpPr>
            <p:spPr>
              <a:xfrm>
                <a:off x="896760" y="5842080"/>
                <a:ext cx="169560" cy="37764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" name="Group 28"/>
              <p:cNvGrpSpPr/>
              <p:nvPr/>
            </p:nvGrpSpPr>
            <p:grpSpPr>
              <a:xfrm>
                <a:off x="7920" y="5540400"/>
                <a:ext cx="1784160" cy="1075680"/>
                <a:chOff x="7920" y="5540400"/>
                <a:chExt cx="1784160" cy="1075680"/>
              </a:xfrm>
            </p:grpSpPr>
            <p:sp>
              <p:nvSpPr>
                <p:cNvPr id="22" name="Freeform 29"/>
                <p:cNvSpPr/>
                <p:nvPr/>
              </p:nvSpPr>
              <p:spPr>
                <a:xfrm>
                  <a:off x="1062000" y="6426360"/>
                  <a:ext cx="118800" cy="13788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" name="Freeform 30"/>
                <p:cNvSpPr/>
                <p:nvPr/>
              </p:nvSpPr>
              <p:spPr>
                <a:xfrm>
                  <a:off x="7920" y="5918040"/>
                  <a:ext cx="1336320" cy="698040"/>
                </a:xfrm>
                <a:custGeom>
                  <a:avLst/>
                  <a:gdLst>
                    <a:gd name="textAreaLeft" fmla="*/ 0 w 1336320"/>
                    <a:gd name="textAreaRight" fmla="*/ 1336680 w 1336320"/>
                    <a:gd name="textAreaTop" fmla="*/ 0 h 698040"/>
                    <a:gd name="textAreaBottom" fmla="*/ 698400 h 69804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" name="Freeform 31"/>
                <p:cNvSpPr/>
                <p:nvPr/>
              </p:nvSpPr>
              <p:spPr>
                <a:xfrm>
                  <a:off x="168120" y="5985000"/>
                  <a:ext cx="126720" cy="26460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264600"/>
                    <a:gd name="textAreaBottom" fmla="*/ 264960 h 26460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" name="Freeform 32"/>
                <p:cNvSpPr/>
                <p:nvPr/>
              </p:nvSpPr>
              <p:spPr>
                <a:xfrm>
                  <a:off x="712800" y="5540400"/>
                  <a:ext cx="510840" cy="942480"/>
                </a:xfrm>
                <a:custGeom>
                  <a:avLst/>
                  <a:gdLst>
                    <a:gd name="textAreaLeft" fmla="*/ 0 w 510840"/>
                    <a:gd name="textAreaRight" fmla="*/ 511200 w 510840"/>
                    <a:gd name="textAreaTop" fmla="*/ 0 h 942480"/>
                    <a:gd name="textAreaBottom" fmla="*/ 942840 h 94248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" name="Freeform 33"/>
                <p:cNvSpPr/>
                <p:nvPr/>
              </p:nvSpPr>
              <p:spPr>
                <a:xfrm>
                  <a:off x="917640" y="5794200"/>
                  <a:ext cx="151920" cy="39960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399600"/>
                    <a:gd name="textAreaBottom" fmla="*/ 399960 h 39960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" name="Freeform 34"/>
                <p:cNvSpPr/>
                <p:nvPr/>
              </p:nvSpPr>
              <p:spPr>
                <a:xfrm>
                  <a:off x="520560" y="5762520"/>
                  <a:ext cx="309240" cy="21384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5"/>
                <p:cNvSpPr/>
                <p:nvPr/>
              </p:nvSpPr>
              <p:spPr>
                <a:xfrm>
                  <a:off x="1044720" y="5616720"/>
                  <a:ext cx="747360" cy="336240"/>
                </a:xfrm>
                <a:custGeom>
                  <a:avLst/>
                  <a:gdLst>
                    <a:gd name="textAreaLeft" fmla="*/ 0 w 747360"/>
                    <a:gd name="textAreaRight" fmla="*/ 747720 w 747360"/>
                    <a:gd name="textAreaTop" fmla="*/ 0 h 336240"/>
                    <a:gd name="textAreaBottom" fmla="*/ 33660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6"/>
                <p:cNvSpPr/>
                <p:nvPr/>
              </p:nvSpPr>
              <p:spPr>
                <a:xfrm>
                  <a:off x="1138320" y="5724360"/>
                  <a:ext cx="388440" cy="136080"/>
                </a:xfrm>
                <a:custGeom>
                  <a:avLst/>
                  <a:gdLst>
                    <a:gd name="textAreaLeft" fmla="*/ 0 w 388440"/>
                    <a:gd name="textAreaRight" fmla="*/ 388800 w 38844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0" name="Group 37"/>
          <p:cNvGrpSpPr/>
          <p:nvPr/>
        </p:nvGrpSpPr>
        <p:grpSpPr>
          <a:xfrm>
            <a:off x="8679960" y="2116080"/>
            <a:ext cx="385560" cy="4308120"/>
            <a:chOff x="8679960" y="2116080"/>
            <a:chExt cx="385560" cy="4308120"/>
          </a:xfrm>
        </p:grpSpPr>
        <p:sp>
          <p:nvSpPr>
            <p:cNvPr id="31" name="Freeform 38"/>
            <p:cNvSpPr/>
            <p:nvPr/>
          </p:nvSpPr>
          <p:spPr>
            <a:xfrm flipH="1">
              <a:off x="8679600" y="4159080"/>
              <a:ext cx="325080" cy="2265120"/>
            </a:xfrm>
            <a:custGeom>
              <a:avLst/>
              <a:gdLst>
                <a:gd name="textAreaLeft" fmla="*/ -360 w 325080"/>
                <a:gd name="textAreaRight" fmla="*/ 325080 w 325080"/>
                <a:gd name="textAreaTop" fmla="*/ 0 h 2265120"/>
                <a:gd name="textAreaBottom" fmla="*/ 2265480 h 226512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" name="Freeform 39"/>
            <p:cNvSpPr/>
            <p:nvPr/>
          </p:nvSpPr>
          <p:spPr>
            <a:xfrm flipH="1">
              <a:off x="8740080" y="2116080"/>
              <a:ext cx="325080" cy="2592000"/>
            </a:xfrm>
            <a:custGeom>
              <a:avLst/>
              <a:gdLst>
                <a:gd name="textAreaLeft" fmla="*/ -360 w 325080"/>
                <a:gd name="textAreaRight" fmla="*/ 325080 w 325080"/>
                <a:gd name="textAreaTop" fmla="*/ 0 h 2592000"/>
                <a:gd name="textAreaBottom" fmla="*/ 2592360 h 259200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" name="Group 40"/>
          <p:cNvGrpSpPr/>
          <p:nvPr/>
        </p:nvGrpSpPr>
        <p:grpSpPr>
          <a:xfrm>
            <a:off x="7171560" y="-86760"/>
            <a:ext cx="2427120" cy="2246760"/>
            <a:chOff x="7171560" y="-86760"/>
            <a:chExt cx="2427120" cy="2246760"/>
          </a:xfrm>
        </p:grpSpPr>
        <p:grpSp>
          <p:nvGrpSpPr>
            <p:cNvPr id="34" name="Group 41"/>
            <p:cNvGrpSpPr/>
            <p:nvPr/>
          </p:nvGrpSpPr>
          <p:grpSpPr>
            <a:xfrm>
              <a:off x="7171560" y="-86760"/>
              <a:ext cx="2427120" cy="2246760"/>
              <a:chOff x="7171560" y="-86760"/>
              <a:chExt cx="2427120" cy="2246760"/>
            </a:xfrm>
          </p:grpSpPr>
          <p:sp>
            <p:nvSpPr>
              <p:cNvPr id="35" name="Freeform 42"/>
              <p:cNvSpPr/>
              <p:nvPr/>
            </p:nvSpPr>
            <p:spPr>
              <a:xfrm rot="18427200">
                <a:off x="8620200" y="1724040"/>
                <a:ext cx="97920" cy="4568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" name="Group 43"/>
              <p:cNvGrpSpPr/>
              <p:nvPr/>
            </p:nvGrpSpPr>
            <p:grpSpPr>
              <a:xfrm>
                <a:off x="7171560" y="-86760"/>
                <a:ext cx="2427120" cy="2246760"/>
                <a:chOff x="7171560" y="-86760"/>
                <a:chExt cx="2427120" cy="2246760"/>
              </a:xfrm>
            </p:grpSpPr>
            <p:sp>
              <p:nvSpPr>
                <p:cNvPr id="37" name="Freeform 44"/>
                <p:cNvSpPr/>
                <p:nvPr/>
              </p:nvSpPr>
              <p:spPr>
                <a:xfrm rot="18427200">
                  <a:off x="7883280" y="112680"/>
                  <a:ext cx="242640" cy="198000"/>
                </a:xfrm>
                <a:custGeom>
                  <a:avLst/>
                  <a:gdLst>
                    <a:gd name="textAreaLeft" fmla="*/ 0 w 242640"/>
                    <a:gd name="textAreaRight" fmla="*/ 243000 w 242640"/>
                    <a:gd name="textAreaTop" fmla="*/ 0 h 198000"/>
                    <a:gd name="textAreaBottom" fmla="*/ 198360 h 19800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" name="Freeform 45"/>
                <p:cNvSpPr/>
                <p:nvPr/>
              </p:nvSpPr>
              <p:spPr>
                <a:xfrm rot="18427200">
                  <a:off x="8015040" y="525240"/>
                  <a:ext cx="426600" cy="694800"/>
                </a:xfrm>
                <a:custGeom>
                  <a:avLst/>
                  <a:gdLst>
                    <a:gd name="textAreaLeft" fmla="*/ 0 w 426600"/>
                    <a:gd name="textAreaRight" fmla="*/ 426960 w 426600"/>
                    <a:gd name="textAreaTop" fmla="*/ 0 h 694800"/>
                    <a:gd name="textAreaBottom" fmla="*/ 695160 h 69480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" name="Freeform 46"/>
                <p:cNvSpPr/>
                <p:nvPr/>
              </p:nvSpPr>
              <p:spPr>
                <a:xfrm rot="18427200">
                  <a:off x="7713720" y="287280"/>
                  <a:ext cx="801360" cy="1425240"/>
                </a:xfrm>
                <a:custGeom>
                  <a:avLst/>
                  <a:gdLst>
                    <a:gd name="textAreaLeft" fmla="*/ 0 w 801360"/>
                    <a:gd name="textAreaRight" fmla="*/ 801720 w 80136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" name="Freeform 47"/>
                <p:cNvSpPr/>
                <p:nvPr/>
              </p:nvSpPr>
              <p:spPr>
                <a:xfrm rot="18427200">
                  <a:off x="7783560" y="-29880"/>
                  <a:ext cx="1203120" cy="2133360"/>
                </a:xfrm>
                <a:custGeom>
                  <a:avLst/>
                  <a:gdLst>
                    <a:gd name="textAreaLeft" fmla="*/ 0 w 1203120"/>
                    <a:gd name="textAreaRight" fmla="*/ 1203480 w 12031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" name="Freeform 48"/>
                <p:cNvSpPr/>
                <p:nvPr/>
              </p:nvSpPr>
              <p:spPr>
                <a:xfrm rot="18427200">
                  <a:off x="8410320" y="1422360"/>
                  <a:ext cx="267840" cy="193320"/>
                </a:xfrm>
                <a:custGeom>
                  <a:avLst/>
                  <a:gdLst>
                    <a:gd name="textAreaLeft" fmla="*/ 0 w 267840"/>
                    <a:gd name="textAreaRight" fmla="*/ 268200 w 267840"/>
                    <a:gd name="textAreaTop" fmla="*/ 0 h 193320"/>
                    <a:gd name="textAreaBottom" fmla="*/ 193680 h 19332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" name="Freeform 49"/>
                <p:cNvSpPr/>
                <p:nvPr/>
              </p:nvSpPr>
              <p:spPr>
                <a:xfrm rot="18427200">
                  <a:off x="8338680" y="1278000"/>
                  <a:ext cx="286920" cy="228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50"/>
                <p:cNvSpPr/>
                <p:nvPr/>
              </p:nvSpPr>
              <p:spPr>
                <a:xfrm rot="18427200">
                  <a:off x="7913160" y="333360"/>
                  <a:ext cx="286920" cy="23292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32920"/>
                    <a:gd name="textAreaBottom" fmla="*/ 233280 h 23292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51"/>
                <p:cNvSpPr/>
                <p:nvPr/>
              </p:nvSpPr>
              <p:spPr>
                <a:xfrm rot="18427200">
                  <a:off x="7856640" y="223920"/>
                  <a:ext cx="283680" cy="218880"/>
                </a:xfrm>
                <a:custGeom>
                  <a:avLst/>
                  <a:gdLst>
                    <a:gd name="textAreaLeft" fmla="*/ 0 w 283680"/>
                    <a:gd name="textAreaRight" fmla="*/ 284040 w 2836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" name="Line 52"/>
            <p:cNvSpPr/>
            <p:nvPr/>
          </p:nvSpPr>
          <p:spPr>
            <a:xfrm>
              <a:off x="7731000" y="133200"/>
              <a:ext cx="66600" cy="15228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556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FA454D-CB09-45CE-A295-DFE4BE690F6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1720" cy="208404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2084040"/>
              <a:gd name="textAreaBottom" fmla="*/ 2084400 h 208404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4920" y="24480"/>
            <a:ext cx="1164960" cy="2096640"/>
          </a:xfrm>
          <a:custGeom>
            <a:avLst/>
            <a:gdLst>
              <a:gd name="textAreaLeft" fmla="*/ 0 w 1164960"/>
              <a:gd name="textAreaRight" fmla="*/ 1165320 w 1164960"/>
              <a:gd name="textAreaTop" fmla="*/ 0 h 2096640"/>
              <a:gd name="textAreaBottom" fmla="*/ 2097000 h 209664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0720" y="192240"/>
            <a:ext cx="1025280" cy="1571400"/>
          </a:xfrm>
          <a:custGeom>
            <a:avLst/>
            <a:gdLst>
              <a:gd name="textAreaLeft" fmla="*/ 0 w 1025280"/>
              <a:gd name="textAreaRight" fmla="*/ 1025640 w 102528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160" cy="1245960"/>
            <a:chOff x="7920" y="5540400"/>
            <a:chExt cx="1784160" cy="124596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360" cy="1029960"/>
            </a:xfrm>
            <a:custGeom>
              <a:avLst/>
              <a:gdLst>
                <a:gd name="textAreaLeft" fmla="*/ 0 w 1728360"/>
                <a:gd name="textAreaRight" fmla="*/ 1728720 w 1728360"/>
                <a:gd name="textAreaTop" fmla="*/ 0 h 1029960"/>
                <a:gd name="textAreaBottom" fmla="*/ 1030320 h 102996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320" cy="2044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120" cy="65052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50520"/>
                <a:gd name="textAreaBottom" fmla="*/ 650880 h 65052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chemeClr val="tx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040" cy="59328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593280"/>
                <a:gd name="textAreaBottom" fmla="*/ 593640 h 5932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3840" cy="19188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240" cy="1774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000" cy="60768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440" cy="275760"/>
            </a:xfrm>
            <a:custGeom>
              <a:avLst/>
              <a:gdLst>
                <a:gd name="textAreaLeft" fmla="*/ 0 w 577440"/>
                <a:gd name="textAreaRight" fmla="*/ 577800 w 57744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320" cy="1058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160" cy="1237680"/>
              <a:chOff x="7920" y="5540400"/>
              <a:chExt cx="1784160" cy="123768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69760" cy="1123560"/>
                <a:chOff x="792000" y="5654520"/>
                <a:chExt cx="869760" cy="112356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8760" cy="137880"/>
                </a:xfrm>
                <a:custGeom>
                  <a:avLst/>
                  <a:gdLst>
                    <a:gd name="textAreaLeft" fmla="*/ 0 w 248760"/>
                    <a:gd name="textAreaRight" fmla="*/ 249120 w 24876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160" cy="210600"/>
                </a:xfrm>
                <a:custGeom>
                  <a:avLst/>
                  <a:gdLst>
                    <a:gd name="textAreaLeft" fmla="*/ 0 w 182160"/>
                    <a:gd name="textAreaRight" fmla="*/ 182520 w 18216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040" cy="18540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280" cy="39636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000" cy="234720"/>
              </a:xfrm>
              <a:custGeom>
                <a:avLst/>
                <a:gdLst>
                  <a:gd name="textAreaLeft" fmla="*/ 0 w 387000"/>
                  <a:gd name="textAreaRight" fmla="*/ 387360 w 3870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560" cy="37764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160" cy="1075680"/>
                <a:chOff x="7920" y="5540400"/>
                <a:chExt cx="1784160" cy="107568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8800" cy="13788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320" cy="698040"/>
                </a:xfrm>
                <a:custGeom>
                  <a:avLst/>
                  <a:gdLst>
                    <a:gd name="textAreaLeft" fmla="*/ 0 w 1336320"/>
                    <a:gd name="textAreaRight" fmla="*/ 1336680 w 1336320"/>
                    <a:gd name="textAreaTop" fmla="*/ 0 h 698040"/>
                    <a:gd name="textAreaBottom" fmla="*/ 698400 h 69804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6720" cy="26460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264600"/>
                    <a:gd name="textAreaBottom" fmla="*/ 264960 h 26460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0840" cy="942480"/>
                </a:xfrm>
                <a:custGeom>
                  <a:avLst/>
                  <a:gdLst>
                    <a:gd name="textAreaLeft" fmla="*/ 0 w 510840"/>
                    <a:gd name="textAreaRight" fmla="*/ 511200 w 510840"/>
                    <a:gd name="textAreaTop" fmla="*/ 0 h 942480"/>
                    <a:gd name="textAreaBottom" fmla="*/ 942840 h 94248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1920" cy="39960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399600"/>
                    <a:gd name="textAreaBottom" fmla="*/ 399960 h 39960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240" cy="21384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360" cy="336240"/>
                </a:xfrm>
                <a:custGeom>
                  <a:avLst/>
                  <a:gdLst>
                    <a:gd name="textAreaLeft" fmla="*/ 0 w 747360"/>
                    <a:gd name="textAreaRight" fmla="*/ 747720 w 747360"/>
                    <a:gd name="textAreaTop" fmla="*/ 0 h 336240"/>
                    <a:gd name="textAreaBottom" fmla="*/ 33660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440" cy="136080"/>
                </a:xfrm>
                <a:custGeom>
                  <a:avLst/>
                  <a:gdLst>
                    <a:gd name="textAreaLeft" fmla="*/ 0 w 388440"/>
                    <a:gd name="textAreaRight" fmla="*/ 388800 w 38844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79960" y="2116080"/>
            <a:ext cx="385560" cy="4308120"/>
            <a:chOff x="8679960" y="2116080"/>
            <a:chExt cx="385560" cy="4308120"/>
          </a:xfrm>
        </p:grpSpPr>
        <p:sp>
          <p:nvSpPr>
            <p:cNvPr id="118" name="Freeform 38"/>
            <p:cNvSpPr/>
            <p:nvPr/>
          </p:nvSpPr>
          <p:spPr>
            <a:xfrm flipH="1">
              <a:off x="8679600" y="4159080"/>
              <a:ext cx="325080" cy="2265120"/>
            </a:xfrm>
            <a:custGeom>
              <a:avLst/>
              <a:gdLst>
                <a:gd name="textAreaLeft" fmla="*/ -360 w 325080"/>
                <a:gd name="textAreaRight" fmla="*/ 325080 w 325080"/>
                <a:gd name="textAreaTop" fmla="*/ 0 h 2265120"/>
                <a:gd name="textAreaBottom" fmla="*/ 2265480 h 226512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080" y="2116080"/>
              <a:ext cx="325080" cy="2592000"/>
            </a:xfrm>
            <a:custGeom>
              <a:avLst/>
              <a:gdLst>
                <a:gd name="textAreaLeft" fmla="*/ -360 w 325080"/>
                <a:gd name="textAreaRight" fmla="*/ 325080 w 325080"/>
                <a:gd name="textAreaTop" fmla="*/ 0 h 2592000"/>
                <a:gd name="textAreaBottom" fmla="*/ 2592360 h 259200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1560" y="-86760"/>
            <a:ext cx="2427120" cy="2246760"/>
            <a:chOff x="7171560" y="-86760"/>
            <a:chExt cx="2427120" cy="224676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1560" y="-86760"/>
              <a:ext cx="2427120" cy="2246760"/>
              <a:chOff x="7171560" y="-86760"/>
              <a:chExt cx="2427120" cy="224676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20200" y="1724040"/>
                <a:ext cx="97920" cy="4568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1560" y="-86760"/>
                <a:ext cx="2427120" cy="2246760"/>
                <a:chOff x="7171560" y="-86760"/>
                <a:chExt cx="2427120" cy="224676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3280" y="112680"/>
                  <a:ext cx="242640" cy="198000"/>
                </a:xfrm>
                <a:custGeom>
                  <a:avLst/>
                  <a:gdLst>
                    <a:gd name="textAreaLeft" fmla="*/ 0 w 242640"/>
                    <a:gd name="textAreaRight" fmla="*/ 243000 w 242640"/>
                    <a:gd name="textAreaTop" fmla="*/ 0 h 198000"/>
                    <a:gd name="textAreaBottom" fmla="*/ 198360 h 19800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5040" y="525240"/>
                  <a:ext cx="426600" cy="694800"/>
                </a:xfrm>
                <a:custGeom>
                  <a:avLst/>
                  <a:gdLst>
                    <a:gd name="textAreaLeft" fmla="*/ 0 w 426600"/>
                    <a:gd name="textAreaRight" fmla="*/ 426960 w 426600"/>
                    <a:gd name="textAreaTop" fmla="*/ 0 h 694800"/>
                    <a:gd name="textAreaBottom" fmla="*/ 695160 h 69480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3720" y="287280"/>
                  <a:ext cx="801360" cy="1425240"/>
                </a:xfrm>
                <a:custGeom>
                  <a:avLst/>
                  <a:gdLst>
                    <a:gd name="textAreaLeft" fmla="*/ 0 w 801360"/>
                    <a:gd name="textAreaRight" fmla="*/ 801720 w 80136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3560" y="-29880"/>
                  <a:ext cx="1203120" cy="2133360"/>
                </a:xfrm>
                <a:custGeom>
                  <a:avLst/>
                  <a:gdLst>
                    <a:gd name="textAreaLeft" fmla="*/ 0 w 1203120"/>
                    <a:gd name="textAreaRight" fmla="*/ 1203480 w 12031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0320" y="1422360"/>
                  <a:ext cx="267840" cy="193320"/>
                </a:xfrm>
                <a:custGeom>
                  <a:avLst/>
                  <a:gdLst>
                    <a:gd name="textAreaLeft" fmla="*/ 0 w 267840"/>
                    <a:gd name="textAreaRight" fmla="*/ 268200 w 267840"/>
                    <a:gd name="textAreaTop" fmla="*/ 0 h 193320"/>
                    <a:gd name="textAreaBottom" fmla="*/ 193680 h 19332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8680" y="1278000"/>
                  <a:ext cx="286920" cy="228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160" y="333360"/>
                  <a:ext cx="286920" cy="23292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32920"/>
                    <a:gd name="textAreaBottom" fmla="*/ 233280 h 23292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6640" y="223920"/>
                  <a:ext cx="283680" cy="218880"/>
                </a:xfrm>
                <a:custGeom>
                  <a:avLst/>
                  <a:gdLst>
                    <a:gd name="textAreaLeft" fmla="*/ 0 w 283680"/>
                    <a:gd name="textAreaRight" fmla="*/ 284040 w 2836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600" cy="15228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5"/>
          </p:nvPr>
        </p:nvSpPr>
        <p:spPr>
          <a:xfrm>
            <a:off x="3556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F47881-A7D6-4D7B-A7E7-4C536A55A4A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in/&#1060;&#1054;&#1056;&#1052;&#1067;%20&#1089;&#1090;&#1072;&#1088;&#1096;&#1072;&#1103;%20&#1075;&#1088;&#1091;&#1087;&#1087;&#1072;.doc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4"/>
          <p:cNvSpPr/>
          <p:nvPr/>
        </p:nvSpPr>
        <p:spPr>
          <a:xfrm>
            <a:off x="5500800" y="4725000"/>
            <a:ext cx="2928600" cy="1642680"/>
          </a:xfrm>
          <a:prstGeom prst="rect">
            <a:avLst/>
          </a:prstGeom>
          <a:solidFill>
            <a:srgbClr val="ffef66"/>
          </a:solidFill>
          <a:ln>
            <a:solidFill>
              <a:srgbClr val="bcb0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шева Ирина Владимировн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группы «Пчёл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1857240" y="515520"/>
            <a:ext cx="5500440" cy="3015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нетрадиционных техник аппликации как средство развития творческих способностей детей дошкольного возраст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Cloud"/>
          <p:cNvSpPr/>
          <p:nvPr/>
        </p:nvSpPr>
        <p:spPr>
          <a:xfrm>
            <a:off x="179280" y="260280"/>
            <a:ext cx="2742840" cy="2239560"/>
          </a:xfrm>
          <a:custGeom>
            <a:avLst/>
            <a:gdLst>
              <a:gd name="textAreaLeft" fmla="*/ 378000 w 2742840"/>
              <a:gd name="textAreaRight" fmla="*/ 2169720 w 2742840"/>
              <a:gd name="textAreaTop" fmla="*/ 338040 h 2239560"/>
              <a:gd name="textAreaBottom" fmla="*/ 1797840 h 2239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салфе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возд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5715000" y="3500280"/>
            <a:ext cx="1928520" cy="3690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Рисунок 3" descr="C:\Documents and Settings\Администратор\Рабочий стол\Новая папка (2)\P1020821.JPG"/>
          <p:cNvPicPr/>
          <p:nvPr/>
        </p:nvPicPr>
        <p:blipFill>
          <a:blip r:embed="rId1"/>
          <a:stretch/>
        </p:blipFill>
        <p:spPr>
          <a:xfrm>
            <a:off x="785880" y="2357280"/>
            <a:ext cx="3520800" cy="4239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D:\ира\работа самообр ежедн пл\самообраз\работы детские\R-efH-p2iOE.jpg"/>
          <p:cNvPicPr/>
          <p:nvPr/>
        </p:nvPicPr>
        <p:blipFill>
          <a:blip r:embed="rId2"/>
          <a:stretch/>
        </p:blipFill>
        <p:spPr>
          <a:xfrm>
            <a:off x="4643280" y="785880"/>
            <a:ext cx="3839400" cy="51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Cloud"/>
          <p:cNvSpPr/>
          <p:nvPr/>
        </p:nvSpPr>
        <p:spPr>
          <a:xfrm>
            <a:off x="500040" y="214200"/>
            <a:ext cx="4392360" cy="1856880"/>
          </a:xfrm>
          <a:custGeom>
            <a:avLst/>
            <a:gdLst>
              <a:gd name="textAreaLeft" fmla="*/ 605160 w 4392360"/>
              <a:gd name="textAreaRight" fmla="*/ 3474720 w 4392360"/>
              <a:gd name="textAreaTop" fmla="*/ 280440 h 1856880"/>
              <a:gd name="textAreaBottom" fmla="*/ 1490400 h 18568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скрученных салф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4071960" y="3786120"/>
            <a:ext cx="280440" cy="3690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folHlink"/>
              </a:solidFill>
              <a:latin typeface="Comic Sans MS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481840" y="2357280"/>
            <a:ext cx="5804640" cy="4365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ппликация из ватных дисков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714240"/>
            <a:ext cx="4547880" cy="3410640"/>
          </a:xfrm>
          <a:prstGeom prst="rect">
            <a:avLst/>
          </a:prstGeom>
          <a:ln w="9525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6000840" y="571320"/>
            <a:ext cx="2803680" cy="3738240"/>
          </a:xfrm>
          <a:prstGeom prst="rect">
            <a:avLst/>
          </a:prstGeom>
          <a:ln w="9525">
            <a:noFill/>
          </a:ln>
        </p:spPr>
      </p:pic>
      <p:pic>
        <p:nvPicPr>
          <p:cNvPr id="208" name="Picture 4" descr="C:\Documents and Settings\Администратор\Рабочий стол\P1030124.JPG"/>
          <p:cNvPicPr/>
          <p:nvPr/>
        </p:nvPicPr>
        <p:blipFill>
          <a:blip r:embed="rId3"/>
          <a:stretch/>
        </p:blipFill>
        <p:spPr>
          <a:xfrm>
            <a:off x="2071800" y="3857760"/>
            <a:ext cx="3785760" cy="283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и из ваты</a:t>
            </a:r>
            <a:br>
              <a:rPr sz="44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2" descr="D:\ира\работа самообр ежедн пл\самообраз\работы детские\m2VM7zKOY7g.jpg"/>
          <p:cNvPicPr/>
          <p:nvPr/>
        </p:nvPicPr>
        <p:blipFill>
          <a:blip r:embed="rId1"/>
          <a:stretch/>
        </p:blipFill>
        <p:spPr>
          <a:xfrm>
            <a:off x="1571760" y="1571760"/>
            <a:ext cx="6048000" cy="45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ватных палочек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44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785960" y="1571760"/>
            <a:ext cx="5976720" cy="4482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Cloud"/>
          <p:cNvSpPr/>
          <p:nvPr/>
        </p:nvSpPr>
        <p:spPr>
          <a:xfrm>
            <a:off x="179280" y="260280"/>
            <a:ext cx="2820600" cy="2382480"/>
          </a:xfrm>
          <a:custGeom>
            <a:avLst/>
            <a:gdLst>
              <a:gd name="textAreaLeft" fmla="*/ 388440 w 2820600"/>
              <a:gd name="textAreaRight" fmla="*/ 2231280 w 2820600"/>
              <a:gd name="textAreaTop" fmla="*/ 359640 h 2382480"/>
              <a:gd name="textAreaBottom" fmla="*/ 1912320 h 23824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техника торцевани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(из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фрированной бумаги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000320" y="3357720"/>
            <a:ext cx="280440" cy="3690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folHlink"/>
              </a:solidFill>
              <a:latin typeface="Comic Sans MS"/>
            </a:endParaRPr>
          </a:p>
        </p:txBody>
      </p:sp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3177360" y="681120"/>
            <a:ext cx="5109120" cy="58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71840" y="214200"/>
            <a:ext cx="49845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мелко нарезанной гофрированной бумаги. </a:t>
            </a: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2" descr="D:\ира\перепадготовка академия\отправить академия\грамоты Малышева\КВС-ПСТ № 39-140-Малышева Ирина Владимировна.jpg"/>
          <p:cNvPicPr/>
          <p:nvPr/>
        </p:nvPicPr>
        <p:blipFill>
          <a:blip r:embed="rId1"/>
          <a:stretch/>
        </p:blipFill>
        <p:spPr>
          <a:xfrm>
            <a:off x="5286240" y="2500200"/>
            <a:ext cx="2285640" cy="3512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D:\ира\работа самообр ежедн пл\самообраз\работы детские\9173esFBE10.jpg"/>
          <p:cNvPicPr/>
          <p:nvPr/>
        </p:nvPicPr>
        <p:blipFill>
          <a:blip r:embed="rId2"/>
          <a:stretch/>
        </p:blipFill>
        <p:spPr>
          <a:xfrm>
            <a:off x="428760" y="1357200"/>
            <a:ext cx="3885840" cy="51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жгутиков из гофрированной бумаги</a:t>
            </a:r>
            <a:br>
              <a:rPr sz="44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286080" y="1357200"/>
            <a:ext cx="3589560" cy="4785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91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пластилина –техника жгутиков.</a:t>
            </a: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429160" y="1928880"/>
            <a:ext cx="2857320" cy="3809520"/>
          </a:xfrm>
          <a:prstGeom prst="rect">
            <a:avLst/>
          </a:prstGeom>
          <a:ln w="9525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1357200" y="1714320"/>
            <a:ext cx="3340440" cy="4454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99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и  Пластилинография</a:t>
            </a: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2" descr="D:\ира\работа самообр ежедн пл\самообраз\работы детские\VnjnXlxiiQ0.jpg"/>
          <p:cNvPicPr/>
          <p:nvPr/>
        </p:nvPicPr>
        <p:blipFill>
          <a:blip r:embed="rId1"/>
          <a:stretch/>
        </p:blipFill>
        <p:spPr>
          <a:xfrm>
            <a:off x="1714320" y="1410840"/>
            <a:ext cx="62146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6870240" cy="30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условий для раскрытия и развития творческого потенциала дошкольника с помощью применения занимательного содержания и нетрадиционной техники аппликации.</a:t>
            </a:r>
            <a:br>
              <a:rPr sz="20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142920"/>
            <a:ext cx="6870240" cy="185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й из пластилина: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техника размазыва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2" descr="D:\ира\работа самообр ежедн пл\самообраз\работы детские\yOglOTOgXBY.jpg"/>
          <p:cNvPicPr/>
          <p:nvPr/>
        </p:nvPicPr>
        <p:blipFill>
          <a:blip r:embed="rId1"/>
          <a:stretch/>
        </p:blipFill>
        <p:spPr>
          <a:xfrm>
            <a:off x="4643280" y="2286000"/>
            <a:ext cx="4285800" cy="3571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D:\ира\видио и фото д.с занятие\фото д.с\P1020604.JPG"/>
          <p:cNvPicPr/>
          <p:nvPr/>
        </p:nvPicPr>
        <p:blipFill>
          <a:blip r:embed="rId2"/>
          <a:stretch/>
        </p:blipFill>
        <p:spPr>
          <a:xfrm>
            <a:off x="500040" y="2286000"/>
            <a:ext cx="378576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Cloud"/>
          <p:cNvSpPr/>
          <p:nvPr/>
        </p:nvSpPr>
        <p:spPr>
          <a:xfrm>
            <a:off x="179280" y="260280"/>
            <a:ext cx="2742840" cy="1439640"/>
          </a:xfrm>
          <a:custGeom>
            <a:avLst/>
            <a:gdLst>
              <a:gd name="textAreaLeft" fmla="*/ 378000 w 2742840"/>
              <a:gd name="textAreaRight" fmla="*/ 2169720 w 2742840"/>
              <a:gd name="textAreaTop" fmla="*/ 217440 h 1439640"/>
              <a:gd name="textAreaBottom" fmla="*/ 1155600 h 1439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Квилл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Цветы для м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рина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5786280" y="3714840"/>
            <a:ext cx="1142640" cy="3690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Рисунок 4" descr="D:\ира\фото д.с\P1020621.JPG"/>
          <p:cNvPicPr/>
          <p:nvPr/>
        </p:nvPicPr>
        <p:blipFill>
          <a:blip r:embed="rId1"/>
          <a:stretch/>
        </p:blipFill>
        <p:spPr>
          <a:xfrm>
            <a:off x="3929040" y="1357200"/>
            <a:ext cx="4142880" cy="5095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D:\ира\конкурс  ироо\папка -конкурс\грамоты детей\img236.jpg"/>
          <p:cNvPicPr/>
          <p:nvPr/>
        </p:nvPicPr>
        <p:blipFill>
          <a:blip r:embed="rId2"/>
          <a:stretch/>
        </p:blipFill>
        <p:spPr>
          <a:xfrm>
            <a:off x="357120" y="1785960"/>
            <a:ext cx="310752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loud"/>
          <p:cNvSpPr/>
          <p:nvPr/>
        </p:nvSpPr>
        <p:spPr>
          <a:xfrm>
            <a:off x="467640" y="260280"/>
            <a:ext cx="3984840" cy="2096640"/>
          </a:xfrm>
          <a:custGeom>
            <a:avLst/>
            <a:gdLst>
              <a:gd name="textAreaLeft" fmla="*/ 549000 w 3984840"/>
              <a:gd name="textAreaRight" fmla="*/ 3152520 w 3984840"/>
              <a:gd name="textAreaTop" fmla="*/ 316440 h 2096640"/>
              <a:gd name="textAreaBottom" fmla="*/ 1683000 h 2096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Многослойные сюжетные апплик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785960" y="3626280"/>
            <a:ext cx="1071360" cy="3690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folHlink"/>
              </a:solidFill>
              <a:latin typeface="Comic Sans MS"/>
            </a:endParaRPr>
          </a:p>
        </p:txBody>
      </p:sp>
      <p:pic>
        <p:nvPicPr>
          <p:cNvPr id="235" name="Рисунок 3" descr="D:\ира\фото д.с\P1020619.JPG"/>
          <p:cNvPicPr/>
          <p:nvPr/>
        </p:nvPicPr>
        <p:blipFill>
          <a:blip r:embed="rId1"/>
          <a:stretch/>
        </p:blipFill>
        <p:spPr>
          <a:xfrm>
            <a:off x="5357880" y="214200"/>
            <a:ext cx="2571480" cy="3285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Documents and Settings\Администратор\Мои документы\Мои рисунки\img102.jpg"/>
          <p:cNvPicPr/>
          <p:nvPr/>
        </p:nvPicPr>
        <p:blipFill>
          <a:blip r:embed="rId2"/>
          <a:stretch/>
        </p:blipFill>
        <p:spPr>
          <a:xfrm>
            <a:off x="5500800" y="3500280"/>
            <a:ext cx="2309040" cy="3071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D:\ира\конкурс  ироо\папка -конкурс\фотографии\P1020870.JPG"/>
          <p:cNvPicPr/>
          <p:nvPr/>
        </p:nvPicPr>
        <p:blipFill>
          <a:blip r:embed="rId3"/>
          <a:stretch/>
        </p:blipFill>
        <p:spPr>
          <a:xfrm>
            <a:off x="1571760" y="2074320"/>
            <a:ext cx="3214440" cy="46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Cloud"/>
          <p:cNvSpPr/>
          <p:nvPr/>
        </p:nvSpPr>
        <p:spPr>
          <a:xfrm>
            <a:off x="467640" y="260280"/>
            <a:ext cx="4392360" cy="1882440"/>
          </a:xfrm>
          <a:custGeom>
            <a:avLst/>
            <a:gdLst>
              <a:gd name="textAreaLeft" fmla="*/ 605160 w 4392360"/>
              <a:gd name="textAreaRight" fmla="*/ 3474720 w 4392360"/>
              <a:gd name="textAreaTop" fmla="*/ 284040 h 1882440"/>
              <a:gd name="textAreaBottom" fmla="*/ 1510920 h 18824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Объемная аппликация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ветоф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ина 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1643040" y="3626280"/>
            <a:ext cx="928440" cy="3690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folHlink"/>
              </a:solidFill>
              <a:latin typeface="Comic Sans MS"/>
            </a:endParaRPr>
          </a:p>
        </p:txBody>
      </p:sp>
      <p:pic>
        <p:nvPicPr>
          <p:cNvPr id="240" name="Picture 4" descr="http://cs623229.vk.me/v623229987/b3c5/zUPrtlr5CiU.jpg"/>
          <p:cNvPicPr/>
          <p:nvPr/>
        </p:nvPicPr>
        <p:blipFill>
          <a:blip r:embed="rId1"/>
          <a:stretch/>
        </p:blipFill>
        <p:spPr>
          <a:xfrm>
            <a:off x="4548240" y="2786040"/>
            <a:ext cx="4419360" cy="3314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D:\ира\конкурс  ироо\папка -конкурс\грамоты Малышева\img235.jpg"/>
          <p:cNvPicPr/>
          <p:nvPr/>
        </p:nvPicPr>
        <p:blipFill>
          <a:blip r:embed="rId2"/>
          <a:stretch/>
        </p:blipFill>
        <p:spPr>
          <a:xfrm>
            <a:off x="999720" y="2428920"/>
            <a:ext cx="2900160" cy="39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и из мелко нарезанных шерстяных ниток.</a:t>
            </a:r>
            <a:br>
              <a:rPr sz="18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57120" y="171432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244" name="Picture 2" descr="D:\ира\дипломы конкурсы\работы\IMG_20170118_170042.jpg"/>
          <p:cNvPicPr/>
          <p:nvPr/>
        </p:nvPicPr>
        <p:blipFill>
          <a:blip r:embed="rId2"/>
          <a:stretch/>
        </p:blipFill>
        <p:spPr>
          <a:xfrm>
            <a:off x="3714840" y="2786040"/>
            <a:ext cx="5190840" cy="38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99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атласных лент.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679280" y="1500120"/>
            <a:ext cx="3482280" cy="4643280"/>
          </a:xfrm>
          <a:prstGeom prst="rect">
            <a:avLst/>
          </a:prstGeom>
          <a:ln w="9525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642960" y="1571760"/>
            <a:ext cx="3642840" cy="4857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857160" y="357120"/>
            <a:ext cx="3714480" cy="4952520"/>
          </a:xfrm>
          <a:prstGeom prst="rect">
            <a:avLst/>
          </a:prstGeom>
          <a:ln w="9525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4786200" y="1500120"/>
            <a:ext cx="4017960" cy="5357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Comic Sans MS"/>
              </a:rPr>
              <a:t>Аппликация из ткани.</a:t>
            </a:r>
            <a:br>
              <a:rPr sz="44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250640" y="1428840"/>
            <a:ext cx="6995160" cy="4000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и из коктейльных трубочек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br>
              <a:rPr sz="44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3143160" y="2000160"/>
            <a:ext cx="3214440" cy="4285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бумажных трубочек</a:t>
            </a:r>
            <a:br>
              <a:rPr sz="44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285840" y="1143000"/>
            <a:ext cx="3714480" cy="4952520"/>
          </a:xfrm>
          <a:prstGeom prst="rect">
            <a:avLst/>
          </a:prstGeom>
          <a:ln w="9525">
            <a:noFill/>
          </a:ln>
        </p:spPr>
      </p:pic>
      <p:pic>
        <p:nvPicPr>
          <p:cNvPr id="257" name="Picture 2" descr="D:\ира\конкурс  ироо\папка -конкурс\фотографии\P1020872.JPG"/>
          <p:cNvPicPr/>
          <p:nvPr/>
        </p:nvPicPr>
        <p:blipFill>
          <a:blip r:embed="rId2"/>
          <a:stretch/>
        </p:blipFill>
        <p:spPr>
          <a:xfrm>
            <a:off x="4572000" y="1500120"/>
            <a:ext cx="33048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6870240" cy="5919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ывать интерес к аппликаци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Учить составлять из полос изображения разных предмет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Учить вырезать круглые формы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Увеличивать количество предметов из готовых форм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Учить преобразовывать эти формы, разрезая их на две, четыре ча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Закреплять навыки аккуратного вырезывания и наклеива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оощрять проявление творчес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Формировать желание взаимодействовать при создании композиций.</a:t>
            </a:r>
            <a:br>
              <a:rPr sz="44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макарон.</a:t>
            </a:r>
            <a:br>
              <a:rPr sz="44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3143160" y="1285920"/>
            <a:ext cx="3642840" cy="4952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5205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вязь с другими образовательными областями</a:t>
            </a: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звитие мелкой моторики «Физическая культура»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звитие свободного общения со взрослыми и детьми по поводу процесса и результатов продуктивной деятельности «Коммуникация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енсорное развитие; расширение кругозора в сфере изобразительного искусства, творчества  «Познание»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формирование трудовых умений и навыков, воспитание ценностного отношения к собственному труду, труду других людей  «Труд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формирование основ безопасности собственной жизнедеятельности в различных видах продуктивной деятельности «Безопасность 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Cloud"/>
          <p:cNvSpPr/>
          <p:nvPr/>
        </p:nvSpPr>
        <p:spPr>
          <a:xfrm>
            <a:off x="179280" y="260280"/>
            <a:ext cx="2742840" cy="1439640"/>
          </a:xfrm>
          <a:custGeom>
            <a:avLst/>
            <a:gdLst>
              <a:gd name="textAreaLeft" fmla="*/ 378000 w 2742840"/>
              <a:gd name="textAreaRight" fmla="*/ 2169720 w 2742840"/>
              <a:gd name="textAreaTop" fmla="*/ 217440 h 1439640"/>
              <a:gd name="textAreaBottom" fmla="*/ 1155600 h 1439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Обрывная аппл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ьюрков Арт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643200" y="3500280"/>
            <a:ext cx="2571480" cy="3690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Рисунок 3" descr="C:\Documents and Settings\Администратор\Рабочий стол\Новая папка (2)\P1020827.JPG"/>
          <p:cNvPicPr/>
          <p:nvPr/>
        </p:nvPicPr>
        <p:blipFill>
          <a:blip r:embed="rId1"/>
          <a:stretch/>
        </p:blipFill>
        <p:spPr>
          <a:xfrm>
            <a:off x="2339640" y="1667520"/>
            <a:ext cx="5933880" cy="44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6870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ппликация из конфетти. </a:t>
            </a:r>
            <a:br>
              <a:rPr sz="4400"/>
            </a:b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4214880" y="1285920"/>
            <a:ext cx="3964320" cy="5285880"/>
          </a:xfrm>
          <a:prstGeom prst="rect">
            <a:avLst/>
          </a:prstGeom>
          <a:ln w="9525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642960" y="1643040"/>
            <a:ext cx="3320280" cy="4427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Cloud"/>
          <p:cNvSpPr/>
          <p:nvPr/>
        </p:nvSpPr>
        <p:spPr>
          <a:xfrm>
            <a:off x="428760" y="357120"/>
            <a:ext cx="4818600" cy="2525400"/>
          </a:xfrm>
          <a:custGeom>
            <a:avLst/>
            <a:gdLst>
              <a:gd name="textAreaLeft" fmla="*/ 663840 w 4818600"/>
              <a:gd name="textAreaRight" fmla="*/ 3812040 w 4818600"/>
              <a:gd name="textAreaTop" fmla="*/ 381240 h 2525400"/>
              <a:gd name="textAreaBottom" fmla="*/ 2027160 h 25254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засушенных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иса и 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4572000" y="3626280"/>
            <a:ext cx="1642680" cy="3690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folHlink"/>
              </a:solidFill>
              <a:latin typeface="Comic Sans MS"/>
            </a:endParaRPr>
          </a:p>
        </p:txBody>
      </p:sp>
      <p:pic>
        <p:nvPicPr>
          <p:cNvPr id="186" name="Рисунок 3" descr="C:\Documents and Settings\Администратор\Рабочий стол\Новая папка (2)\P1020823.JPG"/>
          <p:cNvPicPr/>
          <p:nvPr/>
        </p:nvPicPr>
        <p:blipFill>
          <a:blip r:embed="rId1"/>
          <a:stretch/>
        </p:blipFill>
        <p:spPr>
          <a:xfrm>
            <a:off x="3500280" y="2786040"/>
            <a:ext cx="4671720" cy="38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84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енние цветы» Аксёнова Соня.</a:t>
            </a: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2" descr="C:\Documents and Settings\Администратор\Мои документы\Мои рисунки\img101.jpg"/>
          <p:cNvPicPr/>
          <p:nvPr/>
        </p:nvPicPr>
        <p:blipFill>
          <a:blip r:embed="rId1"/>
          <a:stretch/>
        </p:blipFill>
        <p:spPr>
          <a:xfrm>
            <a:off x="5143680" y="1857240"/>
            <a:ext cx="3367080" cy="4633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D:\ира\видио и фото д.с занятие\фото\P1020931.JPG"/>
          <p:cNvPicPr/>
          <p:nvPr/>
        </p:nvPicPr>
        <p:blipFill>
          <a:blip r:embed="rId2"/>
          <a:stretch/>
        </p:blipFill>
        <p:spPr>
          <a:xfrm>
            <a:off x="500040" y="1428840"/>
            <a:ext cx="38574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Cloud"/>
          <p:cNvSpPr/>
          <p:nvPr/>
        </p:nvSpPr>
        <p:spPr>
          <a:xfrm>
            <a:off x="179280" y="260280"/>
            <a:ext cx="3677760" cy="2882520"/>
          </a:xfrm>
          <a:custGeom>
            <a:avLst/>
            <a:gdLst>
              <a:gd name="textAreaLeft" fmla="*/ 506880 w 3677760"/>
              <a:gd name="textAreaRight" fmla="*/ 2909520 w 3677760"/>
              <a:gd name="textAreaTop" fmla="*/ 435240 h 2882520"/>
              <a:gd name="textAreaBottom" fmla="*/ 2313720 h 28825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кру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428840" y="3857760"/>
            <a:ext cx="3642840" cy="3690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folHlink"/>
              </a:solidFill>
              <a:latin typeface="Comic Sans MS"/>
            </a:endParaRPr>
          </a:p>
        </p:txBody>
      </p:sp>
      <p:pic>
        <p:nvPicPr>
          <p:cNvPr id="192" name="Рисунок 3" descr="C:\Documents and Settings\Администратор\Рабочий стол\Новая папка (2)\P1020824.JPG"/>
          <p:cNvPicPr/>
          <p:nvPr/>
        </p:nvPicPr>
        <p:blipFill>
          <a:blip r:embed="rId1"/>
          <a:stretch/>
        </p:blipFill>
        <p:spPr>
          <a:xfrm>
            <a:off x="5500800" y="500040"/>
            <a:ext cx="3428640" cy="3036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D:\ира\работа самообр ежедн пл\самообраз\работы детские\Wmh8ZuizVo8.jpg"/>
          <p:cNvPicPr/>
          <p:nvPr/>
        </p:nvPicPr>
        <p:blipFill>
          <a:blip r:embed="rId2"/>
          <a:stretch/>
        </p:blipFill>
        <p:spPr>
          <a:xfrm>
            <a:off x="500040" y="3071880"/>
            <a:ext cx="5051880" cy="37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Cloud"/>
          <p:cNvSpPr/>
          <p:nvPr/>
        </p:nvSpPr>
        <p:spPr>
          <a:xfrm>
            <a:off x="179280" y="260280"/>
            <a:ext cx="3106440" cy="3306600"/>
          </a:xfrm>
          <a:custGeom>
            <a:avLst/>
            <a:gdLst>
              <a:gd name="textAreaLeft" fmla="*/ 428040 w 3106440"/>
              <a:gd name="textAreaRight" fmla="*/ 2457360 w 3106440"/>
              <a:gd name="textAreaTop" fmla="*/ 499320 h 3306600"/>
              <a:gd name="textAreaBottom" fmla="*/ 2654280 h 33066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спи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3 февр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здняков В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3214800" y="3420000"/>
            <a:ext cx="1285560" cy="3636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>
            <a:hlinkClick r:id="rId1"/>
          </p:cNvPr>
          <p:cNvSpPr/>
          <p:nvPr/>
        </p:nvSpPr>
        <p:spPr>
          <a:xfrm>
            <a:off x="5580000" y="6021360"/>
            <a:ext cx="576000" cy="504360"/>
          </a:xfrm>
          <a:prstGeom prst="actionButtonInformation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Рисунок 4" descr="C:\Documents and Settings\Администратор\Рабочий стол\Новая папка (2)\P1020810.JPG"/>
          <p:cNvPicPr/>
          <p:nvPr/>
        </p:nvPicPr>
        <p:blipFill>
          <a:blip r:embed="rId2"/>
          <a:stretch/>
        </p:blipFill>
        <p:spPr>
          <a:xfrm>
            <a:off x="2643120" y="2000160"/>
            <a:ext cx="6336360" cy="43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астель">
  <a:themeElements>
    <a:clrScheme name="Пастель 1">
      <a:dk1>
        <a:srgbClr val="000000"/>
      </a:dk1>
      <a:lt1>
        <a:srgbClr val="ffffff"/>
      </a:lt1>
      <a:dk2>
        <a:srgbClr val="ff0000"/>
      </a:dk2>
      <a:lt2>
        <a:srgbClr val="ffb800"/>
      </a:lt2>
      <a:accent1>
        <a:srgbClr val="ffef66"/>
      </a:accent1>
      <a:accent2>
        <a:srgbClr val="000000"/>
      </a:accent2>
      <a:accent3>
        <a:srgbClr val="ffffff"/>
      </a:accent3>
      <a:accent4>
        <a:srgbClr val="000000"/>
      </a:accent4>
      <a:accent5>
        <a:srgbClr val="fff6b8"/>
      </a:accent5>
      <a:accent6>
        <a:srgbClr val="000000"/>
      </a:accent6>
      <a:hlink>
        <a:srgbClr val="00b200"/>
      </a:hlink>
      <a:folHlink>
        <a:srgbClr val="703d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астель">
  <a:themeElements>
    <a:clrScheme name="Пастель 1">
      <a:dk1>
        <a:srgbClr val="000000"/>
      </a:dk1>
      <a:lt1>
        <a:srgbClr val="ffffff"/>
      </a:lt1>
      <a:dk2>
        <a:srgbClr val="ff0000"/>
      </a:dk2>
      <a:lt2>
        <a:srgbClr val="ffb800"/>
      </a:lt2>
      <a:accent1>
        <a:srgbClr val="ffef66"/>
      </a:accent1>
      <a:accent2>
        <a:srgbClr val="000000"/>
      </a:accent2>
      <a:accent3>
        <a:srgbClr val="ffffff"/>
      </a:accent3>
      <a:accent4>
        <a:srgbClr val="000000"/>
      </a:accent4>
      <a:accent5>
        <a:srgbClr val="fff6b8"/>
      </a:accent5>
      <a:accent6>
        <a:srgbClr val="000000"/>
      </a:accent6>
      <a:hlink>
        <a:srgbClr val="00b200"/>
      </a:hlink>
      <a:folHlink>
        <a:srgbClr val="703d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rayons</Template>
  <TotalTime>811</TotalTime>
  <Application>LibreOffice/7.4.7.2$Linux_X86_64 LibreOffice_project/40$Build-2</Application>
  <AppVersion>15.0000</AppVersion>
  <Words>170</Words>
  <Paragraphs>42</Paragraphs>
  <Company>Nh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8:20:26Z</dcterms:created>
  <dc:creator>DetSad89-1</dc:creator>
  <dc:description/>
  <dc:language>en-US</dc:language>
  <cp:lastModifiedBy>XTreme</cp:lastModifiedBy>
  <dcterms:modified xsi:type="dcterms:W3CDTF">2017-08-28T13:49:48Z</dcterms:modified>
  <cp:revision>8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1</vt:r8>
  </property>
</Properties>
</file>