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A6E-317C-40F7-93BA-2E1FE8AF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8BF-FB88-46B3-9CAB-706B2D49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A72-5EF8-40EA-B17C-2C1BFF0A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918-7987-4D98-A144-BE00A0DA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74F-35D4-4F2F-8DB3-EBC093CE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B9A-3FE2-465A-8175-626961F0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296-0A37-4123-9479-63206F01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6F7-3515-45C4-83D6-1083E36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639-261E-4398-BC4B-E24FCC90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C52-0390-4D25-8F98-9FF2602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A2D-5C30-4E8B-9E57-A8AD9F6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60B-87A8-4438-B382-599F0D9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A8EF-7251-4210-8B31-23FBF5380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2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image" Target="../media/image5.png"/><Relationship Id="rId8" Type="http://schemas.openxmlformats.org/officeDocument/2006/relationships/slide" Target="slide5.xml"/><Relationship Id="rId9" Type="http://schemas.openxmlformats.org/officeDocument/2006/relationships/image" Target="../media/image6.png"/><Relationship Id="rId10" Type="http://schemas.openxmlformats.org/officeDocument/2006/relationships/slide" Target="slide7.xml"/><Relationship Id="rId11" Type="http://schemas.openxmlformats.org/officeDocument/2006/relationships/image" Target="../media/image7.jpeg"/><Relationship Id="rId12" Type="http://schemas.openxmlformats.org/officeDocument/2006/relationships/slide" Target="slide6.xml"/><Relationship Id="rId13" Type="http://schemas.openxmlformats.org/officeDocument/2006/relationships/image" Target="../media/image8.jpeg"/><Relationship Id="rId14" Type="http://schemas.openxmlformats.org/officeDocument/2006/relationships/slide" Target="slide8.xml"/><Relationship Id="rId15" Type="http://schemas.openxmlformats.org/officeDocument/2006/relationships/image" Target="../media/image9.jpeg"/><Relationship Id="rId16" Type="http://schemas.openxmlformats.org/officeDocument/2006/relationships/slide" Target="slide10.xml"/><Relationship Id="rId17" Type="http://schemas.openxmlformats.org/officeDocument/2006/relationships/image" Target="../media/image10.jpeg"/><Relationship Id="rId18" Type="http://schemas.openxmlformats.org/officeDocument/2006/relationships/slide" Target="slide9.xml"/><Relationship Id="rId19" Type="http://schemas.openxmlformats.org/officeDocument/2006/relationships/image" Target="../media/image11.jpeg"/><Relationship Id="rId20" Type="http://schemas.openxmlformats.org/officeDocument/2006/relationships/slide" Target="slide11.xml"/><Relationship Id="rId21" Type="http://schemas.openxmlformats.org/officeDocument/2006/relationships/image" Target="../media/image12.jpeg"/><Relationship Id="rId22" Type="http://schemas.openxmlformats.org/officeDocument/2006/relationships/slide" Target="slide12.xml"/><Relationship Id="rId23" Type="http://schemas.openxmlformats.org/officeDocument/2006/relationships/image" Target="../media/image13.jpeg"/><Relationship Id="rId24" Type="http://schemas.openxmlformats.org/officeDocument/2006/relationships/slide" Target="slide13.xml"/><Relationship Id="rId25" Type="http://schemas.openxmlformats.org/officeDocument/2006/relationships/image" Target="../media/image14.jpeg"/><Relationship Id="rId26" Type="http://schemas.openxmlformats.org/officeDocument/2006/relationships/slide" Target="slide14.xml"/><Relationship Id="rId27" Type="http://schemas.openxmlformats.org/officeDocument/2006/relationships/image" Target="../media/image15.jpeg"/><Relationship Id="rId28" Type="http://schemas.openxmlformats.org/officeDocument/2006/relationships/slide" Target="slide15.xml"/><Relationship Id="rId29" Type="http://schemas.openxmlformats.org/officeDocument/2006/relationships/image" Target="../media/image16.jpeg"/><Relationship Id="rId30" Type="http://schemas.openxmlformats.org/officeDocument/2006/relationships/slide" Target="slide16.xml"/><Relationship Id="rId31" Type="http://schemas.openxmlformats.org/officeDocument/2006/relationships/image" Target="../media/image17.jpeg"/><Relationship Id="rId32" Type="http://schemas.openxmlformats.org/officeDocument/2006/relationships/slide" Target="slide17.xml"/><Relationship Id="rId33" Type="http://schemas.openxmlformats.org/officeDocument/2006/relationships/image" Target="../media/image18.jpe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5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03280" y="119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ИЩЕВЫЕ ЦЕПИ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107320" y="4653000"/>
            <a:ext cx="397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МБОУ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Сорокина Э.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548784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?id=565510025-62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1052640"/>
            <a:ext cx="4825800" cy="3616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i?id=38421979-39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08000" y="1125360"/>
            <a:ext cx="5472360" cy="4042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i?id=440373982-16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68360" y="1197000"/>
            <a:ext cx="4680000" cy="3510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i?id=283761771-43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1125360"/>
            <a:ext cx="5905440" cy="3935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i?id=614768500-20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84360" y="1413000"/>
            <a:ext cx="4321080" cy="3600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mota_ru_1040809-1366x76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?id=7336131-44-72&amp;n=2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3816360" cy="30002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7" name="Picture 6" descr="lesni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72000" y="351000"/>
            <a:ext cx="4032360" cy="3006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?id=31634288-66-72&amp;n=21"/>
          <p:cNvPicPr/>
          <p:nvPr/>
        </p:nvPicPr>
        <p:blipFill>
          <a:blip r:embed="rId2"/>
          <a:stretch/>
        </p:blipFill>
        <p:spPr>
          <a:xfrm>
            <a:off x="4716360" y="404640"/>
            <a:ext cx="3961080" cy="3213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21" name="Picture 7" descr="i?id=428164620-57-72&amp;n=21"/>
          <p:cNvPicPr/>
          <p:nvPr/>
        </p:nvPicPr>
        <p:blipFill>
          <a:blip r:embed="rId3"/>
          <a:stretch/>
        </p:blipFill>
        <p:spPr>
          <a:xfrm>
            <a:off x="395280" y="2852640"/>
            <a:ext cx="3889440" cy="33703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i?id=136106837-43-72&amp;n=21"/>
          <p:cNvPicPr/>
          <p:nvPr/>
        </p:nvPicPr>
        <p:blipFill>
          <a:blip r:embed="rId2"/>
          <a:stretch/>
        </p:blipFill>
        <p:spPr>
          <a:xfrm>
            <a:off x="4716360" y="333360"/>
            <a:ext cx="3959280" cy="3300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25" name="Picture 6" descr="i?id=148766783-15-72&amp;n=21"/>
          <p:cNvPicPr/>
          <p:nvPr/>
        </p:nvPicPr>
        <p:blipFill>
          <a:blip r:embed="rId3"/>
          <a:stretch/>
        </p:blipFill>
        <p:spPr>
          <a:xfrm>
            <a:off x="468360" y="3481560"/>
            <a:ext cx="3959280" cy="3025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mota_ru_1040809-1366x76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5"/>
          <p:cNvGrpSpPr/>
          <p:nvPr/>
        </p:nvGrpSpPr>
        <p:grpSpPr>
          <a:xfrm>
            <a:off x="539640" y="907920"/>
            <a:ext cx="8136000" cy="5645160"/>
            <a:chOff x="539640" y="907920"/>
            <a:chExt cx="8136000" cy="5645160"/>
          </a:xfrm>
        </p:grpSpPr>
        <p:pic>
          <p:nvPicPr>
            <p:cNvPr id="130" name="Picture 7" descr="i?id=617728109-01-72&amp;n=21"/>
            <p:cNvPicPr/>
            <p:nvPr/>
          </p:nvPicPr>
          <p:blipFill>
            <a:blip r:embed="rId3"/>
            <a:stretch/>
          </p:blipFill>
          <p:spPr>
            <a:xfrm>
              <a:off x="539640" y="3933720"/>
              <a:ext cx="3962520" cy="26193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131" name="Picture 9" descr="i?id=38421979-39-72&amp;n=21"/>
            <p:cNvPicPr/>
            <p:nvPr/>
          </p:nvPicPr>
          <p:blipFill>
            <a:blip r:embed="rId4"/>
            <a:stretch/>
          </p:blipFill>
          <p:spPr>
            <a:xfrm>
              <a:off x="684360" y="907920"/>
              <a:ext cx="3816360" cy="28195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132" name="Picture 11" descr="i?id=52217376-10-72&amp;n=21"/>
            <p:cNvPicPr/>
            <p:nvPr/>
          </p:nvPicPr>
          <p:blipFill>
            <a:blip r:embed="rId5"/>
            <a:stretch/>
          </p:blipFill>
          <p:spPr>
            <a:xfrm>
              <a:off x="5148360" y="1052640"/>
              <a:ext cx="3527280" cy="26463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133" name="Picture 13" descr="i?id=614768500-20-72&amp;n=21"/>
            <p:cNvPicPr/>
            <p:nvPr/>
          </p:nvPicPr>
          <p:blipFill>
            <a:blip r:embed="rId6"/>
            <a:stretch/>
          </p:blipFill>
          <p:spPr>
            <a:xfrm>
              <a:off x="5148360" y="3860640"/>
              <a:ext cx="3527280" cy="26733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sp>
        <p:nvSpPr>
          <p:cNvPr id="134" name="Text Box 14"/>
          <p:cNvSpPr/>
          <p:nvPr/>
        </p:nvSpPr>
        <p:spPr>
          <a:xfrm>
            <a:off x="3208680" y="260280"/>
            <a:ext cx="25520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7917"/>
                </a:solidFill>
                <a:latin typeface="Arial"/>
              </a:rPr>
              <a:t>МУСОРЩ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ota_ru_1040809-1366x76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1192680" y="333360"/>
            <a:ext cx="645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be0e3"/>
                </a:solidFill>
                <a:latin typeface="Arial"/>
              </a:rPr>
              <a:t>ПИЩЕВЫЕ СВЯЗИ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3960" y="1341360"/>
            <a:ext cx="2571840" cy="520560"/>
          </a:xfrm>
          <a:prstGeom prst="rect">
            <a:avLst/>
          </a:prstGeom>
          <a:solidFill>
            <a:srgbClr val="b1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КОРМИЛЬ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6"/>
          <p:cNvSpPr/>
          <p:nvPr/>
        </p:nvSpPr>
        <p:spPr>
          <a:xfrm>
            <a:off x="2873520" y="1125360"/>
            <a:ext cx="1368000" cy="520560"/>
          </a:xfrm>
          <a:prstGeom prst="rect">
            <a:avLst/>
          </a:prstGeom>
          <a:solidFill>
            <a:srgbClr val="b1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 Black"/>
              </a:rPr>
              <a:t>ЕД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7"/>
          <p:cNvSpPr/>
          <p:nvPr/>
        </p:nvSpPr>
        <p:spPr>
          <a:xfrm>
            <a:off x="6570000" y="1197000"/>
            <a:ext cx="2575080" cy="577080"/>
          </a:xfrm>
          <a:prstGeom prst="rect">
            <a:avLst/>
          </a:prstGeom>
          <a:solidFill>
            <a:srgbClr val="b1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МУСОРЩ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5"/>
          <p:cNvGrpSpPr/>
          <p:nvPr/>
        </p:nvGrpSpPr>
        <p:grpSpPr>
          <a:xfrm>
            <a:off x="468360" y="2637000"/>
            <a:ext cx="8496360" cy="1979280"/>
            <a:chOff x="468360" y="2637000"/>
            <a:chExt cx="8496360" cy="1979280"/>
          </a:xfrm>
        </p:grpSpPr>
        <p:pic>
          <p:nvPicPr>
            <p:cNvPr id="52" name="Picture 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419640" y="2637000"/>
              <a:ext cx="3168360" cy="19584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grpSp>
          <p:nvGrpSpPr>
            <p:cNvPr id="53" name="Group 64"/>
            <p:cNvGrpSpPr/>
            <p:nvPr/>
          </p:nvGrpSpPr>
          <p:grpSpPr>
            <a:xfrm>
              <a:off x="468360" y="2637000"/>
              <a:ext cx="8496360" cy="1979280"/>
              <a:chOff x="468360" y="2637000"/>
              <a:chExt cx="8496360" cy="1979280"/>
            </a:xfrm>
          </p:grpSpPr>
          <p:pic>
            <p:nvPicPr>
              <p:cNvPr id="54" name="Picture 1" descr="">
                <a:hlinkClick r:id="rId6" action="ppaction://hlinksldjump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468360" y="2637000"/>
                <a:ext cx="2735280" cy="194436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pic>
            <p:nvPicPr>
              <p:cNvPr id="55" name="Picture 5" descr="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805800" y="2637000"/>
                <a:ext cx="2158920" cy="197928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56" name="Group 60"/>
          <p:cNvGrpSpPr/>
          <p:nvPr/>
        </p:nvGrpSpPr>
        <p:grpSpPr>
          <a:xfrm>
            <a:off x="324000" y="2565360"/>
            <a:ext cx="8640720" cy="2160720"/>
            <a:chOff x="324000" y="2565360"/>
            <a:chExt cx="8640720" cy="2160720"/>
          </a:xfrm>
        </p:grpSpPr>
        <p:pic>
          <p:nvPicPr>
            <p:cNvPr id="57" name="Picture 52" descr="i?id=140370894-42-72&amp;n=21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3060720" y="2565360"/>
              <a:ext cx="2736720" cy="2160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58" name="Picture 51" descr="i?id=482754424-40-72&amp;n=21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324000" y="2565360"/>
              <a:ext cx="2592360" cy="21322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59" name="Picture 53" descr="i?id=617728109-01-72&amp;n=21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40360" y="2565360"/>
              <a:ext cx="3024360" cy="2160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grpSp>
        <p:nvGrpSpPr>
          <p:cNvPr id="60" name="Group 71"/>
          <p:cNvGrpSpPr/>
          <p:nvPr/>
        </p:nvGrpSpPr>
        <p:grpSpPr>
          <a:xfrm>
            <a:off x="324000" y="2708280"/>
            <a:ext cx="8640720" cy="1968480"/>
            <a:chOff x="324000" y="2708280"/>
            <a:chExt cx="8640720" cy="1968480"/>
          </a:xfrm>
        </p:grpSpPr>
        <p:pic>
          <p:nvPicPr>
            <p:cNvPr id="61" name="Picture 67" descr="i?id=565510025-62-72&amp;n=21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3349800" y="2708280"/>
              <a:ext cx="2592360" cy="19429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2" name="Picture 66" descr="i?id=454714506-04-72&amp;n=21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324000" y="2708280"/>
              <a:ext cx="2592360" cy="1944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3" name="Picture 68" descr="i?id=38421979-39-72&amp;n=21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6300720" y="2708280"/>
              <a:ext cx="2664000" cy="19684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grpSp>
        <p:nvGrpSpPr>
          <p:cNvPr id="64" name="Group 75"/>
          <p:cNvGrpSpPr/>
          <p:nvPr/>
        </p:nvGrpSpPr>
        <p:grpSpPr>
          <a:xfrm>
            <a:off x="179280" y="2637000"/>
            <a:ext cx="8748360" cy="2158560"/>
            <a:chOff x="179280" y="2637000"/>
            <a:chExt cx="8748360" cy="2158560"/>
          </a:xfrm>
        </p:grpSpPr>
        <p:pic>
          <p:nvPicPr>
            <p:cNvPr id="65" name="Picture 72" descr="i?id=440373982-16-72&amp;n=21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79280" y="2637000"/>
              <a:ext cx="2770200" cy="21484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6" name="Picture 73" descr="i?id=283761771-43-72&amp;n=21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3168360" y="2637000"/>
              <a:ext cx="2914920" cy="21585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7" name="Picture 74" descr="i?id=614768500-20-72&amp;n=21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6375960" y="2637000"/>
              <a:ext cx="2551680" cy="212724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sp>
        <p:nvSpPr>
          <p:cNvPr id="68" name="AutoShape 77"/>
          <p:cNvSpPr/>
          <p:nvPr/>
        </p:nvSpPr>
        <p:spPr>
          <a:xfrm>
            <a:off x="8532720" y="6308640"/>
            <a:ext cx="468360" cy="324000"/>
          </a:xfrm>
          <a:prstGeom prst="borderCallout1">
            <a:avLst>
              <a:gd name="adj1" fmla="val 18750"/>
              <a:gd name="adj2" fmla="val -8333"/>
              <a:gd name="adj3" fmla="val 123527"/>
              <a:gd name="adj4" fmla="val 112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87"/>
          <p:cNvGrpSpPr/>
          <p:nvPr/>
        </p:nvGrpSpPr>
        <p:grpSpPr>
          <a:xfrm>
            <a:off x="395280" y="2565360"/>
            <a:ext cx="8424720" cy="2214360"/>
            <a:chOff x="395280" y="2565360"/>
            <a:chExt cx="8424720" cy="2214360"/>
          </a:xfrm>
        </p:grpSpPr>
        <p:pic>
          <p:nvPicPr>
            <p:cNvPr id="70" name="Picture 82" descr="i?id=7336131-44-72&amp;n=21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95280" y="2628720"/>
              <a:ext cx="2735280" cy="21510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71" name="Picture 83" descr="i?id=31634288-66-72&amp;n=21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348000" y="2565360"/>
              <a:ext cx="2663640" cy="2160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72" name="Picture 84" descr="i?id=136106837-43-72&amp;n=21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6227640" y="2565360"/>
              <a:ext cx="2592360" cy="216072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sp>
        <p:nvSpPr>
          <p:cNvPr id="73" name="Rectangle 89"/>
          <p:cNvSpPr/>
          <p:nvPr/>
        </p:nvSpPr>
        <p:spPr>
          <a:xfrm>
            <a:off x="3493440" y="1484280"/>
            <a:ext cx="3004560" cy="459720"/>
          </a:xfrm>
          <a:prstGeom prst="rect">
            <a:avLst/>
          </a:prstGeom>
          <a:solidFill>
            <a:srgbClr val="b1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7917"/>
                </a:solidFill>
                <a:latin typeface="Arial"/>
              </a:rPr>
              <a:t>ЕДОКИ- ХИЩ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ota_ru_1040809-1366x76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529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333360"/>
            <a:ext cx="5688000" cy="4308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7" name="Text Box 7"/>
          <p:cNvSpPr/>
          <p:nvPr/>
        </p:nvSpPr>
        <p:spPr>
          <a:xfrm>
            <a:off x="4724280" y="5033880"/>
            <a:ext cx="193680" cy="528840"/>
          </a:xfrm>
          <a:prstGeom prst="rect">
            <a:avLst/>
          </a:prstGeom>
          <a:solidFill>
            <a:srgbClr val="b1f7a7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0" y="4508640"/>
            <a:ext cx="9144000" cy="2565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лавная роль в экосистеме принадлежит раст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ни снабжают орган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ествами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 Unicode MS"/>
              </a:rPr>
              <a:t>всех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итателей эко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этому их называют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«кормильц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476280"/>
            <a:ext cx="5040360" cy="311616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AutoShape 10">
            <a:hlinkClick r:id="rId4" action="ppaction://hlinksldjump"/>
          </p:cNvPr>
          <p:cNvSpPr/>
          <p:nvPr/>
        </p:nvSpPr>
        <p:spPr>
          <a:xfrm>
            <a:off x="179280" y="3213000"/>
            <a:ext cx="8785440" cy="424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вотных называют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«едок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Это их основная роль в экосис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вотные, которые питаются растениями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 съедают их цели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ак что растения снова выраст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ногие животные помог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тениям: переносят их пыльцу и сем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56000" y="260280"/>
            <a:ext cx="3960720" cy="36324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AutoShape 10">
            <a:hlinkClick r:id="rId4" action="ppaction://hlinksldjump"/>
          </p:cNvPr>
          <p:cNvSpPr/>
          <p:nvPr/>
        </p:nvSpPr>
        <p:spPr>
          <a:xfrm>
            <a:off x="0" y="3645000"/>
            <a:ext cx="9144000" cy="381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природе прошлогодние листья и травы, оста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вотных не накапливаются, а быстро разруш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рибами, бактериями, микроорганизмами. Все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ерерабатывают природный мусор и с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евращают его в минеральные ве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х называют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«мусорщи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i?id=482754424-40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56000" y="1413000"/>
            <a:ext cx="4608360" cy="3789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?id=140370894-42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1197000"/>
            <a:ext cx="5184720" cy="3887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i?id=617728109-01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68360" y="981000"/>
            <a:ext cx="5040360" cy="3600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ota_ru_1040809-1366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i?id=454714506-04-72&amp;n=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47640" y="836640"/>
            <a:ext cx="5977080" cy="4481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3:43:17Z</dcterms:created>
  <dc:creator>энже</dc:creator>
  <dc:description/>
  <dc:language>en-US</dc:language>
  <cp:lastModifiedBy>энже</cp:lastModifiedBy>
  <dcterms:modified xsi:type="dcterms:W3CDTF">2017-08-28T18:48:06Z</dcterms:modified>
  <cp:revision>9</cp:revision>
  <dc:subject/>
  <dc:title>Слайд 1</dc:title>
</cp:coreProperties>
</file>