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EE4D-8B1B-4FB2-A434-EED8F70F73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1E1D-559C-4671-B850-98DE74A5FE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идёт устный счёт, у доски вызвать одного человека: решить нер-во с пом гр кв ф-ции 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4х + 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ный счёт: 4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9CD-63FE-4D59-8AB7-49759C1C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2BE-79B2-4EE6-82ED-93AE0B52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501C-B259-472C-8D8C-7CA8EA8F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4E3-3322-4E3D-A897-B3FA5BE8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5608-5617-4583-9443-77B6E171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C4B-9E11-48D6-B0F2-FFACA31D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181B-DD96-4E3D-9A3E-3E266BAA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43A9-B40E-4053-BE46-091B6988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B78B-EAD1-4DC0-A10B-E842B78F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8A41-2777-4630-A8AC-7EA84AF0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251-48A5-471A-ACA1-AB986B69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5A5-99CE-4CFE-9F63-39FBE40C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FA9B-908D-4496-9969-81D5460D72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бобщающий урок .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вадратные корни.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3491330000[1]"/>
          <p:cNvPicPr/>
          <p:nvPr/>
        </p:nvPicPr>
        <p:blipFill>
          <a:blip r:embed="rId1"/>
          <a:stretch/>
        </p:blipFill>
        <p:spPr>
          <a:xfrm>
            <a:off x="250920" y="189000"/>
            <a:ext cx="24494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сновные термин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рифметический квадратный кор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вадратный корень из степ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вадратный корень из произ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вадратный корень из дро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1409760" y="4508640"/>
                <a:ext cx="9907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0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1336680" y="5661000"/>
                <a:ext cx="1152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10"/>
              <p:cNvSpPr txBox="1"/>
              <p:nvPr/>
            </p:nvSpPr>
            <p:spPr>
              <a:xfrm>
                <a:off x="1609560" y="692280"/>
                <a:ext cx="6638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1332000" y="1268280"/>
                <a:ext cx="123012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2"/>
              <p:cNvSpPr txBox="1"/>
              <p:nvPr/>
            </p:nvSpPr>
            <p:spPr>
              <a:xfrm>
                <a:off x="1409760" y="2276640"/>
                <a:ext cx="9205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3"/>
              <p:cNvSpPr txBox="1"/>
              <p:nvPr/>
            </p:nvSpPr>
            <p:spPr>
              <a:xfrm>
                <a:off x="1473120" y="123840"/>
                <a:ext cx="944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1517760" y="3213000"/>
                <a:ext cx="10461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6"/>
              <p:cNvSpPr txBox="1"/>
              <p:nvPr/>
            </p:nvSpPr>
            <p:spPr>
              <a:xfrm>
                <a:off x="6673680" y="44280"/>
                <a:ext cx="3463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7"/>
              <p:cNvSpPr txBox="1"/>
              <p:nvPr/>
            </p:nvSpPr>
            <p:spPr>
              <a:xfrm>
                <a:off x="6732720" y="1052640"/>
                <a:ext cx="258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8"/>
              <p:cNvSpPr txBox="1"/>
              <p:nvPr/>
            </p:nvSpPr>
            <p:spPr>
              <a:xfrm>
                <a:off x="6632640" y="4764240"/>
                <a:ext cx="4618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9"/>
              <p:cNvSpPr txBox="1"/>
              <p:nvPr/>
            </p:nvSpPr>
            <p:spPr>
              <a:xfrm>
                <a:off x="6804000" y="1557360"/>
                <a:ext cx="201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20"/>
              <p:cNvSpPr txBox="1"/>
              <p:nvPr/>
            </p:nvSpPr>
            <p:spPr>
              <a:xfrm>
                <a:off x="6688080" y="2133720"/>
                <a:ext cx="4050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21"/>
              <p:cNvSpPr txBox="1"/>
              <p:nvPr/>
            </p:nvSpPr>
            <p:spPr>
              <a:xfrm>
                <a:off x="6659640" y="2708280"/>
                <a:ext cx="4334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2"/>
              <p:cNvSpPr txBox="1"/>
              <p:nvPr/>
            </p:nvSpPr>
            <p:spPr>
              <a:xfrm>
                <a:off x="6632640" y="3284640"/>
                <a:ext cx="4604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24"/>
              <p:cNvSpPr txBox="1"/>
              <p:nvPr/>
            </p:nvSpPr>
            <p:spPr>
              <a:xfrm>
                <a:off x="6732720" y="3789360"/>
                <a:ext cx="3175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757080" y="332640"/>
            <a:ext cx="7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259640" y="33264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628720" y="332640"/>
            <a:ext cx="7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2052000" y="33264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204360" y="33264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3774960" y="332640"/>
            <a:ext cx="8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4213440" y="332640"/>
            <a:ext cx="9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4573080" y="32760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4933440" y="33264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7127280" y="33264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5725800" y="332640"/>
            <a:ext cx="12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5868360" y="33264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5868360" y="4388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901080" y="205956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,3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2412720" y="3499560"/>
            <a:ext cx="15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60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901440" y="4867920"/>
            <a:ext cx="131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6156360" y="2059560"/>
            <a:ext cx="22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√5 - √7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5420520" y="3140640"/>
            <a:ext cx="222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2"/>
          <p:cNvSpPr/>
          <p:nvPr/>
        </p:nvSpPr>
        <p:spPr>
          <a:xfrm>
            <a:off x="3996720" y="494100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4"/>
          <p:cNvSpPr/>
          <p:nvPr/>
        </p:nvSpPr>
        <p:spPr>
          <a:xfrm>
            <a:off x="6878160" y="4941000"/>
            <a:ext cx="14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√2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5"/>
          <p:cNvSpPr/>
          <p:nvPr/>
        </p:nvSpPr>
        <p:spPr>
          <a:xfrm>
            <a:off x="6518160" y="3428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6"/>
          <p:cNvSpPr/>
          <p:nvPr/>
        </p:nvSpPr>
        <p:spPr>
          <a:xfrm>
            <a:off x="3852720" y="169920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360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8"/>
          <p:cNvSpPr/>
          <p:nvPr/>
        </p:nvSpPr>
        <p:spPr>
          <a:xfrm>
            <a:off x="630072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08000" y="0"/>
            <a:ext cx="8785080" cy="6716880"/>
          </a:xfrm>
          <a:prstGeom prst="rect">
            <a:avLst/>
          </a:prstGeom>
          <a:ln w="0">
            <a:noFill/>
          </a:ln>
        </p:spPr>
      </p:pic>
      <p:pic>
        <p:nvPicPr>
          <p:cNvPr id="91" name="звуки моря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573132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извлечь корен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MCj03491330000[1]"/>
          <p:cNvPicPr/>
          <p:nvPr/>
        </p:nvPicPr>
        <p:blipFill>
          <a:blip r:embed="rId1"/>
          <a:stretch/>
        </p:blipFill>
        <p:spPr>
          <a:xfrm>
            <a:off x="250920" y="189000"/>
            <a:ext cx="24494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JOKES040"/>
          <p:cNvPicPr/>
          <p:nvPr/>
        </p:nvPicPr>
        <p:blipFill>
          <a:blip r:embed="rId1"/>
          <a:stretch/>
        </p:blipFill>
        <p:spPr>
          <a:xfrm>
            <a:off x="1979640" y="2492280"/>
            <a:ext cx="5472000" cy="3890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900000" y="692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шнее задание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 247, №231, №226, №244, №23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ЗА УРОК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7" descr="AG00373_"/>
          <p:cNvPicPr/>
          <p:nvPr/>
        </p:nvPicPr>
        <p:blipFill>
          <a:blip r:embed="rId1"/>
          <a:stretch/>
        </p:blipFill>
        <p:spPr>
          <a:xfrm>
            <a:off x="3924360" y="4437000"/>
            <a:ext cx="10000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уприкова Ольга Николаев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БОУ СОШ № 5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5:45:38Z</dcterms:created>
  <dc:creator>Aleksey</dc:creator>
  <dc:description/>
  <dc:language>en-US</dc:language>
  <cp:lastModifiedBy>Admin</cp:lastModifiedBy>
  <dcterms:modified xsi:type="dcterms:W3CDTF">2017-08-27T12:03:00Z</dcterms:modified>
  <cp:revision>23</cp:revision>
  <dc:subject/>
  <dc:title>Слайд 1</dc:title>
</cp:coreProperties>
</file>