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32B8-FD37-44DE-9912-E5BC0A560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4051-7904-407D-9593-381C9CD185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идёт устный счёт, у доски вызвать одного человека: решить нер-во с пом гр кв ф-ции 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4х +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ный счёт: 4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1EF-1602-425F-8E4A-1CEFEC4F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F0F-1523-4891-ACF9-82AC2DED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57E-3866-4B4E-B5F2-DA00617C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D55-C460-48EA-B85C-F45E719F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52A-E92D-4FE6-B950-80B8FCF7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234-2767-4C65-8BCC-A8366897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64E-60EF-4A0F-8012-4BEFCA2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36C-7BE8-4190-9B8D-9F9E3317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D0F-DA34-4E6A-9786-B047197D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A9B-A4F8-4031-BED6-44B81D4F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56C-2B58-45E1-A226-AF750B9C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9E4-0369-4D09-9EB8-C52B7B54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FC96-9AD6-4C36-BD7D-948DAF4A2D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бобщающий урок 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вадратные корни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3491330000[1]"/>
          <p:cNvPicPr/>
          <p:nvPr/>
        </p:nvPicPr>
        <p:blipFill>
          <a:blip r:embed="rId1"/>
          <a:stretch/>
        </p:blipFill>
        <p:spPr>
          <a:xfrm>
            <a:off x="250920" y="189000"/>
            <a:ext cx="24494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сновные терми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ифметический квадратный кор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вадратный корень из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вадратный корень из произ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вадратный корень из 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1409760" y="4508640"/>
                <a:ext cx="990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1336680" y="5661000"/>
                <a:ext cx="1152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1609560" y="692280"/>
                <a:ext cx="6638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1332000" y="1268280"/>
                <a:ext cx="123012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1409760" y="2276640"/>
                <a:ext cx="920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1473120" y="123840"/>
                <a:ext cx="944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1517760" y="3213000"/>
                <a:ext cx="1046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6"/>
              <p:cNvSpPr txBox="1"/>
              <p:nvPr/>
            </p:nvSpPr>
            <p:spPr>
              <a:xfrm>
                <a:off x="6673680" y="44280"/>
                <a:ext cx="346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6732720" y="1052640"/>
                <a:ext cx="258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8"/>
              <p:cNvSpPr txBox="1"/>
              <p:nvPr/>
            </p:nvSpPr>
            <p:spPr>
              <a:xfrm>
                <a:off x="6632640" y="4764240"/>
                <a:ext cx="461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9"/>
              <p:cNvSpPr txBox="1"/>
              <p:nvPr/>
            </p:nvSpPr>
            <p:spPr>
              <a:xfrm>
                <a:off x="6804000" y="1557360"/>
                <a:ext cx="201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0"/>
              <p:cNvSpPr txBox="1"/>
              <p:nvPr/>
            </p:nvSpPr>
            <p:spPr>
              <a:xfrm>
                <a:off x="6688080" y="2133720"/>
                <a:ext cx="405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1"/>
              <p:cNvSpPr txBox="1"/>
              <p:nvPr/>
            </p:nvSpPr>
            <p:spPr>
              <a:xfrm>
                <a:off x="6659640" y="2708280"/>
                <a:ext cx="4334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6632640" y="3284640"/>
                <a:ext cx="4604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4"/>
              <p:cNvSpPr txBox="1"/>
              <p:nvPr/>
            </p:nvSpPr>
            <p:spPr>
              <a:xfrm>
                <a:off x="6732720" y="3789360"/>
                <a:ext cx="3175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757080" y="33264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259640" y="33264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628720" y="332640"/>
            <a:ext cx="7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052000" y="3326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04360" y="33264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774960" y="33264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213440" y="33264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4573080" y="32760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4933440" y="33264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7127280" y="33264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5725800" y="332640"/>
            <a:ext cx="12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5868360" y="33264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5868360" y="4388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901080" y="205956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3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2412720" y="349956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0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901440" y="4867920"/>
            <a:ext cx="13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6156360" y="2059560"/>
            <a:ext cx="22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√5 - √7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5420520" y="3140640"/>
            <a:ext cx="222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3996720" y="494100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6878160" y="4941000"/>
            <a:ext cx="14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√2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6518160" y="3428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3852720" y="16992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360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63007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8785080" cy="6716880"/>
          </a:xfrm>
          <a:prstGeom prst="rect">
            <a:avLst/>
          </a:prstGeom>
          <a:ln w="0">
            <a:noFill/>
          </a:ln>
        </p:spPr>
      </p:pic>
      <p:pic>
        <p:nvPicPr>
          <p:cNvPr id="91" name="звуки моря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573132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извлечь корен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MCj03491330000[1]"/>
          <p:cNvPicPr/>
          <p:nvPr/>
        </p:nvPicPr>
        <p:blipFill>
          <a:blip r:embed="rId1"/>
          <a:stretch/>
        </p:blipFill>
        <p:spPr>
          <a:xfrm>
            <a:off x="250920" y="189000"/>
            <a:ext cx="24494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JOKES040"/>
          <p:cNvPicPr/>
          <p:nvPr/>
        </p:nvPicPr>
        <p:blipFill>
          <a:blip r:embed="rId1"/>
          <a:stretch/>
        </p:blipFill>
        <p:spPr>
          <a:xfrm>
            <a:off x="1979640" y="2492280"/>
            <a:ext cx="5472000" cy="3890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00000" y="692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 247, №231, №226, №244, №23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УРОК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7" descr="AG00373_"/>
          <p:cNvPicPr/>
          <p:nvPr/>
        </p:nvPicPr>
        <p:blipFill>
          <a:blip r:embed="rId1"/>
          <a:stretch/>
        </p:blipFill>
        <p:spPr>
          <a:xfrm>
            <a:off x="3924360" y="4437000"/>
            <a:ext cx="10000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уприкова Ольга Николае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БОУ СОШ № 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5:45:38Z</dcterms:created>
  <dc:creator>Aleksey</dc:creator>
  <dc:description/>
  <dc:language>en-US</dc:language>
  <cp:lastModifiedBy>Admin</cp:lastModifiedBy>
  <dcterms:modified xsi:type="dcterms:W3CDTF">2017-08-27T12:03:00Z</dcterms:modified>
  <cp:revision>23</cp:revision>
  <dc:subject/>
  <dc:title>Слайд 1</dc:title>
</cp:coreProperties>
</file>