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A15-C74C-4B2C-A524-9B8861E8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087-EA42-4A13-9517-E0B671AA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98A-C4DF-4D84-AD3C-35A4438F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867-8FAC-436C-942D-31D7B64D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65A-3EED-4B6C-8AD7-653D9074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290-9950-4F8B-95B8-2F32287C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F62-5EA4-44FB-A1DE-AD20A3B6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A6F-1EC7-4472-9CD5-69096C61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0B6-F850-4D53-89FA-2C98F0CE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3AF-EF9B-44FE-B66C-77D0625A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2F6-D801-4F85-AAD0-6C314C74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5B7-0254-408E-A149-38268247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96B7-D052-4DA3-BCA4-2AC6127E0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60480" y="469800"/>
            <a:ext cx="7261200" cy="39006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3995640" y="3860640"/>
            <a:ext cx="3600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omic Sans MS"/>
              </a:rPr>
              <a:t>воспита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Чайко Г.П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Редикульцева С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. Сург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201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D:\Важные документы\Материал  II младшей группы\Фото\Фото распечатать\10\DSC03297.JPG"/>
          <p:cNvPicPr/>
          <p:nvPr/>
        </p:nvPicPr>
        <p:blipFill>
          <a:blip r:embed="rId3"/>
          <a:stretch/>
        </p:blipFill>
        <p:spPr>
          <a:xfrm>
            <a:off x="2556000" y="3645000"/>
            <a:ext cx="31683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Я\Desktop\789.png"/>
          <p:cNvPicPr/>
          <p:nvPr/>
        </p:nvPicPr>
        <p:blipFill>
          <a:blip r:embed="rId2"/>
          <a:stretch/>
        </p:blipFill>
        <p:spPr>
          <a:xfrm>
            <a:off x="468360" y="404640"/>
            <a:ext cx="7380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Я\Desktop\22222.png"/>
          <p:cNvPicPr/>
          <p:nvPr/>
        </p:nvPicPr>
        <p:blipFill>
          <a:blip r:embed="rId2"/>
          <a:stretch/>
        </p:blipFill>
        <p:spPr>
          <a:xfrm>
            <a:off x="324000" y="836640"/>
            <a:ext cx="74167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DSC05895.JPG"/>
          <p:cNvPicPr/>
          <p:nvPr/>
        </p:nvPicPr>
        <p:blipFill>
          <a:blip r:embed="rId2"/>
          <a:stretch/>
        </p:blipFill>
        <p:spPr>
          <a:xfrm>
            <a:off x="684360" y="333360"/>
            <a:ext cx="5651280" cy="4238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2124000" y="5229360"/>
            <a:ext cx="4680000" cy="10688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начала вода – потом 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DSC05993.JPG"/>
          <p:cNvPicPr/>
          <p:nvPr/>
        </p:nvPicPr>
        <p:blipFill>
          <a:blip r:embed="rId2"/>
          <a:stretch/>
        </p:blipFill>
        <p:spPr>
          <a:xfrm>
            <a:off x="1476360" y="260280"/>
            <a:ext cx="3705120" cy="4942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5219640" y="1628640"/>
            <a:ext cx="2808360" cy="28371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Чтобы чистым всем ход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адо воду нам люб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7596000" cy="41133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324000" y="476280"/>
            <a:ext cx="7705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_BentTitulBrk"/>
              </a:rPr>
              <a:t>СПАСИБО ЗА ВНИМАНИ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539640" y="1413000"/>
            <a:ext cx="7632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Тип проекта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: </a:t>
            </a: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краткоср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Вид проекта: </a:t>
            </a: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познавательно – исследовате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Длительность: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2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Участники проекта: </a:t>
            </a: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дети, родители, воспит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Проблема: </a:t>
            </a: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Осознание  детьми значения воды в жизни людей, животных и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Причина: </a:t>
            </a: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дети плохо знают значение воды в жизни живых су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539640" y="404640"/>
            <a:ext cx="7488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Цель проекта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: </a:t>
            </a: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познакомить младших дошкольников со значением воды в жизни живых          существ и человека.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Актуальность проект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Мир вокруг нас удивителен и разнообразен. Ежедневно дети получают новые представления о живой и неживой природе, их взаимосвязях. Задача взрослых – расширять кругозор детей, развивать их познавательную активность. Но им еще нужно помогать в этом, так как дети не могут заметить во всем разнообразии самого главного, не могут найти точный ответ на заданный вопрос, не могут делать простейшие вы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50920" y="260280"/>
            <a:ext cx="7777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ы слыхали о в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Говорят она вез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луже, в море, в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И в водопроводном к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Как сосулька замир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лес туманом заполз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Ледником в горах зов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дом туманом к нам вполз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На плите у нас кип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Растворяет сахар в ч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Мы ее не замеч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Мы привыкли что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Наша спутница всег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Без нее нам не умы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Не наесться, не нап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мею Вам я долож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Без нее нам не пр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1476360" y="765000"/>
            <a:ext cx="6840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Задачи: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Развитие способностей детей в процессе совместной исследовательской деятельности, путём практических опытов с вод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. Формировать представления детей о значении воды в жизни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Воспитание бережного отношения к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Поддерживать стремления детей активно вступать в познавательное общение, высказывать своё м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611280" y="333360"/>
            <a:ext cx="820872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Как решать: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</a:rPr>
              <a:t>составить перспективный 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</a:rPr>
              <a:t>обсудить проблему с детьми и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</a:rPr>
              <a:t>определить задачи исходя из поставленной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Используемые методы и приё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Comic Sans MS"/>
              </a:rPr>
              <a:t>наблю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</a:rPr>
              <a:t>игры – экспери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</a:rPr>
              <a:t>познавательные беседы, чт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</a:rPr>
              <a:t>художественной литерат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</a:rPr>
              <a:t>просмотр виде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</a:rPr>
              <a:t>экскурсии по детскому с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Я\Desktop\1олд.png"/>
          <p:cNvPicPr/>
          <p:nvPr/>
        </p:nvPicPr>
        <p:blipFill>
          <a:blip r:embed="rId2"/>
          <a:stretch/>
        </p:blipFill>
        <p:spPr>
          <a:xfrm>
            <a:off x="395280" y="692280"/>
            <a:ext cx="70563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Я\Desktop\123.png"/>
          <p:cNvPicPr/>
          <p:nvPr/>
        </p:nvPicPr>
        <p:blipFill>
          <a:blip r:embed="rId2"/>
          <a:stretch/>
        </p:blipFill>
        <p:spPr>
          <a:xfrm>
            <a:off x="395280" y="692280"/>
            <a:ext cx="7345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C:\Users\4483~1\AppData\Local\Temp\Rar$DI09.235\Фокина Л. П Шабл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Я\Desktop\456.png"/>
          <p:cNvPicPr/>
          <p:nvPr/>
        </p:nvPicPr>
        <p:blipFill>
          <a:blip r:embed="rId2"/>
          <a:stretch/>
        </p:blipFill>
        <p:spPr>
          <a:xfrm>
            <a:off x="250920" y="349200"/>
            <a:ext cx="748980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5:16:01Z</dcterms:created>
  <dc:creator>Я</dc:creator>
  <dc:description/>
  <dc:language>en-US</dc:language>
  <cp:lastModifiedBy>Я</cp:lastModifiedBy>
  <dcterms:modified xsi:type="dcterms:W3CDTF">2017-08-28T13:10:44Z</dcterms:modified>
  <cp:revision>32</cp:revision>
  <dc:subject/>
  <dc:title>Слайд 1</dc:title>
</cp:coreProperties>
</file>