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Img"/>
          </p:nvPr>
        </p:nvSpPr>
        <p:spPr>
          <a:xfrm>
            <a:off x="1142640" y="666360"/>
            <a:ext cx="4559400" cy="3443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79855-1CA3-4547-8BF6-3EB4499CEB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EFD48-5E3E-47FD-9AD0-8E1DA5904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6EC3E-245E-46BF-86C6-EC0870574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70EAA-9A25-4C13-834B-66B858F3B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36D45-3A6C-4148-B4D1-C64A90292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6B948-97BF-439E-A588-191C80DF3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41DE5-653A-4153-8481-9B4BBC61C6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91760-3F35-4EED-A961-42A36880C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C171F-3046-470D-B154-04BBA5956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3E1BE-95AC-4CE9-BAFF-29D65B7FB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C02F6-AAA1-45DA-BCA4-EB2E09D7A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D5357-8861-4E2E-8C03-C048D4BDB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C9352-0EAA-4A88-87D5-19705D290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C6C57-093B-4505-B331-F66E9493D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BFF4A-1529-4BF4-9DC0-C081C954C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83D61-FBD3-4874-8CE6-9D76954C9B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D9C8E-A980-4425-84E8-E44D7C3343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D4B7-34D9-423F-A02F-BAC534C1C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9F5F-4475-49F0-8DB5-6D5E0977F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17CB-89F7-4F98-B986-6828453F9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532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34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532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34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B2BE-F130-4B37-9332-D887EE3BD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1E9F-8C78-42D9-9739-30B64E3781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FBECC-6304-4A21-A03E-993FE32622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EE1E-4BF8-491F-B26D-5F4725B1E8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EF74-9851-426D-92F0-ED9EBD224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ABE9-4351-4601-A6C6-3912A478C6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BF12-B2F8-40DE-AFE1-755CA39A1F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A0C5-13F4-471D-BE5A-56DCFDE29E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EBA8-DBEB-4904-83E3-4BE0AA418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BAE6-2F66-4534-9154-5C656BD7DA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64EB-B18B-4F08-A875-D1BC752CB3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ADAB-5814-4E2A-9B02-F3560A242D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D7C5-CE6D-49D2-BE58-88B6786407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532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34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68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532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34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08C2-6795-4727-AA67-21FAD7884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99C9-B196-4153-A9BE-8C03733CA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FA51-4FA3-4A54-BF7A-DD69901B5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371E-7D92-48F3-97A3-C236CE746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C7B0-1BB9-4BBA-BC68-25834DA0E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A885-4EEF-46A3-BBCA-B9A127288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014C-5D6D-4383-8371-8955E6263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9C84-0454-4223-913D-645422911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683BED-6EBE-4C0D-9019-8593A3DBE3F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1400" cy="533520"/>
            <a:chOff x="0" y="0"/>
            <a:chExt cx="9131400" cy="53352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7288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77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920" y="135000"/>
              <a:ext cx="8718480" cy="26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680" y="135000"/>
              <a:ext cx="125280" cy="12852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560" y="0"/>
              <a:ext cx="127080" cy="12528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560" y="135000"/>
              <a:ext cx="127080" cy="12852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680" y="274680"/>
              <a:ext cx="123840" cy="12528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760" y="136440"/>
              <a:ext cx="128520" cy="125640"/>
            </a:xfrm>
            <a:prstGeom prst="rect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680" y="271440"/>
              <a:ext cx="125280" cy="12528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680" y="409680"/>
              <a:ext cx="123840" cy="12384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31400" cy="533520"/>
            <a:chOff x="0" y="0"/>
            <a:chExt cx="9131400" cy="53352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27288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77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412920" y="135000"/>
              <a:ext cx="8718480" cy="26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09680" y="135000"/>
              <a:ext cx="125280" cy="12852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"/>
            <p:cNvSpPr/>
            <p:nvPr/>
          </p:nvSpPr>
          <p:spPr>
            <a:xfrm>
              <a:off x="547560" y="0"/>
              <a:ext cx="127080" cy="12528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6"/>
            <p:cNvSpPr/>
            <p:nvPr/>
          </p:nvSpPr>
          <p:spPr>
            <a:xfrm>
              <a:off x="547560" y="135000"/>
              <a:ext cx="127080" cy="12852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274680" y="274680"/>
              <a:ext cx="123840" cy="12528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8"/>
            <p:cNvSpPr/>
            <p:nvPr/>
          </p:nvSpPr>
          <p:spPr>
            <a:xfrm>
              <a:off x="131760" y="136440"/>
              <a:ext cx="128520" cy="125640"/>
            </a:xfrm>
            <a:prstGeom prst="rect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9"/>
            <p:cNvSpPr/>
            <p:nvPr/>
          </p:nvSpPr>
          <p:spPr>
            <a:xfrm>
              <a:off x="409680" y="271440"/>
              <a:ext cx="125280" cy="12528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274680" y="409680"/>
              <a:ext cx="123840" cy="12384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62" name="Rectangle 12"/>
            <p:cNvSpPr/>
            <p:nvPr/>
          </p:nvSpPr>
          <p:spPr>
            <a:xfrm>
              <a:off x="0" y="0"/>
              <a:ext cx="3492360" cy="68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77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716120" y="1690560"/>
              <a:ext cx="7415280" cy="2521080"/>
            </a:xfrm>
            <a:prstGeom prst="rect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" name="Group 14"/>
            <p:cNvGrpSpPr/>
            <p:nvPr/>
          </p:nvGrpSpPr>
          <p:grpSpPr>
            <a:xfrm>
              <a:off x="0" y="1066680"/>
              <a:ext cx="2854440" cy="3144960"/>
              <a:chOff x="0" y="1066680"/>
              <a:chExt cx="2854440" cy="3144960"/>
            </a:xfrm>
          </p:grpSpPr>
          <p:sp>
            <p:nvSpPr>
              <p:cNvPr id="65" name="Rectangle 15"/>
              <p:cNvSpPr/>
              <p:nvPr/>
            </p:nvSpPr>
            <p:spPr>
              <a:xfrm>
                <a:off x="573120" y="3583080"/>
                <a:ext cx="563400" cy="62856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16"/>
              <p:cNvSpPr/>
              <p:nvPr/>
            </p:nvSpPr>
            <p:spPr>
              <a:xfrm>
                <a:off x="1716120" y="1690560"/>
                <a:ext cx="561960" cy="63036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17"/>
              <p:cNvSpPr/>
              <p:nvPr/>
            </p:nvSpPr>
            <p:spPr>
              <a:xfrm>
                <a:off x="2281320" y="1066680"/>
                <a:ext cx="573120" cy="62244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18"/>
              <p:cNvSpPr/>
              <p:nvPr/>
            </p:nvSpPr>
            <p:spPr>
              <a:xfrm>
                <a:off x="1141560" y="3583080"/>
                <a:ext cx="571320" cy="628560"/>
              </a:xfrm>
              <a:prstGeom prst="rect">
                <a:avLst/>
              </a:prstGeom>
              <a:solidFill>
                <a:srgbClr val="d6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19"/>
              <p:cNvSpPr/>
              <p:nvPr/>
            </p:nvSpPr>
            <p:spPr>
              <a:xfrm>
                <a:off x="2281320" y="1690560"/>
                <a:ext cx="573120" cy="63036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20"/>
              <p:cNvSpPr/>
              <p:nvPr/>
            </p:nvSpPr>
            <p:spPr>
              <a:xfrm>
                <a:off x="1141560" y="2324160"/>
                <a:ext cx="571320" cy="62064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21"/>
              <p:cNvSpPr/>
              <p:nvPr/>
            </p:nvSpPr>
            <p:spPr>
              <a:xfrm>
                <a:off x="0" y="2324160"/>
                <a:ext cx="569880" cy="620640"/>
              </a:xfrm>
              <a:prstGeom prst="rect">
                <a:avLst/>
              </a:prstGeom>
              <a:solidFill>
                <a:srgbClr val="d6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22"/>
              <p:cNvSpPr/>
              <p:nvPr/>
            </p:nvSpPr>
            <p:spPr>
              <a:xfrm>
                <a:off x="1716120" y="2324160"/>
                <a:ext cx="561960" cy="62064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23"/>
              <p:cNvSpPr/>
              <p:nvPr/>
            </p:nvSpPr>
            <p:spPr>
              <a:xfrm>
                <a:off x="573120" y="2948040"/>
                <a:ext cx="563400" cy="63180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24"/>
              <p:cNvSpPr/>
              <p:nvPr/>
            </p:nvSpPr>
            <p:spPr>
              <a:xfrm>
                <a:off x="1141560" y="2948040"/>
                <a:ext cx="571320" cy="63180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91C83E-86F7-4572-8254-F410587806BA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коративно-прикладное искус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2"/>
          <p:cNvGrpSpPr/>
          <p:nvPr/>
        </p:nvGrpSpPr>
        <p:grpSpPr>
          <a:xfrm>
            <a:off x="1332000" y="2637000"/>
            <a:ext cx="6408720" cy="3875040"/>
            <a:chOff x="1332000" y="2637000"/>
            <a:chExt cx="6408720" cy="3875040"/>
          </a:xfrm>
        </p:grpSpPr>
        <p:pic>
          <p:nvPicPr>
            <p:cNvPr id="133" name="Picture 3" descr=""/>
            <p:cNvPicPr/>
            <p:nvPr/>
          </p:nvPicPr>
          <p:blipFill>
            <a:blip r:embed="rId1"/>
            <a:stretch/>
          </p:blipFill>
          <p:spPr>
            <a:xfrm>
              <a:off x="1332000" y="2637000"/>
              <a:ext cx="640872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1332000" y="2637000"/>
              <a:ext cx="6408720" cy="38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gradFill rotWithShape="0">
            <a:gsLst>
              <a:gs pos="0">
                <a:srgbClr val="ffc500"/>
              </a:gs>
              <a:gs pos="100000">
                <a:srgbClr val="d89300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ршая  группа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Городец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2"/>
          <p:cNvGrpSpPr/>
          <p:nvPr/>
        </p:nvGrpSpPr>
        <p:grpSpPr>
          <a:xfrm>
            <a:off x="2195640" y="1936800"/>
            <a:ext cx="4379760" cy="4829040"/>
            <a:chOff x="2195640" y="1936800"/>
            <a:chExt cx="4379760" cy="4829040"/>
          </a:xfrm>
        </p:grpSpPr>
        <p:pic>
          <p:nvPicPr>
            <p:cNvPr id="157" name="Picture 3" descr=""/>
            <p:cNvPicPr/>
            <p:nvPr/>
          </p:nvPicPr>
          <p:blipFill>
            <a:blip r:embed="rId1"/>
            <a:stretch/>
          </p:blipFill>
          <p:spPr>
            <a:xfrm>
              <a:off x="2195640" y="1936800"/>
              <a:ext cx="4379760" cy="48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4"/>
            <p:cNvSpPr/>
            <p:nvPr/>
          </p:nvSpPr>
          <p:spPr>
            <a:xfrm>
              <a:off x="2195640" y="1936800"/>
              <a:ext cx="4379760" cy="48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4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ffc500"/>
              </a:gs>
              <a:gs pos="100000">
                <a:srgbClr val="d89300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Роспись кухонной дос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611280" y="2058840"/>
            <a:ext cx="7993080" cy="4799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gradFill rotWithShape="0">
            <a:gsLst>
              <a:gs pos="0">
                <a:srgbClr val="00befc"/>
              </a:gs>
              <a:gs pos="100000">
                <a:srgbClr val="008dbb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готовительная групп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Гжел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2195640" y="1981080"/>
            <a:ext cx="4327560" cy="4675320"/>
            <a:chOff x="2195640" y="1981080"/>
            <a:chExt cx="4327560" cy="467532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tretch/>
          </p:blipFill>
          <p:spPr>
            <a:xfrm>
              <a:off x="2195640" y="1981080"/>
              <a:ext cx="432756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2195640" y="1981080"/>
              <a:ext cx="4327560" cy="46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00befc"/>
              </a:gs>
              <a:gs pos="100000">
                <a:srgbClr val="008dbb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Гжел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09708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3"/>
          <p:cNvGrpSpPr/>
          <p:nvPr/>
        </p:nvGrpSpPr>
        <p:grpSpPr>
          <a:xfrm>
            <a:off x="4788000" y="4508640"/>
            <a:ext cx="3127320" cy="2003400"/>
            <a:chOff x="4788000" y="4508640"/>
            <a:chExt cx="3127320" cy="2003400"/>
          </a:xfrm>
        </p:grpSpPr>
        <p:pic>
          <p:nvPicPr>
            <p:cNvPr id="168" name="Picture 4" descr=""/>
            <p:cNvPicPr/>
            <p:nvPr/>
          </p:nvPicPr>
          <p:blipFill>
            <a:blip r:embed="rId2"/>
            <a:stretch/>
          </p:blipFill>
          <p:spPr>
            <a:xfrm>
              <a:off x="4788000" y="4508640"/>
              <a:ext cx="312732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5"/>
            <p:cNvSpPr/>
            <p:nvPr/>
          </p:nvSpPr>
          <p:spPr>
            <a:xfrm>
              <a:off x="4788000" y="4508640"/>
              <a:ext cx="3127320" cy="20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Picture 6" descr=""/>
          <p:cNvPicPr/>
          <p:nvPr/>
        </p:nvPicPr>
        <p:blipFill>
          <a:blip r:embed="rId3"/>
          <a:stretch/>
        </p:blipFill>
        <p:spPr>
          <a:xfrm>
            <a:off x="826920" y="2060640"/>
            <a:ext cx="2953080" cy="208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288144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00befc"/>
              </a:gs>
              <a:gs pos="100000">
                <a:srgbClr val="008dbb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Гжел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880000" cy="20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900000" y="4508640"/>
            <a:ext cx="288000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4"/>
          <p:cNvGrpSpPr/>
          <p:nvPr/>
        </p:nvGrpSpPr>
        <p:grpSpPr>
          <a:xfrm>
            <a:off x="4859280" y="2133720"/>
            <a:ext cx="3084480" cy="2003400"/>
            <a:chOff x="4859280" y="2133720"/>
            <a:chExt cx="3084480" cy="2003400"/>
          </a:xfrm>
        </p:grpSpPr>
        <p:pic>
          <p:nvPicPr>
            <p:cNvPr id="176" name="Picture 5" descr=""/>
            <p:cNvPicPr/>
            <p:nvPr/>
          </p:nvPicPr>
          <p:blipFill>
            <a:blip r:embed="rId3"/>
            <a:stretch/>
          </p:blipFill>
          <p:spPr>
            <a:xfrm>
              <a:off x="4859280" y="2133720"/>
              <a:ext cx="308448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6"/>
            <p:cNvSpPr/>
            <p:nvPr/>
          </p:nvSpPr>
          <p:spPr>
            <a:xfrm>
              <a:off x="4859280" y="2133720"/>
              <a:ext cx="3084480" cy="20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8" name="Picture 7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2952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gradFill rotWithShape="0">
            <a:gsLst>
              <a:gs pos="0">
                <a:srgbClr val="00befc"/>
              </a:gs>
              <a:gs pos="100000">
                <a:srgbClr val="008dbb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формление групповой комна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59080" cy="2481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095640" cy="252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755640" y="4653000"/>
            <a:ext cx="3384720" cy="201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4"/>
          <a:stretch/>
        </p:blipFill>
        <p:spPr>
          <a:xfrm>
            <a:off x="4932360" y="4653000"/>
            <a:ext cx="3186000" cy="200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00befc"/>
              </a:gs>
              <a:gs pos="100000">
                <a:srgbClr val="008dbb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Роспись кухонной дос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ект: «Музей народного творчеств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gradFill rotWithShape="0">
            <a:gsLst>
              <a:gs pos="0">
                <a:srgbClr val="ecffe1"/>
              </a:gs>
              <a:gs pos="100000">
                <a:srgbClr val="bcff95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spcBef>
                <a:spcPts val="700"/>
              </a:spcBef>
              <a:buClr>
                <a:srgbClr val="d6ecff"/>
              </a:buClr>
              <a:buFont typeface="Wingdings" charset="2"/>
              <a:buChar char="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проек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вательно-творческий; по составу участников детско-взрослый, меж-группо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проекта: долгосроч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: необходимость устройства в группах мини-музея народного творчества, подборка необходимого матери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539640" y="457200"/>
            <a:ext cx="8147160" cy="5419800"/>
          </a:xfrm>
          <a:prstGeom prst="rect">
            <a:avLst/>
          </a:prstGeom>
          <a:gradFill rotWithShape="0">
            <a:gsLst>
              <a:gs pos="0">
                <a:srgbClr val="ecffe1"/>
              </a:gs>
              <a:gs pos="100000">
                <a:srgbClr val="bcff95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ормирование у детей познавательного интереса к русской народной культуре через ознакомление с народными промыслами русского народа и организацию художественно-продуктивной и творческой деятельности, обогащение предметно-развивающей среды.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грация образовательных облас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ественное творчеств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68360" y="457200"/>
            <a:ext cx="8218440" cy="6597720"/>
          </a:xfrm>
          <a:prstGeom prst="rect">
            <a:avLst/>
          </a:prstGeom>
          <a:gradFill rotWithShape="0">
            <a:gsLst>
              <a:gs pos="0">
                <a:srgbClr val="ecffe1"/>
              </a:gs>
              <a:gs pos="100000">
                <a:srgbClr val="bcff95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spcBef>
                <a:spcPts val="799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навыки художественного творчества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детей с народными промысл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индивидуальные эмоциональные представления во всех видах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ть нравственное и эстетическое развитие личности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мение видеть красоту изделий прикладного творчества, формировать эстетический вку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овать развитию речи: обогащать и активизировать словарь, повышать его выразительность развивать навыки речевого общения в совмест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едполагаемый результа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95280" y="1981080"/>
            <a:ext cx="8291520" cy="4111920"/>
          </a:xfrm>
          <a:prstGeom prst="rect">
            <a:avLst/>
          </a:prstGeom>
          <a:gradFill rotWithShape="0">
            <a:gsLst>
              <a:gs pos="0">
                <a:srgbClr val="ecffe1"/>
              </a:gs>
              <a:gs pos="100000">
                <a:srgbClr val="bcff95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spcBef>
                <a:spcPts val="700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мини-музея позволит сделать слово «музей» привычным и привлекательным для детей, приобщить маленького ребенка к миру общечеловеческих ценностей; расширить познавательный интерес и эмоциональное восприят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гатит предметно-развивающую среду ДО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спекти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gradFill rotWithShape="0">
            <a:gsLst>
              <a:gs pos="0">
                <a:srgbClr val="ecffe1"/>
              </a:gs>
              <a:gs pos="100000">
                <a:srgbClr val="bcff95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spcBef>
                <a:spcPts val="799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олнять план содержания экскурсий в мини-музе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ать оснащение мини-музе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семина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solidFill>
            <a:srgbClr val="00addc"/>
          </a:solidFill>
          <a:ln w="2556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 младшая групп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ымковская игруш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2340000" y="2349360"/>
            <a:ext cx="4032360" cy="4091040"/>
            <a:chOff x="2340000" y="2349360"/>
            <a:chExt cx="4032360" cy="4091040"/>
          </a:xfrm>
        </p:grpSpPr>
        <p:pic>
          <p:nvPicPr>
            <p:cNvPr id="145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2349360"/>
              <a:ext cx="4032360" cy="40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"/>
            <p:cNvSpPr/>
            <p:nvPr/>
          </p:nvSpPr>
          <p:spPr>
            <a:xfrm>
              <a:off x="2340000" y="2349360"/>
              <a:ext cx="4032360" cy="40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gradFill rotWithShape="0">
            <a:gsLst>
              <a:gs pos="0">
                <a:srgbClr val="ffc500"/>
              </a:gs>
              <a:gs pos="100000">
                <a:srgbClr val="d89300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редняя группа № 1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Полхов - Майдан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2195640" y="2276640"/>
            <a:ext cx="3960720" cy="4235400"/>
            <a:chOff x="2195640" y="2276640"/>
            <a:chExt cx="3960720" cy="4235400"/>
          </a:xfrm>
        </p:grpSpPr>
        <p:pic>
          <p:nvPicPr>
            <p:cNvPr id="149" name="Picture 3" descr=""/>
            <p:cNvPicPr/>
            <p:nvPr/>
          </p:nvPicPr>
          <p:blipFill>
            <a:blip r:embed="rId1"/>
            <a:stretch/>
          </p:blipFill>
          <p:spPr>
            <a:xfrm>
              <a:off x="2195640" y="2276640"/>
              <a:ext cx="3960720" cy="42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4"/>
            <p:cNvSpPr/>
            <p:nvPr/>
          </p:nvSpPr>
          <p:spPr>
            <a:xfrm>
              <a:off x="2195640" y="2276640"/>
              <a:ext cx="3960720" cy="42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gradFill rotWithShape="0">
            <a:gsLst>
              <a:gs pos="0">
                <a:srgbClr val="ffc500"/>
              </a:gs>
              <a:gs pos="100000">
                <a:srgbClr val="d89300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редняя группа № 2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Золотая хохлом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1042920" y="1916280"/>
            <a:ext cx="7318440" cy="4670280"/>
            <a:chOff x="1042920" y="1916280"/>
            <a:chExt cx="7318440" cy="467028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1042920" y="1916280"/>
              <a:ext cx="7318440" cy="46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4"/>
            <p:cNvSpPr/>
            <p:nvPr/>
          </p:nvSpPr>
          <p:spPr>
            <a:xfrm>
              <a:off x="1042920" y="1916280"/>
              <a:ext cx="7318440" cy="46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17:54:50Z</dcterms:created>
  <dc:creator>Владимир</dc:creator>
  <dc:description/>
  <dc:language>en-US</dc:language>
  <cp:lastModifiedBy>Николай</cp:lastModifiedBy>
  <dcterms:modified xsi:type="dcterms:W3CDTF">2017-08-28T18:51:47Z</dcterms:modified>
  <cp:revision>109</cp:revision>
  <dc:subject/>
  <dc:title>Семья Корольковых</dc:title>
</cp:coreProperties>
</file>