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1142640" y="666360"/>
            <a:ext cx="455940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388DA-6282-49F1-9727-99A26E13D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659AC-0DCE-4937-A6D0-C1A5655F1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3FF7E-755F-44D5-BB12-879835337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D9039-6E0A-4DB3-8111-3096BE02F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19AAD-E48E-4524-AC9B-E264CA4C5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71EB6-70F3-4431-8F3C-B845284E9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DBD1-DC25-41B7-9E2F-5067FAF9F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9C83B-CFC4-4A3F-8C66-DBFC0B6EB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900D7-CB38-4EA5-BD76-E7128AE44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4FADD-10AF-4177-9A36-9CC65C9B2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3B3C9-83F6-4C4C-B8BB-2413359AA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7BD1-1B9C-418A-B07C-242B9C0D9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78BAD-6CBA-4A27-94A2-678DE3A18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CAC69-70BE-4345-9505-97D503BFA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424E-5288-4358-8EC6-653C56B0D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EFE84-D43D-4D41-9E49-6F3852A68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FC012-B327-4BE6-896A-2878AC508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5F96-383E-4296-A485-7B35690FF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46A9-6034-4DC9-A2F7-6C68F3890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8FC5-66E6-4534-9ECC-331FCCF5F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532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34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532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34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0BFE-54C1-49B0-93DA-93C715728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4FDF-6486-4D9C-82C9-D48E08D6AA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735F-C755-49FA-8AE1-ABB89EFD8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6D67-7351-4C96-9384-2E75A0C78D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CF99-2049-4489-BD10-8D55B3DF5F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D9DA-925B-4289-B14C-098C86FA88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FC62-9B86-4E43-8545-32C9ECBDC3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7E1E-9D4B-414B-80AC-3C19727A5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A06A-0BC5-4386-B179-28A0B9510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51CF-996C-4937-A9AF-253E8CC78D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98D3-8B08-4618-B67C-2B4EEF215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1B17-8D40-4D1F-AE1B-0D116FE16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F9B4-81A0-4D07-9026-2AA25879F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532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34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532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34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E259-868F-4D2D-97E0-93A8528DB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D432-0C0A-40F8-9F08-A93487779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26F1-B446-442F-BE1E-035FDCC9E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2CC3-40D7-44D3-AFF1-FB88BD055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9BCF-0AAC-45DE-BBA4-A698DBBDC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FD6C-EE1B-4BE7-BE35-E7BDABEAA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FAB4-901D-4E8A-9747-44042A38B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A2B1-1612-48E6-841B-EBA878949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2A325D-5AAB-416B-8019-6BBE63301D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1400" cy="533520"/>
            <a:chOff x="0" y="0"/>
            <a:chExt cx="9131400" cy="53352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7288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77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18480" cy="26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25280" cy="12852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2708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27080" cy="12852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2384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28520" cy="12564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25280" cy="12528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23840" cy="1238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31400" cy="533520"/>
            <a:chOff x="0" y="0"/>
            <a:chExt cx="9131400" cy="53352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27288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77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412920" y="135000"/>
              <a:ext cx="8718480" cy="26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09680" y="135000"/>
              <a:ext cx="125280" cy="12852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47560" y="0"/>
              <a:ext cx="12708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547560" y="135000"/>
              <a:ext cx="127080" cy="12852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274680" y="274680"/>
              <a:ext cx="123840" cy="125280"/>
            </a:xfrm>
            <a:prstGeom prst="rect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131760" y="136440"/>
              <a:ext cx="128520" cy="12564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>
              <a:off x="409680" y="271440"/>
              <a:ext cx="125280" cy="12528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74680" y="409680"/>
              <a:ext cx="123840" cy="1238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62" name="Rectangle 12"/>
            <p:cNvSpPr/>
            <p:nvPr/>
          </p:nvSpPr>
          <p:spPr>
            <a:xfrm>
              <a:off x="0" y="0"/>
              <a:ext cx="349236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77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716120" y="1690560"/>
              <a:ext cx="7415280" cy="2521080"/>
            </a:xfrm>
            <a:prstGeom prst="rect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" name="Group 14"/>
            <p:cNvGrpSpPr/>
            <p:nvPr/>
          </p:nvGrpSpPr>
          <p:grpSpPr>
            <a:xfrm>
              <a:off x="0" y="1066680"/>
              <a:ext cx="2854440" cy="3144960"/>
              <a:chOff x="0" y="1066680"/>
              <a:chExt cx="2854440" cy="314496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573120" y="3583080"/>
                <a:ext cx="563400" cy="62856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16"/>
              <p:cNvSpPr/>
              <p:nvPr/>
            </p:nvSpPr>
            <p:spPr>
              <a:xfrm>
                <a:off x="1716120" y="1690560"/>
                <a:ext cx="561960" cy="63036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17"/>
              <p:cNvSpPr/>
              <p:nvPr/>
            </p:nvSpPr>
            <p:spPr>
              <a:xfrm>
                <a:off x="2281320" y="1066680"/>
                <a:ext cx="573120" cy="62244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18"/>
              <p:cNvSpPr/>
              <p:nvPr/>
            </p:nvSpPr>
            <p:spPr>
              <a:xfrm>
                <a:off x="1141560" y="3583080"/>
                <a:ext cx="571320" cy="628560"/>
              </a:xfrm>
              <a:prstGeom prst="rect">
                <a:avLst/>
              </a:prstGeom>
              <a:solidFill>
                <a:srgbClr val="d6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2281320" y="1690560"/>
                <a:ext cx="573120" cy="63036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20"/>
              <p:cNvSpPr/>
              <p:nvPr/>
            </p:nvSpPr>
            <p:spPr>
              <a:xfrm>
                <a:off x="1141560" y="2324160"/>
                <a:ext cx="571320" cy="62064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21"/>
              <p:cNvSpPr/>
              <p:nvPr/>
            </p:nvSpPr>
            <p:spPr>
              <a:xfrm>
                <a:off x="0" y="2324160"/>
                <a:ext cx="569880" cy="620640"/>
              </a:xfrm>
              <a:prstGeom prst="rect">
                <a:avLst/>
              </a:prstGeom>
              <a:solidFill>
                <a:srgbClr val="d6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22"/>
              <p:cNvSpPr/>
              <p:nvPr/>
            </p:nvSpPr>
            <p:spPr>
              <a:xfrm>
                <a:off x="1716120" y="2324160"/>
                <a:ext cx="561960" cy="62064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23"/>
              <p:cNvSpPr/>
              <p:nvPr/>
            </p:nvSpPr>
            <p:spPr>
              <a:xfrm>
                <a:off x="573120" y="2948040"/>
                <a:ext cx="563400" cy="631800"/>
              </a:xfrm>
              <a:prstGeom prst="rect">
                <a:avLst/>
              </a:prstGeom>
              <a:solidFill>
                <a:srgbClr val="5f7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24"/>
              <p:cNvSpPr/>
              <p:nvPr/>
            </p:nvSpPr>
            <p:spPr>
              <a:xfrm>
                <a:off x="1141560" y="2948040"/>
                <a:ext cx="571320" cy="631800"/>
              </a:xfrm>
              <a:prstGeom prst="rect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230BC4-0FBE-4C7D-A3AC-4D66ED74F53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коративно-прикладное искус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1332000" y="2637000"/>
            <a:ext cx="6408720" cy="3875040"/>
            <a:chOff x="1332000" y="2637000"/>
            <a:chExt cx="6408720" cy="3875040"/>
          </a:xfrm>
        </p:grpSpPr>
        <p:pic>
          <p:nvPicPr>
            <p:cNvPr id="133" name="Picture 3" descr=""/>
            <p:cNvPicPr/>
            <p:nvPr/>
          </p:nvPicPr>
          <p:blipFill>
            <a:blip r:embed="rId1"/>
            <a:stretch/>
          </p:blipFill>
          <p:spPr>
            <a:xfrm>
              <a:off x="1332000" y="2637000"/>
              <a:ext cx="640872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1332000" y="2637000"/>
              <a:ext cx="6408720" cy="38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ршая  групп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ородец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2195640" y="1936800"/>
            <a:ext cx="4379760" cy="4829040"/>
            <a:chOff x="2195640" y="1936800"/>
            <a:chExt cx="4379760" cy="4829040"/>
          </a:xfrm>
        </p:grpSpPr>
        <p:pic>
          <p:nvPicPr>
            <p:cNvPr id="157" name="Picture 3" descr=""/>
            <p:cNvPicPr/>
            <p:nvPr/>
          </p:nvPicPr>
          <p:blipFill>
            <a:blip r:embed="rId1"/>
            <a:stretch/>
          </p:blipFill>
          <p:spPr>
            <a:xfrm>
              <a:off x="2195640" y="1936800"/>
              <a:ext cx="437976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"/>
            <p:cNvSpPr/>
            <p:nvPr/>
          </p:nvSpPr>
          <p:spPr>
            <a:xfrm>
              <a:off x="2195640" y="1936800"/>
              <a:ext cx="4379760" cy="48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Роспись кухонной дос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11280" y="2058840"/>
            <a:ext cx="7993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готовительная групп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жел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2195640" y="1981080"/>
            <a:ext cx="4327560" cy="4675320"/>
            <a:chOff x="2195640" y="1981080"/>
            <a:chExt cx="4327560" cy="467532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2195640" y="1981080"/>
              <a:ext cx="43275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2195640" y="1981080"/>
              <a:ext cx="4327560" cy="46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жел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0970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3"/>
          <p:cNvGrpSpPr/>
          <p:nvPr/>
        </p:nvGrpSpPr>
        <p:grpSpPr>
          <a:xfrm>
            <a:off x="4788000" y="4508640"/>
            <a:ext cx="3127320" cy="2003400"/>
            <a:chOff x="4788000" y="4508640"/>
            <a:chExt cx="3127320" cy="2003400"/>
          </a:xfrm>
        </p:grpSpPr>
        <p:pic>
          <p:nvPicPr>
            <p:cNvPr id="168" name="Picture 4" descr=""/>
            <p:cNvPicPr/>
            <p:nvPr/>
          </p:nvPicPr>
          <p:blipFill>
            <a:blip r:embed="rId2"/>
            <a:stretch/>
          </p:blipFill>
          <p:spPr>
            <a:xfrm>
              <a:off x="4788000" y="4508640"/>
              <a:ext cx="312732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5"/>
            <p:cNvSpPr/>
            <p:nvPr/>
          </p:nvSpPr>
          <p:spPr>
            <a:xfrm>
              <a:off x="4788000" y="4508640"/>
              <a:ext cx="3127320" cy="20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2953080" cy="208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288144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жел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880000" cy="20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28800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4859280" y="2133720"/>
            <a:ext cx="3084480" cy="2003400"/>
            <a:chOff x="4859280" y="2133720"/>
            <a:chExt cx="3084480" cy="2003400"/>
          </a:xfrm>
        </p:grpSpPr>
        <p:pic>
          <p:nvPicPr>
            <p:cNvPr id="176" name="Picture 5" descr=""/>
            <p:cNvPicPr/>
            <p:nvPr/>
          </p:nvPicPr>
          <p:blipFill>
            <a:blip r:embed="rId3"/>
            <a:stretch/>
          </p:blipFill>
          <p:spPr>
            <a:xfrm>
              <a:off x="4859280" y="2133720"/>
              <a:ext cx="308448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6"/>
            <p:cNvSpPr/>
            <p:nvPr/>
          </p:nvSpPr>
          <p:spPr>
            <a:xfrm>
              <a:off x="4859280" y="2133720"/>
              <a:ext cx="3084480" cy="20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8" name="Picture 7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2952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формление групповой комна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59080" cy="2481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095640" cy="25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3384720" cy="201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4"/>
          <a:stretch/>
        </p:blipFill>
        <p:spPr>
          <a:xfrm>
            <a:off x="4932360" y="4653000"/>
            <a:ext cx="318600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00befc"/>
              </a:gs>
              <a:gs pos="100000">
                <a:srgbClr val="008dbb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Роспись кухонной дос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ект: «Музей народного творчеств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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проек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о-творческий; по составу участников детско-взрослый, меж-групп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проекта: долгосро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: необходимость устройства в группах мини-музея народного творчества, подборка необходимого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39640" y="457200"/>
            <a:ext cx="8147160" cy="541980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ирование у детей познавательного интереса к русской народной культуре через ознакомление с народными промыслами русского народа и организацию художественно-продуктивной и творческой деятельности, обогащение предметно-развивающей среды.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ция образовательных обла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68360" y="457200"/>
            <a:ext cx="8218440" cy="659772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навыки художественного творчества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народными промыс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индивидуальные эмоциональные представления во всех видах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нравственное и эстетическое развитие личности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видеть красоту изделий прикладного творчества, формировать эстетический вк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овать развитию речи: обогащать и активизировать словарь, повышать его выразительность развивать навыки речевого общения в совмест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едполагаемый результ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95280" y="1981080"/>
            <a:ext cx="8291520" cy="411192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мини-музея позволит сделать слово «музей» привычным и привлекательным для детей, приобщить маленького ребенка к миру общечеловеческих ценностей; расширить познавательный интерес и эмоциональное восприят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гатит предметно-развивающую среду ДО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gradFill rotWithShape="0">
            <a:gsLst>
              <a:gs pos="0">
                <a:srgbClr val="ecffe1"/>
              </a:gs>
              <a:gs pos="100000">
                <a:srgbClr val="bcff95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олнять план содержания экскурсий в мини-музе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ать оснащение мини-музе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d6ecff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семин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младшая групп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ымковская игруш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2340000" y="2349360"/>
            <a:ext cx="4032360" cy="4091040"/>
            <a:chOff x="2340000" y="2349360"/>
            <a:chExt cx="4032360" cy="409104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2349360"/>
              <a:ext cx="4032360" cy="40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2340000" y="2349360"/>
              <a:ext cx="4032360" cy="40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редняя группа № 1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олхов - Майда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2195640" y="2276640"/>
            <a:ext cx="3960720" cy="4235400"/>
            <a:chOff x="2195640" y="2276640"/>
            <a:chExt cx="3960720" cy="4235400"/>
          </a:xfrm>
        </p:grpSpPr>
        <p:pic>
          <p:nvPicPr>
            <p:cNvPr id="149" name="Picture 3" descr=""/>
            <p:cNvPicPr/>
            <p:nvPr/>
          </p:nvPicPr>
          <p:blipFill>
            <a:blip r:embed="rId1"/>
            <a:stretch/>
          </p:blipFill>
          <p:spPr>
            <a:xfrm>
              <a:off x="2195640" y="2276640"/>
              <a:ext cx="3960720" cy="42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2195640" y="2276640"/>
              <a:ext cx="396072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426960"/>
            <a:ext cx="8229600" cy="1432080"/>
          </a:xfrm>
          <a:prstGeom prst="rect">
            <a:avLst/>
          </a:prstGeom>
          <a:gradFill rotWithShape="0">
            <a:gsLst>
              <a:gs pos="0">
                <a:srgbClr val="ffc500"/>
              </a:gs>
              <a:gs pos="100000">
                <a:srgbClr val="d89300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75596" dir="106468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редняя группа № 2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Золотая хохлом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042920" y="1916280"/>
            <a:ext cx="7318440" cy="4670280"/>
            <a:chOff x="1042920" y="1916280"/>
            <a:chExt cx="7318440" cy="467028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042920" y="1916280"/>
              <a:ext cx="7318440" cy="46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"/>
            <p:cNvSpPr/>
            <p:nvPr/>
          </p:nvSpPr>
          <p:spPr>
            <a:xfrm>
              <a:off x="1042920" y="1916280"/>
              <a:ext cx="7318440" cy="46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7:54:50Z</dcterms:created>
  <dc:creator>Владимир</dc:creator>
  <dc:description/>
  <dc:language>en-US</dc:language>
  <cp:lastModifiedBy>Николай</cp:lastModifiedBy>
  <dcterms:modified xsi:type="dcterms:W3CDTF">2017-08-28T18:51:47Z</dcterms:modified>
  <cp:revision>109</cp:revision>
  <dc:subject/>
  <dc:title>Семья Корольковых</dc:title>
</cp:coreProperties>
</file>