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3.wmf" ContentType="image/x-wmf"/>
  <Override PartName="/ppt/media/image29.png" ContentType="image/png"/>
  <Override PartName="/ppt/media/image3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0BA-C6A2-426C-8738-1A613DB5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D54-A14F-4B8C-AB24-880CEEF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38D-F04E-4F88-91F8-A2372944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A97-0706-427A-AF0D-2D4555EA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6B75-30C7-4FF7-9E4B-AA9157BA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5FFC-BEDC-4381-AE65-AAEF8C88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2238-7B95-4DE8-AB97-907A9C51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8001-D7D8-42B6-9C64-537C6CF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B9EF-44C5-47C9-9D64-9DAE9B2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DB0F-27EE-41B3-8BF1-FF39E24E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8FA6-4500-408B-A94E-AC92AFD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DFF-4ED9-40FF-9A68-4D2E835F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9AF-ADD4-4572-A798-EF8404F7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1A5-213B-4615-97CA-CB14B01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31BD-01B8-43CC-B883-E1131C41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2323-072F-4D70-898F-E5EE644D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150B-E04C-40BE-B2FD-D4DB8E0E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52D-E446-46B9-B1D8-E0FFCF8F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02A-1924-4699-A9FF-A4E4874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2CC-47FD-431B-AF6E-99E0A27A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2CA-E279-4433-889F-36C68096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546-F357-466F-8488-188C626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D6A-7B1F-48A5-8E3C-7288692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556-EDE8-402F-867F-3E19FC9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DD7-4B04-452E-A102-50A305C98B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9EC6-D089-497E-8103-D3DAA9188F6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349000"/>
            <a:ext cx="7696080" cy="107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Системы счислени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имская система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До нас дошла римская система записи чисел, которая в некоторых случаях применяется в нумерации (века, тома в собрании сочинений и др.). В римской системе в качестве цифр используются латинские букв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      C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Эта система непозиционна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В ней цифры записываются слева направ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35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имская система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2920" y="1844640"/>
            <a:ext cx="385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Если знак, изображающий меньшее число, стоит после знака, изображающего большее число, то производится сло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5+1=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0+5=15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00+5+5=155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CC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000+100+100+5=12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000320" y="2357280"/>
            <a:ext cx="47862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  </a:t>
            </a: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Если знак, изображающий меньшее число, стоит перед знаком, изображающим большее число, то производится вычит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5-1=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10-1=9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50-10=4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00-10=90,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DXX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000+ (500-100)+ 10+10+ (10-1)=142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Происхождение позиционных систем счисления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84360" y="1844640"/>
            <a:ext cx="195408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834920" y="1844640"/>
            <a:ext cx="7057800" cy="42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вилоняне писали палочками на глиняных пластинках. Все числа они записывали при помощи двух зна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значавшего единицу и горизонтального клина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чавшего 10. Первые девять чисел натурального ряда у них записывались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ла второго десятка записывали в таком ви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3b61d"/>
          </a:solidFill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Около 1700 г. до н.э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356000" y="620640"/>
            <a:ext cx="4248360" cy="1008720"/>
          </a:xfrm>
          <a:prstGeom prst="rect">
            <a:avLst/>
          </a:prstGeom>
          <a:solidFill>
            <a:srgbClr val="f3b61d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иняные таблички, найденные в Месопатамии с культурным  центром  -    г.Вавил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2" descr="img076"/>
          <p:cNvPicPr/>
          <p:nvPr/>
        </p:nvPicPr>
        <p:blipFill>
          <a:blip r:embed="rId1"/>
          <a:stretch/>
        </p:blipFill>
        <p:spPr>
          <a:xfrm>
            <a:off x="324000" y="3573360"/>
            <a:ext cx="1368360" cy="25146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img077"/>
          <p:cNvPicPr/>
          <p:nvPr/>
        </p:nvPicPr>
        <p:blipFill>
          <a:blip r:embed="rId2"/>
          <a:stretch/>
        </p:blipFill>
        <p:spPr>
          <a:xfrm>
            <a:off x="2484360" y="3500280"/>
            <a:ext cx="587844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img078"/>
          <p:cNvPicPr/>
          <p:nvPr/>
        </p:nvPicPr>
        <p:blipFill>
          <a:blip r:embed="rId3"/>
          <a:stretch/>
        </p:blipFill>
        <p:spPr>
          <a:xfrm>
            <a:off x="2556000" y="5300640"/>
            <a:ext cx="587376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4"/>
          <a:stretch/>
        </p:blipFill>
        <p:spPr>
          <a:xfrm>
            <a:off x="3132000" y="285264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ацтеков и майя, населявших американский континент и создавших там высокую культуру, почти полностью уничтоженную    испанскими завоевателями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 - 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, была принята     двадцатеричная система счис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 же система была принята у кельтов, населявших Западную Европу, начиная с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ысячелетия до нашей э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1228680" y="1828800"/>
          <a:ext cx="2494080" cy="43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1828800"/>
                    <a:ext cx="249408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Система счисления ацтеков и май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999880" y="2142720"/>
            <a:ext cx="600084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система пришла к нам из Индии, где зародилась около V в н.э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есятичной системе счисления используется всего десять цифр – 0,1,2,3,4,5,6,7,8,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е каждой цифры в позиционной системе счисления определяется не только ею самой, но также и местом (позицией), которое она занимает в записи чис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4" descr="img076"/>
          <p:cNvPicPr/>
          <p:nvPr/>
        </p:nvPicPr>
        <p:blipFill>
          <a:blip r:embed="rId1"/>
          <a:stretch/>
        </p:blipFill>
        <p:spPr>
          <a:xfrm>
            <a:off x="357120" y="2143080"/>
            <a:ext cx="2214720" cy="39290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6"/>
          <p:cNvSpPr/>
          <p:nvPr/>
        </p:nvSpPr>
        <p:spPr>
          <a:xfrm>
            <a:off x="468360" y="620640"/>
            <a:ext cx="8136000" cy="825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есятичн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2"/>
          <a:srcRect l="17695" t="53765" r="35806" b="38656"/>
          <a:stretch/>
        </p:blipFill>
        <p:spPr>
          <a:xfrm>
            <a:off x="3276720" y="5019840"/>
            <a:ext cx="5543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озиционные системы счисления</a:t>
            </a:r>
            <a:br>
              <a:rPr sz="20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3296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зиционных системах значение применяемых символов (цифр) зависит от места, которое он занимает в записи числа. При этом сдвиг цифры на одно место влево влечет увеличение ее числового знач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, 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которое натуральное число, больше единицы. Чис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называют основанием системы счис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стематической записью натурального числ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по основани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называют представление этого числа в виде сум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71760" y="4214880"/>
            <a:ext cx="5643360" cy="428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857160" y="5000760"/>
            <a:ext cx="221472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3143160" y="50014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, принимающие значения от 0, 1, …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500040" y="56437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gt;10 также используют необходимые цифры десятичной системы,  а числа от десяти д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1 обычно записывают в виде соответствующих чисел, заключенных в круглые скобки: (10), (11), …,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1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озиционные системы счисл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счисления - это совокупность правил для обозначения и наименования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ы счисления делятся на позиционные и непозиционны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и, используемые при записи чисел, называются циф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8480" y="272520"/>
            <a:ext cx="73580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Арифметические действия  над                    систематическими числам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500800" y="2642760"/>
            <a:ext cx="36432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выполнения действий пользуются составленными таблицами  сложения и умно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4200" y="5143320"/>
            <a:ext cx="485784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таблицы сложения и умножения чисел в                                                                         пятеричной систем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Рисунок 4" descr="C:\Documents and Settings\дайте поиграть\Local Settings\Temporary Internet Files\Content.Word\img079.bmp"/>
          <p:cNvPicPr/>
          <p:nvPr/>
        </p:nvPicPr>
        <p:blipFill>
          <a:blip r:embed="rId1"/>
          <a:stretch/>
        </p:blipFill>
        <p:spPr>
          <a:xfrm>
            <a:off x="214200" y="2643120"/>
            <a:ext cx="4929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евод целых чисел из одной позиционной системы в другу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56800" y="5285880"/>
            <a:ext cx="7572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84240" indent="-84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десятичную запись чис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7858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да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чная запись чис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ти десятичную запись этого же чис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шения этой  задачи достаточно подставить в запис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о                           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есятичные записи этих чисел и выполнить действи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есятичные записи этих чисел и выполнить действ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ти десятичную запись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500040" y="2428920"/>
            <a:ext cx="4429080" cy="357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00040" y="3500280"/>
            <a:ext cx="4786200" cy="285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1214280" y="4071960"/>
            <a:ext cx="1417680" cy="280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1285920" y="5786280"/>
            <a:ext cx="56944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828800"/>
            <a:ext cx="79725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В. Лейбинц говорил: «Кто хочет ограничиться настоящим, без знания прошлого, тот никогда его не поймет…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4" descr="W:\Разная хренотень\Маришкина бяка\системы.jpeg"/>
          <p:cNvPicPr/>
          <p:nvPr/>
        </p:nvPicPr>
        <p:blipFill>
          <a:blip r:embed="rId1"/>
          <a:stretch/>
        </p:blipFill>
        <p:spPr>
          <a:xfrm>
            <a:off x="214200" y="5143680"/>
            <a:ext cx="16131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евод целых чисел из одной позиционной системы в другу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rcRect l="29967" t="50753" r="14037" b="15290"/>
          <a:stretch/>
        </p:blipFill>
        <p:spPr>
          <a:xfrm>
            <a:off x="611280" y="1989000"/>
            <a:ext cx="698508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0040" y="2285640"/>
            <a:ext cx="6858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58 перевести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м деление 58 на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Рисунок 5" descr="perevod"/>
          <p:cNvPicPr/>
          <p:nvPr/>
        </p:nvPicPr>
        <p:blipFill>
          <a:blip r:embed="rId1"/>
          <a:stretch/>
        </p:blipFill>
        <p:spPr>
          <a:xfrm>
            <a:off x="1835280" y="3141720"/>
            <a:ext cx="5668920" cy="2786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95280" y="6008760"/>
            <a:ext cx="6481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 58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111010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воичная система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фициальное рождение двоичной арифметики связанно с именем Г.В. Лейбница, опубликовавшего в 1703 г. статью, в которой он рассмотрел правила выполнения арифметических действий над двоичными числами.</a:t>
            </a:r>
            <a:br>
              <a:rPr sz="1800"/>
            </a:b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воичная система проста, так как для представления информации в ней используются всего два состояния или две цифр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едставление информации в двоичной системе использовалось человеком с давних време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Так, жители островов Полинезии передавали необходимую информацию при помощи барабанов: чередование звонких и глухих уда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leibniz"/>
          <p:cNvPicPr/>
          <p:nvPr/>
        </p:nvPicPr>
        <p:blipFill>
          <a:blip r:embed="rId1"/>
          <a:stretch/>
        </p:blipFill>
        <p:spPr>
          <a:xfrm>
            <a:off x="250920" y="1989000"/>
            <a:ext cx="1287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4"/>
          <p:cNvGraphicFramePr/>
          <p:nvPr/>
        </p:nvGraphicFramePr>
        <p:xfrm>
          <a:off x="611280" y="2349360"/>
          <a:ext cx="16002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16002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533160"/>
            <a:ext cx="784836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Единица </a:t>
            </a:r>
            <a:r>
              <a:rPr b="0" i="1" lang="en-US" sz="1800" spc="-1" strike="noStrike">
                <a:solidFill>
                  <a:srgbClr val="420000"/>
                </a:solidFill>
                <a:latin typeface="Times New Roman"/>
              </a:rPr>
              <a:t>– вздор. Единица </a:t>
            </a: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– ноль.”</a:t>
            </a:r>
            <a:br>
              <a:rPr sz="1800"/>
            </a:b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                                                        В. Маяковский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7093080" y="5013360"/>
            <a:ext cx="102852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2916360" y="1871640"/>
            <a:ext cx="46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лектронных машин  характерно наличие двух различных устойчивых состояний (есть ток- нет тока, намагничен – не намагниче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для изображения чисел в вычислительных машинах требуется такая система, в которой имеются лишь две различные цифры т.е.  двоичная система счис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Единица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ловно обозначает включенное состояни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“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уль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ыключенное состоя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чему люди пользуются десятичной системой, а компьютеры — двоичной?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- представление информации посредством только двух состояний надежно и помехоустойчив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- двоичная арифметика намного проще десятично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шение задач в различных системах счисления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«Необыкновенная девочка»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А.Н.Старик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4718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й было тысяча сто лет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в сто первый класс ходил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ртфеле по сто книг носил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это правда, а не б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, пыля десятком но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шагала по дорог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ней всегда бежал ще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одним хвостом, зато стоног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ловила каждый зву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ими десятью ушам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есять загорелых ру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тфель и поводок держа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есять темно-синих гла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и мир привыч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станет все сейчас обычны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 поймете мой расска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Рисунок 2" descr="img083"/>
          <p:cNvPicPr/>
          <p:nvPr/>
        </p:nvPicPr>
        <p:blipFill>
          <a:blip r:embed="rId1"/>
          <a:stretch/>
        </p:blipFill>
        <p:spPr>
          <a:xfrm>
            <a:off x="4714920" y="1785960"/>
            <a:ext cx="3619440" cy="3286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" descr="img083"/>
          <p:cNvPicPr/>
          <p:nvPr/>
        </p:nvPicPr>
        <p:blipFill>
          <a:blip r:embed="rId2"/>
          <a:stretch/>
        </p:blipFill>
        <p:spPr>
          <a:xfrm>
            <a:off x="3857760" y="5072040"/>
            <a:ext cx="219204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ш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rcRect l="15432" t="17682" r="13398" b="18036"/>
          <a:stretch/>
        </p:blipFill>
        <p:spPr>
          <a:xfrm>
            <a:off x="1403280" y="2133720"/>
            <a:ext cx="595332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828800"/>
            <a:ext cx="83628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й было 12 ле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в 5  класс ходил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ртфеле по четыре книги носи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это правда, а не бред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ловила каждый зву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ими двумя уш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ве загорелые ру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тфель  и поводок держал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, пыля двумя ног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шагала по дорог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ней всегда бежал щено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одним хвостом, зато четырехноги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вое темно-синих гла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и мир привычно 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станет все совсем обычны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 поймете наш расска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Загадочная автобиограф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24289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умагах одного математика была найдена странная автобиограф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Я окончил курс университета 44 лет отроду. Спустя год, 100- летним молодым человеком, я женился на 34-летней девушке. Незначительная разница в возрасте – всего 11 лет способствовала тому, что мы жили общими интересами и мечтами. Спустя немного времени у меня уже была маленькая семья из 10 детей. Жалованья я получал в месяц всего 200 руб., из которых 1/10 приходилось отдавать сестре, так, что мы жили на 130 руб. в месяц.»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уйте автобиограф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 Запись выполнена в пятеричной системе. Выполним перевод чисел в десятеричную систе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214200" y="54309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4 = 4 5+ 4 =24, аналогично 100 = 1 5 +0 5 +0= 25, 34 = 3 5+ 4 =19,  11= 1 5+1= =6,  200 = 2 5+ 0 5+ 0= 50,  10 = 5, 1/10 = 1/5, 130 = 1 5 + 3 5 + 0 = 4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   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ГЛАВА </a:t>
            </a: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I</a:t>
            </a:r>
            <a:br>
              <a:rPr sz="4000"/>
            </a:b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Н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ЕПОЗИЦИОННЫЕ СИСТЕМЫ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иметь дело с числами, необходимо прежде всего уметь называть и записывать и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наименования  и записи чисел принято считат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стемой счис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ка имеет следующее содержани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 окончил курс университета 24 лет отроду . Спустя год, 25- летним молодым человеком, я женился на 19-летней девушке. Незначительная разница в возрасте – всего 6 лет способствовала тому, что мы жили общими интересами и мечтами. Спустя немного времени у меня уже была маленькая семья из 5 детей. Жалованья я получал в месяц всего 50 руб., из которых 1/5 приходилось отдавать сестре, так , что мы жили на 40 руб. в месяц.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0726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Задач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0040" y="2642760"/>
            <a:ext cx="82152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школьный учитель на наш вопрос -много ли у него в классе учеников, ответил: «У меня в классе 100 детей, из них 24 мальчика и 32 девочк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чала его ответ нас удивил. Но потом мы поняли, что просто учитель пользовался не десятичной системой. Какую систему имел в виду учител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х- основание системы счисления о которой идет реч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гда слова учителя означают следующее: у н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0 х+0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чеников, из них 2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2х+4 мальчика и   3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3х +2 девочки. Таким образом, 2х+4+3х+2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300852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Решим уравнение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714400" cy="257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28760" y="2928960"/>
            <a:ext cx="1990440" cy="280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214200" y="3357720"/>
            <a:ext cx="1981440" cy="2854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857240" cy="281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1" descr=""/>
          <p:cNvPicPr/>
          <p:nvPr/>
        </p:nvPicPr>
        <p:blipFill>
          <a:blip r:embed="rId5"/>
          <a:stretch/>
        </p:blipFill>
        <p:spPr>
          <a:xfrm>
            <a:off x="428760" y="4170240"/>
            <a:ext cx="3214440" cy="325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3" descr=""/>
          <p:cNvPicPr/>
          <p:nvPr/>
        </p:nvPicPr>
        <p:blipFill>
          <a:blip r:embed="rId6"/>
          <a:stretch/>
        </p:blipFill>
        <p:spPr>
          <a:xfrm>
            <a:off x="428760" y="4581360"/>
            <a:ext cx="2143080" cy="279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5" descr=""/>
          <p:cNvPicPr/>
          <p:nvPr/>
        </p:nvPicPr>
        <p:blipFill>
          <a:blip r:embed="rId7"/>
          <a:stretch/>
        </p:blipFill>
        <p:spPr>
          <a:xfrm>
            <a:off x="500040" y="4929120"/>
            <a:ext cx="2822760" cy="281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2560" y="5000760"/>
            <a:ext cx="8358120" cy="24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6,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-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как -1 не может быть основанием системы счисления, то х=6. Итак, ответ учителя был дан в шестеричной системе; при этом было 1 36=36  учеников. Из них  2 6+4=16 мальчиков и  3 6+2=20 дево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1800" y="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1800" y="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35712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5х-6=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1"/>
              <p:cNvSpPr txBox="1"/>
              <p:nvPr/>
            </p:nvSpPr>
            <p:spPr>
              <a:xfrm>
                <a:off x="0" y="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362800" cy="784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Times New Roman"/>
              </a:rPr>
              <a:t>Египетская нумера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egipt2"/>
          <p:cNvPicPr/>
          <p:nvPr/>
        </p:nvPicPr>
        <p:blipFill>
          <a:blip r:embed="rId1"/>
          <a:stretch/>
        </p:blipFill>
        <p:spPr>
          <a:xfrm>
            <a:off x="6156360" y="4581360"/>
            <a:ext cx="2628720" cy="195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EGYPT_SG"/>
          <p:cNvPicPr/>
          <p:nvPr/>
        </p:nvPicPr>
        <p:blipFill>
          <a:blip r:embed="rId2"/>
          <a:stretch/>
        </p:blipFill>
        <p:spPr>
          <a:xfrm>
            <a:off x="324000" y="1773360"/>
            <a:ext cx="2576520" cy="1677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59280" y="1773360"/>
            <a:ext cx="57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гиптяне придумали свою систему счисления около 5 000 лет наз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 ней ключевые числа:1,10,100 и т.д.- изображались значками- иероглифами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042920" y="4797360"/>
            <a:ext cx="42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Это одна из древнейших систем записи чисел, известная челове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1" descr=""/>
          <p:cNvPicPr/>
          <p:nvPr/>
        </p:nvPicPr>
        <p:blipFill>
          <a:blip r:embed="rId1"/>
          <a:srcRect l="19296" t="16831" r="13387" b="19405"/>
          <a:stretch/>
        </p:blipFill>
        <p:spPr>
          <a:xfrm>
            <a:off x="539640" y="309600"/>
            <a:ext cx="7848720" cy="290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2" descr=""/>
          <p:cNvPicPr/>
          <p:nvPr/>
        </p:nvPicPr>
        <p:blipFill>
          <a:blip r:embed="rId2"/>
          <a:srcRect l="19274" t="20197" r="13398" b="15684"/>
          <a:stretch/>
        </p:blipFill>
        <p:spPr>
          <a:xfrm>
            <a:off x="571680" y="3213000"/>
            <a:ext cx="7887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81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357480" cy="997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2" descr=""/>
          <p:cNvPicPr/>
          <p:nvPr/>
        </p:nvPicPr>
        <p:blipFill>
          <a:blip r:embed="rId2"/>
          <a:stretch/>
        </p:blipFill>
        <p:spPr>
          <a:xfrm>
            <a:off x="2214720" y="2071800"/>
            <a:ext cx="54900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3" descr=""/>
          <p:cNvPicPr/>
          <p:nvPr/>
        </p:nvPicPr>
        <p:blipFill>
          <a:blip r:embed="rId3"/>
          <a:stretch/>
        </p:blipFill>
        <p:spPr>
          <a:xfrm>
            <a:off x="2786040" y="2071800"/>
            <a:ext cx="571680" cy="806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4" descr=""/>
          <p:cNvPicPr/>
          <p:nvPr/>
        </p:nvPicPr>
        <p:blipFill>
          <a:blip r:embed="rId4"/>
          <a:stretch/>
        </p:blipFill>
        <p:spPr>
          <a:xfrm>
            <a:off x="3286080" y="1857240"/>
            <a:ext cx="1143000" cy="1035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286160" y="2358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1205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13" descr=""/>
          <p:cNvPicPr/>
          <p:nvPr/>
        </p:nvPicPr>
        <p:blipFill>
          <a:blip r:embed="rId5"/>
          <a:stretch/>
        </p:blipFill>
        <p:spPr>
          <a:xfrm>
            <a:off x="1214280" y="3714840"/>
            <a:ext cx="857520" cy="1071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4" descr=""/>
          <p:cNvPicPr/>
          <p:nvPr/>
        </p:nvPicPr>
        <p:blipFill>
          <a:blip r:embed="rId6"/>
          <a:stretch/>
        </p:blipFill>
        <p:spPr>
          <a:xfrm>
            <a:off x="2214720" y="3857760"/>
            <a:ext cx="42840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"/>
          <p:cNvPicPr/>
          <p:nvPr/>
        </p:nvPicPr>
        <p:blipFill>
          <a:blip r:embed="rId7"/>
          <a:stretch/>
        </p:blipFill>
        <p:spPr>
          <a:xfrm>
            <a:off x="2571840" y="3857760"/>
            <a:ext cx="500040" cy="1001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6" descr=""/>
          <p:cNvPicPr/>
          <p:nvPr/>
        </p:nvPicPr>
        <p:blipFill>
          <a:blip r:embed="rId8"/>
          <a:stretch/>
        </p:blipFill>
        <p:spPr>
          <a:xfrm>
            <a:off x="3143160" y="3857760"/>
            <a:ext cx="357120" cy="930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7" descr=""/>
          <p:cNvPicPr/>
          <p:nvPr/>
        </p:nvPicPr>
        <p:blipFill>
          <a:blip r:embed="rId9"/>
          <a:stretch/>
        </p:blipFill>
        <p:spPr>
          <a:xfrm>
            <a:off x="3571920" y="3857760"/>
            <a:ext cx="357120" cy="930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8" descr=""/>
          <p:cNvPicPr/>
          <p:nvPr/>
        </p:nvPicPr>
        <p:blipFill>
          <a:blip r:embed="rId10"/>
          <a:stretch/>
        </p:blipFill>
        <p:spPr>
          <a:xfrm>
            <a:off x="4000680" y="3857760"/>
            <a:ext cx="357120" cy="912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9" descr=""/>
          <p:cNvPicPr/>
          <p:nvPr/>
        </p:nvPicPr>
        <p:blipFill>
          <a:blip r:embed="rId11"/>
          <a:stretch/>
        </p:blipFill>
        <p:spPr>
          <a:xfrm>
            <a:off x="4500720" y="3929040"/>
            <a:ext cx="642960" cy="998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0" descr=""/>
          <p:cNvPicPr/>
          <p:nvPr/>
        </p:nvPicPr>
        <p:blipFill>
          <a:blip r:embed="rId12"/>
          <a:stretch/>
        </p:blipFill>
        <p:spPr>
          <a:xfrm>
            <a:off x="5143680" y="3571920"/>
            <a:ext cx="1143000" cy="13222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1"/>
          <p:cNvSpPr/>
          <p:nvPr/>
        </p:nvSpPr>
        <p:spPr>
          <a:xfrm>
            <a:off x="6215040" y="3983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023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4360" y="1844640"/>
            <a:ext cx="81356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16000" y="69228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лфавитная нум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9640" y="3284640"/>
            <a:ext cx="81360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авянская нумера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Picture 4" descr="1"/>
          <p:cNvPicPr/>
          <p:nvPr/>
        </p:nvPicPr>
        <p:blipFill>
          <a:blip r:embed="rId1"/>
          <a:stretch/>
        </p:blipFill>
        <p:spPr>
          <a:xfrm>
            <a:off x="1042920" y="1824120"/>
            <a:ext cx="6551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048360" cy="172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42960" y="4357800"/>
            <a:ext cx="8209080" cy="93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29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332000" y="33757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 это числ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7:11:16Z</dcterms:created>
  <dc:creator>Sveta</dc:creator>
  <dc:description/>
  <dc:language>en-US</dc:language>
  <cp:lastModifiedBy>1</cp:lastModifiedBy>
  <dcterms:modified xsi:type="dcterms:W3CDTF">2017-08-28T10:20:35Z</dcterms:modified>
  <cp:revision>34</cp:revision>
  <dc:subject/>
  <dc:title>Слайд 1</dc:title>
</cp:coreProperties>
</file>