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3.wmf" ContentType="image/x-wmf"/>
  <Override PartName="/ppt/media/image29.png" ContentType="image/png"/>
  <Override PartName="/ppt/media/image3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applause.wav" ContentType="audio/x-wav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765-BD5D-4E64-B496-8D820C4E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A5E-1266-485F-8B27-929A1C83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751-0263-48C6-921F-3AD04716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374D-57EF-42FE-AD1D-A7CD00F3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9BA9-B6DA-44A8-AB7E-AEA5A58C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0BC3-0CBB-456C-A340-32164515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C0AA-EAB1-4C41-8483-2240F4F7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2D34-F671-44FD-999C-AD476660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B5FB-00D5-4325-8334-35DA77DD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6B4C-1549-4890-AF1B-42C633A0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9469-E792-4969-84FE-F013060C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EBF-DAD1-48C6-86F8-27670413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AE80-92BF-4AAD-8802-8756D8B6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3520-0840-4FA1-B2DC-43BC49D5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BB0E-1B30-4C44-B317-FA763D24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57D9-6975-4D79-98B0-0257186A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EEB2-BECB-4116-9427-0F32C407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19AF-1721-40B2-8159-902CE7DF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C74-40FF-464E-BA08-1955FC29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601-C783-4A9A-A14E-E5419AE5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034A-624E-45AF-8C5D-6E6D35C5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F85-39F7-4457-9473-404ACE83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5FE4-D54B-437E-98C8-48F72FB5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7D6-5B93-407F-AEAD-AF72E538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E9A4-D47C-4451-A847-6EABF43FC7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28F3-9239-4C3D-A879-AA0B208ED2BD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349000"/>
            <a:ext cx="7696080" cy="107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Системы счисления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имская система счисле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До нас дошла римская система записи чисел, которая в некоторых случаях применяется в нумерации (века, тома в собрании сочинений и др.). В римской системе в качестве цифр используются латинские букв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L      C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1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0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Эта система непозиционна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В ней цифры записываются слева направ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035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имская система счисле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42920" y="1844640"/>
            <a:ext cx="3852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ru-RU" sz="2000" spc="-1" strike="noStrike">
                <a:solidFill>
                  <a:srgbClr val="660000"/>
                </a:solidFill>
                <a:latin typeface="Times New Roman"/>
              </a:rPr>
              <a:t>Если знак, изображающий меньшее число, стоит после знака, изображающего большее число, то производится сло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5+1=6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10+5=15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100+5+5=155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CC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1000+100+100+5=12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000320" y="2357280"/>
            <a:ext cx="478620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    </a:t>
            </a:r>
            <a:r>
              <a:rPr b="0" i="1" lang="ru-RU" sz="2000" spc="-1" strike="noStrike">
                <a:solidFill>
                  <a:srgbClr val="660000"/>
                </a:solidFill>
                <a:latin typeface="Times New Roman"/>
              </a:rPr>
              <a:t>Если знак, изображающий меньшее число, стоит перед знаком, изображающим большее число, то производится вычит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5-1=4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10-1=9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50-10=4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100-10=90,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DXXI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1000+ (500-100)+ 10+10+ (10-1)=142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0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Происхождение позиционных систем счисления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84360" y="1844640"/>
            <a:ext cx="195408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834920" y="1844640"/>
            <a:ext cx="7057800" cy="42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вилоняне писали палочками на глиняных пластинках. Все числа они записывали при помощи двух знак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означавшего единицу и горизонтального клина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значавшего 10. Первые девять чисел натурального ряда у них записывались так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исла второго десятка записывали в таком вид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f3b61d"/>
          </a:solidFill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Около 1700 г. до н.э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4356000" y="620640"/>
            <a:ext cx="4248360" cy="1008720"/>
          </a:xfrm>
          <a:prstGeom prst="rect">
            <a:avLst/>
          </a:prstGeom>
          <a:solidFill>
            <a:srgbClr val="f3b61d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иняные таблички, найденные в Месопатамии с культурным  центром  -    г.Вавило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Рисунок 2" descr="img076"/>
          <p:cNvPicPr/>
          <p:nvPr/>
        </p:nvPicPr>
        <p:blipFill>
          <a:blip r:embed="rId1"/>
          <a:stretch/>
        </p:blipFill>
        <p:spPr>
          <a:xfrm>
            <a:off x="324000" y="3573360"/>
            <a:ext cx="1368360" cy="25146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" descr="img077"/>
          <p:cNvPicPr/>
          <p:nvPr/>
        </p:nvPicPr>
        <p:blipFill>
          <a:blip r:embed="rId2"/>
          <a:stretch/>
        </p:blipFill>
        <p:spPr>
          <a:xfrm>
            <a:off x="2484360" y="3500280"/>
            <a:ext cx="5878440" cy="8636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2" descr="img078"/>
          <p:cNvPicPr/>
          <p:nvPr/>
        </p:nvPicPr>
        <p:blipFill>
          <a:blip r:embed="rId3"/>
          <a:stretch/>
        </p:blipFill>
        <p:spPr>
          <a:xfrm>
            <a:off x="2556000" y="5300640"/>
            <a:ext cx="5873760" cy="79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"/>
          <p:cNvPicPr/>
          <p:nvPr/>
        </p:nvPicPr>
        <p:blipFill>
          <a:blip r:embed="rId4"/>
          <a:stretch/>
        </p:blipFill>
        <p:spPr>
          <a:xfrm>
            <a:off x="3132000" y="2852640"/>
            <a:ext cx="503280" cy="285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"/>
          <p:cNvPicPr/>
          <p:nvPr/>
        </p:nvPicPr>
        <p:blipFill>
          <a:blip r:embed="rId5"/>
          <a:stretch/>
        </p:blipFill>
        <p:spPr>
          <a:xfrm>
            <a:off x="3132000" y="2492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1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ацтеков и майя, населявших американский континент и создавших там высокую культуру, почти полностью уничтоженную    испанскими завоевателями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 - XVI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., была принята     двадцатеричная система счисл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 же система была принята у кельтов, населявших Западную Европу, начиная с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ысячелетия до нашей эр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7"/>
          <p:cNvGraphicFramePr/>
          <p:nvPr/>
        </p:nvGraphicFramePr>
        <p:xfrm>
          <a:off x="1228680" y="1828800"/>
          <a:ext cx="2494080" cy="43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8680" y="1828800"/>
                    <a:ext cx="249408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Система счисления ацтеков и май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999880" y="2142720"/>
            <a:ext cx="600084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 система пришла к нам из Индии, где зародилась около V в н.э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десятичной системе счисления используется всего десять цифр – 0,1,2,3,4,5,6,7,8,9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чение каждой цифры в позиционной системе счисления определяется не только ею самой, но также и местом (позицией), которое она занимает в записи числ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Рисунок 4" descr="img076"/>
          <p:cNvPicPr/>
          <p:nvPr/>
        </p:nvPicPr>
        <p:blipFill>
          <a:blip r:embed="rId1"/>
          <a:stretch/>
        </p:blipFill>
        <p:spPr>
          <a:xfrm>
            <a:off x="357120" y="2143080"/>
            <a:ext cx="2214720" cy="392904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6"/>
          <p:cNvSpPr/>
          <p:nvPr/>
        </p:nvSpPr>
        <p:spPr>
          <a:xfrm>
            <a:off x="468360" y="620640"/>
            <a:ext cx="8136000" cy="825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есятична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2"/>
          <a:srcRect l="17695" t="53765" r="35806" b="38656"/>
          <a:stretch/>
        </p:blipFill>
        <p:spPr>
          <a:xfrm>
            <a:off x="3276720" y="5019840"/>
            <a:ext cx="55432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8676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Позиционные системы счисления</a:t>
            </a:r>
            <a:br>
              <a:rPr sz="2000"/>
            </a:b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32968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озиционных системах значение применяемых символов (цифр) зависит от места, которое он занимает в записи числа. При этом сдвиг цифры на одно место влево влечет увеличение ее числового значения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раз, гд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екоторое натуральное число, больше единицы. Числ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называют основанием системы счисл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еделение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истематической записью натурального числ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по основанию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называют представление этого числа в виде сумм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71760" y="4214880"/>
            <a:ext cx="5643360" cy="4284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0" y="6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857160" y="5000760"/>
            <a:ext cx="2214720" cy="3571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3143160" y="500148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а, принимающие значения от 0, 1, … 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12"/>
          <p:cNvSpPr/>
          <p:nvPr/>
        </p:nvSpPr>
        <p:spPr>
          <a:xfrm>
            <a:off x="500040" y="564372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&gt;10 также используют необходимые цифры десятичной системы,  а числа от десяти д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1 обычно записывают в виде соответствующих чисел, заключенных в круглые скобки: (10), (11), …,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911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озиционные системы счислени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счисления - это совокупность правил для обозначения и наименования чисе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ы счисления делятся на позиционные и непозиционны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ки, используемые при записи чисел, называются цифр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28480" y="272520"/>
            <a:ext cx="73580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Арифметические действия  над                    систематическими числам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500800" y="2642760"/>
            <a:ext cx="36432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выполнения действий пользуются составленными таблицами  сложения и умнож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14200" y="5143320"/>
            <a:ext cx="485784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таблицы сложения и умножения чисел в                                                                         пятеричной систем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Рисунок 4" descr="C:\Documents and Settings\дайте поиграть\Local Settings\Temporary Internet Files\Content.Word\img079.bmp"/>
          <p:cNvPicPr/>
          <p:nvPr/>
        </p:nvPicPr>
        <p:blipFill>
          <a:blip r:embed="rId1"/>
          <a:stretch/>
        </p:blipFill>
        <p:spPr>
          <a:xfrm>
            <a:off x="214200" y="2643120"/>
            <a:ext cx="49294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472600" cy="100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Перевод целых чисел из одной позиционной системы в другую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56800" y="5285880"/>
            <a:ext cx="7572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84240" indent="-8424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йти десятичную запись числ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28760" y="2071800"/>
            <a:ext cx="78580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сть да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ичная запись числ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йти десятичную запись этого же числ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решения этой  задачи достаточно подставить в запис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место                            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десятичные записи этих чисел и выполнить действия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десятичные записи этих чисел и выполнить действ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йти десятичную запись чис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500040" y="2428920"/>
            <a:ext cx="4429080" cy="357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500040" y="3500280"/>
            <a:ext cx="4786200" cy="2858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3"/>
          <a:stretch/>
        </p:blipFill>
        <p:spPr>
          <a:xfrm>
            <a:off x="1214280" y="4071960"/>
            <a:ext cx="1417680" cy="280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1" descr=""/>
          <p:cNvPicPr/>
          <p:nvPr/>
        </p:nvPicPr>
        <p:blipFill>
          <a:blip r:embed="rId4"/>
          <a:stretch/>
        </p:blipFill>
        <p:spPr>
          <a:xfrm>
            <a:off x="1285920" y="5786280"/>
            <a:ext cx="569448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веде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14240" y="1828800"/>
            <a:ext cx="79725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В. Лейбинц говорил: «Кто хочет ограничиться настоящим, без знания прошлого, тот никогда его не поймет…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4" descr="W:\Разная хренотень\Маришкина бяка\системы.jpeg"/>
          <p:cNvPicPr/>
          <p:nvPr/>
        </p:nvPicPr>
        <p:blipFill>
          <a:blip r:embed="rId1"/>
          <a:stretch/>
        </p:blipFill>
        <p:spPr>
          <a:xfrm>
            <a:off x="214200" y="5143680"/>
            <a:ext cx="161316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472600" cy="100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Перевод целых чисел из одной позиционной системы в другую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3" descr=""/>
          <p:cNvPicPr/>
          <p:nvPr/>
        </p:nvPicPr>
        <p:blipFill>
          <a:blip r:embed="rId1"/>
          <a:srcRect l="29967" t="50753" r="14037" b="15290"/>
          <a:stretch/>
        </p:blipFill>
        <p:spPr>
          <a:xfrm>
            <a:off x="611280" y="1989000"/>
            <a:ext cx="6985080" cy="32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0040" y="2285640"/>
            <a:ext cx="6858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сло 58 перевести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м деление 58 на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Рисунок 5" descr="perevod"/>
          <p:cNvPicPr/>
          <p:nvPr/>
        </p:nvPicPr>
        <p:blipFill>
          <a:blip r:embed="rId1"/>
          <a:stretch/>
        </p:blipFill>
        <p:spPr>
          <a:xfrm>
            <a:off x="1835280" y="3141720"/>
            <a:ext cx="5668920" cy="27860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395280" y="6008760"/>
            <a:ext cx="6481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им образом 58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111010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Двоичная система счисле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          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фициальное рождение двоичной арифметики связанно с именем Г.В. Лейбница, опубликовавшего в 1703 г. статью, в которой он рассмотрел правила выполнения арифметических действий над двоичными числами.</a:t>
            </a:r>
            <a:br>
              <a:rPr sz="1800"/>
            </a:b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Двоичная система проста, так как для представления информации в ней используются всего два состояния или две цифр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Представление информации в двоичной системе использовалось человеком с давних време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Так, жители островов Полинезии передавали необходимую информацию при помощи барабанов: чередование звонких и глухих ударов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leibniz"/>
          <p:cNvPicPr/>
          <p:nvPr/>
        </p:nvPicPr>
        <p:blipFill>
          <a:blip r:embed="rId1"/>
          <a:stretch/>
        </p:blipFill>
        <p:spPr>
          <a:xfrm>
            <a:off x="250920" y="1989000"/>
            <a:ext cx="12873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Object 4"/>
          <p:cNvGraphicFramePr/>
          <p:nvPr/>
        </p:nvGraphicFramePr>
        <p:xfrm>
          <a:off x="611280" y="2349360"/>
          <a:ext cx="160020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49360"/>
                    <a:ext cx="16002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000" y="533160"/>
            <a:ext cx="784836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20000"/>
                </a:solidFill>
                <a:latin typeface="Times New Roman"/>
              </a:rPr>
              <a:t>                                                       </a:t>
            </a:r>
            <a:r>
              <a:rPr b="0" i="1" lang="ru-RU" sz="1800" spc="-1" strike="noStrike">
                <a:solidFill>
                  <a:srgbClr val="420000"/>
                </a:solidFill>
                <a:latin typeface="Times New Roman"/>
              </a:rPr>
              <a:t>Единица </a:t>
            </a:r>
            <a:r>
              <a:rPr b="0" i="1" lang="en-US" sz="1800" spc="-1" strike="noStrike">
                <a:solidFill>
                  <a:srgbClr val="420000"/>
                </a:solidFill>
                <a:latin typeface="Times New Roman"/>
              </a:rPr>
              <a:t>– вздор. Единица </a:t>
            </a:r>
            <a:r>
              <a:rPr b="0" i="1" lang="ru-RU" sz="1800" spc="-1" strike="noStrike">
                <a:solidFill>
                  <a:srgbClr val="420000"/>
                </a:solidFill>
                <a:latin typeface="Times New Roman"/>
              </a:rPr>
              <a:t>– ноль.”</a:t>
            </a:r>
            <a:br>
              <a:rPr sz="1800"/>
            </a:br>
            <a:r>
              <a:rPr b="0" i="1" lang="ru-RU" sz="1800" spc="-1" strike="noStrike">
                <a:solidFill>
                  <a:srgbClr val="420000"/>
                </a:solidFill>
                <a:latin typeface="Times New Roman"/>
              </a:rPr>
              <a:t>                                                        В. Маяковский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1" name="Picture 8" descr=""/>
          <p:cNvPicPr/>
          <p:nvPr/>
        </p:nvPicPr>
        <p:blipFill>
          <a:blip r:embed="rId3"/>
          <a:stretch/>
        </p:blipFill>
        <p:spPr>
          <a:xfrm>
            <a:off x="7093080" y="5013360"/>
            <a:ext cx="1028520" cy="809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9"/>
          <p:cNvSpPr/>
          <p:nvPr/>
        </p:nvSpPr>
        <p:spPr>
          <a:xfrm>
            <a:off x="2916360" y="1871640"/>
            <a:ext cx="468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лектронных машин  характерно наличие двух различных устойчивых состояний (есть ток- нет тока, намагничен – не намагничен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ому для изображения чисел в вычислительных машинах требуется такая система, в которой имеются лишь две различные цифры т.е.  двоичная система счисл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Единица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словно обозначает включенное состояние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“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нуль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выключенное состоя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очему люди пользуются десятичной системой, а компьютеры — двоичной?</a:t>
            </a:r>
            <a:br>
              <a:rPr sz="3200"/>
            </a:b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Компьютеры используют двоичную систему потому, что она имеет ряд преимуществ перед другими системам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- для ее реализации нужны технические устройства с двумя устойчивыми состояниями (есть ток — нет тока, намагничен — не намагничен и т.п.), а не, например, с десятью, — как в десят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- представление информации посредством только двух состояний надежно и помехоустойчиво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- двоичная арифметика намного проще десятичной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ешение задач в различных системах счисления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«Необыкновенная девочка»</a:t>
            </a:r>
            <a:br>
              <a:rPr sz="4000"/>
            </a:b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А.Н.Стариков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47184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й было тысяча сто лет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а в сто первый класс ходил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ортфеле по сто книг носила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это правда, а не бре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гда, пыля десятком ног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а шагала по дороге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 ней всегда бежал щен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одним хвостом, зато стоног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а ловила каждый зву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ими десятью ушам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десять загорелых ру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ртфель и поводок держал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десять темно-синих гла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атривали мир привычно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 станет все сейчас обычным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гда поймете мой расска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Рисунок 2" descr="img083"/>
          <p:cNvPicPr/>
          <p:nvPr/>
        </p:nvPicPr>
        <p:blipFill>
          <a:blip r:embed="rId1"/>
          <a:stretch/>
        </p:blipFill>
        <p:spPr>
          <a:xfrm>
            <a:off x="4714920" y="1785960"/>
            <a:ext cx="3619440" cy="32860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" descr="img083"/>
          <p:cNvPicPr/>
          <p:nvPr/>
        </p:nvPicPr>
        <p:blipFill>
          <a:blip r:embed="rId2"/>
          <a:stretch/>
        </p:blipFill>
        <p:spPr>
          <a:xfrm>
            <a:off x="3857760" y="5072040"/>
            <a:ext cx="219204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ешение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rcRect l="15432" t="17682" r="13398" b="18036"/>
          <a:stretch/>
        </p:blipFill>
        <p:spPr>
          <a:xfrm>
            <a:off x="1403280" y="2133720"/>
            <a:ext cx="5953320" cy="37144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1828800"/>
            <a:ext cx="83628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й было 12 лет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а в 5  класс ходил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ортфеле по четыре книги носил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это правда, а не бред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а ловила каждый звук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ими двумя ушам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две загорелые рук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ртфель  и поводок держал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гда, пыля двумя ногам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а шагала по дорог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 ней всегда бежал щенок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одним хвостом, зато четырехногий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двое темно-синих глаз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атривали мир привычно …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 станет все совсем обычным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гда поймете наш рассказ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Загадочная автобиография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28760" y="242892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08600" indent="-40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бумагах одного математика была найдена странная автобиограф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Я окончил курс университета 44 лет отроду. Спустя год, 100- летним молодым человеком, я женился на 34-летней девушке. Незначительная разница в возрасте – всего 11 лет способствовала тому, что мы жили общими интересами и мечтами. Спустя немного времени у меня уже была маленькая семья из 10 детей. Жалованья я получал в месяц всего 200 руб., из которых 1/10 приходилось отдавать сестре, так, что мы жили на 130 руб. в месяц.»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шифруйте автобиографи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 Запись выполнена в пятеричной системе. Выполним перевод чисел в десятеричную систем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214200" y="543096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4 = 4 5+ 4 =24, аналогично 100 = 1 5 +0 5 +0= 25, 34 = 3 5+ 4 =19,  11= 1 5+1= =6,  200 = 2 5+ 0 5+ 0= 50,  10 = 5, 1/10 = 1/5, 130 = 1 5 + 3 5 + 0 = 4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                       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ГЛАВА </a:t>
            </a: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I</a:t>
            </a:r>
            <a:br>
              <a:rPr sz="4000"/>
            </a:b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          Н</a:t>
            </a: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ЕПОЗИЦИОННЫЕ СИСТЕМЫ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бы иметь дело с числами, необходимо прежде всего уметь называть и записывать и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 наименования  и записи чисел принято считать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истемой счис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ка имеет следующее содержание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Я окончил курс университета 24 лет отроду . Спустя год, 25- летним молодым человеком, я женился на 19-летней девушке. Незначительная разница в возрасте – всего 6 лет способствовала тому, что мы жили общими интересами и мечтами. Спустя немного времени у меня уже была маленькая семья из 5 детей. Жалованья я получал в месяц всего 50 руб., из которых 1/5 приходилось отдавать сестре, так , что мы жили на 40 руб. в месяц.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07264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                            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Задача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0040" y="2642760"/>
            <a:ext cx="82152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ин школьный учитель на наш вопрос -много ли у него в классе учеников, ответил: «У меня в классе 100 детей, из них 24 мальчика и 32 девочки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начала его ответ нас удивил. Но потом мы поняли, что просто учитель пользовался не десятичной системой. Какую систему имел в виду учитель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сть х- основание системы счисления о которой идет реч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гда слова учителя означают следующее: у не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1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+0 х+0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чеников, из них 24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2х+4 мальчика и   3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3х +2 девочки. Таким образом, 2х+4+3х+2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3008520" cy="5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Решим уравнение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1" descr=""/>
          <p:cNvPicPr/>
          <p:nvPr/>
        </p:nvPicPr>
        <p:blipFill>
          <a:blip r:embed="rId1"/>
          <a:stretch/>
        </p:blipFill>
        <p:spPr>
          <a:xfrm>
            <a:off x="428760" y="2571840"/>
            <a:ext cx="2714400" cy="257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428760" y="2928960"/>
            <a:ext cx="1990440" cy="2808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214200" y="3357720"/>
            <a:ext cx="1981440" cy="2854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8" descr=""/>
          <p:cNvPicPr/>
          <p:nvPr/>
        </p:nvPicPr>
        <p:blipFill>
          <a:blip r:embed="rId4"/>
          <a:stretch/>
        </p:blipFill>
        <p:spPr>
          <a:xfrm>
            <a:off x="428760" y="3786120"/>
            <a:ext cx="1857240" cy="2811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0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11" descr=""/>
          <p:cNvPicPr/>
          <p:nvPr/>
        </p:nvPicPr>
        <p:blipFill>
          <a:blip r:embed="rId5"/>
          <a:stretch/>
        </p:blipFill>
        <p:spPr>
          <a:xfrm>
            <a:off x="428760" y="4170240"/>
            <a:ext cx="3214440" cy="325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13" descr=""/>
          <p:cNvPicPr/>
          <p:nvPr/>
        </p:nvPicPr>
        <p:blipFill>
          <a:blip r:embed="rId6"/>
          <a:stretch/>
        </p:blipFill>
        <p:spPr>
          <a:xfrm>
            <a:off x="428760" y="4581360"/>
            <a:ext cx="2143080" cy="2797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5" descr=""/>
          <p:cNvPicPr/>
          <p:nvPr/>
        </p:nvPicPr>
        <p:blipFill>
          <a:blip r:embed="rId7"/>
          <a:stretch/>
        </p:blipFill>
        <p:spPr>
          <a:xfrm>
            <a:off x="500040" y="4929120"/>
            <a:ext cx="2822760" cy="2811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2560" y="5000760"/>
            <a:ext cx="8358120" cy="24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Times New Roman"/>
              </a:rPr>
              <a:t>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6,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-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 как -1 не может быть основанием системы счисления, то х=6. Итак, ответ учителя был дан в шестеричной системе; при этом было 1 36=36  учеников. Из них  2 6+4=16 мальчиков и  3 6+2=20 девоче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1800" y="3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1"/>
          <p:cNvSpPr/>
          <p:nvPr/>
        </p:nvSpPr>
        <p:spPr>
          <a:xfrm>
            <a:off x="1800" y="3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оугольник 28"/>
          <p:cNvSpPr/>
          <p:nvPr/>
        </p:nvSpPr>
        <p:spPr>
          <a:xfrm>
            <a:off x="357120" y="21430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5х-6=0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31"/>
              <p:cNvSpPr txBox="1"/>
              <p:nvPr/>
            </p:nvSpPr>
            <p:spPr>
              <a:xfrm>
                <a:off x="0" y="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362800" cy="784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00"/>
                </a:solidFill>
                <a:latin typeface="Times New Roman"/>
              </a:rPr>
              <a:t>Египетская нумерац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4" name="Picture 4" descr="egipt2"/>
          <p:cNvPicPr/>
          <p:nvPr/>
        </p:nvPicPr>
        <p:blipFill>
          <a:blip r:embed="rId1"/>
          <a:stretch/>
        </p:blipFill>
        <p:spPr>
          <a:xfrm>
            <a:off x="6156360" y="4581360"/>
            <a:ext cx="2628720" cy="1952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EGYPT_SG"/>
          <p:cNvPicPr/>
          <p:nvPr/>
        </p:nvPicPr>
        <p:blipFill>
          <a:blip r:embed="rId2"/>
          <a:stretch/>
        </p:blipFill>
        <p:spPr>
          <a:xfrm>
            <a:off x="324000" y="1773360"/>
            <a:ext cx="2576520" cy="16779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3059280" y="1773360"/>
            <a:ext cx="57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Египтяне придумали свою систему счисления около 5 000 лет наза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В ней ключевые числа:1,10,100 и т.д.- изображались значками- иероглифами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042920" y="4797360"/>
            <a:ext cx="424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Это одна из древнейших систем записи чисел, известная челове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1" descr=""/>
          <p:cNvPicPr/>
          <p:nvPr/>
        </p:nvPicPr>
        <p:blipFill>
          <a:blip r:embed="rId1"/>
          <a:srcRect l="19296" t="16831" r="13387" b="19405"/>
          <a:stretch/>
        </p:blipFill>
        <p:spPr>
          <a:xfrm>
            <a:off x="539640" y="309600"/>
            <a:ext cx="7848720" cy="2903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2" descr=""/>
          <p:cNvPicPr/>
          <p:nvPr/>
        </p:nvPicPr>
        <p:blipFill>
          <a:blip r:embed="rId2"/>
          <a:srcRect l="19274" t="20197" r="13398" b="15684"/>
          <a:stretch/>
        </p:blipFill>
        <p:spPr>
          <a:xfrm>
            <a:off x="571680" y="3213000"/>
            <a:ext cx="78879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81" descr=""/>
          <p:cNvPicPr/>
          <p:nvPr/>
        </p:nvPicPr>
        <p:blipFill>
          <a:blip r:embed="rId1"/>
          <a:stretch/>
        </p:blipFill>
        <p:spPr>
          <a:xfrm>
            <a:off x="1857240" y="1857240"/>
            <a:ext cx="357480" cy="9972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82" descr=""/>
          <p:cNvPicPr/>
          <p:nvPr/>
        </p:nvPicPr>
        <p:blipFill>
          <a:blip r:embed="rId2"/>
          <a:stretch/>
        </p:blipFill>
        <p:spPr>
          <a:xfrm>
            <a:off x="2214720" y="2071800"/>
            <a:ext cx="549000" cy="7858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3" descr=""/>
          <p:cNvPicPr/>
          <p:nvPr/>
        </p:nvPicPr>
        <p:blipFill>
          <a:blip r:embed="rId3"/>
          <a:stretch/>
        </p:blipFill>
        <p:spPr>
          <a:xfrm>
            <a:off x="2786040" y="2071800"/>
            <a:ext cx="571680" cy="8064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4" descr=""/>
          <p:cNvPicPr/>
          <p:nvPr/>
        </p:nvPicPr>
        <p:blipFill>
          <a:blip r:embed="rId4"/>
          <a:stretch/>
        </p:blipFill>
        <p:spPr>
          <a:xfrm>
            <a:off x="3286080" y="1857240"/>
            <a:ext cx="1143000" cy="10353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4286160" y="235800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1205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исунок 13" descr=""/>
          <p:cNvPicPr/>
          <p:nvPr/>
        </p:nvPicPr>
        <p:blipFill>
          <a:blip r:embed="rId5"/>
          <a:stretch/>
        </p:blipFill>
        <p:spPr>
          <a:xfrm>
            <a:off x="1214280" y="3714840"/>
            <a:ext cx="857520" cy="10713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4" descr=""/>
          <p:cNvPicPr/>
          <p:nvPr/>
        </p:nvPicPr>
        <p:blipFill>
          <a:blip r:embed="rId6"/>
          <a:stretch/>
        </p:blipFill>
        <p:spPr>
          <a:xfrm>
            <a:off x="2214720" y="3857760"/>
            <a:ext cx="428400" cy="10000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5" descr=""/>
          <p:cNvPicPr/>
          <p:nvPr/>
        </p:nvPicPr>
        <p:blipFill>
          <a:blip r:embed="rId7"/>
          <a:stretch/>
        </p:blipFill>
        <p:spPr>
          <a:xfrm>
            <a:off x="2571840" y="3857760"/>
            <a:ext cx="500040" cy="10015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6" descr=""/>
          <p:cNvPicPr/>
          <p:nvPr/>
        </p:nvPicPr>
        <p:blipFill>
          <a:blip r:embed="rId8"/>
          <a:stretch/>
        </p:blipFill>
        <p:spPr>
          <a:xfrm>
            <a:off x="3143160" y="3857760"/>
            <a:ext cx="357120" cy="9302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7" descr=""/>
          <p:cNvPicPr/>
          <p:nvPr/>
        </p:nvPicPr>
        <p:blipFill>
          <a:blip r:embed="rId9"/>
          <a:stretch/>
        </p:blipFill>
        <p:spPr>
          <a:xfrm>
            <a:off x="3571920" y="3857760"/>
            <a:ext cx="357120" cy="9302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8" descr=""/>
          <p:cNvPicPr/>
          <p:nvPr/>
        </p:nvPicPr>
        <p:blipFill>
          <a:blip r:embed="rId10"/>
          <a:stretch/>
        </p:blipFill>
        <p:spPr>
          <a:xfrm>
            <a:off x="4000680" y="3857760"/>
            <a:ext cx="357120" cy="912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9" descr=""/>
          <p:cNvPicPr/>
          <p:nvPr/>
        </p:nvPicPr>
        <p:blipFill>
          <a:blip r:embed="rId11"/>
          <a:stretch/>
        </p:blipFill>
        <p:spPr>
          <a:xfrm>
            <a:off x="4500720" y="3929040"/>
            <a:ext cx="642960" cy="9986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20" descr=""/>
          <p:cNvPicPr/>
          <p:nvPr/>
        </p:nvPicPr>
        <p:blipFill>
          <a:blip r:embed="rId12"/>
          <a:stretch/>
        </p:blipFill>
        <p:spPr>
          <a:xfrm>
            <a:off x="5143680" y="3571920"/>
            <a:ext cx="1143000" cy="132228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1"/>
          <p:cNvSpPr/>
          <p:nvPr/>
        </p:nvSpPr>
        <p:spPr>
          <a:xfrm>
            <a:off x="6215040" y="39830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10230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84360" y="1844640"/>
            <a:ext cx="813564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середин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. до н. э.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оявилась запись чисел нового типа, так называемая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16000" y="69228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Алфавитная нумер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39640" y="3284640"/>
            <a:ext cx="813600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этой системе записи числа обозначались при помощи букв алфавита., над которыми ставились черточки: первые девять букв обозначали числа от 1 до 9, следующие девять - числа 10, 20, 30, ..., 90, и следующие девять - числа 100, 200, ..., 90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Таким образом, можно было обозначать любое число до 999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300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лавянская нумерац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9" name="Picture 4" descr="1"/>
          <p:cNvPicPr/>
          <p:nvPr/>
        </p:nvPicPr>
        <p:blipFill>
          <a:blip r:embed="rId1"/>
          <a:stretch/>
        </p:blipFill>
        <p:spPr>
          <a:xfrm>
            <a:off x="1042920" y="1824120"/>
            <a:ext cx="6551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6048360" cy="1726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642960" y="4357800"/>
            <a:ext cx="8209080" cy="9316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0" y="29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332000" y="337572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имер это число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7:11:16Z</dcterms:created>
  <dc:creator>Sveta</dc:creator>
  <dc:description/>
  <dc:language>en-US</dc:language>
  <cp:lastModifiedBy>1</cp:lastModifiedBy>
  <dcterms:modified xsi:type="dcterms:W3CDTF">2017-08-28T10:20:35Z</dcterms:modified>
  <cp:revision>34</cp:revision>
  <dc:subject/>
  <dc:title>Слайд 1</dc:title>
</cp:coreProperties>
</file>