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E12-71C7-4034-9E1E-99110240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357-B475-4709-BD33-AF6572D0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010-2904-4BC1-A652-266DE846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C87-AC81-44E0-B15B-350FC732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72EC-33A6-409E-841B-60A3028D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E12F-2805-40A4-96B0-F2403A82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A3F1-75C2-4CD7-A51D-2145AA01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3AA7-1B40-49EE-AF13-77C8D0C7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E796-F68C-4066-AA3A-1FFB5D36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18FF-6F00-469E-8C81-411CABB7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3A5E-798C-4D3A-A2B2-A93B2714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3FA-F3A6-4066-89FF-E4E14591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2643-1176-4EBC-AD0F-605F9656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7045-1D8D-4019-BD06-DA7472CF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FA19-4E8D-4EE2-9F1A-79842224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B30E-BF43-4F0A-BAC1-C32C6366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9848-D5B0-4446-8D63-66260122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F8A7D-71A6-4632-8A97-706CB2B6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81ED-109B-4B6A-9548-27828331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62209-087B-4FAD-8529-DA54C88F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0004-408F-4E5B-9103-92D946FD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8E79E-0B1C-4F47-918D-A8885EE1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4D3-EFB4-463F-B1D7-4C393D16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58C23-CAD4-4B43-8B25-4BB25A7B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E86B7-DC60-41BA-A32E-B849D0E9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39AC-5D4F-4B15-AA3B-9FBF1C5C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770B3-2B8C-47E3-AE01-D97FE7AB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C1E21-30AE-45F0-847C-91A0A8EF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3D9F0-9B27-4914-A655-8F735BF6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B8B6-05DC-4514-B140-136C14BA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9DBF3-AE64-4215-BD11-85015EE7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3B028-E004-490A-991C-D9806D31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9A863-D71E-4347-922E-02CC2802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8F0-E20D-4379-9B91-62E0E5DF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F7B4-2271-4E18-BE78-B9002E00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0788C-835D-4013-98A2-047A8869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B9C71-82CD-40D6-8614-8D02CF85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AE93B-92AE-42EF-8C64-93713282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8B69A-BF68-4E73-B482-20BBFB09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61305-656D-4200-8757-998CD1E4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B1B0-C40E-480D-96DF-6390BC64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F33FE-7CAA-4326-9225-1C1F3312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47407-6E2B-473C-A202-EEEBB71D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346-3C70-4255-9F38-47473C52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C82-920E-4D96-9EF3-1B2B661A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21C-D028-4D90-9B6B-FEB340D3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1C6-E28B-4FCC-8827-64352AA1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245-0B91-41E4-8039-917C30C6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B881-6B90-4A42-BB93-98929D5AF5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8" descr="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03C8-BBB2-4D94-B54D-CF08DF7BDF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8" descr="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D809-FBB6-4C47-BD48-A441B80C65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A45D-639C-40FF-8A43-95CDBB4D2C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843c0c"/>
                </a:solidFill>
                <a:latin typeface="Monotype Corsiva"/>
                <a:ea typeface="Tahoma"/>
              </a:rPr>
              <a:t>Герои моей семьи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Arial"/>
              </a:rPr>
              <a:t>Исследовательский прое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Arial"/>
              </a:rPr>
              <a:t>ученика 1 «А» кл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Arial"/>
              </a:rPr>
              <a:t>Михеева  Русла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2780640" y="5516640"/>
            <a:ext cx="39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Руководитель Тимошенкова О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56000" y="980640"/>
            <a:ext cx="626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  <a:ea typeface="Arial"/>
              </a:rPr>
              <a:t>Награ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Три ордена Боевого Красного Зна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http://coinsly.narod.ru/img/rzn/9761.jpg"/>
          <p:cNvPicPr/>
          <p:nvPr/>
        </p:nvPicPr>
        <p:blipFill>
          <a:blip r:embed="rId1"/>
          <a:stretch/>
        </p:blipFill>
        <p:spPr>
          <a:xfrm>
            <a:off x="250920" y="1268280"/>
            <a:ext cx="2006640" cy="4032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coinsly.narod.ru/img/rzn/9761.jpg"/>
          <p:cNvPicPr/>
          <p:nvPr/>
        </p:nvPicPr>
        <p:blipFill>
          <a:blip r:embed="rId2"/>
          <a:stretch/>
        </p:blipFill>
        <p:spPr>
          <a:xfrm>
            <a:off x="2700360" y="1268280"/>
            <a:ext cx="2041560" cy="4105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coinsly.narod.ru/img/rzn/9761.jpg"/>
          <p:cNvPicPr/>
          <p:nvPr/>
        </p:nvPicPr>
        <p:blipFill>
          <a:blip r:embed="rId3"/>
          <a:stretch/>
        </p:blipFill>
        <p:spPr>
          <a:xfrm>
            <a:off x="1547640" y="2421000"/>
            <a:ext cx="20052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  <a:ea typeface="Arial"/>
              </a:rPr>
              <a:t>Награ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42764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Два ордена Красной Звез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6" descr="http://moypolk.ru/sites/default/files/soldier-awards/85215/redstar_0.jpg"/>
          <p:cNvPicPr/>
          <p:nvPr/>
        </p:nvPicPr>
        <p:blipFill>
          <a:blip r:embed="rId1"/>
          <a:stretch/>
        </p:blipFill>
        <p:spPr>
          <a:xfrm>
            <a:off x="0" y="1484280"/>
            <a:ext cx="2610000" cy="4824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://moypolk.ru/sites/default/files/soldier-awards/85215/redstar_0.jpg"/>
          <p:cNvPicPr/>
          <p:nvPr/>
        </p:nvPicPr>
        <p:blipFill>
          <a:blip r:embed="rId2"/>
          <a:stretch/>
        </p:blipFill>
        <p:spPr>
          <a:xfrm>
            <a:off x="2268360" y="1413000"/>
            <a:ext cx="2608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  <a:ea typeface="Arial"/>
              </a:rPr>
              <a:t>Награ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ден Отечественной войны I степ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4" descr="http://zonwar.ru/images/ordena_medali/ordena_SSSR/OV_1st2.png"/>
          <p:cNvPicPr/>
          <p:nvPr/>
        </p:nvPicPr>
        <p:blipFill>
          <a:blip r:embed="rId1"/>
          <a:stretch/>
        </p:blipFill>
        <p:spPr>
          <a:xfrm>
            <a:off x="755640" y="1413000"/>
            <a:ext cx="3095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  <a:ea typeface="Arial"/>
              </a:rPr>
              <a:t>Награ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ден Отечественной войны II степ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4" descr="http://mirnagrad.ru/cgi-bin/refiles/12__/1238a.jpg"/>
          <p:cNvPicPr/>
          <p:nvPr/>
        </p:nvPicPr>
        <p:blipFill>
          <a:blip r:embed="rId1"/>
          <a:stretch/>
        </p:blipFill>
        <p:spPr>
          <a:xfrm>
            <a:off x="-396720" y="620640"/>
            <a:ext cx="6013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  <a:ea typeface="Arial"/>
              </a:rPr>
              <a:t>Награ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ден Лен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" descr="http://img0.liveinternet.ru/images/attach/b/3/42/91/42091009_ordenlenina_b_copy.gif"/>
          <p:cNvPicPr/>
          <p:nvPr/>
        </p:nvPicPr>
        <p:blipFill>
          <a:blip r:embed="rId1"/>
          <a:stretch/>
        </p:blipFill>
        <p:spPr>
          <a:xfrm>
            <a:off x="611280" y="1484280"/>
            <a:ext cx="3608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  <a:ea typeface="Arial"/>
              </a:rPr>
              <a:t>Я помню! Я горжусь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Моего прадедушки уже нет, но  я  всегда буду помнить  и гордится  его подвигом. И обещаю, что сделаю все, чтобы о нем никогда не забывали в нашей семь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" descr="https://lh3.googleusercontent.com/0iuUUdw6ilxNPK8JmcGp5wm2M3XKPYmB2FKvgRGqUWnadUkrx9yU_-iHj1nKNvlVgy6rTyrmpThQGspB_BTKay22UowezCdTGuHryynPFyUzplo09pueCBBNkVV0R4VmLoGnaKFXEp2Rie46L8a-ECSPkZej3GKdhvEFJfxN5LXt4K0HbScEqgg-uSDDTmwUYiPgPIU6hPluQopJLP2GSMlvwXUsPhRk3OArKEYpRSqSadVih-6A_9QdMuzZPBPbIQGpCmC8VYZCRDwSnzrKImlIIodW09zhO1TnxwlqS69V4tbOKSBaKxbPW7w5QQvewgeZfHTWUKOCL-TosJjr2NypqNrpwwKdAjo2wFuxM1xcUuhhll0uicOjMqKL6vG3AaBTphrq5vBVFBzMw1tSpX2TFSZgZqyRrh-hME-fg6c8oki8fJuV0KrFgiucgFe-xq51twIJsVVlECGE3zpDNWoOfOhdgDGvU8rkZ9eg1Y0aw5qDOqa36BqR9rQFp7yRrzE257LALckr6uNfVjlwJA10Zx4avefsrkC07Qe2sdpNyTpG9_BAaEHRqBPqp4U7ny6--eVrDepBu0kpjWYrJSnM-kNNHoQYpu2XnUhcrQUIgq9qGXdz=w1277-h851-no"/>
          <p:cNvPicPr/>
          <p:nvPr/>
        </p:nvPicPr>
        <p:blipFill>
          <a:blip r:embed="rId1"/>
          <a:srcRect l="20008" t="47504" r="44146" b="6249"/>
          <a:stretch/>
        </p:blipFill>
        <p:spPr>
          <a:xfrm>
            <a:off x="468360" y="2205000"/>
            <a:ext cx="41004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Цель проекта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  <a:ea typeface="Arial"/>
              </a:rPr>
              <a:t>Узнать кого из членов нашей семьи можно считать геро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Задача проек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  <a:ea typeface="Arial"/>
              </a:rPr>
              <a:t>1.Беседа с родителями о интересных людях семь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  <a:ea typeface="Arial"/>
              </a:rPr>
              <a:t>2. Просмотреть семейный фотоархи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  <a:ea typeface="Arial"/>
              </a:rPr>
              <a:t>3. Создать электронную презент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  <a:ea typeface="Arial"/>
              </a:rPr>
              <a:t>4. Защита проек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44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Борис Яковлевич Красиков</a:t>
            </a:r>
            <a:br>
              <a:rPr sz="4000"/>
            </a:br>
            <a:r>
              <a:rPr b="1" i="1" lang="ru-RU" sz="40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Объект 3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2940120" cy="377676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4"/>
          <p:cNvSpPr/>
          <p:nvPr/>
        </p:nvSpPr>
        <p:spPr>
          <a:xfrm>
            <a:off x="3995640" y="1844640"/>
            <a:ext cx="48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Я хочу рассказать о своём прадедушке по маминой линии Красикове Борисе Яковлевиче . Мой прадедушка был военным инженером-механиком, участником Великой Отечественной войны, начальником Военно-морского инженерного училища им. Ф. Э. Дзержинского, инженером-контр-адмира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44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Борис Яковлевич Красиков</a:t>
            </a:r>
            <a:br>
              <a:rPr sz="4000"/>
            </a:br>
            <a:r>
              <a:rPr b="1" i="1" lang="ru-RU" sz="40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Объект 3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2940120" cy="377676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4"/>
          <p:cNvSpPr/>
          <p:nvPr/>
        </p:nvSpPr>
        <p:spPr>
          <a:xfrm>
            <a:off x="3995640" y="1700280"/>
            <a:ext cx="489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родился 21 марта 1908 года в поселке Кривозерского лесозавода, близ города Юрьевец, Юрьевецкого уезда (ныне Ивановская область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11280" y="1196640"/>
            <a:ext cx="822960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С апреля 1931 года по ноябрь 1934 года прадедушка был командир машинной группы  на крейсере «Профинтерн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http://www.navy.su/gallery/06/emyshev/36.jpg"/>
          <p:cNvPicPr/>
          <p:nvPr/>
        </p:nvPicPr>
        <p:blipFill>
          <a:blip r:embed="rId1"/>
          <a:stretch/>
        </p:blipFill>
        <p:spPr>
          <a:xfrm>
            <a:off x="3419640" y="2924280"/>
            <a:ext cx="4897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39640" y="112500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 1936 года —  его назначили командиром электромеханической боевой части эсминца «Фрунзе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http://war.topru.org/wp-content/uploads/2015/09/51715-thumb-720x340.jpg"/>
          <p:cNvPicPr/>
          <p:nvPr/>
        </p:nvPicPr>
        <p:blipFill>
          <a:blip r:embed="rId1"/>
          <a:stretch/>
        </p:blipFill>
        <p:spPr>
          <a:xfrm>
            <a:off x="1547640" y="2852640"/>
            <a:ext cx="6858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с февраля 1936 года по март 1937 года — служил  механиком штаба дивизиона эсминцев Черноморского фло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4" descr="C:\Users\Ольга\Desktop\2017 проектная деятельность\михеев руслан\IMG-20170126-WA0006.jpg"/>
          <p:cNvPicPr/>
          <p:nvPr/>
        </p:nvPicPr>
        <p:blipFill>
          <a:blip r:embed="rId1"/>
          <a:srcRect l="0" t="18499" r="23821" b="36351"/>
          <a:stretch/>
        </p:blipFill>
        <p:spPr>
          <a:xfrm>
            <a:off x="1258920" y="2997360"/>
            <a:ext cx="3143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С декабря 1943 года по апрель 1946 года —прадедушка был начальником  отделов Управления боевой подготовки ВМ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C:\Users\Ольга\Desktop\2017 проектная деятельность\михеев руслан\IMG-20170126-WA0005.jpg"/>
          <p:cNvPicPr/>
          <p:nvPr/>
        </p:nvPicPr>
        <p:blipFill>
          <a:blip r:embed="rId1"/>
          <a:srcRect l="2752" t="21200" r="0" b="22510"/>
          <a:stretch/>
        </p:blipFill>
        <p:spPr>
          <a:xfrm>
            <a:off x="539640" y="3213000"/>
            <a:ext cx="806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  <a:ea typeface="Arial"/>
              </a:rPr>
              <a:t>Награ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1557360"/>
            <a:ext cx="431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аслуги моего прадедушки контр адмирала Черноморского флота были отмечены различными наградами. Всего их у моего прадедушки было более деся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2" descr="C:\Users\Ольга\Desktop\2017 проектная деятельность\михеев руслан\IMG-20170126-WA0004.jpg"/>
          <p:cNvPicPr/>
          <p:nvPr/>
        </p:nvPicPr>
        <p:blipFill>
          <a:blip r:embed="rId1"/>
          <a:stretch/>
        </p:blipFill>
        <p:spPr>
          <a:xfrm>
            <a:off x="5364000" y="1484280"/>
            <a:ext cx="29530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5T15:22:39Z</dcterms:created>
  <dc:creator>Asus</dc:creator>
  <dc:description/>
  <dc:language>en-US</dc:language>
  <cp:lastModifiedBy>Ольга</cp:lastModifiedBy>
  <dcterms:modified xsi:type="dcterms:W3CDTF">2017-02-06T15:49:08Z</dcterms:modified>
  <cp:revision>12</cp:revision>
  <dc:subject/>
  <dc:title>Борис Яковлевич Красиков                       (1908—1978)</dc:title>
</cp:coreProperties>
</file>