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E79A-150E-4934-A469-F637EB01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7B7A-FFFE-46D8-8DAB-FF90012A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EE7E-E6A3-4B12-A411-A87107FF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A9C-FFB0-43CF-B684-AD9EA91A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A494-67A3-495E-9B79-51DC9811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F329-A01C-4972-AD4B-870DE594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9546-15F9-4EC3-9774-C6FCFC0F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7F54-C8B5-4A48-9015-4437A693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7619-2ACF-4DE5-9129-FEF4C4D8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9A0F-7158-46D9-82AE-3604E291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1E4-FF8A-486D-B931-D4647330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C61-07E7-454C-8D59-8B41ADD9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28E6-7BB0-40C9-A4B2-6238406457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ds03.infourok.ru/uploads/ex/0e96/0001f6dd-cb2777c9/640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944640" y="237960"/>
            <a:ext cx="7931160" cy="11764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2"/>
          <p:cNvSpPr/>
          <p:nvPr/>
        </p:nvSpPr>
        <p:spPr>
          <a:xfrm>
            <a:off x="755640" y="1628640"/>
            <a:ext cx="7500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1. Волосы спрятать под косы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2. На швейную машину не класть посторонние предм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3. Перед работой проверять, не осталось ли в изделии булавок или иг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4. Не наклоняться близко к движущимся и вращающимся частям швейной маш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5. Следить за правильным положением рук, ног, корп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6. Перед работой проверять исправность электрического шн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7. При включении электродвигателя машины в электрическую сеть и выключении ее браться только за корпус штепс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8. Осторожно обращаться с педалью, нажимать на нее плавно, без рыв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ds03.infourok.ru/uploads/ex/0e96/0001f6dd-cb2777c9/640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5" descr=""/>
          <p:cNvPicPr/>
          <p:nvPr/>
        </p:nvPicPr>
        <p:blipFill>
          <a:blip r:embed="rId2"/>
          <a:stretch/>
        </p:blipFill>
        <p:spPr>
          <a:xfrm>
            <a:off x="658800" y="311040"/>
            <a:ext cx="7931160" cy="117648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4"/>
          <p:cNvSpPr/>
          <p:nvPr/>
        </p:nvSpPr>
        <p:spPr>
          <a:xfrm>
            <a:off x="468360" y="1628640"/>
            <a:ext cx="806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ти могут работать с термопистолетом только под присмотром взрослых, потому что он представляет повышенную опасность для ребенка: он работает от электрической сети и сильно нагревается. К сожалению, в неумелых руках, при небрежном обращении, работа с клеевым пистолетом может привести к порче вещей, ожогам и даже пожару. Предлагаем вашему вниманию правила обращения с термопистоле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468360" y="378936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е оставлять без присмо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ри работе термопистолет ставить на подставку, а не класть на б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Работать только исправным инструмен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е прикасаться к кончику пистолета и трог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горячий к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о окончанию работы выключ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http://21vu.ru/sites/default/files/styles/article_w300/public/_pu/2015/02/1.3.jpg?itok=oG2SIfc1"/>
          <p:cNvPicPr/>
          <p:nvPr/>
        </p:nvPicPr>
        <p:blipFill>
          <a:blip r:embed="rId3"/>
          <a:stretch/>
        </p:blipFill>
        <p:spPr>
          <a:xfrm>
            <a:off x="6300720" y="4495680"/>
            <a:ext cx="215892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s://ds03.infourok.ru/uploads/ex/0e96/0001f6dd-cb2777c9/640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5" descr=""/>
          <p:cNvPicPr/>
          <p:nvPr/>
        </p:nvPicPr>
        <p:blipFill>
          <a:blip r:embed="rId2"/>
          <a:stretch/>
        </p:blipFill>
        <p:spPr>
          <a:xfrm>
            <a:off x="731880" y="5376960"/>
            <a:ext cx="722304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3"/>
          <a:stretch/>
        </p:blipFill>
        <p:spPr>
          <a:xfrm>
            <a:off x="1736640" y="480960"/>
            <a:ext cx="56340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3T03:22:20Z</dcterms:created>
  <dc:creator>Пользователь</dc:creator>
  <dc:description/>
  <dc:language>en-US</dc:language>
  <cp:lastModifiedBy>Пользователь Windows</cp:lastModifiedBy>
  <dcterms:modified xsi:type="dcterms:W3CDTF">2017-08-28T04:29:41Z</dcterms:modified>
  <cp:revision>72</cp:revision>
  <dc:subject/>
  <dc:title>Слайд 1</dc:title>
</cp:coreProperties>
</file>