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D811-049D-4197-B406-876D6097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9FD1-B229-4C9A-871E-C824EF3C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D084-5B7B-429A-A5C3-53F7AE44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F7AF-EFA3-4305-B10C-A35502D0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2E52-B9AA-4E06-80E6-86B9DB1C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CBC0-DC65-47C8-909E-C827EB45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3F12-57D1-4FE3-AF4E-7DD143D0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0550-D94E-4EC5-9FD4-8B146F58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17D0-46C6-4983-8CC4-9EE1A93E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EB9D-B107-4E48-89E6-47B940B7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E0CF-D53A-4FB2-A40B-49DE05F4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5C6B-045B-43F4-8365-00256F29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BC62-B789-4A7A-A417-28AED98DE9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ds03.infourok.ru/uploads/ex/0e96/0001f6dd-cb2777c9/640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2798640" y="219240"/>
            <a:ext cx="3705480" cy="2732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712800" y="426960"/>
            <a:ext cx="2328840" cy="3005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4"/>
          <a:stretch/>
        </p:blipFill>
        <p:spPr>
          <a:xfrm>
            <a:off x="457200" y="3687840"/>
            <a:ext cx="2803680" cy="2163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User\Desktop\2\P_20170301_092948.jpg"/>
          <p:cNvPicPr/>
          <p:nvPr/>
        </p:nvPicPr>
        <p:blipFill>
          <a:blip r:embed="rId5"/>
          <a:stretch/>
        </p:blipFill>
        <p:spPr>
          <a:xfrm>
            <a:off x="3376440" y="2719440"/>
            <a:ext cx="2286000" cy="2328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:\Users\User\Desktop\2\P_20170301_102620.jpg"/>
          <p:cNvPicPr/>
          <p:nvPr/>
        </p:nvPicPr>
        <p:blipFill>
          <a:blip r:embed="rId6"/>
          <a:stretch/>
        </p:blipFill>
        <p:spPr>
          <a:xfrm>
            <a:off x="4138560" y="4853160"/>
            <a:ext cx="2017800" cy="1590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:\Users\User\Desktop\2\P_20170301_104452.jpg"/>
          <p:cNvPicPr/>
          <p:nvPr/>
        </p:nvPicPr>
        <p:blipFill>
          <a:blip r:embed="rId7"/>
          <a:stretch/>
        </p:blipFill>
        <p:spPr>
          <a:xfrm>
            <a:off x="5999040" y="2712960"/>
            <a:ext cx="1633680" cy="2078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User\Desktop\2\P_20170306_115404.jpg"/>
          <p:cNvPicPr/>
          <p:nvPr/>
        </p:nvPicPr>
        <p:blipFill>
          <a:blip r:embed="rId8"/>
          <a:stretch/>
        </p:blipFill>
        <p:spPr>
          <a:xfrm>
            <a:off x="6638760" y="426960"/>
            <a:ext cx="1785960" cy="2365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9"/>
          <a:stretch/>
        </p:blipFill>
        <p:spPr>
          <a:xfrm>
            <a:off x="6297480" y="4584600"/>
            <a:ext cx="2608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3T03:22:20Z</dcterms:created>
  <dc:creator>Пользователь</dc:creator>
  <dc:description/>
  <dc:language>en-US</dc:language>
  <cp:lastModifiedBy>Пользователь Windows</cp:lastModifiedBy>
  <dcterms:modified xsi:type="dcterms:W3CDTF">2017-08-28T04:38:59Z</dcterms:modified>
  <cp:revision>77</cp:revision>
  <dc:subject/>
  <dc:title>Слайд 1</dc:title>
</cp:coreProperties>
</file>