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5D9-FE47-4B9E-921E-71FA0DD0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C19-89EE-456F-A84C-36E0AE05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9A8-649F-4EF8-9BB4-570653C6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AE6-94A8-48FD-8AE0-19D34211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C33-4890-4994-A0D9-5BA69490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978-7355-4090-8C5A-63438671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EA0-60DD-4C79-88C1-BA9F7170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0A2-EAC8-476B-A865-FCB33B9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CD9-FD97-46E8-A730-0E31038B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7B0-1182-4DB8-B39D-3B2860C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BF1-7CB2-4ED1-B336-4E8CBF40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3CB-ABA3-443F-A517-14E2864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8B70-17E9-401A-A364-36CCBD3F4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262080"/>
            <a:ext cx="7577280" cy="9205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11280" y="119700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пон – старая поду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/б ткань – старая простынь, платье и юб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алетная бумага – 5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ковая тр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риловые краски и гуашь – для роспи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евой стержень – 10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рнитура (пуговицы, ведро, палочка для канапе и т.д. - 19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611280" y="4005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изготовление данной поделки нами потрачено    примерно 34 рубля, всё остальное имелось дома в старых вещах (или куплено было  дав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2"/>
          <a:stretch/>
        </p:blipFill>
        <p:spPr>
          <a:xfrm>
            <a:off x="1023840" y="298440"/>
            <a:ext cx="7182000" cy="1311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611280" y="1557360"/>
            <a:ext cx="800244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я необходимые экономические расчеты, пришли к выводу: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зделие, выполненное нами, гораздо дешевле аналогов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туральные хлопчатобумажные ткани и материалы для изделия экологически безопасны. Правильное использование инструментов, швейной машины во время работы не принесли вреда нашему здор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ый материал для работы можно легко найти на берегу водоема, а также вокруг с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95280" y="1654920"/>
            <a:ext cx="7777080" cy="20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С работой мы справ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остались доволь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своим результа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404640"/>
            <a:ext cx="74678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870440" y="1279440"/>
            <a:ext cx="40543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00040" y="44388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Любите родную природу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доёмы, леса и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едь это же наша с тоб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веки родная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ней мы с тобою род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Живём мы с тобою на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ак будем же, люди, все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ы к ней относиться доб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040" y="379296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Люди, берегите окружающий мир, сохраняйте его не только для себя, но и для потом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64160" y="433440"/>
            <a:ext cx="3778200" cy="33955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3"/>
          <a:stretch/>
        </p:blipFill>
        <p:spPr>
          <a:xfrm>
            <a:off x="66600" y="5010120"/>
            <a:ext cx="871704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57120" y="602928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 (список источников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нет –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03:22:20Z</dcterms:created>
  <dc:creator>Пользователь</dc:creator>
  <dc:description/>
  <dc:language>en-US</dc:language>
  <cp:lastModifiedBy>Пользователь Windows</cp:lastModifiedBy>
  <dcterms:modified xsi:type="dcterms:W3CDTF">2017-08-28T04:39:21Z</dcterms:modified>
  <cp:revision>72</cp:revision>
  <dc:subject/>
  <dc:title>Слайд 1</dc:title>
</cp:coreProperties>
</file>