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C97-2505-4FD1-826A-792C66BA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A8C-7C13-4D06-9D1B-E3E287A1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A9A-03D3-4209-BE0B-69EC1620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5D6-E16F-48E3-9107-4BB5249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CC8-B090-45A7-B425-1F7EE15C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E292-72F9-4A51-B622-5094C79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9F7B-331C-4B17-B680-7D804E2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706-E0C8-4D8D-88B3-7AB5668B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2AE-8F99-4B80-92EF-0492D40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C3CA-24EB-4B6D-8A00-0D7C1C1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88A-A8BE-4796-B112-F360DDE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870-3809-48BE-B3DE-DEE38F27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F5BC-0596-495F-AB62-64FED6C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3C6C-3E8C-4B37-9997-8B1F5DF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A9E-E709-4F77-AEFA-AE9DDF5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0BA7-158D-4993-AEBA-FF47BD19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DB0-8FC8-4095-82BE-A30D2C8A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3257-9CC4-4A25-A2E4-05BE0DD5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F21E-4F5C-4106-B0E7-EF74C13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939A-E39C-4C2F-A74C-6334A72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1A52-6685-4DCE-AEAB-5D82B90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FDAE-14C0-40EF-8DFF-D1133E28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54C-1365-496D-AD48-31834E1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1578-951B-4C6E-A3EE-CE438C3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0012-D810-466C-887A-D35BD7E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7289-EA25-445C-99A6-5208ACC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4AAB-0768-4407-9802-328B789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66DD-B278-4262-AC9D-DE56A49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13A4-BE55-485D-A2C5-7C074AD5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6E97-C16A-4045-A8FE-0FE3F570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2E7B-EC10-457E-A9DE-2F1C17A5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A61B-642C-4E7A-83FD-EB39671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F141-4ADD-4DE0-B9E2-58A880F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1BE-65FB-4532-9290-D24A414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0C14-9B10-416D-BA62-DFFEBE5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5BC6-6D3F-4423-A4F3-11D58AB8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7DCE-88D8-4926-9D2D-FF4C5A7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ABA6-84D6-418C-9D22-F4DC7EE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1DE1-A97C-4D3D-8CFA-E51B6D7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29C1-0915-4D5A-900D-445E7BE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3C81-967F-4752-AB6A-83E1A1B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75CD-35F1-4E3A-9222-FC20073E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BBAC-7186-48F1-9439-8C4505F0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4377-692A-452C-B12C-36574199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B7C-ABB1-4CE5-9BB3-B6CDC9D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9FC8-5953-4784-81F1-0351C67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DF6F-DB3A-4F3A-AB1B-DE6A878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2794-ACEB-4F34-B695-0C7D6B84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D2384-D10A-4A01-A61E-DD5DACF4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F772-98EB-4D3F-8260-F12548F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CFFC-8581-447D-AE82-0CBD740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AD23-7C9D-40B4-B599-66740DC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A1A9B-BC5D-4B3F-8B31-DEAD3E2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226A-9D24-4CB0-8B68-948646A9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1D8E-B0B5-4A0F-9B62-8FF45B82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F8E-819C-4652-96D9-B898813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A7F1-BFD9-4661-9EB2-8D94443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CB4-878F-4A7F-880F-18871CB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A0F-DAB3-49C5-9F8C-613C2F2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675-BF66-4173-88DB-5FA65B0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1EF4-FEF7-459E-BB59-56A19EF31D2F}" type="slidenum">
              <a:rPr b="0" lang="ru-RU" sz="1100" spc="-1" strike="noStrike">
                <a:solidFill>
                  <a:srgbClr val="ff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1E25-8FCB-45DA-A3C7-41C161A5DB4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5100-90A9-4C15-925B-308F7D525C56}" type="slidenum">
              <a:rPr b="0" lang="ru-RU" sz="1100" spc="-1" strike="noStrike">
                <a:solidFill>
                  <a:srgbClr val="ff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c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c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c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01F-30DE-428E-A3E1-A6890A7AD54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E32F-8059-41C3-B13C-1D30350B2F2D}" type="slidenum">
              <a:rPr b="0" lang="ru-RU" sz="1100" spc="-1" strike="noStrike">
                <a:solidFill>
                  <a:srgbClr val="ff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32160" y="530280"/>
            <a:ext cx="6692760" cy="8348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57680" y="2286000"/>
            <a:ext cx="596880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Великая Побед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3"/>
          <p:cNvSpPr/>
          <p:nvPr/>
        </p:nvSpPr>
        <p:spPr>
          <a:xfrm flipH="1">
            <a:off x="3000240" y="4143240"/>
            <a:ext cx="5500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Работа ученицы 1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МОУ «Гимназия № 29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Хоханаева Асланб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rebuchet MS"/>
              </a:rPr>
              <a:t>Учитель Тимошенкова Ольг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Documents and Settings\Admin\Рабочий стол\Оля\Ветеран\вов\огонь.jpg"/>
          <p:cNvPicPr/>
          <p:nvPr/>
        </p:nvPicPr>
        <p:blipFill>
          <a:blip r:embed="rId2"/>
          <a:stretch/>
        </p:blipFill>
        <p:spPr>
          <a:xfrm>
            <a:off x="0" y="0"/>
            <a:ext cx="264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857760" y="1643040"/>
            <a:ext cx="4929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С огромной гордостью хочу рассказать о своем прадедушке гвардии младшем сержанте  Баттале   Хоханаеве, который прошёл фронтовыми дорогами от маленького  селения Кашхатау до Берлина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3" descr="DCAM0230.JPG"/>
          <p:cNvPicPr/>
          <p:nvPr/>
        </p:nvPicPr>
        <p:blipFill>
          <a:blip r:embed="rId2"/>
          <a:stretch/>
        </p:blipFill>
        <p:spPr>
          <a:xfrm>
            <a:off x="49320" y="1639800"/>
            <a:ext cx="401004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49772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3571920" y="1225440"/>
            <a:ext cx="5214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Фронтовые дороги Баттала начались осенью 1941 года на Донском фронте. Здесь на берегу реки Дона под селом Мартыновка он принял первое боевое крещ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3" descr="А.jpeg"/>
          <p:cNvPicPr/>
          <p:nvPr/>
        </p:nvPicPr>
        <p:blipFill>
          <a:blip r:embed="rId2"/>
          <a:stretch/>
        </p:blipFill>
        <p:spPr>
          <a:xfrm>
            <a:off x="285840" y="500040"/>
            <a:ext cx="3143160" cy="23256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а1.jpeg"/>
          <p:cNvPicPr/>
          <p:nvPr/>
        </p:nvPicPr>
        <p:blipFill>
          <a:blip r:embed="rId3"/>
          <a:stretch/>
        </p:blipFill>
        <p:spPr>
          <a:xfrm rot="20559000">
            <a:off x="500040" y="3816360"/>
            <a:ext cx="2398680" cy="180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287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2286000" y="227484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rebuchet MS"/>
              </a:rPr>
              <a:t>Впереди били битвы за Сталинград. Днём и ночью шли бои, ни часу передышки. За участие в этих боях Баттал был награжден  медалью "За оборону Сталинграда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а2.jpeg"/>
          <p:cNvPicPr/>
          <p:nvPr/>
        </p:nvPicPr>
        <p:blipFill>
          <a:blip r:embed="rId2"/>
          <a:stretch/>
        </p:blipFill>
        <p:spPr>
          <a:xfrm>
            <a:off x="357120" y="1500120"/>
            <a:ext cx="141624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"/>
          <p:cNvSpPr/>
          <p:nvPr/>
        </p:nvSpPr>
        <p:spPr>
          <a:xfrm>
            <a:off x="4214880" y="1214280"/>
            <a:ext cx="492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Далее путь лежал на Берлин. На Орловско-Курской  дуге встретил он своего земляка из селения Кашхатау Шамиля Чеченова, вместе с ним шли с боями на зап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3477960" cy="25718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28760" y="41432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Ачах Рахаев, Магомед Настуев, Мурадин Чочаев. Они все вместе форсировали Днепр, освобождали Варшаву, Прагу, штурмовали Берлин и победоносно завершили свой путь на Эль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352600" y="317520"/>
            <a:ext cx="5907240" cy="6159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2"/>
          <p:cNvSpPr/>
          <p:nvPr/>
        </p:nvSpPr>
        <p:spPr>
          <a:xfrm>
            <a:off x="2357280" y="1143000"/>
            <a:ext cx="62866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Прадедушка не любил вспоминать о войне. И об одном его подвиге мой дед узнал от сосед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".....  </a:t>
            </a:r>
            <a:r>
              <a:rPr b="0" i="1" lang="ru-RU" sz="2400" spc="-1" strike="noStrike">
                <a:solidFill>
                  <a:srgbClr val="ffff00"/>
                </a:solidFill>
                <a:latin typeface="Trebuchet MS"/>
              </a:rPr>
              <a:t>26 января 1941 года Баттал вместе с товарищами был отправлен в разведку в тыл врага. Шли по глубокому снегу с грузом взрывчатки. Шел сильный снег. Немцы и не предполагали, что  советские солдаты могут появиться за линией фронта в такую ночь. Фашисты стреляли не переставая</a:t>
            </a:r>
            <a:r>
              <a:rPr b="0" lang="ru-RU" sz="1800" spc="-1" strike="noStrike">
                <a:solidFill>
                  <a:srgbClr val="ffff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2079360" cy="1309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285840" y="714240"/>
            <a:ext cx="201600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2571840" y="185724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rebuchet MS"/>
              </a:rPr>
              <a:t>Разведчики бесшумно сняли часовых. Через несколько минут раздался сильный взрыв. Полетели в воздух в вагоны с пушками. Враг был уничтожен. Пленный офицер был ранен в ногу и не мог идти. Разведчики по очереди его тащили. Свистели пули, рвались снаряды. До восточного берега озера оставались считанные метры, и вдруг рядом с бойцами разорвался сна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17143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3000240" y="1357200"/>
            <a:ext cx="5715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rebuchet MS"/>
              </a:rPr>
              <a:t>Один из них, Николай Алёшин, - погиб. Баттал со своими товарищами чудом остался жив. </a:t>
            </a:r>
            <a:r>
              <a:rPr b="0" lang="ru-RU" sz="3200" spc="-1" strike="noStrike">
                <a:solidFill>
                  <a:srgbClr val="ffff00"/>
                </a:solidFill>
                <a:latin typeface="Trebuchet MS"/>
              </a:rPr>
              <a:t>За эту операцию он был награжден медалью "За отвагу", а потом на его груди появилась ещё одна "За победу над Германией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1968480" cy="3643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1000080" y="6429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rebuchet MS"/>
              </a:rPr>
              <a:t>Гибель товар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642960" y="278604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Пройдя тысячи километров фронтовых дорог, Баттал Хоханев в 1948 году  пришёл с войны и включился в мирный тр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Моего прадеда уже нет в живых, но историю его подвига свято хранят в нашей семье и передают из поколения в поко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2786040" y="714240"/>
            <a:ext cx="61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rebuchet MS"/>
              </a:rPr>
              <a:t>Я помню! Я горжус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Admin\Рабочий стол\Оля\Ветеран\вов\a2b553a4b091.jpg"/>
          <p:cNvPicPr/>
          <p:nvPr/>
        </p:nvPicPr>
        <p:blipFill>
          <a:blip r:embed="rId1"/>
          <a:stretch/>
        </p:blipFill>
        <p:spPr>
          <a:xfrm rot="20578200">
            <a:off x="217080" y="6076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7-02-15T17:15:36Z</dcterms:modified>
  <cp:revision>13</cp:revision>
  <dc:subject/>
  <dc:title>Слайд 1</dc:title>
</cp:coreProperties>
</file>