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2AE-3F73-467D-993D-B207649E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59A-18E5-4ABB-ADCC-6428A8C9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DA9-2529-4770-8DA1-1D4CC1A0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7C8-9EAD-4AC8-A6B6-025961C9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E985-A755-4DFE-AFFD-07ECA2DB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6172-90E1-47F7-84E1-66CF2583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2354-1EE7-44D2-9C83-B52D9202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2F90-4D4B-47F0-850E-4FAA02EC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A1AA-D2D1-477B-93D9-57895E9E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DB7E-D990-447B-8C60-D9B06D3A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5E92-CBB5-460E-9986-54CEC2EB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D76-8C08-4F18-A3ED-C5C39482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1FD3-CAC2-4477-AD90-C2403112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EDC3-0B88-4B9D-86C0-1F63B8D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A8C9-57E6-4113-9BE4-5548F2B1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BF71-7E15-4522-B714-8DB4279B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66CB-6D04-425E-BAB4-0930CD9E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1277C-3063-40CA-8F60-AFED6E91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251B3-F1A7-472B-A9B7-CFD33727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D057E-E7C0-40B5-8E92-287C1C1D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124E2-7E69-455C-86A5-5AFAFC18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D1C63-76C0-4765-AEBA-02F9A4C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CB3-01DD-457D-A3B5-4839DD3A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C0B7F-26D1-4499-9BBB-7DF3CCCD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E3064-2D20-481F-B9F6-CD462289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82F43-8BB2-4415-BC5D-42270CF3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66334-F38C-486A-82F4-D5149E13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348E3-FB12-43EA-B504-6285703A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CA867-C872-453C-B484-0C77641D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6C930-7AFB-49AD-81CD-8D660352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FA09-FA17-4950-BB2C-0A7BE90D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950F-18A3-4BCC-96E0-9D0E3147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E291D-8832-41DD-9F3C-B372FC7A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766-0D1C-4BE1-8BB0-6F0C69AB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D7F6A-0251-4FFA-8DBF-2595EEFE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749AF-AC82-4C88-B447-680A633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D1CF-F775-4F63-B8AD-41053FFA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0DC9-0DA6-4A25-8EFC-8E3BA3C3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80EC-D3FF-434C-81D4-C6E676B5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672C-6F6D-44F7-BF37-C5F70812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AA35-6F82-4FBC-8585-3020854A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7E1DC-FFE2-49C8-B4EA-78DCD3CD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D7F7-A5AC-438A-AEF2-9AC4D9EA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E137C-9809-4E8C-99A8-8A432B18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228-7AE4-46D1-B608-1C71FB23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C5E50-6AAC-44A0-9EC8-4AA7672D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DC18C-1F2B-4F69-A4EE-6722EC88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A7BB9-312F-442F-94A6-26367A90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E5244-C90E-4382-9044-F2B1109F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B5AB3-CBFF-40EA-BB84-9675A820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C1CCF-1977-42B7-A69D-E3767D8C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BFF71-0553-4077-A9BB-B3B7A770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A2FF0-D640-4B5F-838F-6547D66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B1C73-F2BC-423F-B81E-FC690F41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2C876-FCDE-41F7-9657-1E106D52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8D0-CD4A-4013-BDB3-65E09942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951EE7-DD3E-4849-AA08-E63A1BCA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CA1C9-E93A-489D-A8AD-821E66F2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371FD-2433-4758-9293-5A265B65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E9F98-A062-4CA5-AC6B-DBD662A0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EA698-376D-4AF9-BF8A-6191EF3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0E251-08D7-4360-B57B-48B7AD81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BC083-E8A3-4428-961F-02948403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7AD7C-0420-4F55-AA2B-9FECD66F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24C84-E3C9-4F69-A092-D35C74F8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E06BC-8951-41F7-830D-E411F594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791-CAA6-416A-A7C3-F33A0CD5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9493D-9FAF-4CD7-8526-C2BE30A6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ABD9C2-331F-42F3-87A9-56E08492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278A0-5F2F-43C7-8EA7-2CF20FD3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D01F6-E1A1-401B-9DB1-B0A0B5A2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26739-2A7B-423A-AD5D-3B431900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46D1B-93FA-4F86-9AEF-58FC4E56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BDD6D-3E8E-489B-834C-1D3779E0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E223C-6550-4AB8-A00E-6FC23D0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B4C77-CA41-4346-BB60-6B899E51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11363-2DEB-4FB1-A877-A790E44C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E33-1C06-4F9F-AEEE-6E66366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D1326-FFD1-4DE4-972E-CEB91D4D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CDC95B-D01C-4191-8D2F-668B7EF1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2ECF2-FBA8-4F03-966E-EBAEA329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FBE89-02FF-4D59-B54C-94E2B80E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F729F-D0D0-4CAD-A394-757918B5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2A0-F188-485D-A50E-87D15597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5397-ABCC-479F-B364-4D914F4F30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C853-4B22-482F-B30B-035AD0AF74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8DA1-66D1-4E61-8599-3F71C135A6B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B2E8-D2E0-4BCC-A531-954663FA04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AA71-623F-4144-8D1A-CF6D453EE0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87AE-D86E-4799-BBB4-750A830CC5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EDAD-86D1-4AC4-9938-1B94DCF78D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84692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ТВОРЧЕСКИЙ ПРОЕКТ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5a160b"/>
                </a:solidFill>
                <a:latin typeface="Century Schoolbook"/>
              </a:rPr>
              <a:t>ТЕМА: «ОТКУДА БЕРУТСЯ ДЕНЬГИ?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24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БОУ СОШ №2 г.Долинс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Ким Сен О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1А класс, 17 ле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учный руководитель: Бельчева И.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789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4356000" y="3789360"/>
            <a:ext cx="4788000" cy="30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ЧТО УЗНАЮТ УЧАЩИЕСЯ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79280" y="1341000"/>
            <a:ext cx="85694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entury Schoolbook"/>
              </a:rPr>
              <a:t>Что такое деньги, какие они бывают и откуда они взялись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entury Schoolbook"/>
              </a:rPr>
              <a:t>Историю появления первых мон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324000" y="3986280"/>
            <a:ext cx="4319280" cy="262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5003640" y="4006800"/>
            <a:ext cx="3360960" cy="262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23490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СОЗДАНИЕ ВИДЕОРОЛИК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160b"/>
                </a:solidFill>
                <a:latin typeface="Century Schoolbook"/>
              </a:rPr>
              <a:t>«В гостях у Рублика»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4160" cy="21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694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ПРОГРАММЫ ДЛЯ СОЗДАНИЯ МУЛЬТФИЛЬМА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50560" y="1844640"/>
            <a:ext cx="8497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Графический редактор 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Paint</a:t>
            </a: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Видеоредактор Movavi Video Editor 11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6407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entury Schoolbook"/>
              </a:rPr>
              <a:t>ПРИ СОЗДАНИИ МУЛЬТФИЛЬМА УЧИТЫВАЛИСЬ:</a:t>
            </a:r>
            <a:endParaRPr b="0" lang="en-US" sz="4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79280" y="2349360"/>
            <a:ext cx="8569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160b"/>
                </a:solidFill>
                <a:latin typeface="Century Schoolbook"/>
              </a:rPr>
              <a:t>Возрастные особенности младших школьников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160b"/>
                </a:solidFill>
                <a:latin typeface="Century Schoolbook"/>
              </a:rPr>
              <a:t>И особенности восприятия материал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entury Schoolbook"/>
              </a:rPr>
              <a:t>ФИЛЬМ «В ГОСТЯХ У РУБЛИКА»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360" y="1844640"/>
            <a:ext cx="8523360" cy="382428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ая выноска 3"/>
          <p:cNvSpPr/>
          <p:nvPr/>
        </p:nvSpPr>
        <p:spPr>
          <a:xfrm>
            <a:off x="2700360" y="6093000"/>
            <a:ext cx="1440000" cy="649080"/>
          </a:xfrm>
          <a:prstGeom prst="wedgeRectCallout">
            <a:avLst>
              <a:gd name="adj1" fmla="val -3092"/>
              <a:gd name="adj2" fmla="val -22828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Жми на картин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0d0d"/>
                </a:solidFill>
                <a:latin typeface="Century Schoolbook"/>
              </a:rPr>
              <a:t>ИТОГИ РАБОТЫ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0d0d"/>
                </a:solidFill>
                <a:latin typeface="Century Schoolbook"/>
              </a:rPr>
              <a:t>НАМ УДАЛОСЬ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78920" y="1600200"/>
            <a:ext cx="8496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Изучить учебное пособие «финансовая грамотность» С.Федин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Узнать историю создания денег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Выяснить как появились первые монеты и что объединяет все монеты мир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Создать мультфильм «откуда берутся деньги?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569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ПРАКТИЧЕСКАЯ ЗНАЧИМОСТЬ РАБОТЫ: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07640" y="2276280"/>
            <a:ext cx="8567640" cy="45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В качестве наглядного пособия учителями начальной школы на занятиях по курсу «Финансовая грамотность»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Обучающимися и родителями в качестве вспомогательного материала при изучении темы: «откуда берутся деньги?»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В качестве наглядного пособия для проведения классных часов о финансовой грамот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393840" y="1557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атериал может быть использован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640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ПЕРСПЕКТИВА ДАЛЬНЕЙШЕЙ РАБОТЫ: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916280"/>
            <a:ext cx="746748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160b"/>
                </a:solidFill>
                <a:latin typeface="Century Schoolbook"/>
              </a:rPr>
              <a:t>Создание видеороликов для изучения всех занятий по учебнику «Финансовая грамотность» С. Федина для начальной школы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11280" y="836640"/>
            <a:ext cx="460836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«НАЖИТЬ МНОГО ДЕНЕГ - ХРАБРОСТЬ;</a:t>
            </a:r>
            <a:br>
              <a:rPr sz="36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СОХРАНИТЬ ИХ – МУДРОСТЬ,</a:t>
            </a:r>
            <a:br>
              <a:rPr sz="36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А УМЕЛО РАСХОДОВАТЬ – ИСКУССТВО».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File:Bertholdauerbach.jpg"/>
          <p:cNvPicPr/>
          <p:nvPr/>
        </p:nvPicPr>
        <p:blipFill>
          <a:blip r:embed="rId1"/>
          <a:stretch/>
        </p:blipFill>
        <p:spPr>
          <a:xfrm>
            <a:off x="219240" y="128520"/>
            <a:ext cx="4413240" cy="514980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1"/>
          <p:cNvSpPr/>
          <p:nvPr/>
        </p:nvSpPr>
        <p:spPr>
          <a:xfrm>
            <a:off x="351000" y="5373720"/>
            <a:ext cx="42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Бертольд Аверб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СПАСИБО ЗА ВНИМАНИЕ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8920" y="25560"/>
            <a:ext cx="849636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АКТУАЛЬНОСТЬ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4360" y="3606840"/>
            <a:ext cx="7467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ПРОБЛЕМА: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оугольник 1"/>
          <p:cNvSpPr/>
          <p:nvPr/>
        </p:nvSpPr>
        <p:spPr>
          <a:xfrm>
            <a:off x="154080" y="105264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160b"/>
                </a:solidFill>
                <a:latin typeface="Century Schoolbook"/>
              </a:rPr>
              <a:t>Повышение уровня финансовой грамотности - это ключ к финансовому успеху и благополуч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"/>
          <p:cNvSpPr/>
          <p:nvPr/>
        </p:nvSpPr>
        <p:spPr>
          <a:xfrm>
            <a:off x="154080" y="47242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160b"/>
                </a:solidFill>
                <a:latin typeface="Century Schoolbook"/>
              </a:rPr>
              <a:t>Как рассказать детям о деньгах, чтобы было понятно, доступно и прост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419640" y="1141200"/>
            <a:ext cx="5379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4000" spc="-1" strike="noStrike">
                <a:solidFill>
                  <a:srgbClr val="5a160b"/>
                </a:solidFill>
                <a:latin typeface="Century Schoolbook"/>
              </a:rPr>
              <a:t>Рассказать младшим школьникам откуда берутся деньг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81080" y="1739880"/>
            <a:ext cx="3960720" cy="432288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2"/>
          <p:cNvSpPr/>
          <p:nvPr/>
        </p:nvSpPr>
        <p:spPr>
          <a:xfrm>
            <a:off x="179280" y="25560"/>
            <a:ext cx="849636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ЦЕЛЬ ПРОЕК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09080" y="1196640"/>
            <a:ext cx="38862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entury Schoolbook"/>
              </a:rPr>
              <a:t>1. Изучить учебное пособие С. Федина «Финансовая грамотность: материалы для учащихся. 2,3 классы»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2089080" cy="205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3471840" y="2421000"/>
            <a:ext cx="5560920" cy="4437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2"/>
          <p:cNvSpPr/>
          <p:nvPr/>
        </p:nvSpPr>
        <p:spPr>
          <a:xfrm>
            <a:off x="179280" y="25560"/>
            <a:ext cx="849636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ЗАДАЧИ ПРОЕКТ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82520" y="1125360"/>
            <a:ext cx="84931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entury Schoolbook"/>
              </a:rPr>
              <a:t>2. Узнать историю создания денег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182520" y="1844640"/>
            <a:ext cx="8489880" cy="43210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2"/>
          <p:cNvSpPr/>
          <p:nvPr/>
        </p:nvSpPr>
        <p:spPr>
          <a:xfrm>
            <a:off x="179280" y="25560"/>
            <a:ext cx="849636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ЗАДАЧИ ПРОЕКТ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78920" y="1268280"/>
            <a:ext cx="8496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-438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entury Schoolbook"/>
              </a:rPr>
              <a:t>3. Выяснить, как появились первые монеты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38480" indent="-438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entury Schoolbook"/>
              </a:rPr>
              <a:t>4. Освоить программы для создания мультфильм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38480" indent="-438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38480" indent="-438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139760" cy="1120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179280" y="25560"/>
            <a:ext cx="849636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ЗАДАЧИ ПРОЕКТ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урок редактор Paint в Windows 7 ред с"/>
          <p:cNvPicPr/>
          <p:nvPr/>
        </p:nvPicPr>
        <p:blipFill>
          <a:blip r:embed="rId2"/>
          <a:stretch/>
        </p:blipFill>
        <p:spPr>
          <a:xfrm>
            <a:off x="4859280" y="3522600"/>
            <a:ext cx="3635280" cy="28926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" descr=""/>
          <p:cNvPicPr/>
          <p:nvPr/>
        </p:nvPicPr>
        <p:blipFill>
          <a:blip r:embed="rId3"/>
          <a:stretch/>
        </p:blipFill>
        <p:spPr>
          <a:xfrm>
            <a:off x="322200" y="3573360"/>
            <a:ext cx="4105440" cy="28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78920" y="1413000"/>
            <a:ext cx="84963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entury Schoolbook"/>
              </a:rPr>
              <a:t>5.  Сочинить рассказ для младших школьников на тему: «Откуда берутся деньги?»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entury Schoolbook"/>
              </a:rPr>
              <a:t>6. Создать к рассказу «Откуда берутся деньги?» мультимедийное сопровождение «В гостях у Рублика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79280" y="25560"/>
            <a:ext cx="849636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ЗАДАЧИ ПРОЕКТ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567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ФИНАНСОВАЯ ГРАМОТНОСТЬ В УЧЕБНОМ ПОСОБИИ ДЛЯ МЛАДШИХ ШКОЛЬНИКО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927000" y="1322280"/>
            <a:ext cx="6570720" cy="574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3:39:06Z</dcterms:created>
  <dc:creator>Победа</dc:creator>
  <dc:description/>
  <dc:language>en-US</dc:language>
  <cp:lastModifiedBy>Победа</cp:lastModifiedBy>
  <dcterms:modified xsi:type="dcterms:W3CDTF">2017-08-28T11:46:21Z</dcterms:modified>
  <cp:revision>27</cp:revision>
  <dc:subject/>
  <dc:title>Творческий проект   Тема: «Откуда берутся деньги?»</dc:title>
</cp:coreProperties>
</file>