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204C-BC1C-458C-A899-52F796CCE5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AC05-4BFD-4D4E-935A-B6E16FDF0A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70F-57E0-4789-A23B-5A4BD98D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F41-D465-4646-81EF-7D94C4D1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1A8-8FD1-4F8B-83B3-BFC7BAA0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A70-C793-40EA-8FA5-DF5AEEAD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D01-B2CC-441D-AC76-49FAE2DB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748-BEFA-4EF8-A2C8-C55F293D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CED-81A6-4BE0-9B2E-FCA13D3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8A3-1506-4F3B-A28C-C2D8B825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26B-B4C2-4DD6-B1CB-DE892BD3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3BB-7DB6-4792-A773-66BC611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A06-4197-4E88-ADF7-3C18CC32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503-5F24-4768-A198-9B8A008B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D040-2BAD-4E6B-93B3-AD413AFBCA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0" y="4724280"/>
            <a:ext cx="678168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3"/>
          <p:cNvSpPr/>
          <p:nvPr/>
        </p:nvSpPr>
        <p:spPr>
          <a:xfrm>
            <a:off x="1219320" y="0"/>
            <a:ext cx="0" cy="586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1640" y="2205000"/>
            <a:ext cx="74674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СТРУКТУРА 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АЗВИВАЮЩИХ УРОКОВ ТЕХНОЛОГ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ЯТЕЛЬНОСТНЫЙ МЕТОД ОБУЧЕН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>
            <a:off x="533520" y="5257800"/>
            <a:ext cx="86104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914400" y="3962520"/>
            <a:ext cx="0" cy="289548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2050920" y="-571680"/>
            <a:ext cx="3961080" cy="2145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55760" y="5716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 «Школа 2100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Урок рефлек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III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 ЭТАП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.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  Итог. Рефлек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8360" y="198900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ооценка результатов деятельности, осознание, границ применения нового зн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доления затрудн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5398920"/>
            <a:ext cx="60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езультат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собственной познаватель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95280" y="342900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ализируется, где и почему были допущены ошибки, способы их ис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овариваются способы действий, вызвавшие затруд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ценивается деятельность на уро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сканирование0009"/>
          <p:cNvPicPr/>
          <p:nvPr/>
        </p:nvPicPr>
        <p:blipFill>
          <a:blip r:embed="rId1"/>
          <a:srcRect l="18014" t="0" r="0" b="12098"/>
          <a:stretch/>
        </p:blipFill>
        <p:spPr>
          <a:xfrm>
            <a:off x="6588000" y="4797360"/>
            <a:ext cx="2303640" cy="1860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сканирование0007"/>
          <p:cNvPicPr/>
          <p:nvPr/>
        </p:nvPicPr>
        <p:blipFill>
          <a:blip r:embed="rId2"/>
          <a:srcRect l="17819" t="0" r="0" b="11532"/>
          <a:stretch/>
        </p:blipFill>
        <p:spPr>
          <a:xfrm>
            <a:off x="179280" y="189000"/>
            <a:ext cx="1728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ТИПОЛОГИЯ УРО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рок «открытия» нового зн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рок рефлек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рок развивающего контр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бщеметодологический ур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5"/>
          <p:cNvSpPr/>
          <p:nvPr/>
        </p:nvSpPr>
        <p:spPr>
          <a:xfrm>
            <a:off x="1219320" y="-7920"/>
            <a:ext cx="0" cy="586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533520" y="5249880"/>
            <a:ext cx="86104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914400" y="3954600"/>
            <a:ext cx="0" cy="289548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0" y="1676520"/>
            <a:ext cx="769608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8"/>
          <p:cNvSpPr/>
          <p:nvPr/>
        </p:nvSpPr>
        <p:spPr>
          <a:xfrm>
            <a:off x="324000" y="1413000"/>
            <a:ext cx="86104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123516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123516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ЭТАП.   Самоопределение к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3516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516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Цели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: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формирование положитель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516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опреде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еятельности на уро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123516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е области содержания уро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тематические рам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123516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516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Результат: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яя акту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516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304920" y="5418000"/>
            <a:ext cx="861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304920" y="1143000"/>
            <a:ext cx="0" cy="7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8915400" y="1143000"/>
            <a:ext cx="0" cy="7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11"/>
          <p:cNvSpPr/>
          <p:nvPr/>
        </p:nvSpPr>
        <p:spPr>
          <a:xfrm>
            <a:off x="304920" y="1843200"/>
            <a:ext cx="0" cy="357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16"/>
          <p:cNvSpPr/>
          <p:nvPr/>
        </p:nvSpPr>
        <p:spPr>
          <a:xfrm>
            <a:off x="8915400" y="1843200"/>
            <a:ext cx="0" cy="357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2987640" y="18900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Урок рефлек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сканирование0007"/>
          <p:cNvPicPr/>
          <p:nvPr/>
        </p:nvPicPr>
        <p:blipFill>
          <a:blip r:embed="rId1"/>
          <a:srcRect l="17819" t="0" r="0" b="11532"/>
          <a:stretch/>
        </p:blipFill>
        <p:spPr>
          <a:xfrm>
            <a:off x="250920" y="189000"/>
            <a:ext cx="1728720" cy="135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сканирование0009"/>
          <p:cNvPicPr/>
          <p:nvPr/>
        </p:nvPicPr>
        <p:blipFill>
          <a:blip r:embed="rId2"/>
          <a:srcRect l="18019" t="0" r="0" b="12104"/>
          <a:stretch/>
        </p:blipFill>
        <p:spPr>
          <a:xfrm>
            <a:off x="6732720" y="4869000"/>
            <a:ext cx="21589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Урок рефлек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I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ЭТАП.   Акт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Цели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вторение необходимых ЗУ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ая  раб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проверка  по образц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ксация результ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971640" y="4869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Результат: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икс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трудн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сканирование0009"/>
          <p:cNvPicPr/>
          <p:nvPr/>
        </p:nvPicPr>
        <p:blipFill>
          <a:blip r:embed="rId1"/>
          <a:srcRect l="18018" t="0" r="0" b="12113"/>
          <a:stretch/>
        </p:blipFill>
        <p:spPr>
          <a:xfrm>
            <a:off x="6948360" y="5013360"/>
            <a:ext cx="1871640" cy="151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сканирование0007"/>
          <p:cNvPicPr/>
          <p:nvPr/>
        </p:nvPicPr>
        <p:blipFill>
          <a:blip r:embed="rId2"/>
          <a:srcRect l="17818" t="0" r="0" b="11522"/>
          <a:stretch/>
        </p:blipFill>
        <p:spPr>
          <a:xfrm>
            <a:off x="179280" y="189000"/>
            <a:ext cx="20890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Урок рефлек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III </a:t>
            </a:r>
            <a:r>
              <a:rPr b="1" lang="ru-RU" sz="3200" spc="-1" strike="noStrike">
                <a:solidFill>
                  <a:srgbClr val="008080"/>
                </a:solidFill>
                <a:latin typeface="Times New Roman"/>
              </a:rPr>
              <a:t> ЭТА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341080" y="191628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Times New Roman"/>
              </a:rPr>
              <a:t>Локализация затрудн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39640" y="2708280"/>
            <a:ext cx="82090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Цель: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 места и  прич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яют место ошибки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де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казывают способы действий. Уточняют цель дальнейшей деятельности и тему 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вают с этало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яют задания творческ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755640" y="566100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Результат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ы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и причина затрудн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сканирование0007"/>
          <p:cNvPicPr/>
          <p:nvPr/>
        </p:nvPicPr>
        <p:blipFill>
          <a:blip r:embed="rId1"/>
          <a:srcRect l="17811" t="0" r="0" b="11526"/>
          <a:stretch/>
        </p:blipFill>
        <p:spPr>
          <a:xfrm>
            <a:off x="250920" y="189000"/>
            <a:ext cx="23050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Урок рефлек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IV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ЭТА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08440" y="1700280"/>
            <a:ext cx="89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Построение проекта ликвидации причин затрудн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02480" y="2421000"/>
            <a:ext cx="8136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ЦЕЛЬ: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ие проекта выхода из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формирование способности к его выполнению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539640" y="378936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струируют алгори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являют, в чем именно заключаются ошиб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ково фиксируется причина ошиб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равляют ошибки самостоятельно, пользуясь алгоритмом исправления или этало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39640" y="59500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зультат: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квидация  затрудн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сканирование0009"/>
          <p:cNvPicPr/>
          <p:nvPr/>
        </p:nvPicPr>
        <p:blipFill>
          <a:blip r:embed="rId1"/>
          <a:srcRect l="18018" t="0" r="0" b="12115"/>
          <a:stretch/>
        </p:blipFill>
        <p:spPr>
          <a:xfrm>
            <a:off x="7236000" y="5519880"/>
            <a:ext cx="1655640" cy="133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сканирование0007"/>
          <p:cNvPicPr/>
          <p:nvPr/>
        </p:nvPicPr>
        <p:blipFill>
          <a:blip r:embed="rId2"/>
          <a:srcRect l="17813" t="0" r="0" b="11534"/>
          <a:stretch/>
        </p:blipFill>
        <p:spPr>
          <a:xfrm>
            <a:off x="250920" y="189000"/>
            <a:ext cx="18730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Урок рефлек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V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ЭТА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6160" y="179388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Обобщение затрудн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68360" y="2349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бальное фиксирование типовых затруднений нового знания 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ение механизмов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я алгорит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54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Результат: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знание механизмов  использования  алгорит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11280" y="3933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уждение типовых затрудн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оваривание формулировок способов действий, которые вызвали затруд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сканирование0007"/>
          <p:cNvPicPr/>
          <p:nvPr/>
        </p:nvPicPr>
        <p:blipFill>
          <a:blip r:embed="rId1"/>
          <a:srcRect l="17807" t="0" r="0" b="11528"/>
          <a:stretch/>
        </p:blipFill>
        <p:spPr>
          <a:xfrm>
            <a:off x="250920" y="189000"/>
            <a:ext cx="20174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Урок рефлек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VI 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 ЭТА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Самостоятельная работа 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с самопроверкой по этало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2924280"/>
            <a:ext cx="88930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 самоконтроль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воения знаний;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ксации знания в сознании ученика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яют самостоятельную работу, выбирая только те задания, в которых были ошиб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провер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яют самопроверку заданий творческого уровн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50920" y="501336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Результат: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 индивидуальная рефлексия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–  самоощущение успех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–  адекватная самооц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сканирование0007"/>
          <p:cNvPicPr/>
          <p:nvPr/>
        </p:nvPicPr>
        <p:blipFill>
          <a:blip r:embed="rId1"/>
          <a:srcRect l="17807" t="0" r="0" b="11528"/>
          <a:stretch/>
        </p:blipFill>
        <p:spPr>
          <a:xfrm>
            <a:off x="250920" y="189000"/>
            <a:ext cx="20174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Урок рефлек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II </a:t>
            </a: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 ЭТА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274480" y="172260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Включение знаний в систе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2421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Цель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ключение нового уточненного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я в систему,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ановка локальных связей нового уточненного знания с имеющими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24000" y="386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яют задания, в которых рассматриваются способы действий, связанные с ранее изученными и между собо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Повторяю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ыдущий этап для другого вариан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120" y="5734080"/>
            <a:ext cx="89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Результат: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вление границ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я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сканирование0007"/>
          <p:cNvPicPr/>
          <p:nvPr/>
        </p:nvPicPr>
        <p:blipFill>
          <a:blip r:embed="rId1"/>
          <a:srcRect l="17807" t="0" r="0" b="11528"/>
          <a:stretch/>
        </p:blipFill>
        <p:spPr>
          <a:xfrm>
            <a:off x="250920" y="189000"/>
            <a:ext cx="20174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7:56:31Z</dcterms:created>
  <dc:creator>Larisa</dc:creator>
  <dc:description/>
  <dc:language>en-US</dc:language>
  <cp:lastModifiedBy>энже</cp:lastModifiedBy>
  <dcterms:modified xsi:type="dcterms:W3CDTF">2017-08-28T16:55:43Z</dcterms:modified>
  <cp:revision>70</cp:revision>
  <dc:subject/>
  <dc:title>Презентация PowerPoint</dc:title>
</cp:coreProperties>
</file>