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968B-7353-45DB-987E-421A1D5A1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4D66-ACEE-412F-8ABA-88E11D9D9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5FAE-F37F-4564-8542-86DBD4D4D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6F23-C3A6-44C9-8FF7-B539E701B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F2DA9-E360-4E7C-964C-F917BF67C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1E6B9-E1B5-4B74-9827-017B5D844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519D6-97CA-4B69-BAB9-3C6801067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2FABE-5D96-4CCD-BCA0-2816B26E1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95B79-EDE9-4277-8FB0-2440C8628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05122-8E61-4B4E-9FA4-A067F0785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CF37A-1306-415E-B1F4-0E1117DF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1F83-3AC7-4A24-BB51-F8BBD5A19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20E49-3A27-427D-A23F-598ED7F0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139B6-28DF-4805-AE35-F917438B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52204-0A56-4501-89C5-AEC8F8B25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6967F-8448-4033-B46F-3211DE7B1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7B692-F8A5-4682-AF45-74CBC9948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AEE8A-C0A6-4197-AB3A-096B6DE9F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6C872-FF39-42DF-91CA-6CB121C75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998F4-1ECF-412E-8003-5BC52B8D8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130B7-4CAE-44B1-9774-AE2455A29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C14A8-D700-4B4D-9442-5C0B34ED5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913E-034B-4674-BC5D-A1EB320EB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69A21-D360-4474-8188-4AFCD0C71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86B41-8B6B-43FB-AEED-707A09BC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4F781-5DBF-4C45-9279-DB026B7A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230BA-AA22-47C9-9898-AF8F217E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537BC-2A64-4017-9654-32B88ECD8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A39D2-E7BE-4948-B7E9-0C72EF1CD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7212A-9548-4411-8E27-1BD09766A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6C8AE-0462-4A30-80A4-C81AC454B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C380F-C75A-4C09-8B0A-B7E124D21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03C3E-7568-4C0B-9BB1-F3AD42F75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8169-4543-4D93-B8DD-654280EB4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E5DFA-4200-4583-A0D1-A0CA7EC8F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72B3F-81AE-4195-8416-8D044CE86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6B3CE-176E-4EA2-B638-5D26FE13E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A79D6-0BF6-4BAF-8415-12654BAE5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23B1A-502C-4C7F-A519-8BFF2566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85BA7-5390-4FF3-A5FC-65184B6A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7E8D1-69AC-41F7-BD8A-669F1A516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9E634-E6C7-4401-B11F-BC560DA80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B7B35-4497-45B2-8CED-687F89C46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F885-E1B7-4586-BF3D-3FBF9BDE5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C5B0-216E-4EF1-AFA9-037567BC1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53A6-B907-4E20-9C65-D04738A7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C939-D6F1-4623-A4F2-F9CAC172A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9F0A-2626-43F1-B67F-7571A5519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D1F31-29EE-44A0-AAFC-123EF659AF5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3EE95-C7E0-47D1-A7D1-C0292177A73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03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7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8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9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0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1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2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3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5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6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7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10634-89FF-4022-A313-DA86BAB5D1D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160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1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2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9A44B-CC11-462D-AFE1-86C0DA45821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47280" y="3499920"/>
            <a:ext cx="6046920" cy="13431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Garamond"/>
              </a:rPr>
              <a:t>урок русского языка </a:t>
            </a:r>
            <a:br>
              <a:rPr sz="3200"/>
            </a:br>
            <a:r>
              <a:rPr b="1" lang="ru-RU" sz="3200" spc="-1" strike="noStrike">
                <a:solidFill>
                  <a:srgbClr val="000066"/>
                </a:solidFill>
                <a:latin typeface="Garamond"/>
              </a:rPr>
              <a:t>3 класс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826920" y="549000"/>
            <a:ext cx="7345440" cy="28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Garamond"/>
              </a:rPr>
              <a:t>Тема урока.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Garamond"/>
              </a:rPr>
              <a:t> </a:t>
            </a:r>
            <a:r>
              <a:rPr b="1" lang="ru-RU" sz="5400" spc="-1" strike="noStrike">
                <a:solidFill>
                  <a:srgbClr val="000066"/>
                </a:solidFill>
                <a:latin typeface="Garamond"/>
              </a:rPr>
              <a:t>Выбор букв ы или и     после ц.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2843280" y="5373720"/>
            <a:ext cx="604656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aramond"/>
              </a:rPr>
              <a:t>Учитель начальных классов Фотеева О.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aramond"/>
              </a:rPr>
              <a:t>МБОУ «Лицей №1» г.Нефтеюганс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95280" y="12600"/>
            <a:ext cx="8229600" cy="968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Garamond"/>
              </a:rPr>
              <a:t>Задачи урока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Garamond"/>
              </a:rPr>
              <a:t>Открыть способ проверки орфограммы «Буквы </a:t>
            </a:r>
            <a:r>
              <a:rPr b="0" i="1" lang="ru-RU" sz="3200" spc="-1" strike="noStrike">
                <a:solidFill>
                  <a:srgbClr val="000066"/>
                </a:solidFill>
                <a:latin typeface="Garamond"/>
              </a:rPr>
              <a:t>ы</a:t>
            </a:r>
            <a:r>
              <a:rPr b="0" lang="ru-RU" sz="3200" spc="-1" strike="noStrike">
                <a:solidFill>
                  <a:srgbClr val="000066"/>
                </a:solidFill>
                <a:latin typeface="Garamond"/>
              </a:rPr>
              <a:t> или </a:t>
            </a:r>
            <a:r>
              <a:rPr b="0" i="1" lang="ru-RU" sz="3200" spc="-1" strike="noStrike">
                <a:solidFill>
                  <a:srgbClr val="000066"/>
                </a:solidFill>
                <a:latin typeface="Garamond"/>
              </a:rPr>
              <a:t>и</a:t>
            </a:r>
            <a:r>
              <a:rPr b="0" lang="ru-RU" sz="3200" spc="-1" strike="noStrike">
                <a:solidFill>
                  <a:srgbClr val="000066"/>
                </a:solidFill>
                <a:latin typeface="Garamond"/>
              </a:rPr>
              <a:t> после </a:t>
            </a:r>
            <a:r>
              <a:rPr b="0" i="1" lang="ru-RU" sz="3200" spc="-1" strike="noStrike">
                <a:solidFill>
                  <a:srgbClr val="000066"/>
                </a:solidFill>
                <a:latin typeface="Garamond"/>
              </a:rPr>
              <a:t>ц</a:t>
            </a:r>
            <a:r>
              <a:rPr b="0" lang="ru-RU" sz="3200" spc="-1" strike="noStrike">
                <a:solidFill>
                  <a:srgbClr val="000066"/>
                </a:solidFill>
                <a:latin typeface="Garamond"/>
              </a:rPr>
              <a:t>»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 algn="just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Garamond"/>
              </a:rPr>
              <a:t>Сконструировать способ проверки орфограммы «Буквы </a:t>
            </a:r>
            <a:r>
              <a:rPr b="0" i="1" lang="ru-RU" sz="3200" spc="-1" strike="noStrike">
                <a:solidFill>
                  <a:srgbClr val="000066"/>
                </a:solidFill>
                <a:latin typeface="Garamond"/>
              </a:rPr>
              <a:t>ы</a:t>
            </a:r>
            <a:r>
              <a:rPr b="0" lang="ru-RU" sz="3200" spc="-1" strike="noStrike">
                <a:solidFill>
                  <a:srgbClr val="000066"/>
                </a:solidFill>
                <a:latin typeface="Garamond"/>
              </a:rPr>
              <a:t> или </a:t>
            </a:r>
            <a:r>
              <a:rPr b="0" i="1" lang="ru-RU" sz="3200" spc="-1" strike="noStrike">
                <a:solidFill>
                  <a:srgbClr val="000066"/>
                </a:solidFill>
                <a:latin typeface="Garamond"/>
              </a:rPr>
              <a:t>и</a:t>
            </a:r>
            <a:r>
              <a:rPr b="0" lang="ru-RU" sz="3200" spc="-1" strike="noStrike">
                <a:solidFill>
                  <a:srgbClr val="000066"/>
                </a:solidFill>
                <a:latin typeface="Garamond"/>
              </a:rPr>
              <a:t> после </a:t>
            </a:r>
            <a:r>
              <a:rPr b="0" i="1" lang="ru-RU" sz="3200" spc="-1" strike="noStrike">
                <a:solidFill>
                  <a:srgbClr val="000066"/>
                </a:solidFill>
                <a:latin typeface="Garamond"/>
              </a:rPr>
              <a:t>ц</a:t>
            </a:r>
            <a:r>
              <a:rPr b="0" lang="ru-RU" sz="3200" spc="-1" strike="noStrike">
                <a:solidFill>
                  <a:srgbClr val="000066"/>
                </a:solidFill>
                <a:latin typeface="Garamond"/>
              </a:rPr>
              <a:t>»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 algn="just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Garamond"/>
              </a:rPr>
              <a:t>Отрабатывать порядок действий при проверке орфограммы «Буквы </a:t>
            </a:r>
            <a:r>
              <a:rPr b="0" i="1" lang="ru-RU" sz="3200" spc="-1" strike="noStrike">
                <a:solidFill>
                  <a:srgbClr val="000066"/>
                </a:solidFill>
                <a:latin typeface="Garamond"/>
              </a:rPr>
              <a:t>ы </a:t>
            </a:r>
            <a:r>
              <a:rPr b="0" lang="ru-RU" sz="3200" spc="-1" strike="noStrike">
                <a:solidFill>
                  <a:srgbClr val="000066"/>
                </a:solidFill>
                <a:latin typeface="Garamond"/>
              </a:rPr>
              <a:t>или </a:t>
            </a:r>
            <a:r>
              <a:rPr b="0" i="1" lang="ru-RU" sz="3200" spc="-1" strike="noStrike">
                <a:solidFill>
                  <a:srgbClr val="000066"/>
                </a:solidFill>
                <a:latin typeface="Garamond"/>
              </a:rPr>
              <a:t>и</a:t>
            </a:r>
            <a:r>
              <a:rPr b="0" lang="ru-RU" sz="3200" spc="-1" strike="noStrike">
                <a:solidFill>
                  <a:srgbClr val="000066"/>
                </a:solidFill>
                <a:latin typeface="Garamond"/>
              </a:rPr>
              <a:t> после </a:t>
            </a:r>
            <a:r>
              <a:rPr b="0" i="1" lang="ru-RU" sz="3200" spc="-1" strike="noStrike">
                <a:solidFill>
                  <a:srgbClr val="000066"/>
                </a:solidFill>
                <a:latin typeface="Garamond"/>
              </a:rPr>
              <a:t>ц</a:t>
            </a:r>
            <a:r>
              <a:rPr b="0" lang="ru-RU" sz="3200" spc="-1" strike="noStrike">
                <a:solidFill>
                  <a:srgbClr val="000066"/>
                </a:solidFill>
                <a:latin typeface="Garamond"/>
              </a:rPr>
              <a:t>»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 algn="just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Garamond"/>
              </a:rPr>
              <a:t>Развивать монологическую речь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Garamond"/>
              </a:rPr>
              <a:t>Формировать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00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Garamond"/>
              </a:rPr>
              <a:t>способность к рефлексии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00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Garamond"/>
              </a:rPr>
              <a:t>способность осуществлять взаимодействие в группе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00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Garamond"/>
              </a:rPr>
              <a:t>способность к контрольно-оценочным действиям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3"/>
          <p:cNvSpPr/>
          <p:nvPr/>
        </p:nvSpPr>
        <p:spPr>
          <a:xfrm>
            <a:off x="611280" y="620640"/>
            <a:ext cx="822960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апишите предложение, проверьте орфограммы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Панц_рь черепахи служит ей надёжным домом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611280" y="620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равните слова в столбиках: чем похожи, чем отличаютс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судите в группе написание букв 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ы, 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после 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ц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 Вывод запишите схемой.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цитрус       Куницын      купц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цирк          Лисицын      куцый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станция    курицын      огурц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94920" y="765000"/>
            <a:ext cx="8085240" cy="115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9900"/>
                </a:solidFill>
                <a:latin typeface="Garamond"/>
              </a:rPr>
              <a:t>Обсудите в группе и запишите порядок действий при выборе букв </a:t>
            </a:r>
            <a:r>
              <a:rPr b="0" i="1" lang="ru-RU" sz="3200" spc="-1" strike="noStrike">
                <a:solidFill>
                  <a:srgbClr val="999900"/>
                </a:solidFill>
                <a:latin typeface="Garamond"/>
              </a:rPr>
              <a:t>и</a:t>
            </a:r>
            <a:r>
              <a:rPr b="0" lang="ru-RU" sz="3200" spc="-1" strike="noStrike">
                <a:solidFill>
                  <a:srgbClr val="999900"/>
                </a:solidFill>
                <a:latin typeface="Garamond"/>
              </a:rPr>
              <a:t> или </a:t>
            </a:r>
            <a:r>
              <a:rPr b="0" i="1" lang="ru-RU" sz="3200" spc="-1" strike="noStrike">
                <a:solidFill>
                  <a:srgbClr val="999900"/>
                </a:solidFill>
                <a:latin typeface="Garamond"/>
              </a:rPr>
              <a:t>ы</a:t>
            </a:r>
            <a:r>
              <a:rPr b="0" lang="ru-RU" sz="3200" spc="-1" strike="noStrike">
                <a:solidFill>
                  <a:srgbClr val="999900"/>
                </a:solidFill>
                <a:latin typeface="Garamond"/>
              </a:rPr>
              <a:t> после </a:t>
            </a:r>
            <a:r>
              <a:rPr b="0" i="1" lang="ru-RU" sz="3200" spc="-1" strike="noStrike">
                <a:solidFill>
                  <a:srgbClr val="999900"/>
                </a:solidFill>
                <a:latin typeface="Garamond"/>
              </a:rPr>
              <a:t>ц.</a:t>
            </a:r>
            <a:r>
              <a:rPr b="0" lang="ru-RU" sz="3200" spc="-1" strike="noStrike">
                <a:solidFill>
                  <a:srgbClr val="999900"/>
                </a:solidFill>
                <a:latin typeface="Garamond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822960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ределить часть слова, в которой находится орфограмм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AutoShape 9"/>
          <p:cNvSpPr/>
          <p:nvPr/>
        </p:nvSpPr>
        <p:spPr>
          <a:xfrm>
            <a:off x="539640" y="4076640"/>
            <a:ext cx="2519640" cy="1224000"/>
          </a:xfrm>
          <a:prstGeom prst="flowChartAlternateProcess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Если в корне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то </a:t>
            </a: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AutoShape 10"/>
          <p:cNvSpPr/>
          <p:nvPr/>
        </p:nvSpPr>
        <p:spPr>
          <a:xfrm>
            <a:off x="3635280" y="4076640"/>
            <a:ext cx="2521080" cy="1224000"/>
          </a:xfrm>
          <a:prstGeom prst="flowChartAlternateProcess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Если в суффиксе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то ы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AutoShape 11"/>
          <p:cNvSpPr/>
          <p:nvPr/>
        </p:nvSpPr>
        <p:spPr>
          <a:xfrm>
            <a:off x="6659640" y="4076640"/>
            <a:ext cx="2305080" cy="1224000"/>
          </a:xfrm>
          <a:prstGeom prst="flowChartAlternateProcess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Если в оконча-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нии, то ы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Line 12"/>
          <p:cNvSpPr/>
          <p:nvPr/>
        </p:nvSpPr>
        <p:spPr>
          <a:xfrm flipH="1">
            <a:off x="2626920" y="3500280"/>
            <a:ext cx="23050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Line 13"/>
          <p:cNvSpPr/>
          <p:nvPr/>
        </p:nvSpPr>
        <p:spPr>
          <a:xfrm>
            <a:off x="4932360" y="35002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Line 14"/>
          <p:cNvSpPr/>
          <p:nvPr/>
        </p:nvSpPr>
        <p:spPr>
          <a:xfrm>
            <a:off x="4932360" y="3500280"/>
            <a:ext cx="2879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Запомни правописание слов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ц</a:t>
            </a:r>
            <a:r>
              <a:rPr b="1" lang="ru-RU" sz="4000" spc="-1" strike="noStrike">
                <a:solidFill>
                  <a:srgbClr val="cc0000"/>
                </a:solidFill>
                <a:latin typeface="Verdana"/>
              </a:rPr>
              <a:t>ы</a:t>
            </a: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ган, ц</a:t>
            </a:r>
            <a:r>
              <a:rPr b="1" lang="ru-RU" sz="4000" spc="-1" strike="noStrike">
                <a:solidFill>
                  <a:srgbClr val="cc0000"/>
                </a:solidFill>
                <a:latin typeface="Verdana"/>
              </a:rPr>
              <a:t>ы</a:t>
            </a: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ганк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ц</a:t>
            </a:r>
            <a:r>
              <a:rPr b="1" lang="ru-RU" sz="4000" spc="-1" strike="noStrike">
                <a:solidFill>
                  <a:srgbClr val="cc0000"/>
                </a:solidFill>
                <a:latin typeface="Verdana"/>
              </a:rPr>
              <a:t>ы</a:t>
            </a: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почк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ц</a:t>
            </a:r>
            <a:r>
              <a:rPr b="1" lang="ru-RU" sz="4000" spc="-1" strike="noStrike">
                <a:solidFill>
                  <a:srgbClr val="cc0000"/>
                </a:solidFill>
                <a:latin typeface="Verdana"/>
              </a:rPr>
              <a:t>ы</a:t>
            </a: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плёнок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ц</a:t>
            </a:r>
            <a:r>
              <a:rPr b="1" lang="ru-RU" sz="4000" spc="-1" strike="noStrike">
                <a:solidFill>
                  <a:srgbClr val="cc0000"/>
                </a:solidFill>
                <a:latin typeface="Verdana"/>
              </a:rPr>
              <a:t>ы</a:t>
            </a: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ц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В слова вставь буквы </a:t>
            </a:r>
            <a:r>
              <a:rPr b="0" i="1" lang="ru-RU" sz="4000" spc="-1" strike="noStrike">
                <a:solidFill>
                  <a:srgbClr val="999900"/>
                </a:solidFill>
                <a:latin typeface="Garamond"/>
              </a:rPr>
              <a:t>ы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 или </a:t>
            </a:r>
            <a:r>
              <a:rPr b="0" i="1" lang="ru-RU" sz="4000" spc="-1" strike="noStrike">
                <a:solidFill>
                  <a:srgbClr val="999900"/>
                </a:solidFill>
                <a:latin typeface="Garamond"/>
              </a:rPr>
              <a:t>и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, объясни свой выбор.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Ц_ркуль, молодц_, порц_я, ц_ганский, мотоц_кл, ц_нк, куриц_, круглолиц_й, ц_п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лёночек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Сверьте свою запись.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Ц_ркуль, молодц_, порц_я, мотоц_кл, ц_ганский, ц_нк, куриц_, 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Куриц_н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, круглоли-ц_й, ц_плёночек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1039320" y="2349360"/>
            <a:ext cx="50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Verdana"/>
              </a:rPr>
              <a:t>и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2411280" y="4149720"/>
            <a:ext cx="4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Verdana"/>
              </a:rPr>
              <a:t>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7159680" y="2349360"/>
            <a:ext cx="58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Verdana"/>
              </a:rPr>
              <a:t>и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2341080" y="2943360"/>
            <a:ext cx="50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Verdana"/>
              </a:rPr>
              <a:t>и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Text Box 8"/>
          <p:cNvSpPr/>
          <p:nvPr/>
        </p:nvSpPr>
        <p:spPr>
          <a:xfrm>
            <a:off x="7093080" y="2943360"/>
            <a:ext cx="50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Verdana"/>
              </a:rPr>
              <a:t>и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Rectangle 9"/>
          <p:cNvSpPr/>
          <p:nvPr/>
        </p:nvSpPr>
        <p:spPr>
          <a:xfrm>
            <a:off x="5154120" y="2349360"/>
            <a:ext cx="57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Verdana"/>
              </a:rPr>
              <a:t>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Rectangle 10"/>
          <p:cNvSpPr/>
          <p:nvPr/>
        </p:nvSpPr>
        <p:spPr>
          <a:xfrm>
            <a:off x="3924360" y="292428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Verdana"/>
              </a:rPr>
              <a:t>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Rectangle 11"/>
          <p:cNvSpPr/>
          <p:nvPr/>
        </p:nvSpPr>
        <p:spPr>
          <a:xfrm>
            <a:off x="2340000" y="357336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Verdana"/>
              </a:rPr>
              <a:t>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Rectangle 12"/>
          <p:cNvSpPr/>
          <p:nvPr/>
        </p:nvSpPr>
        <p:spPr>
          <a:xfrm>
            <a:off x="4643280" y="3573360"/>
            <a:ext cx="5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Verdana"/>
              </a:rPr>
              <a:t>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1122120" y="4167360"/>
            <a:ext cx="57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Verdana"/>
              </a:rPr>
              <a:t>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Запиши те схемы слова, которые могут существовать.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Freeform 10"/>
          <p:cNvSpPr/>
          <p:nvPr/>
        </p:nvSpPr>
        <p:spPr>
          <a:xfrm>
            <a:off x="1332000" y="3213000"/>
            <a:ext cx="944640" cy="216000"/>
          </a:xfrm>
          <a:custGeom>
            <a:avLst/>
            <a:gdLst/>
            <a:ahLst/>
            <a:rect l="l" t="t" r="r" b="b"/>
            <a:pathLst>
              <a:path w="595" h="164">
                <a:moveTo>
                  <a:pt x="0" y="164"/>
                </a:moveTo>
                <a:cubicBezTo>
                  <a:pt x="59" y="74"/>
                  <a:pt x="141" y="36"/>
                  <a:pt x="245" y="22"/>
                </a:cubicBezTo>
                <a:cubicBezTo>
                  <a:pt x="313" y="0"/>
                  <a:pt x="409" y="33"/>
                  <a:pt x="481" y="41"/>
                </a:cubicBezTo>
                <a:cubicBezTo>
                  <a:pt x="532" y="74"/>
                  <a:pt x="502" y="52"/>
                  <a:pt x="566" y="116"/>
                </a:cubicBezTo>
                <a:cubicBezTo>
                  <a:pt x="577" y="127"/>
                  <a:pt x="595" y="154"/>
                  <a:pt x="595" y="1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Freeform 12"/>
          <p:cNvSpPr/>
          <p:nvPr/>
        </p:nvSpPr>
        <p:spPr>
          <a:xfrm>
            <a:off x="3203640" y="3213000"/>
            <a:ext cx="973080" cy="223920"/>
          </a:xfrm>
          <a:custGeom>
            <a:avLst/>
            <a:gdLst/>
            <a:ahLst/>
            <a:rect l="l" t="t" r="r" b="b"/>
            <a:pathLst>
              <a:path w="613" h="198">
                <a:moveTo>
                  <a:pt x="0" y="198"/>
                </a:moveTo>
                <a:cubicBezTo>
                  <a:pt x="7" y="177"/>
                  <a:pt x="14" y="130"/>
                  <a:pt x="28" y="113"/>
                </a:cubicBezTo>
                <a:cubicBezTo>
                  <a:pt x="38" y="101"/>
                  <a:pt x="54" y="94"/>
                  <a:pt x="66" y="84"/>
                </a:cubicBezTo>
                <a:cubicBezTo>
                  <a:pt x="83" y="69"/>
                  <a:pt x="99" y="45"/>
                  <a:pt x="122" y="37"/>
                </a:cubicBezTo>
                <a:cubicBezTo>
                  <a:pt x="177" y="17"/>
                  <a:pt x="271" y="7"/>
                  <a:pt x="321" y="0"/>
                </a:cubicBezTo>
                <a:cubicBezTo>
                  <a:pt x="411" y="12"/>
                  <a:pt x="470" y="16"/>
                  <a:pt x="547" y="56"/>
                </a:cubicBezTo>
                <a:cubicBezTo>
                  <a:pt x="559" y="90"/>
                  <a:pt x="581" y="108"/>
                  <a:pt x="595" y="141"/>
                </a:cubicBezTo>
                <a:cubicBezTo>
                  <a:pt x="600" y="154"/>
                  <a:pt x="613" y="179"/>
                  <a:pt x="613" y="17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Line 16"/>
          <p:cNvSpPr/>
          <p:nvPr/>
        </p:nvSpPr>
        <p:spPr>
          <a:xfrm>
            <a:off x="8101080" y="3357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Line 17"/>
          <p:cNvSpPr/>
          <p:nvPr/>
        </p:nvSpPr>
        <p:spPr>
          <a:xfrm>
            <a:off x="8101080" y="3789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Rectangle 21"/>
          <p:cNvSpPr/>
          <p:nvPr/>
        </p:nvSpPr>
        <p:spPr>
          <a:xfrm>
            <a:off x="6810840" y="3213000"/>
            <a:ext cx="195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4. ци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Rectangle 22"/>
          <p:cNvSpPr/>
          <p:nvPr/>
        </p:nvSpPr>
        <p:spPr>
          <a:xfrm>
            <a:off x="4500720" y="321300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3.цын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Rectangle 27"/>
          <p:cNvSpPr/>
          <p:nvPr/>
        </p:nvSpPr>
        <p:spPr>
          <a:xfrm>
            <a:off x="602280" y="3213000"/>
            <a:ext cx="189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1.ц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Rectangle 28"/>
          <p:cNvSpPr/>
          <p:nvPr/>
        </p:nvSpPr>
        <p:spPr>
          <a:xfrm>
            <a:off x="2468880" y="3213000"/>
            <a:ext cx="183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2.ци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Line 30"/>
          <p:cNvSpPr/>
          <p:nvPr/>
        </p:nvSpPr>
        <p:spPr>
          <a:xfrm flipV="1">
            <a:off x="5580000" y="3068280"/>
            <a:ext cx="36036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Line 32"/>
          <p:cNvSpPr/>
          <p:nvPr/>
        </p:nvSpPr>
        <p:spPr>
          <a:xfrm flipV="1">
            <a:off x="5580000" y="3141720"/>
            <a:ext cx="360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Line 36"/>
          <p:cNvSpPr/>
          <p:nvPr/>
        </p:nvSpPr>
        <p:spPr>
          <a:xfrm flipV="1">
            <a:off x="5580000" y="3141720"/>
            <a:ext cx="360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Line 41"/>
          <p:cNvSpPr/>
          <p:nvPr/>
        </p:nvSpPr>
        <p:spPr>
          <a:xfrm flipV="1">
            <a:off x="5796000" y="3141720"/>
            <a:ext cx="28872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9" name="Picture 46" descr=""/>
          <p:cNvPicPr/>
          <p:nvPr/>
        </p:nvPicPr>
        <p:blipFill>
          <a:blip r:embed="rId1"/>
          <a:stretch/>
        </p:blipFill>
        <p:spPr>
          <a:xfrm>
            <a:off x="5651640" y="3141720"/>
            <a:ext cx="868320" cy="27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7T16:56:42Z</dcterms:created>
  <dc:creator>Информатика и ВТ</dc:creator>
  <dc:description/>
  <dc:language>en-US</dc:language>
  <cp:lastModifiedBy>Dns</cp:lastModifiedBy>
  <dcterms:modified xsi:type="dcterms:W3CDTF">2017-08-23T17:38:52Z</dcterms:modified>
  <cp:revision>12</cp:revision>
  <dc:subject/>
  <dc:title> урок русского языка  3 класс</dc:title>
</cp:coreProperties>
</file>