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A4C-1278-40B2-89E2-648DB32C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10B-B4E9-47A0-AC5F-52E18F01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6D5-0589-4A3D-8A90-650EDC0C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6D7-1397-4DD1-A8EF-5CF642CC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FBF8-F966-470D-B6E4-50523567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6497-7C13-4ED1-95EF-AC6B4705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AD4D-24B8-40B3-8201-62607058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93CE-3391-4F88-A51D-4399DD7D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3189-0975-4913-81DB-03985669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A245-9AF1-401D-A7F2-A41BA3CA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E0D8-C8CC-4910-9916-B2349D4A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9E8-F2D1-49A2-813B-C77CEAE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0C0F-BBA2-4861-9AE1-906A5320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AEA2-5688-4E00-B256-25A65E3B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70D-4FD7-4642-B73D-F277F43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E200-C92D-478D-AC1D-56CA55DE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87CD-D000-4199-8281-E38ECC47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E033-0EFF-4460-962E-683A7DC1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5A0C-62F0-495B-96F3-68CF642A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6451-20F2-4C7D-8B27-CC8682C4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C47F-AF93-4DDF-A6D2-27D4081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15F1-C8C3-4D2A-816F-1776AA01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AA5-B4A3-4E98-910C-DAED7761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944A-A517-4134-8911-7BE1168A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7B25F-CF24-45F6-B41E-40DF295E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F785-6549-4C93-BE2E-1C8E131C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196D-D8AD-4942-958F-E9AEF836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AFE9-4CE5-490E-8694-6E2233C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0DCD-C5A4-4744-A67D-24FE9ECC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C5F5-E878-4922-9A3F-686E78FC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92E8-E8B7-4100-8603-7587200B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C077B-5C2E-4B67-AACF-9E772AA6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D9B32-F043-4156-88A7-850E347F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070-5BA7-4983-BA4A-1873A9A1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4D52-B29C-4DE0-8C43-1408F5B4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883A8-9359-408F-A86D-08533758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0FE0-C89B-4AF6-AF5D-CC28248F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094F-5F5C-4020-B3E6-239D145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658D-BA3D-4860-8AEC-1287F648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500E-0979-49B3-8730-81C7C765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AF294-6D9A-425F-A4E9-42E277B1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1A9D6-34A9-4298-ABE2-8CD42C81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6AC13-F42F-4129-BF4F-C4C33FED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2A8-C9BD-4705-BC51-2594B1A3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FE5-CAA7-487B-AF82-60C4487F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816-2814-421F-A51C-A13D7B4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F44-3FCF-43A8-911A-E6AF5790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153-E895-434E-B724-CF9CE6C4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A30C-1E38-4B59-BF1F-36DB6C1218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EB8C-F368-467A-8652-BF3DBF1951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9133-2315-4BB9-8474-FACD2C71C7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60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2F9E-D8C8-43B4-B696-167C07D24E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47280" y="3499920"/>
            <a:ext cx="6046920" cy="1343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Garamond"/>
              </a:rPr>
              <a:t>урок русского языка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Garamond"/>
              </a:rPr>
              <a:t>3 класс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26920" y="549000"/>
            <a:ext cx="734544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Garamond"/>
              </a:rPr>
              <a:t>Тема урока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000066"/>
                </a:solidFill>
                <a:latin typeface="Garamond"/>
              </a:rPr>
              <a:t>Выбор букв ы или и     после ц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843280" y="5373720"/>
            <a:ext cx="60465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Учитель начальных классов Фотеева О.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МБОУ «Лицей №1» г.Нефтеюганс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2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Garamond"/>
              </a:rPr>
              <a:t>Задачи урока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Открыть способ проверки орфограммы «Буквы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ы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или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и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после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ц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Сконструировать способ проверки орфограммы «Буквы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ы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или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и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после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ц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Отрабатывать порядок действий при проверке орфограммы «Буквы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ы 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или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и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 после </a:t>
            </a:r>
            <a:r>
              <a:rPr b="0" i="1" lang="ru-RU" sz="3200" spc="-1" strike="noStrike">
                <a:solidFill>
                  <a:srgbClr val="000066"/>
                </a:solidFill>
                <a:latin typeface="Garamond"/>
              </a:rPr>
              <a:t>ц</a:t>
            </a: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Развивать монологическую реч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Garamond"/>
              </a:rPr>
              <a:t>Формирова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aramond"/>
              </a:rPr>
              <a:t>способность к рефлексии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aramond"/>
              </a:rPr>
              <a:t>способность осуществлять взаимодействие в групп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aramond"/>
              </a:rPr>
              <a:t>способность к контрольно-оценочным действ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611280" y="620640"/>
            <a:ext cx="82296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пишите предложение, проверьте орфограмм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анц_рь черепахи служит ей надёжным дом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авните слова в столбиках: чем похожи, чем отличают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е в группе написание букв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ы, 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сле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ывод запишите схемо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цитрус       Куницын      купц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цирк          Лисицын      куцый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танция    курицын      огурц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085240" cy="11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Обсудите в группе и запишите порядок действий при выборе букв </a:t>
            </a: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и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или </a:t>
            </a: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ы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после </a:t>
            </a: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ц.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ь часть слова, в которой находится орфограм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539640" y="4076640"/>
            <a:ext cx="2519640" cy="12240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сли в корн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о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3635280" y="4076640"/>
            <a:ext cx="2521080" cy="12240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сли в суффикс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о ы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6659640" y="4076640"/>
            <a:ext cx="2305080" cy="12240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сли в оконча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ии, то 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Line 12"/>
          <p:cNvSpPr/>
          <p:nvPr/>
        </p:nvSpPr>
        <p:spPr>
          <a:xfrm flipH="1">
            <a:off x="2626920" y="3500280"/>
            <a:ext cx="23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4932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932360" y="3500280"/>
            <a:ext cx="28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помни правописание слов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ган, 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ган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ч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лён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В слова вставь буквы </a:t>
            </a:r>
            <a:r>
              <a:rPr b="0" i="1" lang="ru-RU" sz="4000" spc="-1" strike="noStrike">
                <a:solidFill>
                  <a:srgbClr val="999900"/>
                </a:solidFill>
                <a:latin typeface="Garamond"/>
              </a:rPr>
              <a:t>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или </a:t>
            </a:r>
            <a:r>
              <a:rPr b="0" i="1" lang="ru-RU" sz="4000" spc="-1" strike="noStrike">
                <a:solidFill>
                  <a:srgbClr val="999900"/>
                </a:solidFill>
                <a:latin typeface="Garamond"/>
              </a:rPr>
              <a:t>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, объясни свой выбор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Ц_ркуль, молодц_, порц_я, ц_ганский, мотоц_кл, ц_нк, куриц_, круглолиц_й, ц_п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ёночек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верьте свою запись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Ц_ркуль, молодц_, порц_я, мотоц_кл, ц_ганский, ц_нк, куриц_,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уриц_н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круглоли-ц_й, ц_плёночек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039320" y="234936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411280" y="4149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7159680" y="2349360"/>
            <a:ext cx="58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341080" y="294336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7093080" y="2943360"/>
            <a:ext cx="50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5154120" y="23493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3924360" y="2924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2340000" y="3573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643280" y="3573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1122120" y="41673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Запиши те схемы слова, которые могут существовать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Freeform 10"/>
          <p:cNvSpPr/>
          <p:nvPr/>
        </p:nvSpPr>
        <p:spPr>
          <a:xfrm>
            <a:off x="1332000" y="3213000"/>
            <a:ext cx="944640" cy="216000"/>
          </a:xfrm>
          <a:custGeom>
            <a:avLst/>
            <a:gdLst/>
            <a:ahLst/>
            <a:rect l="l" t="t" r="r" b="b"/>
            <a:pathLst>
              <a:path w="595" h="164">
                <a:moveTo>
                  <a:pt x="0" y="164"/>
                </a:moveTo>
                <a:cubicBezTo>
                  <a:pt x="59" y="74"/>
                  <a:pt x="141" y="36"/>
                  <a:pt x="245" y="22"/>
                </a:cubicBezTo>
                <a:cubicBezTo>
                  <a:pt x="313" y="0"/>
                  <a:pt x="409" y="33"/>
                  <a:pt x="481" y="41"/>
                </a:cubicBezTo>
                <a:cubicBezTo>
                  <a:pt x="532" y="74"/>
                  <a:pt x="502" y="52"/>
                  <a:pt x="566" y="116"/>
                </a:cubicBezTo>
                <a:cubicBezTo>
                  <a:pt x="577" y="127"/>
                  <a:pt x="595" y="154"/>
                  <a:pt x="595" y="1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3203640" y="3213000"/>
            <a:ext cx="973080" cy="223920"/>
          </a:xfrm>
          <a:custGeom>
            <a:avLst/>
            <a:gdLst/>
            <a:ahLst/>
            <a:rect l="l" t="t" r="r" b="b"/>
            <a:pathLst>
              <a:path w="613" h="198">
                <a:moveTo>
                  <a:pt x="0" y="198"/>
                </a:moveTo>
                <a:cubicBezTo>
                  <a:pt x="7" y="177"/>
                  <a:pt x="14" y="130"/>
                  <a:pt x="28" y="113"/>
                </a:cubicBezTo>
                <a:cubicBezTo>
                  <a:pt x="38" y="101"/>
                  <a:pt x="54" y="94"/>
                  <a:pt x="66" y="84"/>
                </a:cubicBezTo>
                <a:cubicBezTo>
                  <a:pt x="83" y="69"/>
                  <a:pt x="99" y="45"/>
                  <a:pt x="122" y="37"/>
                </a:cubicBezTo>
                <a:cubicBezTo>
                  <a:pt x="177" y="17"/>
                  <a:pt x="271" y="7"/>
                  <a:pt x="321" y="0"/>
                </a:cubicBezTo>
                <a:cubicBezTo>
                  <a:pt x="411" y="12"/>
                  <a:pt x="470" y="16"/>
                  <a:pt x="547" y="56"/>
                </a:cubicBezTo>
                <a:cubicBezTo>
                  <a:pt x="559" y="90"/>
                  <a:pt x="581" y="108"/>
                  <a:pt x="595" y="141"/>
                </a:cubicBezTo>
                <a:cubicBezTo>
                  <a:pt x="600" y="154"/>
                  <a:pt x="613" y="179"/>
                  <a:pt x="613" y="1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810108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8101080" y="378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6810840" y="3213000"/>
            <a:ext cx="19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4. ц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4500720" y="3213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3.цы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Rectangle 27"/>
          <p:cNvSpPr/>
          <p:nvPr/>
        </p:nvSpPr>
        <p:spPr>
          <a:xfrm>
            <a:off x="602280" y="3213000"/>
            <a:ext cx="18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.ц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2468880" y="3213000"/>
            <a:ext cx="183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2.ц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5580000" y="3068280"/>
            <a:ext cx="360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 flipV="1">
            <a:off x="5580000" y="3141720"/>
            <a:ext cx="360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Line 36"/>
          <p:cNvSpPr/>
          <p:nvPr/>
        </p:nvSpPr>
        <p:spPr>
          <a:xfrm flipV="1">
            <a:off x="5580000" y="3141720"/>
            <a:ext cx="360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Line 41"/>
          <p:cNvSpPr/>
          <p:nvPr/>
        </p:nvSpPr>
        <p:spPr>
          <a:xfrm flipV="1">
            <a:off x="5796000" y="3141720"/>
            <a:ext cx="28872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46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86832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16:56:42Z</dcterms:created>
  <dc:creator>Информатика и ВТ</dc:creator>
  <dc:description/>
  <dc:language>en-US</dc:language>
  <cp:lastModifiedBy>Dns</cp:lastModifiedBy>
  <dcterms:modified xsi:type="dcterms:W3CDTF">2017-08-23T17:38:52Z</dcterms:modified>
  <cp:revision>12</cp:revision>
  <dc:subject/>
  <dc:title> урок русского языка  3 класс</dc:title>
</cp:coreProperties>
</file>