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613-009A-4674-9C4A-61950D84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197-D644-453E-9CE8-D1510BA0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27F-BD7C-4296-8701-D784092C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041-5307-46D5-B71C-0BCDE079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44B-CFBE-49B7-ADF9-E958B296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601-9319-4CFD-8AB8-5A0E4896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8FE-F1FB-4618-B9D8-A90781E3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E4E-4446-495F-AE23-8E7C504C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E3A-B951-440D-9A3D-93DA9EAC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C24-DAC4-41C7-90BF-7BDAE089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C17-33B6-40DB-8CE5-74D6E736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238-7DC8-42D8-8340-E2743178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FC03-FB50-4EB3-9288-BE6647886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1102320" y="2838960"/>
            <a:ext cx="6381720" cy="108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зопаснос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35640" y="1916280"/>
            <a:ext cx="72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6000" y="3860640"/>
            <a:ext cx="89280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тер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496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йте записи обо всех своих операциях в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2973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252360" y="1052640"/>
            <a:ext cx="91454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у вас возникло основание подозревать, что кто-то пользуется  вашей информацией незаконным путем, немедленно свяжитесь с компанией вашей кредитной карточки, а затем обратитесь в правоохранительные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8576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Обеспечение собственной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4842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да обращайтесь к родителям, кураторам или учителям  за помощью при работе в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50007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484280"/>
            <a:ext cx="9325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икогда не давайте свою личную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нформацию в чатах или сервисах мгновенных сообщени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411280" y="3141720"/>
          <a:ext cx="4716720" cy="26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141720"/>
                    <a:ext cx="4716720" cy="26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820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соглашайтесь встретиться с кем-либо, с кем вы познакомились в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19640" y="386064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576520" cy="2997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141300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огда не давайте такую информацию, как ваше полное имя, ваш адрес, ваша школа, ваше расписание или семейную информацию незнаком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оветы по защите от виру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197000"/>
            <a:ext cx="878544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да запускайте антивирусное программное обеспечение и дожидайтесь получения результатов. Установите автоматическое сканирование вашей системы во время наименьшего использования, например, в ночное время, в суббот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3789360"/>
            <a:ext cx="1866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открывайте прикрепленные файлы, если только это не те файлы, которые вы просили прислать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5256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тайте программное обеспечение только у источников, которым вы доверяете. Изучите компанию перед тем, как покупать и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ужа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-либ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2679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12536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лючите функцию предварительного просмотра в вашей почтовой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40323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125360"/>
            <a:ext cx="82090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ярно загружайте обновления для вашей операционной системы,  исправляющие ошибки в системе безопасности. Если система не делает этого автоматически, посетите сай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5272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Безопасность на защищенных сай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же когда вы работаете на защищенных сайтах, вы должны помнить о некоторых рекомендациях по безопасной передаче информации в Интернет. Ниже приведены несколько способов, которыми вы можете обезопасить себя и свою информацию от  попадания в чужие ру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83552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давайте больш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и, чем это необходим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340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щищенных сайтах вы вводите пароль и имя пользователя. Ваши пароли не должны быть простыми, должны содержать по крайней мере 8 символов и сочетать в себе буквы и циф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43927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18:32Z</dcterms:created>
  <dc:creator>Пользователь</dc:creator>
  <dc:description/>
  <dc:language>en-US</dc:language>
  <cp:lastModifiedBy>Копанищенская школа</cp:lastModifiedBy>
  <dcterms:modified xsi:type="dcterms:W3CDTF">2008-02-11T06:30:36Z</dcterms:modified>
  <cp:revision>20</cp:revision>
  <dc:subject/>
  <dc:title>Безопасность в Интернет.</dc:title>
</cp:coreProperties>
</file>