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6B2-E650-46DD-BFE6-FDF9560C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57A-3C8D-44D5-8E0A-62595720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E9A-F23C-4295-8CF3-8BC6167A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FAC6-D68C-4DEC-A598-CBD818D6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C684-0026-4D7E-A881-B461D1D8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315-7117-4BD6-9266-D67CFC07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5332-5E2F-4387-9445-F2F146A0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C8D-635E-4112-AF42-B228DA36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FE6-D7C5-4299-9F30-FE317B80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FCC1-50A5-47C3-B186-28ECE70D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B9EB-8E9B-4065-BB2F-69547B74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54F2-AE26-4AB9-B812-B28A4A3F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8148-BBF9-4735-89F3-B72A18744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-1102320" y="2838960"/>
            <a:ext cx="6381720" cy="108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зопасност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35640" y="1916280"/>
            <a:ext cx="72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6000" y="3860640"/>
            <a:ext cx="892800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терн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496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яйте записи обо всех своих операциях в Интер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59280" y="2781360"/>
            <a:ext cx="29732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252360" y="1052640"/>
            <a:ext cx="91454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у вас возникло основание подозревать, что кто-то пользуется  вашей информацией незаконным путем, немедленно свяжитесь с компанией вашей кредитной карточки, а затем обратитесь в правоохранительные орг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132000" y="3789360"/>
            <a:ext cx="28576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Обеспечение собственной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48428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гда обращайтесь к родителям, кураторам или учителям  за помощью при работе в Интер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24000" y="3068640"/>
            <a:ext cx="50007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181440" y="1484280"/>
            <a:ext cx="9325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икогда не давайте свою личную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нформацию в чатах или сервисах мгновенных сообщений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411280" y="3141720"/>
          <a:ext cx="4716720" cy="26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141720"/>
                    <a:ext cx="4716720" cy="26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8200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гда не соглашайтесь встретиться с кем-либо, с кем вы познакомились в Интер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19640" y="3860640"/>
            <a:ext cx="1933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76720" y="3573360"/>
            <a:ext cx="2576520" cy="2997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1413000"/>
            <a:ext cx="87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когда не давайте такую информацию, как ваше полное имя, ваш адрес, ваша школа, ваше расписание или семейную информацию незнаком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Советы по защите от виру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197000"/>
            <a:ext cx="878544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гда запускайте антивирусное программное обеспечение и дожидайтесь получения результатов. Установите автоматическое сканирование вашей системы во время наименьшего использования, например, в ночное время, в суббот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19640" y="3789360"/>
            <a:ext cx="18666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42160" cy="21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гда не открывайте прикрепленные файлы, если только это не те файлы, которые вы просили прислать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0920" y="3068640"/>
            <a:ext cx="52563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052640"/>
            <a:ext cx="86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обретайте программное обеспечение только у источников, которым вы доверяете. Изучите компанию перед тем, как покупать и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ружа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-либ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раммное обесп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19640" y="3429000"/>
            <a:ext cx="26794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1125360"/>
            <a:ext cx="86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лючите функцию предварительного просмотра в вашей почтовой програм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84360" y="2708280"/>
            <a:ext cx="40323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1125360"/>
            <a:ext cx="820908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ярно загружайте обновления для вашей операционной системы,  исправляющие ошибки в системе безопасности. Если система не делает этого автоматически, посетите сай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35272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Безопасность на защищенных сай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же когда вы работаете на защищенных сайтах, вы должны помнить о некоторых рекомендациях по безопасной передаче информации в Интернет. Ниже приведены несколько способов, которыми вы можете обезопасить себя и свою информацию от  попадания в чужие ру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483552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гда не давайте больш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и, чем это необходим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3403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6421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защищенных сайтах вы вводите пароль и имя пользователя. Ваши пароли не должны быть простыми, должны содержать по крайней мере 8 символов и сочетать в себе буквы и циф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84360" y="3645000"/>
            <a:ext cx="43927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5:18:32Z</dcterms:created>
  <dc:creator>Пользователь</dc:creator>
  <dc:description/>
  <dc:language>en-US</dc:language>
  <cp:lastModifiedBy>Копанищенская школа</cp:lastModifiedBy>
  <dcterms:modified xsi:type="dcterms:W3CDTF">2008-02-11T06:30:36Z</dcterms:modified>
  <cp:revision>20</cp:revision>
  <dc:subject/>
  <dc:title>Безопасность в Интернет.</dc:title>
</cp:coreProperties>
</file>