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03D9-6718-426A-86BD-1121E039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453B-5A47-42AC-9F5B-C8C916F0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D8E-1508-4553-868D-F19532C1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086-0B53-4675-934C-15D214CB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A2E-8D95-4C9A-B3F0-E478C9AC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D2B5-4F51-4990-BC62-F914B907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359E-4D62-4722-AD33-16126548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072-D5FB-439D-B63F-799C7E0E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58A-7A6A-4729-BCCE-AFEB49FD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88B-382B-4ECB-AB50-223B071B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87A-9A0E-42DF-AB88-CEE62AF8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D5D-6412-4432-9552-FCC73E33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ED82-5D4A-4C00-A515-990F442ECA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-1102320" y="2838960"/>
            <a:ext cx="6381720" cy="108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зопасност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35640" y="1916280"/>
            <a:ext cx="72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6000" y="3860640"/>
            <a:ext cx="892800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терн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8496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яйте записи обо всех своих операциях в Интер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59280" y="2781360"/>
            <a:ext cx="29732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252360" y="1052640"/>
            <a:ext cx="91454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у вас возникло основание подозревать, что кто-то пользуется  вашей информацией незаконным путем, немедленно свяжитесь с компанией вашей кредитной карточки, а затем обратитесь в правоохранительные орг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132000" y="3789360"/>
            <a:ext cx="28576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Обеспечение собственной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48428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гда обращайтесь к родителям, кураторам или учителям  за помощью при работе в Интер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24000" y="3068640"/>
            <a:ext cx="50007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181440" y="1484280"/>
            <a:ext cx="9325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икогда не давайте свою личную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нформацию в чатах или сервисах мгновенных сообщений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411280" y="3141720"/>
          <a:ext cx="4716720" cy="26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141720"/>
                    <a:ext cx="4716720" cy="26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8200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гда не соглашайтесь встретиться с кем-либо, с кем вы познакомились в Интер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19640" y="3860640"/>
            <a:ext cx="1933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76720" y="3573360"/>
            <a:ext cx="2576520" cy="2997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1413000"/>
            <a:ext cx="87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когда не давайте такую информацию, как ваше полное имя, ваш адрес, ваша школа, ваше расписание или семейную информацию незнаком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Советы по защите от виру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197000"/>
            <a:ext cx="878544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гда запускайте антивирусное программное обеспечение и дожидайтесь получения результатов. Установите автоматическое сканирование вашей системы во время наименьшего использования, например, в ночное время, в субботу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19640" y="3789360"/>
            <a:ext cx="18666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42160" cy="21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гда не открывайте прикрепленные файлы, если только это не те файлы, которые вы просили прислать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0920" y="3068640"/>
            <a:ext cx="52563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052640"/>
            <a:ext cx="86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обретайте программное обеспечение только у источников, которым вы доверяете. Изучите компанию перед тем, как покупать и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ружа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-либ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раммное обесп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19640" y="3429000"/>
            <a:ext cx="26794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1125360"/>
            <a:ext cx="86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лючите функцию предварительного просмотра в вашей почтовой програм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84360" y="2708280"/>
            <a:ext cx="40323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1125360"/>
            <a:ext cx="820908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ярно загружайте обновления для вашей операционной системы,  исправляющие ошибки в системе безопасности. Если система не делает этого автоматически, посетите сай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35272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Безопасность на защищенных сай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же когда вы работаете на защищенных сайтах, вы должны помнить о некоторых рекомендациях по безопасной передаче информации в Интернет. Ниже приведены несколько способов, которыми вы можете обезопасить себя и свою информацию от  попадания в чужие ру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483552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гда не давайте больш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и, чем это необходим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3403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6421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защищенных сайтах вы вводите пароль и имя пользователя. Ваши пароли не должны быть простыми, должны содержать по крайней мере 8 символов и сочетать в себе буквы и циф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84360" y="3645000"/>
            <a:ext cx="43927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5:18:32Z</dcterms:created>
  <dc:creator>Пользователь</dc:creator>
  <dc:description/>
  <dc:language>en-US</dc:language>
  <cp:lastModifiedBy>Копанищенская школа</cp:lastModifiedBy>
  <dcterms:modified xsi:type="dcterms:W3CDTF">2008-02-11T06:30:36Z</dcterms:modified>
  <cp:revision>20</cp:revision>
  <dc:subject/>
  <dc:title>Безопасность в Интернет.</dc:title>
</cp:coreProperties>
</file>