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hammer.wav" ContentType="audio/x-wav"/>
  <Override PartName="/ppt/media/image20.png" ContentType="image/png"/>
  <Override PartName="/ppt/media/image1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5E1B-CE10-491E-95A2-660CA58AC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3727-774F-4A7C-8D4F-CE34CB28E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ленкин Н.Я. Математика 6.    №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168-BCA2-4E37-B247-C30D8839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043-3B2D-452D-A08A-2C0267DB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25C-0FC2-493E-BE3B-95CE8B8D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D6A-E930-4582-A71B-75B54EFC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71A5-F4EE-49D2-90CA-2AD01F1B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5708-2330-4430-8AAD-4DECCAB0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FB6-6639-4743-993F-57A4BE52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C2A5-EA6A-45C1-BE7C-6D5A97B2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8B3-A464-4F8B-AEE0-AECD785C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17BC-9BA5-410C-B2F1-56693854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CAE3-9262-472B-9EDC-620E03C2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807-1310-4E57-A548-AD20B37B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817C-8D2C-45CD-B858-364788AF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E1BB-31AD-41E6-8276-04F751F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D425-7128-478E-B6D2-64F64D6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7D8D-9B9A-4DCC-9715-119D9666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5173-17ED-4D5B-B43C-C58AAD0F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746-0E02-48EE-8FE5-77782F2B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F78-04FA-4C0D-AD51-D38CB1BD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6CD-CC24-4FF2-90C2-734E3831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F49-EAB5-4B93-B95C-35DEC6CB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34B-7467-488F-91C1-D9567488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778-B1C8-4E11-B922-2386258E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B44-D849-4755-8C85-E99CAE10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EE9A-EFE9-4C3D-A5FD-7A7E9EFE5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650C-7215-4DD3-856C-355231AF1B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8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9640" y="155736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468360" y="1628640"/>
            <a:ext cx="8207280" cy="453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826920" y="189000"/>
            <a:ext cx="734544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- обобщение по теме “Делимость чисе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аборатория 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« Исследование делимости чисе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Голованева Любовь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2075 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агетная рамка 6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блако 7"/>
          <p:cNvSpPr/>
          <p:nvPr/>
        </p:nvSpPr>
        <p:spPr>
          <a:xfrm>
            <a:off x="684360" y="476280"/>
            <a:ext cx="7704000" cy="2087640"/>
          </a:xfrm>
          <a:custGeom>
            <a:avLst/>
            <a:gdLst>
              <a:gd name="textAreaLeft" fmla="*/ 1061640 w 7704000"/>
              <a:gd name="textAreaRight" fmla="*/ 6094440 w 7704000"/>
              <a:gd name="textAreaTop" fmla="*/ 315000 h 2087640"/>
              <a:gd name="textAreaBottom" fmla="*/ 1675800 h 208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9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274000" cy="1500480"/>
          </a:xfrm>
          <a:prstGeom prst="rect">
            <a:avLst/>
          </a:prstGeom>
          <a:ln w="0">
            <a:noFill/>
          </a:ln>
        </p:spPr>
      </p:pic>
      <p:pic>
        <p:nvPicPr>
          <p:cNvPr id="231" name="TextBox 10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712620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Багетная рамка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82692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3995640" y="907920"/>
            <a:ext cx="4248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ЕВКЛИД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в. до н.э.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В своей книге «Начала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доказал, что простых чисел бесконечно много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т.е. за каждым простым числом есть еще большее простое числ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6" descr="18-07-53.jpg"/>
          <p:cNvPicPr/>
          <p:nvPr/>
        </p:nvPicPr>
        <p:blipFill>
          <a:blip r:embed="rId1"/>
          <a:srcRect l="49466" t="0" r="0" b="0"/>
          <a:stretch/>
        </p:blipFill>
        <p:spPr>
          <a:xfrm>
            <a:off x="755640" y="981000"/>
            <a:ext cx="3243240" cy="388800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10" descr=""/>
          <p:cNvPicPr/>
          <p:nvPr/>
        </p:nvPicPr>
        <p:blipFill>
          <a:blip r:embed="rId2"/>
          <a:stretch/>
        </p:blipFill>
        <p:spPr>
          <a:xfrm>
            <a:off x="317520" y="5254560"/>
            <a:ext cx="7431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Выноска-облако 4"/>
          <p:cNvGrpSpPr/>
          <p:nvPr/>
        </p:nvGrpSpPr>
        <p:grpSpPr>
          <a:xfrm>
            <a:off x="1476360" y="1197000"/>
            <a:ext cx="7894800" cy="7047000"/>
            <a:chOff x="1476360" y="1197000"/>
            <a:chExt cx="7894800" cy="7047000"/>
          </a:xfrm>
        </p:grpSpPr>
        <p:pic>
          <p:nvPicPr>
            <p:cNvPr id="240" name="Выноска-облако 4" descr=""/>
            <p:cNvPicPr/>
            <p:nvPr/>
          </p:nvPicPr>
          <p:blipFill>
            <a:blip r:embed="rId1"/>
            <a:stretch/>
          </p:blipFill>
          <p:spPr>
            <a:xfrm>
              <a:off x="1476360" y="1197000"/>
              <a:ext cx="7894800" cy="704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752920" y="1776600"/>
              <a:ext cx="4821120" cy="14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3203640" y="1773360"/>
            <a:ext cx="4835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этом году собираюсь поступить в институт, необходимо сдать ЕГЭ, но математику немного забы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ИЕМ ПОСЕТ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826920" y="112536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удущий сту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Рисунок15"/>
          <p:cNvPicPr/>
          <p:nvPr/>
        </p:nvPicPr>
        <p:blipFill>
          <a:blip r:embed="rId2"/>
          <a:stretch/>
        </p:blipFill>
        <p:spPr>
          <a:xfrm>
            <a:off x="0" y="1596960"/>
            <a:ext cx="2567160" cy="52610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0"/>
          <p:cNvSpPr/>
          <p:nvPr/>
        </p:nvSpPr>
        <p:spPr>
          <a:xfrm>
            <a:off x="4464000" y="3860640"/>
            <a:ext cx="46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могите, пожалуйста, разложить на простые множители числа 2240, 17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91212E-006 L 2.5E-006 -0.12304 E">
                                      <p:cBhvr>
                                        <p:cTn id="354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Выноска-облако 7"/>
          <p:cNvGrpSpPr/>
          <p:nvPr/>
        </p:nvGrpSpPr>
        <p:grpSpPr>
          <a:xfrm>
            <a:off x="2771640" y="765000"/>
            <a:ext cx="6589440" cy="5144760"/>
            <a:chOff x="2771640" y="765000"/>
            <a:chExt cx="6589440" cy="5144760"/>
          </a:xfrm>
        </p:grpSpPr>
        <p:pic>
          <p:nvPicPr>
            <p:cNvPr id="248" name="Выноска-облако 7" descr=""/>
            <p:cNvPicPr/>
            <p:nvPr/>
          </p:nvPicPr>
          <p:blipFill>
            <a:blip r:embed="rId1"/>
            <a:stretch/>
          </p:blipFill>
          <p:spPr>
            <a:xfrm>
              <a:off x="2771640" y="765000"/>
              <a:ext cx="6589440" cy="51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866760" y="1245960"/>
              <a:ext cx="3973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ИЕМ ПОСЕТ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79640" y="1413000"/>
            <a:ext cx="50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! Помогите, пожалуйста, найти ошибку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picture"/>
          <p:cNvPicPr/>
          <p:nvPr/>
        </p:nvPicPr>
        <p:blipFill>
          <a:blip r:embed="rId2"/>
          <a:srcRect l="13443" t="3928" r="5982" b="9782"/>
          <a:stretch/>
        </p:blipFill>
        <p:spPr>
          <a:xfrm>
            <a:off x="4067280" y="2781360"/>
            <a:ext cx="4752720" cy="3816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53" name="Text Box 9"/>
          <p:cNvSpPr/>
          <p:nvPr/>
        </p:nvSpPr>
        <p:spPr>
          <a:xfrm>
            <a:off x="468360" y="2708280"/>
            <a:ext cx="475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идоров Ив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еник 6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БОУ Школа № 20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"/>
          <p:cNvPicPr/>
          <p:nvPr/>
        </p:nvPicPr>
        <p:blipFill>
          <a:blip r:embed="rId1"/>
          <a:srcRect l="0" t="3582" r="3382" b="10425"/>
          <a:stretch/>
        </p:blipFill>
        <p:spPr>
          <a:xfrm>
            <a:off x="7596360" y="2205000"/>
            <a:ext cx="122364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"/>
          <p:cNvPicPr/>
          <p:nvPr/>
        </p:nvPicPr>
        <p:blipFill>
          <a:blip r:embed="rId2"/>
          <a:srcRect l="4344" t="0" r="17441" b="9811"/>
          <a:stretch/>
        </p:blipFill>
        <p:spPr>
          <a:xfrm>
            <a:off x="2556000" y="189000"/>
            <a:ext cx="1295280" cy="1700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rcRect l="9336" t="3286" r="15828" b="0"/>
          <a:stretch/>
        </p:blipFill>
        <p:spPr>
          <a:xfrm>
            <a:off x="250920" y="4508640"/>
            <a:ext cx="1441440" cy="2119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4"/>
          <a:srcRect l="8344" t="0" r="13078" b="1397"/>
          <a:stretch/>
        </p:blipFill>
        <p:spPr>
          <a:xfrm>
            <a:off x="7093080" y="0"/>
            <a:ext cx="1511280" cy="216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5"/>
          <a:stretch/>
        </p:blipFill>
        <p:spPr>
          <a:xfrm>
            <a:off x="4427640" y="0"/>
            <a:ext cx="1819080" cy="2190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6"/>
          <a:srcRect l="2930" t="4125" r="0" b="0"/>
          <a:stretch/>
        </p:blipFill>
        <p:spPr>
          <a:xfrm>
            <a:off x="6757920" y="4149720"/>
            <a:ext cx="2386080" cy="2492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7"/>
          <a:stretch/>
        </p:blipFill>
        <p:spPr>
          <a:xfrm>
            <a:off x="5364000" y="4686480"/>
            <a:ext cx="1457640" cy="2171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8"/>
          <a:srcRect l="5859" t="2769" r="366" b="0"/>
          <a:stretch/>
        </p:blipFill>
        <p:spPr>
          <a:xfrm>
            <a:off x="0" y="0"/>
            <a:ext cx="2303640" cy="2529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9"/>
          <a:srcRect l="11714" t="0" r="13169" b="3071"/>
          <a:stretch/>
        </p:blipFill>
        <p:spPr>
          <a:xfrm>
            <a:off x="395280" y="2637000"/>
            <a:ext cx="1152360" cy="1773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10"/>
          <a:srcRect l="11872" t="0" r="12920" b="0"/>
          <a:stretch/>
        </p:blipFill>
        <p:spPr>
          <a:xfrm>
            <a:off x="3708360" y="4667400"/>
            <a:ext cx="1368360" cy="2190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547280" y="2133720"/>
            <a:ext cx="64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чера в магазин привезли 2145 белых роз, 238 красных и 173 желты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Уже сутки пытаюсь составить букеты,  поровну распределив белые и красные розы, так, чтобы не осталось ни одной лишне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о пока ничего не вышло. Удастся ли мне это сдела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Рамка 19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857160 w 9144000"/>
              <a:gd name="textAreaRight" fmla="*/ 8286840 w 9144000"/>
              <a:gd name="textAreaTop" fmla="*/ 857160 h 6858000"/>
              <a:gd name="textAreaBottom" fmla="*/ 60008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857250" y="857250"/>
                </a:moveTo>
                <a:lnTo>
                  <a:pt x="857250" y="6000750"/>
                </a:lnTo>
                <a:lnTo>
                  <a:pt x="8286750" y="6000750"/>
                </a:lnTo>
                <a:lnTo>
                  <a:pt x="8286750" y="857250"/>
                </a:lnTo>
                <a:close/>
              </a:path>
            </a:pathLst>
          </a:custGeom>
          <a:solidFill>
            <a:srgbClr val="ddddd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13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5. ПРИЕМ ПОСЕТ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116000" y="608004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Флорист цветочного магаз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0.03214 L 0.2717 0.19449 C 0.2717 0.26758 0.42569 0.35731 0.55104 0.35731 L 0.8309 0.35731 E">
                                      <p:cBhvr>
                                        <p:cTn id="41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0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-0.65356 L 0.15747 -0.4808 C 0.15747 -0.40287 0.28299 -0.30735 0.38542 -0.30735 L 0.61424 -0.30735 E">
                                      <p:cBhvr>
                                        <p:cTn id="421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737000"/>
            <a:ext cx="7931160" cy="34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.Я. Виленкин и др. Математика 6: учебник для общеобразоват. учреждений. – М.: Мнемозина, 2009 г– 288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ольно-измерительные материалы. Математика: 6 класс/ Сост. Л.П. Попова. М.: ВАКО, 2012г – 96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.П. Ершова, В.В. Голобородько. Самостоятельные и контрольные работы по математике для 6 класса. – М: Илекса, 2008г – 175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лайдах № 3, 4, 10 использованы картинки доски из авторского УЭР для 6 класса А.С.Шмыр «Уроки математики с любимыми героями». НОД. Взаимно простые чис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вещание (экспресс-опрос)         10.15 - 10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бор корреспонденции               10.21 - 1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          10.36 - 10.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ед                                                   10.44 - 10.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ем посетителей                       10.49 - 10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ведение итогов                          10.58 – 1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684360" y="189000"/>
            <a:ext cx="78832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Распорядок 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Экспресс -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68360" y="692280"/>
            <a:ext cx="8353440" cy="597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7" descr="доска-маленькая.JPG"/>
          <p:cNvPicPr/>
          <p:nvPr/>
        </p:nvPicPr>
        <p:blipFill>
          <a:blip r:embed="rId1"/>
          <a:stretch/>
        </p:blipFill>
        <p:spPr>
          <a:xfrm>
            <a:off x="900000" y="1125360"/>
            <a:ext cx="7559640" cy="5099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166760" y="1360440"/>
            <a:ext cx="7365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ост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Составн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Какое число не является ни простым, ни составны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Дел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Крат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Наибольший общий делитель (алгоритм НО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Наименьшее общее кратное (алгоритм Н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7" descr="доска-маленькая.JPG"/>
          <p:cNvPicPr/>
          <p:nvPr/>
        </p:nvPicPr>
        <p:blipFill>
          <a:blip r:embed="rId1"/>
          <a:stretch/>
        </p:blipFill>
        <p:spPr>
          <a:xfrm>
            <a:off x="5214960" y="1571760"/>
            <a:ext cx="3500280" cy="4714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доска-маленькая.JPG"/>
          <p:cNvPicPr/>
          <p:nvPr/>
        </p:nvPicPr>
        <p:blipFill>
          <a:blip r:embed="rId2"/>
          <a:stretch/>
        </p:blipFill>
        <p:spPr>
          <a:xfrm>
            <a:off x="285840" y="1571760"/>
            <a:ext cx="3357360" cy="4786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324000" y="40464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зовите па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заимно прост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01760" y="178596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8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 rot="700800">
            <a:off x="1868760" y="313704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00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 rot="20474400">
            <a:off x="403200" y="24987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0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 rot="20692800">
            <a:off x="1960920" y="41814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5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1870920" y="24289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4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908400">
            <a:off x="1858680" y="17859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4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53080" y="3643200"/>
            <a:ext cx="14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2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 rot="20502600">
            <a:off x="331200" y="3222720"/>
            <a:ext cx="140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eorgia"/>
              </a:rPr>
              <a:t>34</a:t>
            </a:r>
            <a:r>
              <a:rPr b="1" lang="ru-RU" sz="26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600" spc="-1" strike="noStrike">
                <a:solidFill>
                  <a:srgbClr val="ffffff"/>
                </a:solidFill>
                <a:latin typeface="Georgia"/>
              </a:rPr>
              <a:t>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749160" y="5429160"/>
            <a:ext cx="13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8 и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04640" y="44290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1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380160" y="49291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21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2204640" y="4929120"/>
            <a:ext cx="13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4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8459640" y="6453360"/>
            <a:ext cx="500040" cy="404640"/>
          </a:xfrm>
          <a:custGeom>
            <a:avLst/>
            <a:gdLst>
              <a:gd name="textAreaLeft" fmla="*/ 25920 w 500040"/>
              <a:gd name="textAreaRight" fmla="*/ 474120 w 5000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688" h="21600">
                <a:moveTo>
                  <a:pt x="0" y="0"/>
                </a:moveTo>
                <a:lnTo>
                  <a:pt x="26688" y="0"/>
                </a:lnTo>
                <a:lnTo>
                  <a:pt x="26688" y="21600"/>
                </a:lnTo>
                <a:lnTo>
                  <a:pt x="0" y="21600"/>
                </a:lnTo>
                <a:close/>
              </a:path>
              <a:path fill="lightenLess" w="26688" h="21600">
                <a:moveTo>
                  <a:pt x="0" y="0"/>
                </a:moveTo>
                <a:lnTo>
                  <a:pt x="26688" y="0"/>
                </a:lnTo>
                <a:lnTo>
                  <a:pt x="25288" y="1400"/>
                </a:lnTo>
                <a:lnTo>
                  <a:pt x="1400" y="1400"/>
                </a:lnTo>
                <a:close/>
              </a:path>
              <a:path fill="darken" w="26688" h="21600">
                <a:moveTo>
                  <a:pt x="26688" y="0"/>
                </a:moveTo>
                <a:lnTo>
                  <a:pt x="26688" y="21600"/>
                </a:lnTo>
                <a:lnTo>
                  <a:pt x="25288" y="20200"/>
                </a:lnTo>
                <a:lnTo>
                  <a:pt x="25288" y="1400"/>
                </a:lnTo>
                <a:close/>
              </a:path>
              <a:path fill="darkenLess" w="26688" h="21600">
                <a:moveTo>
                  <a:pt x="26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88" y="20200"/>
                </a:lnTo>
                <a:close/>
              </a:path>
              <a:path fill="lighten" w="26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88" h="21600">
                <a:moveTo>
                  <a:pt x="6338" y="3794"/>
                </a:moveTo>
                <a:lnTo>
                  <a:pt x="20350" y="10800"/>
                </a:lnTo>
                <a:lnTo>
                  <a:pt x="6338" y="17806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5286240" y="178596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НОД ( а</a:t>
            </a:r>
            <a:r>
              <a:rPr b="1" i="1" lang="en-US" sz="3200" spc="-1" strike="noStrike">
                <a:solidFill>
                  <a:srgbClr val="ffff99"/>
                </a:solidFill>
                <a:latin typeface="Georgia"/>
              </a:rPr>
              <a:t>, b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ffff99"/>
                </a:solidFill>
                <a:latin typeface="Georgia"/>
              </a:rPr>
              <a:t>)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 flipH="1">
            <a:off x="7740000" y="724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8575E-006 L 0.54653 0.0148 E">
                                      <p:cBhvr>
                                        <p:cTn id="10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457E-006 L 0.57587 0.22341 E">
                                      <p:cBhvr>
                                        <p:cTn id="10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74561E-006 L 0.41493 -0.24768 E">
                                      <p:cBhvr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21832E-006 L 0.7118 -0.0784 E">
                                      <p:cBhvr>
                                        <p:cTn id="1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0213E-006 L 0.47552 0.03261 E">
                                      <p:cBhvr>
                                        <p:cTn id="15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541800" y="-36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. Разбор корреспонд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924360" y="1484280"/>
            <a:ext cx="4895640" cy="482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995640" y="1484280"/>
            <a:ext cx="453564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 ког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лассного руково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к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БОУ Школа № 20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42144, г.Моска, пос.Щаповское, п.Щап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у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ченикам 6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кла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трудникам Научно-исследовательского институ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отдел по исследованию делимости чис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6"/>
          <p:cNvGrpSpPr/>
          <p:nvPr/>
        </p:nvGrpSpPr>
        <p:grpSpPr>
          <a:xfrm>
            <a:off x="3924360" y="981000"/>
            <a:ext cx="4895640" cy="6977520"/>
            <a:chOff x="3924360" y="981000"/>
            <a:chExt cx="4895640" cy="6977520"/>
          </a:xfrm>
        </p:grpSpPr>
        <p:sp>
          <p:nvSpPr>
            <p:cNvPr id="123" name="AutoShape 7"/>
            <p:cNvSpPr/>
            <p:nvPr/>
          </p:nvSpPr>
          <p:spPr>
            <a:xfrm>
              <a:off x="3924360" y="1484640"/>
              <a:ext cx="4895640" cy="48254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8"/>
            <p:cNvSpPr/>
            <p:nvPr/>
          </p:nvSpPr>
          <p:spPr>
            <a:xfrm>
              <a:off x="4140000" y="981000"/>
              <a:ext cx="4535280" cy="69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В школу привезли тетради. Уважаемые работники НИИ,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помогите распределить их  поровну, без остатка  между учениками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Каково наибольшее количество учеников, между которыми можно распределить  112 тетрадей в клетку и 140 тетрадей в линейку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395280" y="1628640"/>
            <a:ext cx="3454920" cy="3886200"/>
            <a:chOff x="395280" y="1628640"/>
            <a:chExt cx="3454920" cy="3886200"/>
          </a:xfrm>
        </p:grpSpPr>
        <p:pic>
          <p:nvPicPr>
            <p:cNvPr id="126" name="Picture 11" descr="girl6"/>
            <p:cNvPicPr/>
            <p:nvPr/>
          </p:nvPicPr>
          <p:blipFill>
            <a:blip r:embed="rId1"/>
            <a:stretch/>
          </p:blipFill>
          <p:spPr>
            <a:xfrm>
              <a:off x="1729800" y="1745280"/>
              <a:ext cx="1416240" cy="265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2" descr="boy4g"/>
            <p:cNvPicPr/>
            <p:nvPr/>
          </p:nvPicPr>
          <p:blipFill>
            <a:blip r:embed="rId2"/>
            <a:stretch/>
          </p:blipFill>
          <p:spPr>
            <a:xfrm>
              <a:off x="395280" y="2097000"/>
              <a:ext cx="1409040" cy="264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Group 13"/>
            <p:cNvGrpSpPr/>
            <p:nvPr/>
          </p:nvGrpSpPr>
          <p:grpSpPr>
            <a:xfrm>
              <a:off x="2713680" y="1628640"/>
              <a:ext cx="1136520" cy="2495520"/>
              <a:chOff x="2713680" y="1628640"/>
              <a:chExt cx="1136520" cy="2495520"/>
            </a:xfrm>
          </p:grpSpPr>
          <p:grpSp>
            <p:nvGrpSpPr>
              <p:cNvPr id="129" name="Group 14"/>
              <p:cNvGrpSpPr/>
              <p:nvPr/>
            </p:nvGrpSpPr>
            <p:grpSpPr>
              <a:xfrm>
                <a:off x="2713680" y="1628640"/>
                <a:ext cx="1136520" cy="2495520"/>
                <a:chOff x="2713680" y="1628640"/>
                <a:chExt cx="1136520" cy="2495520"/>
              </a:xfrm>
            </p:grpSpPr>
            <p:sp>
              <p:nvSpPr>
                <p:cNvPr id="130" name="Freeform 15"/>
                <p:cNvSpPr/>
                <p:nvPr/>
              </p:nvSpPr>
              <p:spPr>
                <a:xfrm>
                  <a:off x="3301560" y="3486240"/>
                  <a:ext cx="2160" cy="56196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561960"/>
                    <a:gd name="textAreaBottom" fmla="*/ 562320 h 561960"/>
                  </a:gdLst>
                  <a:ahLst/>
                  <a:rect l="textAreaLeft" t="textAreaTop" r="textAreaRight" b="textAreaBottom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6"/>
                <p:cNvSpPr/>
                <p:nvPr/>
              </p:nvSpPr>
              <p:spPr>
                <a:xfrm>
                  <a:off x="2892960" y="3141000"/>
                  <a:ext cx="821160" cy="930960"/>
                </a:xfrm>
                <a:custGeom>
                  <a:avLst/>
                  <a:gdLst>
                    <a:gd name="textAreaLeft" fmla="*/ 0 w 821160"/>
                    <a:gd name="textAreaRight" fmla="*/ 821520 w 821160"/>
                    <a:gd name="textAreaTop" fmla="*/ 0 h 930960"/>
                    <a:gd name="textAreaBottom" fmla="*/ 931320 h 93096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333333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17"/>
                <p:cNvSpPr/>
                <p:nvPr/>
              </p:nvSpPr>
              <p:spPr>
                <a:xfrm>
                  <a:off x="3281760" y="3159720"/>
                  <a:ext cx="82440" cy="31644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316440"/>
                    <a:gd name="textAreaBottom" fmla="*/ 316800 h 31644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18"/>
                <p:cNvSpPr/>
                <p:nvPr/>
              </p:nvSpPr>
              <p:spPr>
                <a:xfrm>
                  <a:off x="3445560" y="3148200"/>
                  <a:ext cx="222840" cy="318600"/>
                </a:xfrm>
                <a:custGeom>
                  <a:avLst/>
                  <a:gdLst>
                    <a:gd name="textAreaLeft" fmla="*/ 0 w 222840"/>
                    <a:gd name="textAreaRight" fmla="*/ 223200 w 222840"/>
                    <a:gd name="textAreaTop" fmla="*/ 0 h 318600"/>
                    <a:gd name="textAreaBottom" fmla="*/ 318960 h 31860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9"/>
                <p:cNvSpPr/>
                <p:nvPr/>
              </p:nvSpPr>
              <p:spPr>
                <a:xfrm>
                  <a:off x="2952360" y="3138480"/>
                  <a:ext cx="185040" cy="33804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338040"/>
                    <a:gd name="textAreaBottom" fmla="*/ 338400 h 33804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20"/>
                <p:cNvSpPr/>
                <p:nvPr/>
              </p:nvSpPr>
              <p:spPr>
                <a:xfrm>
                  <a:off x="3019680" y="2689920"/>
                  <a:ext cx="552240" cy="477000"/>
                </a:xfrm>
                <a:custGeom>
                  <a:avLst/>
                  <a:gdLst>
                    <a:gd name="textAreaLeft" fmla="*/ 0 w 552240"/>
                    <a:gd name="textAreaRight" fmla="*/ 552600 w 552240"/>
                    <a:gd name="textAreaTop" fmla="*/ 0 h 477000"/>
                    <a:gd name="textAreaBottom" fmla="*/ 477360 h 47700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1"/>
                <p:cNvSpPr/>
                <p:nvPr/>
              </p:nvSpPr>
              <p:spPr>
                <a:xfrm>
                  <a:off x="3453840" y="2684880"/>
                  <a:ext cx="347040" cy="7041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04160"/>
                    <a:gd name="textAreaBottom" fmla="*/ 704520 h 70416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22"/>
                <p:cNvSpPr/>
                <p:nvPr/>
              </p:nvSpPr>
              <p:spPr>
                <a:xfrm>
                  <a:off x="2772720" y="2696760"/>
                  <a:ext cx="390600" cy="708840"/>
                </a:xfrm>
                <a:custGeom>
                  <a:avLst/>
                  <a:gdLst>
                    <a:gd name="textAreaLeft" fmla="*/ 0 w 390600"/>
                    <a:gd name="textAreaRight" fmla="*/ 390960 w 390600"/>
                    <a:gd name="textAreaTop" fmla="*/ 0 h 708840"/>
                    <a:gd name="textAreaBottom" fmla="*/ 709200 h 70884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23"/>
                <p:cNvSpPr/>
                <p:nvPr/>
              </p:nvSpPr>
              <p:spPr>
                <a:xfrm>
                  <a:off x="2796120" y="3159720"/>
                  <a:ext cx="195480" cy="22716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24"/>
                <p:cNvSpPr/>
                <p:nvPr/>
              </p:nvSpPr>
              <p:spPr>
                <a:xfrm>
                  <a:off x="3137760" y="2611440"/>
                  <a:ext cx="145800" cy="2106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25"/>
                <p:cNvSpPr/>
                <p:nvPr/>
              </p:nvSpPr>
              <p:spPr>
                <a:xfrm flipH="1">
                  <a:off x="3279240" y="2611440"/>
                  <a:ext cx="145800" cy="210600"/>
                </a:xfrm>
                <a:custGeom>
                  <a:avLst/>
                  <a:gdLst>
                    <a:gd name="textAreaLeft" fmla="*/ -360 w 145800"/>
                    <a:gd name="textAreaRight" fmla="*/ 145800 w 14580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26"/>
                <p:cNvSpPr/>
                <p:nvPr/>
              </p:nvSpPr>
              <p:spPr>
                <a:xfrm>
                  <a:off x="3295800" y="3159720"/>
                  <a:ext cx="13680" cy="8794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879480"/>
                    <a:gd name="textAreaBottom" fmla="*/ 879840 h 87948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7"/>
                <p:cNvSpPr/>
                <p:nvPr/>
              </p:nvSpPr>
              <p:spPr>
                <a:xfrm>
                  <a:off x="3287880" y="2779200"/>
                  <a:ext cx="2160" cy="35208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8"/>
                <p:cNvSpPr/>
                <p:nvPr/>
              </p:nvSpPr>
              <p:spPr>
                <a:xfrm>
                  <a:off x="2986200" y="3907080"/>
                  <a:ext cx="670680" cy="217080"/>
                </a:xfrm>
                <a:custGeom>
                  <a:avLst/>
                  <a:gdLst>
                    <a:gd name="textAreaLeft" fmla="*/ 0 w 670680"/>
                    <a:gd name="textAreaRight" fmla="*/ 671040 w 67068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9"/>
                <p:cNvSpPr/>
                <p:nvPr/>
              </p:nvSpPr>
              <p:spPr>
                <a:xfrm>
                  <a:off x="2892960" y="1628640"/>
                  <a:ext cx="759600" cy="697320"/>
                </a:xfrm>
                <a:custGeom>
                  <a:avLst/>
                  <a:gdLst>
                    <a:gd name="textAreaLeft" fmla="*/ 0 w 759600"/>
                    <a:gd name="textAreaRight" fmla="*/ 759960 w 759600"/>
                    <a:gd name="textAreaTop" fmla="*/ 0 h 697320"/>
                    <a:gd name="textAreaBottom" fmla="*/ 697680 h 69732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d20000"/>
                    </a:gs>
                    <a:gs pos="50000">
                      <a:srgbClr val="993300"/>
                    </a:gs>
                    <a:gs pos="100000">
                      <a:srgbClr val="d20000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30"/>
                <p:cNvSpPr/>
                <p:nvPr/>
              </p:nvSpPr>
              <p:spPr>
                <a:xfrm>
                  <a:off x="3656880" y="3301920"/>
                  <a:ext cx="193320" cy="24516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245160"/>
                    <a:gd name="textAreaBottom" fmla="*/ 245520 h 245160"/>
                  </a:gdLst>
                  <a:ahLst/>
                  <a:rect l="textAreaLeft" t="textAreaTop" r="textAreaRight" b="textAreaBottom"/>
                  <a:pathLst>
                    <a:path w="99" h="101">
                      <a:moveTo>
                        <a:pt x="66" y="0"/>
                      </a:moveTo>
                      <a:cubicBezTo>
                        <a:pt x="70" y="4"/>
                        <a:pt x="86" y="8"/>
                        <a:pt x="91" y="19"/>
                      </a:cubicBezTo>
                      <a:cubicBezTo>
                        <a:pt x="96" y="30"/>
                        <a:pt x="99" y="53"/>
                        <a:pt x="97" y="65"/>
                      </a:cubicBezTo>
                      <a:cubicBezTo>
                        <a:pt x="95" y="77"/>
                        <a:pt x="88" y="85"/>
                        <a:pt x="78" y="90"/>
                      </a:cubicBezTo>
                      <a:cubicBezTo>
                        <a:pt x="68" y="95"/>
                        <a:pt x="48" y="101"/>
                        <a:pt x="36" y="96"/>
                      </a:cubicBezTo>
                      <a:cubicBezTo>
                        <a:pt x="24" y="91"/>
                        <a:pt x="8" y="70"/>
                        <a:pt x="4" y="59"/>
                      </a:cubicBezTo>
                      <a:cubicBezTo>
                        <a:pt x="0" y="48"/>
                        <a:pt x="10" y="36"/>
                        <a:pt x="12" y="30"/>
                      </a:cubicBez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31"/>
                <p:cNvSpPr/>
                <p:nvPr/>
              </p:nvSpPr>
              <p:spPr>
                <a:xfrm>
                  <a:off x="2713680" y="3268800"/>
                  <a:ext cx="210960" cy="2692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08" h="111">
                      <a:moveTo>
                        <a:pt x="48" y="0"/>
                      </a:moveTo>
                      <a:cubicBezTo>
                        <a:pt x="42" y="5"/>
                        <a:pt x="17" y="19"/>
                        <a:pt x="10" y="31"/>
                      </a:cubicBezTo>
                      <a:cubicBezTo>
                        <a:pt x="2" y="44"/>
                        <a:pt x="0" y="66"/>
                        <a:pt x="4" y="77"/>
                      </a:cubicBezTo>
                      <a:cubicBezTo>
                        <a:pt x="8" y="87"/>
                        <a:pt x="26" y="86"/>
                        <a:pt x="36" y="91"/>
                      </a:cubicBezTo>
                      <a:cubicBezTo>
                        <a:pt x="46" y="96"/>
                        <a:pt x="55" y="111"/>
                        <a:pt x="65" y="108"/>
                      </a:cubicBezTo>
                      <a:cubicBezTo>
                        <a:pt x="75" y="105"/>
                        <a:pt x="90" y="82"/>
                        <a:pt x="97" y="71"/>
                      </a:cubicBezTo>
                      <a:cubicBezTo>
                        <a:pt x="104" y="60"/>
                        <a:pt x="106" y="50"/>
                        <a:pt x="108" y="44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2"/>
                <p:cNvSpPr/>
                <p:nvPr/>
              </p:nvSpPr>
              <p:spPr>
                <a:xfrm>
                  <a:off x="2955960" y="1876680"/>
                  <a:ext cx="655200" cy="841320"/>
                </a:xfrm>
                <a:custGeom>
                  <a:avLst/>
                  <a:gdLst>
                    <a:gd name="textAreaLeft" fmla="*/ 0 w 655200"/>
                    <a:gd name="textAreaRight" fmla="*/ 655560 w 65520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33"/>
                <p:cNvSpPr/>
                <p:nvPr/>
              </p:nvSpPr>
              <p:spPr>
                <a:xfrm>
                  <a:off x="3191040" y="2441520"/>
                  <a:ext cx="214920" cy="7524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34"/>
                <p:cNvSpPr/>
                <p:nvPr/>
              </p:nvSpPr>
              <p:spPr>
                <a:xfrm>
                  <a:off x="3262320" y="2467440"/>
                  <a:ext cx="88560" cy="234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5" h="10">
                      <a:moveTo>
                        <a:pt x="0" y="10"/>
                      </a:moveTo>
                      <a:cubicBezTo>
                        <a:pt x="2" y="8"/>
                        <a:pt x="6" y="2"/>
                        <a:pt x="10" y="1"/>
                      </a:cubicBezTo>
                      <a:cubicBezTo>
                        <a:pt x="14" y="0"/>
                        <a:pt x="21" y="4"/>
                        <a:pt x="25" y="4"/>
                      </a:cubicBezTo>
                      <a:cubicBezTo>
                        <a:pt x="29" y="4"/>
                        <a:pt x="33" y="0"/>
                        <a:pt x="36" y="1"/>
                      </a:cubicBezTo>
                      <a:cubicBezTo>
                        <a:pt x="39" y="2"/>
                        <a:pt x="43" y="8"/>
                        <a:pt x="45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5"/>
                <p:cNvSpPr/>
                <p:nvPr/>
              </p:nvSpPr>
              <p:spPr>
                <a:xfrm>
                  <a:off x="3157560" y="2169360"/>
                  <a:ext cx="120240" cy="6408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36"/>
                <p:cNvSpPr/>
                <p:nvPr/>
              </p:nvSpPr>
              <p:spPr>
                <a:xfrm>
                  <a:off x="3196800" y="2240640"/>
                  <a:ext cx="51120" cy="6084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37"/>
                <p:cNvSpPr/>
                <p:nvPr/>
              </p:nvSpPr>
              <p:spPr>
                <a:xfrm>
                  <a:off x="3155760" y="2188440"/>
                  <a:ext cx="122040" cy="849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8"/>
                <p:cNvSpPr/>
                <p:nvPr/>
              </p:nvSpPr>
              <p:spPr>
                <a:xfrm flipH="1">
                  <a:off x="3350880" y="2160360"/>
                  <a:ext cx="120240" cy="63720"/>
                </a:xfrm>
                <a:custGeom>
                  <a:avLst/>
                  <a:gdLst>
                    <a:gd name="textAreaLeft" fmla="*/ 360 w 120240"/>
                    <a:gd name="textAreaRight" fmla="*/ 120960 w 12024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39"/>
                <p:cNvSpPr/>
                <p:nvPr/>
              </p:nvSpPr>
              <p:spPr>
                <a:xfrm flipH="1">
                  <a:off x="3380400" y="2230920"/>
                  <a:ext cx="51120" cy="61560"/>
                </a:xfrm>
                <a:custGeom>
                  <a:avLst/>
                  <a:gdLst>
                    <a:gd name="textAreaLeft" fmla="*/ 360 w 51120"/>
                    <a:gd name="textAreaRight" fmla="*/ 51840 w 511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40"/>
                <p:cNvSpPr/>
                <p:nvPr/>
              </p:nvSpPr>
              <p:spPr>
                <a:xfrm flipH="1">
                  <a:off x="3350880" y="2181600"/>
                  <a:ext cx="122400" cy="82440"/>
                </a:xfrm>
                <a:custGeom>
                  <a:avLst/>
                  <a:gdLst>
                    <a:gd name="textAreaLeft" fmla="*/ 360 w 122400"/>
                    <a:gd name="textAreaRight" fmla="*/ 123120 w 1224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41"/>
                <p:cNvSpPr/>
                <p:nvPr/>
              </p:nvSpPr>
              <p:spPr>
                <a:xfrm>
                  <a:off x="3313800" y="2096280"/>
                  <a:ext cx="195120" cy="2480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42"/>
                <p:cNvSpPr/>
                <p:nvPr/>
              </p:nvSpPr>
              <p:spPr>
                <a:xfrm>
                  <a:off x="3114000" y="2110320"/>
                  <a:ext cx="195480" cy="24300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99" h="103">
                      <a:moveTo>
                        <a:pt x="1" y="31"/>
                      </a:moveTo>
                      <a:cubicBezTo>
                        <a:pt x="5" y="23"/>
                        <a:pt x="15" y="12"/>
                        <a:pt x="27" y="8"/>
                      </a:cubicBezTo>
                      <a:cubicBezTo>
                        <a:pt x="38" y="4"/>
                        <a:pt x="59" y="0"/>
                        <a:pt x="70" y="5"/>
                      </a:cubicBezTo>
                      <a:cubicBezTo>
                        <a:pt x="82" y="10"/>
                        <a:pt x="93" y="26"/>
                        <a:pt x="96" y="37"/>
                      </a:cubicBezTo>
                      <a:cubicBezTo>
                        <a:pt x="99" y="48"/>
                        <a:pt x="94" y="63"/>
                        <a:pt x="90" y="73"/>
                      </a:cubicBezTo>
                      <a:cubicBezTo>
                        <a:pt x="87" y="82"/>
                        <a:pt x="75" y="91"/>
                        <a:pt x="70" y="96"/>
                      </a:cubicBezTo>
                      <a:cubicBezTo>
                        <a:pt x="65" y="101"/>
                        <a:pt x="65" y="100"/>
                        <a:pt x="58" y="101"/>
                      </a:cubicBezTo>
                      <a:cubicBezTo>
                        <a:pt x="51" y="102"/>
                        <a:pt x="38" y="103"/>
                        <a:pt x="30" y="99"/>
                      </a:cubicBezTo>
                      <a:cubicBezTo>
                        <a:pt x="22" y="95"/>
                        <a:pt x="12" y="85"/>
                        <a:pt x="7" y="78"/>
                      </a:cubicBezTo>
                      <a:cubicBezTo>
                        <a:pt x="2" y="71"/>
                        <a:pt x="2" y="67"/>
                        <a:pt x="1" y="59"/>
                      </a:cubicBezTo>
                      <a:cubicBezTo>
                        <a:pt x="0" y="51"/>
                        <a:pt x="1" y="37"/>
                        <a:pt x="1" y="3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43"/>
                <p:cNvSpPr/>
                <p:nvPr/>
              </p:nvSpPr>
              <p:spPr>
                <a:xfrm>
                  <a:off x="3402360" y="2301840"/>
                  <a:ext cx="131760" cy="1890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44"/>
                <p:cNvSpPr/>
                <p:nvPr/>
              </p:nvSpPr>
              <p:spPr>
                <a:xfrm>
                  <a:off x="3069000" y="2316240"/>
                  <a:ext cx="147600" cy="15804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75" h="67">
                      <a:moveTo>
                        <a:pt x="0" y="26"/>
                      </a:moveTo>
                      <a:cubicBezTo>
                        <a:pt x="0" y="34"/>
                        <a:pt x="5" y="48"/>
                        <a:pt x="12" y="53"/>
                      </a:cubicBezTo>
                      <a:cubicBezTo>
                        <a:pt x="19" y="58"/>
                        <a:pt x="35" y="55"/>
                        <a:pt x="42" y="56"/>
                      </a:cubicBezTo>
                      <a:cubicBezTo>
                        <a:pt x="49" y="57"/>
                        <a:pt x="49" y="67"/>
                        <a:pt x="54" y="62"/>
                      </a:cubicBezTo>
                      <a:cubicBezTo>
                        <a:pt x="59" y="57"/>
                        <a:pt x="75" y="34"/>
                        <a:pt x="72" y="26"/>
                      </a:cubicBezTo>
                      <a:cubicBezTo>
                        <a:pt x="69" y="18"/>
                        <a:pt x="45" y="18"/>
                        <a:pt x="36" y="14"/>
                      </a:cubicBezTo>
                      <a:cubicBezTo>
                        <a:pt x="27" y="10"/>
                        <a:pt x="21" y="0"/>
                        <a:pt x="15" y="2"/>
                      </a:cubicBezTo>
                      <a:cubicBezTo>
                        <a:pt x="9" y="4"/>
                        <a:pt x="3" y="21"/>
                        <a:pt x="0" y="2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45"/>
                <p:cNvSpPr/>
                <p:nvPr/>
              </p:nvSpPr>
              <p:spPr>
                <a:xfrm>
                  <a:off x="3633120" y="3141000"/>
                  <a:ext cx="175320" cy="2548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254880"/>
                    <a:gd name="textAreaBottom" fmla="*/ 255240 h 25488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Freeform 46"/>
              <p:cNvSpPr/>
              <p:nvPr/>
            </p:nvSpPr>
            <p:spPr>
              <a:xfrm>
                <a:off x="3270600" y="2346840"/>
                <a:ext cx="76680" cy="352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9" h="15">
                    <a:moveTo>
                      <a:pt x="0" y="10"/>
                    </a:moveTo>
                    <a:cubicBezTo>
                      <a:pt x="1" y="10"/>
                      <a:pt x="3" y="15"/>
                      <a:pt x="6" y="13"/>
                    </a:cubicBezTo>
                    <a:cubicBezTo>
                      <a:pt x="9" y="11"/>
                      <a:pt x="14" y="0"/>
                      <a:pt x="18" y="0"/>
                    </a:cubicBezTo>
                    <a:cubicBezTo>
                      <a:pt x="22" y="0"/>
                      <a:pt x="27" y="11"/>
                      <a:pt x="30" y="13"/>
                    </a:cubicBezTo>
                    <a:cubicBezTo>
                      <a:pt x="33" y="15"/>
                      <a:pt x="37" y="11"/>
                      <a:pt x="39" y="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47"/>
            <p:cNvGrpSpPr/>
            <p:nvPr/>
          </p:nvGrpSpPr>
          <p:grpSpPr>
            <a:xfrm>
              <a:off x="2239560" y="3035520"/>
              <a:ext cx="1127520" cy="2479320"/>
              <a:chOff x="2239560" y="3035520"/>
              <a:chExt cx="1127520" cy="2479320"/>
            </a:xfrm>
          </p:grpSpPr>
          <p:grpSp>
            <p:nvGrpSpPr>
              <p:cNvPr id="163" name="Group 48"/>
              <p:cNvGrpSpPr/>
              <p:nvPr/>
            </p:nvGrpSpPr>
            <p:grpSpPr>
              <a:xfrm>
                <a:off x="2239560" y="3035520"/>
                <a:ext cx="1127520" cy="2479320"/>
                <a:chOff x="2239560" y="3035520"/>
                <a:chExt cx="1127520" cy="2479320"/>
              </a:xfrm>
            </p:grpSpPr>
            <p:sp>
              <p:nvSpPr>
                <p:cNvPr id="164" name="Freeform 49"/>
                <p:cNvSpPr/>
                <p:nvPr/>
              </p:nvSpPr>
              <p:spPr>
                <a:xfrm>
                  <a:off x="2804760" y="4839840"/>
                  <a:ext cx="360" cy="5688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50"/>
                <p:cNvSpPr/>
                <p:nvPr/>
              </p:nvSpPr>
              <p:spPr>
                <a:xfrm>
                  <a:off x="2410200" y="4492080"/>
                  <a:ext cx="788400" cy="942480"/>
                </a:xfrm>
                <a:custGeom>
                  <a:avLst/>
                  <a:gdLst>
                    <a:gd name="textAreaLeft" fmla="*/ 0 w 788400"/>
                    <a:gd name="textAreaRight" fmla="*/ 788760 w 788400"/>
                    <a:gd name="textAreaTop" fmla="*/ 0 h 942480"/>
                    <a:gd name="textAreaBottom" fmla="*/ 942840 h 94248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51"/>
                <p:cNvSpPr/>
                <p:nvPr/>
              </p:nvSpPr>
              <p:spPr>
                <a:xfrm>
                  <a:off x="2787120" y="4508640"/>
                  <a:ext cx="79560" cy="3211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2"/>
                <p:cNvSpPr/>
                <p:nvPr/>
              </p:nvSpPr>
              <p:spPr>
                <a:xfrm>
                  <a:off x="2938680" y="4499640"/>
                  <a:ext cx="215280" cy="3207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53"/>
                <p:cNvSpPr/>
                <p:nvPr/>
              </p:nvSpPr>
              <p:spPr>
                <a:xfrm>
                  <a:off x="2472840" y="4492080"/>
                  <a:ext cx="174240" cy="33768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337680"/>
                    <a:gd name="textAreaBottom" fmla="*/ 338040 h 33768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54"/>
                <p:cNvSpPr/>
                <p:nvPr/>
              </p:nvSpPr>
              <p:spPr>
                <a:xfrm>
                  <a:off x="2532600" y="4036320"/>
                  <a:ext cx="528120" cy="479880"/>
                </a:xfrm>
                <a:custGeom>
                  <a:avLst/>
                  <a:gdLst>
                    <a:gd name="textAreaLeft" fmla="*/ 0 w 528120"/>
                    <a:gd name="textAreaRight" fmla="*/ 528480 w 528120"/>
                    <a:gd name="textAreaTop" fmla="*/ 0 h 479880"/>
                    <a:gd name="textAreaBottom" fmla="*/ 480240 h 47988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55"/>
                <p:cNvSpPr/>
                <p:nvPr/>
              </p:nvSpPr>
              <p:spPr>
                <a:xfrm>
                  <a:off x="2948400" y="4032000"/>
                  <a:ext cx="331920" cy="71064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710640"/>
                    <a:gd name="textAreaBottom" fmla="*/ 711000 h 71064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56"/>
                <p:cNvSpPr/>
                <p:nvPr/>
              </p:nvSpPr>
              <p:spPr>
                <a:xfrm>
                  <a:off x="3119040" y="4492080"/>
                  <a:ext cx="168840" cy="255240"/>
                </a:xfrm>
                <a:custGeom>
                  <a:avLst/>
                  <a:gdLst>
                    <a:gd name="textAreaLeft" fmla="*/ 0 w 168840"/>
                    <a:gd name="textAreaRight" fmla="*/ 169200 w 168840"/>
                    <a:gd name="textAreaTop" fmla="*/ 0 h 255240"/>
                    <a:gd name="textAreaBottom" fmla="*/ 255600 h 25524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7"/>
                <p:cNvSpPr/>
                <p:nvPr/>
              </p:nvSpPr>
              <p:spPr>
                <a:xfrm>
                  <a:off x="2295720" y="4041360"/>
                  <a:ext cx="374400" cy="71820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718200"/>
                    <a:gd name="textAreaBottom" fmla="*/ 718560 h 71820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8"/>
                <p:cNvSpPr/>
                <p:nvPr/>
              </p:nvSpPr>
              <p:spPr>
                <a:xfrm>
                  <a:off x="2319120" y="4508640"/>
                  <a:ext cx="188280" cy="23112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59"/>
                <p:cNvSpPr/>
                <p:nvPr/>
              </p:nvSpPr>
              <p:spPr>
                <a:xfrm>
                  <a:off x="2645280" y="3975480"/>
                  <a:ext cx="141480" cy="21240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0"/>
                <p:cNvSpPr/>
                <p:nvPr/>
              </p:nvSpPr>
              <p:spPr>
                <a:xfrm flipH="1">
                  <a:off x="2786400" y="3975480"/>
                  <a:ext cx="139320" cy="212400"/>
                </a:xfrm>
                <a:custGeom>
                  <a:avLst/>
                  <a:gdLst>
                    <a:gd name="textAreaLeft" fmla="*/ 0 w 139320"/>
                    <a:gd name="textAreaRight" fmla="*/ 139320 w 13932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1"/>
                <p:cNvSpPr/>
                <p:nvPr/>
              </p:nvSpPr>
              <p:spPr>
                <a:xfrm>
                  <a:off x="2798640" y="4508640"/>
                  <a:ext cx="11880" cy="887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887760"/>
                    <a:gd name="textAreaBottom" fmla="*/ 888120 h 88776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62"/>
                <p:cNvSpPr/>
                <p:nvPr/>
              </p:nvSpPr>
              <p:spPr>
                <a:xfrm>
                  <a:off x="2791080" y="4126320"/>
                  <a:ext cx="1440" cy="353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353880"/>
                    <a:gd name="textAreaBottom" fmla="*/ 354240 h 3538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63"/>
                <p:cNvSpPr/>
                <p:nvPr/>
              </p:nvSpPr>
              <p:spPr>
                <a:xfrm>
                  <a:off x="2489760" y="5302440"/>
                  <a:ext cx="662040" cy="212400"/>
                </a:xfrm>
                <a:custGeom>
                  <a:avLst/>
                  <a:gdLst>
                    <a:gd name="textAreaLeft" fmla="*/ 0 w 662040"/>
                    <a:gd name="textAreaRight" fmla="*/ 662400 w 66204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Group 64"/>
                <p:cNvGrpSpPr/>
                <p:nvPr/>
              </p:nvGrpSpPr>
              <p:grpSpPr>
                <a:xfrm>
                  <a:off x="2239560" y="3035520"/>
                  <a:ext cx="1127520" cy="1862640"/>
                  <a:chOff x="2239560" y="3035520"/>
                  <a:chExt cx="1127520" cy="1862640"/>
                </a:xfrm>
              </p:grpSpPr>
              <p:sp>
                <p:nvSpPr>
                  <p:cNvPr id="180" name="Freeform 65"/>
                  <p:cNvSpPr/>
                  <p:nvPr/>
                </p:nvSpPr>
                <p:spPr>
                  <a:xfrm>
                    <a:off x="2414160" y="3035520"/>
                    <a:ext cx="753120" cy="677160"/>
                  </a:xfrm>
                  <a:custGeom>
                    <a:avLst/>
                    <a:gdLst>
                      <a:gd name="textAreaLeft" fmla="*/ 0 w 753120"/>
                      <a:gd name="textAreaRight" fmla="*/ 753480 w 753120"/>
                      <a:gd name="textAreaTop" fmla="*/ 0 h 677160"/>
                      <a:gd name="textAreaBottom" fmla="*/ 677520 h 677160"/>
                    </a:gdLst>
                    <a:ahLst/>
                    <a:rect l="textAreaLeft" t="textAreaTop" r="textAreaRight" b="textAreaBottom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189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66"/>
                  <p:cNvSpPr/>
                  <p:nvPr/>
                </p:nvSpPr>
                <p:spPr>
                  <a:xfrm>
                    <a:off x="3169440" y="4636080"/>
                    <a:ext cx="197640" cy="262080"/>
                  </a:xfrm>
                  <a:custGeom>
                    <a:avLst/>
                    <a:gdLst>
                      <a:gd name="textAreaLeft" fmla="*/ 0 w 197640"/>
                      <a:gd name="textAreaRight" fmla="*/ 198000 w 19764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67"/>
                  <p:cNvSpPr/>
                  <p:nvPr/>
                </p:nvSpPr>
                <p:spPr>
                  <a:xfrm flipH="1">
                    <a:off x="2239560" y="4631760"/>
                    <a:ext cx="198000" cy="261720"/>
                  </a:xfrm>
                  <a:custGeom>
                    <a:avLst/>
                    <a:gdLst>
                      <a:gd name="textAreaLeft" fmla="*/ 360 w 198000"/>
                      <a:gd name="textAreaRight" fmla="*/ 198720 w 19800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68"/>
                  <p:cNvSpPr/>
                  <p:nvPr/>
                </p:nvSpPr>
                <p:spPr>
                  <a:xfrm>
                    <a:off x="2480040" y="3275640"/>
                    <a:ext cx="646560" cy="819720"/>
                  </a:xfrm>
                  <a:custGeom>
                    <a:avLst/>
                    <a:gdLst>
                      <a:gd name="textAreaLeft" fmla="*/ 0 w 646560"/>
                      <a:gd name="textAreaRight" fmla="*/ 646920 w 646560"/>
                      <a:gd name="textAreaTop" fmla="*/ 0 h 819720"/>
                      <a:gd name="textAreaBottom" fmla="*/ 820080 h 819720"/>
                    </a:gdLst>
                    <a:ahLst/>
                    <a:rect l="textAreaLeft" t="textAreaTop" r="textAreaRight" b="textAreaBottom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69"/>
                  <p:cNvSpPr/>
                  <p:nvPr/>
                </p:nvSpPr>
                <p:spPr>
                  <a:xfrm>
                    <a:off x="2711160" y="3826440"/>
                    <a:ext cx="213480" cy="73080"/>
                  </a:xfrm>
                  <a:custGeom>
                    <a:avLst/>
                    <a:gdLst>
                      <a:gd name="textAreaLeft" fmla="*/ 0 w 213480"/>
                      <a:gd name="textAreaRight" fmla="*/ 213840 w 213480"/>
                      <a:gd name="textAreaTop" fmla="*/ 0 h 73080"/>
                      <a:gd name="textAreaBottom" fmla="*/ 73440 h 73080"/>
                    </a:gdLst>
                    <a:ahLst/>
                    <a:rect l="textAreaLeft" t="textAreaTop" r="textAreaRight" b="textAreaBottom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0"/>
                  <p:cNvSpPr/>
                  <p:nvPr/>
                </p:nvSpPr>
                <p:spPr>
                  <a:xfrm>
                    <a:off x="2781360" y="3854880"/>
                    <a:ext cx="88920" cy="212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71"/>
                  <p:cNvSpPr/>
                  <p:nvPr/>
                </p:nvSpPr>
                <p:spPr>
                  <a:xfrm>
                    <a:off x="2678400" y="3561840"/>
                    <a:ext cx="118080" cy="61560"/>
                  </a:xfrm>
                  <a:custGeom>
                    <a:avLst/>
                    <a:gdLst>
                      <a:gd name="textAreaLeft" fmla="*/ 0 w 118080"/>
                      <a:gd name="textAreaRight" fmla="*/ 118440 w 11808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72"/>
                  <p:cNvSpPr/>
                  <p:nvPr/>
                </p:nvSpPr>
                <p:spPr>
                  <a:xfrm>
                    <a:off x="2716920" y="3630240"/>
                    <a:ext cx="50400" cy="61560"/>
                  </a:xfrm>
                  <a:custGeom>
                    <a:avLst/>
                    <a:gdLst>
                      <a:gd name="textAreaLeft" fmla="*/ 0 w 50400"/>
                      <a:gd name="textAreaRight" fmla="*/ 50760 w 5040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3"/>
                  <p:cNvSpPr/>
                  <p:nvPr/>
                </p:nvSpPr>
                <p:spPr>
                  <a:xfrm>
                    <a:off x="2676600" y="3580560"/>
                    <a:ext cx="119880" cy="82800"/>
                  </a:xfrm>
                  <a:custGeom>
                    <a:avLst/>
                    <a:gdLst>
                      <a:gd name="textAreaLeft" fmla="*/ 0 w 119880"/>
                      <a:gd name="textAreaRight" fmla="*/ 120240 w 119880"/>
                      <a:gd name="textAreaTop" fmla="*/ 0 h 82800"/>
                      <a:gd name="textAreaBottom" fmla="*/ 83160 h 8280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74"/>
                  <p:cNvSpPr/>
                  <p:nvPr/>
                </p:nvSpPr>
                <p:spPr>
                  <a:xfrm flipH="1">
                    <a:off x="2870280" y="3552120"/>
                    <a:ext cx="118080" cy="63720"/>
                  </a:xfrm>
                  <a:custGeom>
                    <a:avLst/>
                    <a:gdLst>
                      <a:gd name="textAreaLeft" fmla="*/ 360 w 118080"/>
                      <a:gd name="textAreaRight" fmla="*/ 118800 w 11808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75"/>
                  <p:cNvSpPr/>
                  <p:nvPr/>
                </p:nvSpPr>
                <p:spPr>
                  <a:xfrm flipH="1">
                    <a:off x="2899080" y="3620520"/>
                    <a:ext cx="50040" cy="61560"/>
                  </a:xfrm>
                  <a:custGeom>
                    <a:avLst/>
                    <a:gdLst>
                      <a:gd name="textAreaLeft" fmla="*/ -360 w 50040"/>
                      <a:gd name="textAreaRight" fmla="*/ 50040 w 5004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6"/>
                  <p:cNvSpPr/>
                  <p:nvPr/>
                </p:nvSpPr>
                <p:spPr>
                  <a:xfrm flipH="1">
                    <a:off x="2869560" y="3573720"/>
                    <a:ext cx="120600" cy="80280"/>
                  </a:xfrm>
                  <a:custGeom>
                    <a:avLst/>
                    <a:gdLst>
                      <a:gd name="textAreaLeft" fmla="*/ -360 w 120600"/>
                      <a:gd name="textAreaRight" fmla="*/ 120600 w 120600"/>
                      <a:gd name="textAreaTop" fmla="*/ 0 h 80280"/>
                      <a:gd name="textAreaBottom" fmla="*/ 80640 h 8028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77"/>
                  <p:cNvSpPr/>
                  <p:nvPr/>
                </p:nvSpPr>
                <p:spPr>
                  <a:xfrm>
                    <a:off x="2833560" y="3490920"/>
                    <a:ext cx="191880" cy="240840"/>
                  </a:xfrm>
                  <a:custGeom>
                    <a:avLst/>
                    <a:gdLst>
                      <a:gd name="textAreaLeft" fmla="*/ 0 w 191880"/>
                      <a:gd name="textAreaRight" fmla="*/ 192240 w 1918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78"/>
                  <p:cNvSpPr/>
                  <p:nvPr/>
                </p:nvSpPr>
                <p:spPr>
                  <a:xfrm>
                    <a:off x="2633760" y="3504960"/>
                    <a:ext cx="195840" cy="234000"/>
                  </a:xfrm>
                  <a:custGeom>
                    <a:avLst/>
                    <a:gdLst>
                      <a:gd name="textAreaLeft" fmla="*/ 0 w 195840"/>
                      <a:gd name="textAreaRight" fmla="*/ 196200 w 195840"/>
                      <a:gd name="textAreaTop" fmla="*/ 0 h 234000"/>
                      <a:gd name="textAreaBottom" fmla="*/ 234360 h 234000"/>
                    </a:gdLst>
                    <a:ahLst/>
                    <a:rect l="textAreaLeft" t="textAreaTop" r="textAreaRight" b="textAreaBottom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79"/>
                  <p:cNvSpPr/>
                  <p:nvPr/>
                </p:nvSpPr>
                <p:spPr>
                  <a:xfrm>
                    <a:off x="2920680" y="3691800"/>
                    <a:ext cx="129960" cy="18396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80"/>
                  <p:cNvSpPr/>
                  <p:nvPr/>
                </p:nvSpPr>
                <p:spPr>
                  <a:xfrm>
                    <a:off x="2600640" y="3759840"/>
                    <a:ext cx="137520" cy="115920"/>
                  </a:xfrm>
                  <a:custGeom>
                    <a:avLst/>
                    <a:gdLst>
                      <a:gd name="textAreaLeft" fmla="*/ 0 w 137520"/>
                      <a:gd name="textAreaRight" fmla="*/ 137880 w 13752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6" name="Freeform 81"/>
              <p:cNvSpPr/>
              <p:nvPr/>
            </p:nvSpPr>
            <p:spPr>
              <a:xfrm>
                <a:off x="2786760" y="3736440"/>
                <a:ext cx="81360" cy="399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Picture 82" descr="girl5o"/>
            <p:cNvPicPr/>
            <p:nvPr/>
          </p:nvPicPr>
          <p:blipFill>
            <a:blip r:embed="rId11"/>
            <a:stretch/>
          </p:blipFill>
          <p:spPr>
            <a:xfrm>
              <a:off x="1011240" y="3035520"/>
              <a:ext cx="1361880" cy="227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. Разбор корреспонд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067280" y="1484280"/>
            <a:ext cx="4752720" cy="482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995640" y="1773360"/>
            <a:ext cx="4824360" cy="62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т кого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паковщик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тку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рма – производитель «Мари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му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никам 6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клас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трудникам Научно-исследовательского институ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 отдел по исследованию делимости чисе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5"/>
          <p:cNvGrpSpPr/>
          <p:nvPr/>
        </p:nvGrpSpPr>
        <p:grpSpPr>
          <a:xfrm>
            <a:off x="3924360" y="1484280"/>
            <a:ext cx="4968720" cy="5796720"/>
            <a:chOff x="3924360" y="1484280"/>
            <a:chExt cx="4968720" cy="5796720"/>
          </a:xfrm>
        </p:grpSpPr>
        <p:sp>
          <p:nvSpPr>
            <p:cNvPr id="202" name="AutoShape 7"/>
            <p:cNvSpPr/>
            <p:nvPr/>
          </p:nvSpPr>
          <p:spPr>
            <a:xfrm>
              <a:off x="4074840" y="1484280"/>
              <a:ext cx="4742640" cy="4824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"/>
            <p:cNvSpPr/>
            <p:nvPr/>
          </p:nvSpPr>
          <p:spPr>
            <a:xfrm>
              <a:off x="3924360" y="1773000"/>
              <a:ext cx="4968720" cy="55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Уважаемые сотрудники института, мне срочно необходимо упаковать и отправить в магазины на продажу партию видеокассе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колько кассет можно без остатка упаковать как в ящики по 60 штук, так и в коробки по 45 штук, если всего кассет меньше 200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9"/>
          <p:cNvGrpSpPr/>
          <p:nvPr/>
        </p:nvGrpSpPr>
        <p:grpSpPr>
          <a:xfrm>
            <a:off x="684360" y="1484280"/>
            <a:ext cx="3384360" cy="4824360"/>
            <a:chOff x="684360" y="1484280"/>
            <a:chExt cx="3384360" cy="4824360"/>
          </a:xfrm>
        </p:grpSpPr>
        <p:pic>
          <p:nvPicPr>
            <p:cNvPr id="205" name="Picture 3" descr="E:\DCIM\104_PANA\P1040527.JPG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384360" cy="24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3" descr="E:\DCIM\104_PANA\P1040527.JPG"/>
            <p:cNvPicPr/>
            <p:nvPr/>
          </p:nvPicPr>
          <p:blipFill>
            <a:blip r:embed="rId2"/>
            <a:stretch/>
          </p:blipFill>
          <p:spPr>
            <a:xfrm>
              <a:off x="684360" y="3882960"/>
              <a:ext cx="3384360" cy="242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. Разбор корреспонд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3635280" y="1484280"/>
            <a:ext cx="5184720" cy="482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24360" y="1700280"/>
            <a:ext cx="45352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 кого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дел маркет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ку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грофирма «Сто рецеп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ому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ченикам 6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клас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трудникам Научно-исследовательского институ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отдел по исследованию делимости чис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E:\DCIM\104_PANA\P1040526.JPG"/>
          <p:cNvPicPr/>
          <p:nvPr/>
        </p:nvPicPr>
        <p:blipFill>
          <a:blip r:embed="rId1"/>
          <a:stretch/>
        </p:blipFill>
        <p:spPr>
          <a:xfrm>
            <a:off x="1187280" y="1484280"/>
            <a:ext cx="2448000" cy="482436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5"/>
          <p:cNvGrpSpPr/>
          <p:nvPr/>
        </p:nvGrpSpPr>
        <p:grpSpPr>
          <a:xfrm>
            <a:off x="3635280" y="1484280"/>
            <a:ext cx="5327640" cy="6035400"/>
            <a:chOff x="3635280" y="1484280"/>
            <a:chExt cx="5327640" cy="6035400"/>
          </a:xfrm>
        </p:grpSpPr>
        <p:sp>
          <p:nvSpPr>
            <p:cNvPr id="212" name="AutoShape 7"/>
            <p:cNvSpPr/>
            <p:nvPr/>
          </p:nvSpPr>
          <p:spPr>
            <a:xfrm>
              <a:off x="3635280" y="1484280"/>
              <a:ext cx="5327640" cy="482472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4066920" y="1699920"/>
              <a:ext cx="4535640" cy="58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Наша фирма производит растительное масло. Каково наибольшее количество торговых точек, в которые можно поровну распределить 60 л подсолнечного и 48 л кукурузного масла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колько литров масла каждого вида при этом получит одна торговая точка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 уважением, руководитель отдела маркетинг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Багетная рамка 5"/>
          <p:cNvSpPr/>
          <p:nvPr/>
        </p:nvSpPr>
        <p:spPr>
          <a:xfrm>
            <a:off x="-181080" y="0"/>
            <a:ext cx="9325080" cy="68580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82692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6" descr="18-07-53.jpg"/>
          <p:cNvPicPr/>
          <p:nvPr/>
        </p:nvPicPr>
        <p:blipFill>
          <a:blip r:embed="rId1"/>
          <a:srcRect l="0" t="0" r="49037" b="0"/>
          <a:stretch/>
        </p:blipFill>
        <p:spPr>
          <a:xfrm>
            <a:off x="826920" y="1052640"/>
            <a:ext cx="3632400" cy="468000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8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37796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доска-маленькая.JPG"/>
          <p:cNvPicPr/>
          <p:nvPr/>
        </p:nvPicPr>
        <p:blipFill>
          <a:blip r:embed="rId1"/>
          <a:stretch/>
        </p:blipFill>
        <p:spPr>
          <a:xfrm>
            <a:off x="395280" y="0"/>
            <a:ext cx="8496360" cy="652464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539640" y="374760"/>
            <a:ext cx="8136000" cy="2190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ведите иссле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468360" y="2924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е, какое из чисел, большее 25, но меньшее 30, является соверш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1042920" y="407664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: это число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ители 28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+ 2 + 4 + 7 + 14 =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8" dur="1" fill="hold"/>
                                  <p:tgtEl>
                                    <p:spTgt spid="2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5:04:15Z</dcterms:created>
  <dc:creator>УЧИТЕЛЬ</dc:creator>
  <dc:description/>
  <dc:language>en-US</dc:language>
  <cp:lastModifiedBy>Luba</cp:lastModifiedBy>
  <dcterms:modified xsi:type="dcterms:W3CDTF">2017-08-29T16:29:23Z</dcterms:modified>
  <cp:revision>90</cp:revision>
  <dc:subject/>
  <dc:title>Слайд 1</dc:title>
</cp:coreProperties>
</file>