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D1C-84B9-4BE6-8ABA-BA79CCDB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250-30D8-48D6-B620-3F720E5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340-6769-4BC1-A1E7-FD5FE40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1D0-6853-49D6-86E8-49113A00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77B-D926-4C12-893B-FBABFA1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DC4-AF28-46CE-BF18-2269C8DC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C05-77CE-4361-B5E2-628ACFD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6EB-6BA5-45B3-B403-AB7E5E55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86B-8707-4AE1-BA12-4876A25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2DB-2D54-43C3-8585-E146A41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F3F-FE43-4CC7-8D33-7058E4C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69B-1B59-4692-AC7A-B359E65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068-3720-4FDD-8BFE-AAE01F01F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built the capital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The Conqu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g of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en of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e Opera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vegetabl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te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Parliamen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estmi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onument is in front of the official residence of The 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of Adm. Ne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et’s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en’s Victoria Mem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S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 HAVE W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chkov I. 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bridges were there at tha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46564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id William The Conqueror come to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year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id William The Conqueror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William bui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g’s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te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he build The White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prestig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frai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a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tra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The Great F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started because of th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>
            <a:hlinkClick r:id="rId3" action="ppaction://hlinksldjump"/>
          </p:cNvPr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>
            <a:hlinkClick r:id="rId4" action="ppaction://hlinksldjump"/>
          </p:cNvPr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’s b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reet is the main shopping cen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125892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cadilly Ci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>
            <a:hlinkClick r:id="rId2" action="ppaction://hlinksldjump"/>
          </p:cNvPr>
          <p:cNvSpPr/>
          <p:nvPr/>
        </p:nvSpPr>
        <p:spPr>
          <a:xfrm>
            <a:off x="4788000" y="177336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sbury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25892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nt 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788000" y="357336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03:36Z</dcterms:created>
  <dc:creator>Dimon</dc:creator>
  <dc:description/>
  <dc:language>en-US</dc:language>
  <cp:lastModifiedBy>user</cp:lastModifiedBy>
  <dcterms:modified xsi:type="dcterms:W3CDTF">2017-08-29T09:54:27Z</dcterms:modified>
  <cp:revision>5</cp:revision>
  <dc:subject/>
  <dc:title>Who built the capital of England?</dc:title>
</cp:coreProperties>
</file>