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521-30FB-404D-813A-9ABF7664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98D-7491-4209-83CA-BB8C3DAE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09A-CA48-4A68-802E-88435F5C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396-3529-4C2B-B30D-7E82A545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F34-4E0E-465E-9BED-C9EA5ED0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195-7763-4982-917A-2B42EDFD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808-D59A-44F0-AFDD-ECA0D7C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E6D-E125-46D0-B7D9-9A95A3B3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D0D-2092-494C-8EAD-336A376D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9E2-3009-4F23-92B2-08F3D256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5C9-1541-4492-B4A1-97A8A00C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901-F3D5-4C45-987B-E8D7D01E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00B-476C-4F66-B5C1-10AAF98C1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 to England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e National Galle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min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e Poet’s Co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ional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ouses Of Parlia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stminster Ab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LOS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OU HAVE W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7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8800"/>
            </a:br>
            <a:br>
              <a:rPr sz="8800"/>
            </a:br>
            <a:br>
              <a:rPr sz="8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Suchkov I. 8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ndy i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050920" y="2349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ite Tower wa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ing’s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as The Great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id Sir Christopher Wren build St. Paul’s Cathed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re in The British Mu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t’s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pping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hall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rt of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Whitehall lead from Trafalgar square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cadilly Cir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sbury squ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fficial residence of The Prime Minister of The U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uning street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wning street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ning street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ing street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8:03:36Z</dcterms:created>
  <dc:creator>Dimon</dc:creator>
  <dc:description/>
  <dc:language>en-US</dc:language>
  <cp:lastModifiedBy>user</cp:lastModifiedBy>
  <dcterms:modified xsi:type="dcterms:W3CDTF">2017-08-29T09:56:16Z</dcterms:modified>
  <cp:revision>7</cp:revision>
  <dc:subject/>
  <dc:title>Who built the capital of England?</dc:title>
</cp:coreProperties>
</file>