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71A-BEED-4CEE-81A1-2A28DD9E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E7E-F1D1-4E80-90BC-6822B5D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A16-A49D-4607-8FA5-050ADE3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1BE-8A05-4E37-9B76-786E1524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85D-BA3A-47CD-9843-CDB3625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787-998D-451A-AB00-0271F63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ABD-D32E-43B4-9734-F43F5E5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150-30A2-448A-9055-4AE90A1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AD6-711B-483B-9F36-88EB73DE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A87-8B5B-462A-82E0-E7F6EC7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78F-9D61-41B0-B7CB-61007741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7BE-0BB5-46AB-8A01-A4D14AB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8208-94F7-4409-807E-D7FD54856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 to England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e National Galle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mi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Poet’s Co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ional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stminster Ab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S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 HAVE W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7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8800"/>
            </a:br>
            <a:br>
              <a:rPr sz="8800"/>
            </a:br>
            <a:br>
              <a:rPr sz="8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uchkov I. 8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ndy i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050920" y="2349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te Tower wa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ing’s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as The Great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id Sir Christopher Wren build St. Paul’s Cathed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re in The British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t’s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p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hall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rt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Whitehall lead from Trafalgar square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sbury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fficial residence of The Prime Minister of The U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u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ing street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03:36Z</dcterms:created>
  <dc:creator>Dimon</dc:creator>
  <dc:description/>
  <dc:language>en-US</dc:language>
  <cp:lastModifiedBy>user</cp:lastModifiedBy>
  <dcterms:modified xsi:type="dcterms:W3CDTF">2017-08-29T09:56:16Z</dcterms:modified>
  <cp:revision>7</cp:revision>
  <dc:subject/>
  <dc:title>Who built the capital of England?</dc:title>
</cp:coreProperties>
</file>