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4FF-623D-44BF-8152-027464C7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31EC-C880-4B1E-A72E-B019712D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F8A-6241-4A28-A697-1F494490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6F1-CAE4-4B6C-B77F-2E5979AA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F04E-7B7E-429C-BD92-C6BB25F1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BEDE-0189-4157-A809-EA8DEF3B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3DF8-CD8D-4B16-A036-B9D7A6CF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B7AD-DD22-4A2C-80A5-C2862CAC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D410-EC2C-4818-BDE9-F27D449B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A500-0309-40F2-A41E-67701017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CB06-0BBA-4FA5-A0E6-096A1A52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A6D-E358-463E-8963-D2A07019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ED20-78BF-4420-A0FD-54E07404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2310-B54B-4036-A854-DAF4F105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DB0C-F0CE-487F-BA8B-5F1FF663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1942-13EC-4F4B-8374-0DC4DE3F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E177-5A26-4EA4-96F0-E1BA840E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970-A9AB-42FE-AFE1-FF948B5E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AAD-4A74-4E0E-AA57-14CD8CA4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5F7-A041-4645-AF89-BC03B822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780-AC03-4201-A962-4B8F72A1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90D-3C0A-4C9A-9520-996740F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C63-E740-42E6-A853-BC0D731E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1FE-4E60-4350-AC76-0ACDCDF0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F469-859A-4C57-8173-B6FEF3607E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945E-523A-4F0D-81E1-75CC87C1CD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8000"/>
                </a:solidFill>
                <a:latin typeface="Arial Narrow"/>
              </a:rPr>
              <a:t>Безопасность в Интернете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Поведение в Интерн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Вы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3534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8000"/>
                </a:solidFill>
                <a:latin typeface="Arial Narrow"/>
              </a:rPr>
              <a:t>Законы также применяются к Интернету</a:t>
            </a:r>
            <a:r>
              <a:rPr b="0" i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мотря на то, что большая часть законов была создана до широкого распространения Интернета, закон также распространяется и на него. Все, что незаконно в обычной жизни, незаконно и в Интерн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ет предоставляет беспрецедентные возможности свободного общения, но они также подразумевают ответственность. Например, владелец веб-сайта всегда несет ответственность за его содержимое и законность самого сайта и места его публик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Авторское прав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ским правом защищается способ реализации идеи, но не сама идея. Разрешается копирование материала из Интернета для личного использования, но присвоение авторства этого материала запрещено. Например, при использовании материала в собственной презентации необходимо указать источни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сылка неразрешенного материала (например, незаконные копии фильмов или музыкальных файлов, доступных в одноранговых сетях) незакон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пирование программного обеспечения или баз данных, для которых требуется лицензия, запрещено даже в целях личного исполь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разрешенное использование материала может привести к административному взысканию в судебном порядке, а также иметь прочие правовые последств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 Narrow"/>
              </a:rPr>
              <a:t>Об информационной безопасности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912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мнит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публикации информации в Интернете ее больше невозможно будет контролировать и удалять каждую ее коп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яйт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гда удостоверяйтесь в том, что вам известно, кому предоставляется информация, и вы понимаете, в каких целях она будет использовать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майт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агоразумно ли размещать личную информацию на собственном веб-сайте, если невозможно быть уверенным в целях ее использовани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щайте внима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на учеников, их фотографии и другая личная информация из школьного журнала может публиковаться на веб-сайте школы только с согласия учеников и их родител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Защитите свой компью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улярно обновляйте   операционную систем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уйте антивирусную программ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яйте брандмауэ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вайте резервные копии важных файл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удьте осторожны при загрузке новых фай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Защитите себя в Интернет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осторожностью разглашайте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ичную информа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умайте о том, с кем разговарива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мните, что в Интернете не вся информация надежна и не все  пользователи откровен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облюдайте прави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кону необходимо подчинятьс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же в Интерне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работе в Интернете не забывайте заботиться об остальных так же, как о се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8000"/>
                </a:solidFill>
                <a:latin typeface="Arial Narrow"/>
              </a:rPr>
              <a:t>Опасности: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русы, черви и троя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Хакеры и взломщ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пам в Интерн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Дополнительные прав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</a:rPr>
              <a:t>Вирусы, черви и троя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русы и черви представляют собой опасные программы, которые могут распространяться через электронную почту или веб-страницы. Вирусы могут повредить файлы или программное обеспечение, хранящиеся на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ви распространяются быстрее вирусов — напрямую с одного компьютера на другой. Например, червь электронной почты может осуществлять самостоятельную рассылку по адресам электронной почты из адресной книги пользователя. Интернет-червями осуществляется поиск компьютеров, которые подключены к Интернету и не содержат последние обновления системы безопас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</a:rPr>
              <a:t>Вирусы, черви и троя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роянские кони» (трояны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ются опасными программами, которые выглядят безопасными, например, играми, но после активации могут повредить файлы; при этом пользователь не будет об этом зн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вирусная програм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рограмма, предназначенная для предотвращения доступа к персональному компьютеру  для вредоносных программ — она обнаруживает инфицированные файлы и удаляет 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Хакеры и взломщ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ловек, взламывающий информационные сети или системы организации, либо использующий их без разрешения. Термин «хакер» имеет два значения — он может также означать опытного компьютерного пользова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ни могут вторгнуться на незащищенный компьютер через Интернет и воспользоваться им со злым умыслом, а также украсть или скопировать файлы и использовать их в противозаконной деятельности. Лучшим способом защиты компьютера от вторжения является применение брандмауэра и регулярное обновление операционной сис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рандмауэр - программное обеспечение или устройство, предназначенное для контроля над обменом данными между сетями или сетью и отдельной компьютерной системой. Например, брандмауэр позволяет ограничивать трафик на основе предварительно заданных правил, которые разрешают обмен данными только между указанными адрес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Спам в Интернет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желательная электронная почта, которая, как правило, рассылается в целях прямого почтового маркетинга. Спам почти всегда единовременно рассылается большому кругу получателей. Он приводит к перегрузке систем электронной почты и может заблокировать почтовые ящики. В качестве средства для рассылки спама его отправители иногда используют червей электронной почты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Дал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 Narrow"/>
              </a:rPr>
              <a:t>Пять правил относительно электронной почты: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гда не открывайте подозрительные сообщения или вложения электронной почты, полученные от незнакомых людей. Вместо этого сразу удалите их, выбрав команду в меню сообщ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гда не отвечайте на сп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йте фильтр спама поставщика услуг Интернета или программы работы с электронной почтой (при наличии подключения к Интернет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йте новый или используйте семейный адрес электронной почты для Интернет-запросов, дискуссионных форумов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гда не пересылайте «письма счастья». Вместо этого сразу удаляйте 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Дополнительные правил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рывайте сомнительные всплывающие ок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плывающие окна — это небольшие окна с содержимым, побуждающим к переходу по ссылке. При отображении такого окна самым безопасным способом его закрытия является нажатие значка X (обычно располагается в правом верхнем углу). Невозможно знать наверняка, какое действие последует после нажатия кнопки «Н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ерегайтесь мошенничеств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нтернете легко скрыть свою личность. Рекомендуется проверять личность человека, с которым происходит общение. Никогда не разглашайте в Интернете личную информацию, за исключением людей, которым вы доверяете. При запросе предоставления личной информации на веб-сайте всегда просматривайте разделы «Условия использования» или «Политика защиты конфиденциальной информации», чтобы убедиться в предоставлении оператором веб-сайта сведений о целях использования получаемой информации и ее передаче другим лиц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суждайте использование Интернет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часть материалов, доступных в Интернете, является непригодной для несовершеннолетних. Обсудите с детьми, как правильно и безопасно использовать Интернет.        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Narrow"/>
              </a:rPr>
              <a:t>Поведение в Интернет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Законы применяются к Интерне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Авторские 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Информационная безопас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8:58:08Z</dcterms:created>
  <dc:creator>FoM</dc:creator>
  <dc:description/>
  <dc:language>en-US</dc:language>
  <cp:lastModifiedBy>FoM</cp:lastModifiedBy>
  <dcterms:modified xsi:type="dcterms:W3CDTF">2008-02-07T16:23:49Z</dcterms:modified>
  <cp:revision>6</cp:revision>
  <dc:subject/>
  <dc:title>Безопасность в Интернете</dc:title>
</cp:coreProperties>
</file>