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0D61-5DA3-4D11-96B8-70EFDF119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A890-D543-449E-A3F3-E689F09D8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83B2-F6F7-480D-96AE-68DF8B00B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8932-F043-4715-A51D-FA7469F61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34766-F3DD-4154-B5E1-53DFCE0A6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569A6-0073-4C7F-930D-E579C593A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00523-2A64-494E-9D63-C794185CB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44727-7B02-4422-AFF5-F37E878C9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9D0CA-163B-4A03-BB20-82C93D623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435EB-BECB-44CD-9993-E423A0A36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7A63A-2592-4F99-B618-6D881CF7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DAA8-F476-4E4D-AC91-4CF77C5E7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EFB1D-0B62-4EC2-8FAE-D6B6DDD5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C599F-0CDD-42CB-A8B9-B6EFEA49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2F018-8375-462F-8776-6CCC6809B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9AA82-F1DE-412D-8668-6C70890FE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FFCEC-8239-4843-8015-30CF0D113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2490-5E84-49C7-9C77-F3B88E5DD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019A-4DF2-442F-931F-BF555DF59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948A-2D5F-4B40-AFF4-7AC00E686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CFDA-5A0F-4A13-A35A-F81060CA1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7E62-0CA8-4082-A6D1-82ADEFAA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FB1A-2D49-46E4-ADC8-9B7D8717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B5A9-0A22-405F-83EC-C5FF3EF9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49589-6A50-4FF4-B2F4-B1C3C306FAE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2422F-5350-4282-9C34-ABB8B8EB4D6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9.xml"/><Relationship Id="rId3" Type="http://schemas.openxmlformats.org/officeDocument/2006/relationships/slide" Target="slide13.xml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8000"/>
                </a:solidFill>
                <a:latin typeface="Arial Narrow"/>
              </a:rPr>
              <a:t>Безопасность в Интернете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Опас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" action="ppaction://hlinksldjump"/>
              </a:rPr>
              <a:t>Поведение в Интерне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3" action="ppaction://hlinksldjump"/>
              </a:rPr>
              <a:t>Выво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835344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8000"/>
                </a:solidFill>
                <a:latin typeface="Arial Narrow"/>
              </a:rPr>
              <a:t>Законы также применяются к Интернету</a:t>
            </a:r>
            <a:r>
              <a:rPr b="0" i="1" lang="en-US" sz="4000" spc="-1" strike="noStrike">
                <a:solidFill>
                  <a:srgbClr val="008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смотря на то, что большая часть законов была создана до широкого распространения Интернета, закон также распространяется и на него. Все, что незаконно в обычной жизни, незаконно и в Интернет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тернет предоставляет беспрецедентные возможности свободного общения, но они также подразумевают ответственность. Например, владелец веб-сайта всегда несет ответственность за его содержимое и законность самого сайта и места его публикац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8000"/>
                </a:solidFill>
                <a:latin typeface="Arial Narrow"/>
              </a:rPr>
              <a:t>Авторское право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вторским правом защищается способ реализации идеи, но не сама идея. Разрешается копирование материала из Интернета для личного использования, но присвоение авторства этого материала запрещено. Например, при использовании материала в собственной презентации необходимо указать источник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есылка неразрешенного материала (например, незаконные копии фильмов или музыкальных файлов, доступных в одноранговых сетях) незаконн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пирование программного обеспечения или баз данных, для которых требуется лицензия, запрещено даже в целях личного использова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разрешенное использование материала может привести к административному взысканию в судебном порядке, а также иметь прочие правовые последств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8000"/>
                </a:solidFill>
                <a:latin typeface="Arial Narrow"/>
              </a:rPr>
              <a:t>Об информационной безопасности</a:t>
            </a: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1912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мните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ле публикации информации в Интернете ее больше невозможно будет контролировать и удалять каждую ее копию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веряйте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сегда удостоверяйтесь в том, что вам известно, кому предоставляется информация, и вы понимаете, в каких целях она будет использоватьс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майте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лагоразумно ли размещать личную информацию на собственном веб-сайте, если невозможно быть уверенным в целях ее использования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ращайте внимание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мена учеников, их фотографии и другая личная информация из школьного журнала может публиковаться на веб-сайте школы только с согласия учеников и их родителе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8000"/>
                </a:solidFill>
                <a:latin typeface="Arial Narrow"/>
              </a:rPr>
              <a:t>Выводы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Защитите свой компьюте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егулярно обновляйте   операционную систем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спользуйте антивирусную программ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меняйте брандмауэр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оздавайте резервные копии важных файл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удьте осторожны при загрузке новых файл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Защитите себя в Интернете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 осторожностью разглашайте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личную информаци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умайте о том, с кем разговаривает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мните, что в Интернете не вся информация надежна и не все  пользователи откровенн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Соблюдайте правил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акону необходимо подчиняться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аже в Интернет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 работе в Интернете не забывайте заботиться об остальных так же, как о себ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8000"/>
                </a:solidFill>
                <a:latin typeface="Arial Narrow"/>
              </a:rPr>
              <a:t>Опасности: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ирусы, черви и троя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Хакеры и взломщ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cc"/>
                </a:solidFill>
                <a:uFillTx/>
                <a:latin typeface="Arial"/>
                <a:hlinkClick r:id="rId2" action="ppaction://hlinksldjump"/>
              </a:rPr>
              <a:t>Спам в Интерне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cc"/>
                </a:solidFill>
                <a:uFillTx/>
                <a:latin typeface="Arial"/>
                <a:hlinkClick r:id="rId3" action="ppaction://hlinksldjump"/>
              </a:rPr>
              <a:t>Дополнительные прави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за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8000"/>
                </a:solidFill>
                <a:latin typeface="Arial Narrow"/>
              </a:rPr>
              <a:t>Вирусы, черви и трояны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ирусы и черви представляют собой опасные программы, которые могут распространяться через электронную почту или веб-страницы. Вирусы могут повредить файлы или программное обеспечение, хранящиеся на компьютер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рви распространяются быстрее вирусов — напрямую с одного компьютера на другой. Например, червь электронной почты может осуществлять самостоятельную рассылку по адресам электронной почты из адресной книги пользователя. Интернет-червями осуществляется поиск компьютеров, которые подключены к Интернету и не содержат последние обновления системы безопас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8000"/>
                </a:solidFill>
                <a:latin typeface="Arial Narrow"/>
              </a:rPr>
              <a:t>Вирусы, черви и трояны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Троянские кони» (трояны)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вляются опасными программами, которые выглядят безопасными, например, играми, но после активации могут повредить файлы; при этом пользователь не будет об этом зна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вирусная программ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- программа, предназначенная для предотвращения доступа к персональному компьютеру  для вредоносных программ — она обнаруживает инфицированные файлы и удаляет их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за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8000"/>
                </a:solidFill>
                <a:latin typeface="Arial Narrow"/>
              </a:rPr>
              <a:t>Хакеры и взломщик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еловек, взламывающий информационные сети или системы организации, либо использующий их без разрешения. Термин «хакер» имеет два значения — он может также означать опытного компьютерного пользовател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ни могут вторгнуться на незащищенный компьютер через Интернет и воспользоваться им со злым умыслом, а также украсть или скопировать файлы и использовать их в противозаконной деятельности. Лучшим способом защиты компьютера от вторжения является применение брандмауэра и регулярное обновление операционной систем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рандмауэр - программное обеспечение или устройство, предназначенное для контроля над обменом данными между сетями или сетью и отдельной компьютерной системой. Например, брандмауэр позволяет ограничивать трафик на основе предварительно заданных правил, которые разрешают обмен данными только между указанными адреса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з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8000"/>
                </a:solidFill>
                <a:latin typeface="Arial Narrow"/>
              </a:rPr>
              <a:t>Спам в Интернете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желательная электронная почта, которая, как правило, рассылается в целях прямого почтового маркетинга. Спам почти всегда единовременно рассылается большому кругу получателей. Он приводит к перегрузке систем электронной почты и может заблокировать почтовые ящики. В качестве средства для рассылки спама его отправители иногда используют червей электронной почты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Дале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8000"/>
                </a:solidFill>
                <a:latin typeface="Arial Narrow"/>
              </a:rPr>
              <a:t>Пять правил относительно электронной почты:</a:t>
            </a: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икогда не открывайте подозрительные сообщения или вложения электронной почты, полученные от незнакомых людей. Вместо этого сразу удалите их, выбрав команду в меню сообщени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икогда не отвечайте на спа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меняйте фильтр спама поставщика услуг Интернета или программы работы с электронной почтой (при наличии подключения к Интернету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йте новый или используйте семейный адрес электронной почты для Интернет-запросов, дискуссионных форумов и т.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икогда не пересылайте «письма счастья». Вместо этого сразу удаляйте их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8000"/>
                </a:solidFill>
                <a:latin typeface="Arial Narrow"/>
              </a:rPr>
              <a:t>Дополнительные правил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крывайте сомнительные всплывающие окна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сплывающие окна — это небольшие окна с содержимым, побуждающим к переходу по ссылке. При отображении такого окна самым безопасным способом его закрытия является нажатие значка X (обычно располагается в правом верхнем углу). Невозможно знать наверняка, какое действие последует после нажатия кнопки «Нет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терегайтесь мошенничества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Интернете легко скрыть свою личность. Рекомендуется проверять личность человека, с которым происходит общение. Никогда не разглашайте в Интернете личную информацию, за исключением людей, которым вы доверяете. При запросе предоставления личной информации на веб-сайте всегда просматривайте разделы «Условия использования» или «Политика защиты конфиденциальной информации», чтобы убедиться в предоставлении оператором веб-сайта сведений о целях использования получаемой информации и ее передаче другим лица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суждайте использование Интернета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льшая часть материалов, доступных в Интернете, является непригодной для несовершеннолетних. Обсудите с детьми, как правильно и безопасно использовать Интернет.        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 Narrow"/>
              </a:rPr>
              <a:t>Поведение в Интернете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Законы применяются к Интернет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" action="ppaction://hlinksldjump"/>
              </a:rPr>
              <a:t>Авторские пра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3" action="ppaction://hlinksldjump"/>
              </a:rPr>
              <a:t>Информационная безопас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за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7T08:58:08Z</dcterms:created>
  <dc:creator>FoM</dc:creator>
  <dc:description/>
  <dc:language>en-US</dc:language>
  <cp:lastModifiedBy>FoM</cp:lastModifiedBy>
  <dcterms:modified xsi:type="dcterms:W3CDTF">2008-02-07T16:23:49Z</dcterms:modified>
  <cp:revision>6</cp:revision>
  <dc:subject/>
  <dc:title>Безопасность в Интернете</dc:title>
</cp:coreProperties>
</file>