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0CC-9E35-4A53-AB18-A34ACF69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964-55B8-4D62-AE72-7E70D32B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E92-2021-475A-A17A-6373C1D8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E58-2E0C-4DDC-B363-A0AD0E69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FBB-57B9-48A1-8355-0986484A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D9B-54C3-490F-92AE-E7815F8D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2F4-EE0A-4F6D-9CC6-DF19C540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FDF-6035-4535-A524-28112D55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3A2-A384-4152-ADFB-FAE184C2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FCA-8FAE-44B9-95FD-FA42B10A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E83-97F8-49BE-BBA0-6C56108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432-949B-439F-8D2D-24B3FBC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4613-8148-459B-BCDC-D575D3630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orssvin.ru/svedenya3.php" TargetMode="External"/><Relationship Id="rId2" Type="http://schemas.openxmlformats.org/officeDocument/2006/relationships/hyperlink" Target="http://www.wid.su/videososindex.htm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естиваль творческих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ельская презен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Влияние стресса на пищевое поведение морских свин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р: Айтбакиев Вильям, 11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  педагог дополнительного образования Истрати А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У ДО ЦДТ «Надеж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лехард, 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Скругленный прямоугольник 3"/>
          <p:cNvSpPr/>
          <p:nvPr/>
        </p:nvSpPr>
        <p:spPr>
          <a:xfrm>
            <a:off x="214200" y="285840"/>
            <a:ext cx="864396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Условия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содержания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2643120" y="4143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9"/>
          <p:cNvSpPr/>
          <p:nvPr/>
        </p:nvSpPr>
        <p:spPr>
          <a:xfrm>
            <a:off x="214200" y="1214280"/>
            <a:ext cx="8643960" cy="2500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ыбор жилищ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Лучший вариант - клетка с пластиковым дном и съемной верхней частью. Ее можно мыть и даже дезинфиц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еобходимо хорошо освещенное и сухое место. Температура воздуха в помещении должна быть примерно 22°С, относительная влажность воздуха-45- 55 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ельзя ставить клетку близко к форточке, отопительным приборам, телевизору и прямому источнику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Istrati.DEPBIO.000\Рабочий стол\картинки\334682.jpg"/>
          <p:cNvPicPr/>
          <p:nvPr/>
        </p:nvPicPr>
        <p:blipFill>
          <a:blip r:embed="rId2"/>
          <a:stretch/>
        </p:blipFill>
        <p:spPr>
          <a:xfrm>
            <a:off x="285840" y="38577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Istrati.DEPBIO.000\Рабочий стол\картинки\af9a4f91011d7cdff5217398d2aa25fd_600.jpg"/>
          <p:cNvPicPr/>
          <p:nvPr/>
        </p:nvPicPr>
        <p:blipFill>
          <a:blip r:embed="rId3"/>
          <a:stretch/>
        </p:blipFill>
        <p:spPr>
          <a:xfrm>
            <a:off x="4500720" y="3857760"/>
            <a:ext cx="4357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3"/>
          <p:cNvSpPr/>
          <p:nvPr/>
        </p:nvSpPr>
        <p:spPr>
          <a:xfrm>
            <a:off x="214200" y="142920"/>
            <a:ext cx="8715600" cy="3929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Режим корм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Нельзя нарушать режим кормления. Нарушения  могут привести к нарушениям флоры кишечника, что может привести даже к смерти живо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Идеальная пища морских свинок должна содержать 15 % грубых волокон, 20 % сырых белков и 4 % животных белков. Независимо от других видов кормов в избытке должно быть с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ежим кормления морских свинок должен быть двухразовым — утром и вечером — и всегда в определенные ча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Необходимо давать свежие овощи и фрукты. Их нужно мыть но не очищать от кож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поилки два раза в неделю необходимо наполнять новой отстоявшейся в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Istrati.DEPBIO.000\Рабочий стол\картинки\f_10463195.jpg"/>
          <p:cNvPicPr/>
          <p:nvPr/>
        </p:nvPicPr>
        <p:blipFill>
          <a:blip r:embed="rId2"/>
          <a:stretch/>
        </p:blipFill>
        <p:spPr>
          <a:xfrm>
            <a:off x="3071880" y="4071960"/>
            <a:ext cx="335736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Istrati.DEPBIO.000\Рабочий стол\картинки\000981cw.jpeg"/>
          <p:cNvPicPr/>
          <p:nvPr/>
        </p:nvPicPr>
        <p:blipFill>
          <a:blip r:embed="rId3"/>
          <a:stretch/>
        </p:blipFill>
        <p:spPr>
          <a:xfrm>
            <a:off x="6429240" y="3714840"/>
            <a:ext cx="250056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Documents and Settings\Istrati.DEPBIO.000\Рабочий стол\картинки\svinka.jpg"/>
          <p:cNvPicPr/>
          <p:nvPr/>
        </p:nvPicPr>
        <p:blipFill>
          <a:blip r:embed="rId4"/>
          <a:stretch/>
        </p:blipFill>
        <p:spPr>
          <a:xfrm>
            <a:off x="214200" y="4000680"/>
            <a:ext cx="28576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стресс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из нас не сталкивался в жизни со стрессом? Но не только люди подвержены ему. Животные, в том числе и морские свинки, также могут страдать от стресс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 же это такое - стресс? Стресс - это когда ваш организм сталкивается с каким-то раздражител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свинка морская.jpg"/>
          <p:cNvPicPr/>
          <p:nvPr/>
        </p:nvPicPr>
        <p:blipFill>
          <a:blip r:embed="rId1"/>
          <a:stretch/>
        </p:blipFill>
        <p:spPr>
          <a:xfrm>
            <a:off x="2916360" y="3357720"/>
            <a:ext cx="4149720" cy="2855880"/>
          </a:xfrm>
          <a:prstGeom prst="rect">
            <a:avLst/>
          </a:prstGeom>
          <a:ln w="0">
            <a:noFill/>
          </a:ln>
        </p:spPr>
      </p:pic>
      <p:pic>
        <p:nvPicPr>
          <p:cNvPr id="89" name="возмущение.mp3" descr=""/>
          <p:cNvPicPr/>
          <p:nvPr/>
        </p:nvPicPr>
        <p:blipFill>
          <a:blip r:embed="rId2"/>
          <a:stretch/>
        </p:blipFill>
        <p:spPr>
          <a:xfrm>
            <a:off x="197964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3405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блюдение за морскими свин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index_1506"/>
          <p:cNvPicPr/>
          <p:nvPr/>
        </p:nvPicPr>
        <p:blipFill>
          <a:blip r:embed="rId1"/>
          <a:stretch/>
        </p:blipFill>
        <p:spPr>
          <a:xfrm>
            <a:off x="3276720" y="4724280"/>
            <a:ext cx="151740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62"/>
          <p:cNvPicPr/>
          <p:nvPr/>
        </p:nvPicPr>
        <p:blipFill>
          <a:blip r:embed="rId2"/>
          <a:stretch/>
        </p:blipFill>
        <p:spPr>
          <a:xfrm>
            <a:off x="4140360" y="2708280"/>
            <a:ext cx="2376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сперимен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0040" y="1268280"/>
            <a:ext cx="385776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предложили морской свинке пообедать в новой обстановке: свинку из знаком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льера  помест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сто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лож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шему питомцу четыре вида корма: яблоко, капусту, морковь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ноград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р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кспериментов – повторили кормление в необычной обстановке три ра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корм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500720" y="1341360"/>
            <a:ext cx="4032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4" descr="свинка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57120" y="1285920"/>
            <a:ext cx="4214880" cy="2714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свинка.jpg"/>
          <p:cNvPicPr/>
          <p:nvPr/>
        </p:nvPicPr>
        <p:blipFill>
          <a:blip r:embed="rId2"/>
          <a:stretch/>
        </p:blipFill>
        <p:spPr>
          <a:xfrm>
            <a:off x="357120" y="3929040"/>
            <a:ext cx="8429760" cy="2786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свинка3.jp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264312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9"/>
          <p:cNvSpPr/>
          <p:nvPr/>
        </p:nvSpPr>
        <p:spPr>
          <a:xfrm>
            <a:off x="285840" y="214200"/>
            <a:ext cx="842940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о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Результаты наблюд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476360" y="594216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овой обстановке морская свинка отказалась от любимого корма, даже будучи голод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5547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ксперимент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680" y="1341000"/>
            <a:ext cx="407160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решили покормить  морскую свинку в привычной для неё обстановке. Предложили тот же корм, что и в первом эксперименте -  яблоко, капусту, морковь, виногра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4" descr="P1000560.JPG"/>
          <p:cNvPicPr/>
          <p:nvPr/>
        </p:nvPicPr>
        <p:blipFill>
          <a:blip r:embed="rId1"/>
          <a:stretch/>
        </p:blipFill>
        <p:spPr>
          <a:xfrm>
            <a:off x="928800" y="392904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4788000" y="2349360"/>
            <a:ext cx="3832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Результаты наблюд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инки через пять минут съели весь предложенный корм. Морские свинки сохраняют аппетит в привычной для них обстанов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вая обстановка для животного является стрессовой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рская свинка в новой обстановке перестает употреблять предложенный ей кор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наша гипотеза подтвердила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о,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морские свинки способны испытывать стресс в незнакомой обстанов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3"/>
          <p:cNvSpPr/>
          <p:nvPr/>
        </p:nvSpPr>
        <p:spPr>
          <a:xfrm>
            <a:off x="285840" y="285840"/>
            <a:ext cx="8643960" cy="1285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Морская св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Documents and Settings\Istrati.DEPBIO.000\Рабочий стол\картинки\51411988.jpg"/>
          <p:cNvPicPr/>
          <p:nvPr/>
        </p:nvPicPr>
        <p:blipFill>
          <a:blip r:embed="rId1"/>
          <a:stretch/>
        </p:blipFill>
        <p:spPr>
          <a:xfrm>
            <a:off x="1000080" y="1714680"/>
            <a:ext cx="6786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149064.jpg"/>
          <p:cNvPicPr/>
          <p:nvPr/>
        </p:nvPicPr>
        <p:blipFill>
          <a:blip r:embed="rId1"/>
          <a:stretch/>
        </p:blipFill>
        <p:spPr>
          <a:xfrm>
            <a:off x="357120" y="1214280"/>
            <a:ext cx="2786040" cy="39294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376413.jpg"/>
          <p:cNvPicPr/>
          <p:nvPr/>
        </p:nvPicPr>
        <p:blipFill>
          <a:blip r:embed="rId2"/>
          <a:stretch/>
        </p:blipFill>
        <p:spPr>
          <a:xfrm>
            <a:off x="3143160" y="2666880"/>
            <a:ext cx="2857680" cy="3762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morskie_svinki_new_bolwy_enl.jpg"/>
          <p:cNvPicPr/>
          <p:nvPr/>
        </p:nvPicPr>
        <p:blipFill>
          <a:blip r:embed="rId3"/>
          <a:stretch/>
        </p:blipFill>
        <p:spPr>
          <a:xfrm>
            <a:off x="6000840" y="1214280"/>
            <a:ext cx="2786040" cy="39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 -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25840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1"/>
              </a:rPr>
              <a:t>http://www.morssvin.ru/svedenya3.p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www.wid.su/videosos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svinka_07_resize"/>
          <p:cNvPicPr/>
          <p:nvPr/>
        </p:nvPicPr>
        <p:blipFill>
          <a:blip r:embed="rId3"/>
          <a:stretch/>
        </p:blipFill>
        <p:spPr>
          <a:xfrm>
            <a:off x="1908000" y="2708280"/>
            <a:ext cx="48247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6"/>
          <p:cNvSpPr txBox="1"/>
          <p:nvPr/>
        </p:nvSpPr>
        <p:spPr>
          <a:xfrm>
            <a:off x="1908000" y="2708280"/>
            <a:ext cx="54658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9280" y="765000"/>
            <a:ext cx="814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У меня возникли вопро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т ли морская свинка принимать корм в новой обстанов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стресс и как он влияет на поведение морской св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404280"/>
            <a:ext cx="8291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Мы предполагаем, что морские свинки способны испытывать стресс в незнакомой обстанов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гипотезы будет происходить с использованием любимого корма живот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2276_mini"/>
          <p:cNvPicPr/>
          <p:nvPr/>
        </p:nvPicPr>
        <p:blipFill>
          <a:blip r:embed="rId1"/>
          <a:stretch/>
        </p:blipFill>
        <p:spPr>
          <a:xfrm>
            <a:off x="684360" y="4869000"/>
            <a:ext cx="136656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2291_mini"/>
          <p:cNvPicPr/>
          <p:nvPr/>
        </p:nvPicPr>
        <p:blipFill>
          <a:blip r:embed="rId2"/>
          <a:stretch/>
        </p:blipFill>
        <p:spPr>
          <a:xfrm>
            <a:off x="2556000" y="4941720"/>
            <a:ext cx="1295280" cy="1008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2268_mini"/>
          <p:cNvPicPr/>
          <p:nvPr/>
        </p:nvPicPr>
        <p:blipFill>
          <a:blip r:embed="rId3"/>
          <a:stretch/>
        </p:blipFill>
        <p:spPr>
          <a:xfrm>
            <a:off x="4643280" y="4941720"/>
            <a:ext cx="1224000" cy="10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2260_mini"/>
          <p:cNvPicPr/>
          <p:nvPr/>
        </p:nvPicPr>
        <p:blipFill>
          <a:blip r:embed="rId4"/>
          <a:stretch/>
        </p:blipFill>
        <p:spPr>
          <a:xfrm>
            <a:off x="6659640" y="4941720"/>
            <a:ext cx="12254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21384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Цель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пищевое поведение морских свинок в новой обстанов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особенности морских сви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что такое стре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как влияет новая обстановка на аппетит морской св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поведение морских свинок в привычной обстановке и в новых услов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404280"/>
            <a:ext cx="8218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Ход исслед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источники информации: книги и Интернет ресурсы по вопросам нашей 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теоретические знания и знания, полученные при наблюдении за морскими свин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13880" y="856800"/>
            <a:ext cx="7921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учив литературу по теме и Интернет- источники мы узна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430da11c52af67f880a2ce05691e61cb"/>
          <p:cNvPicPr/>
          <p:nvPr/>
        </p:nvPicPr>
        <p:blipFill>
          <a:blip r:embed="rId1"/>
          <a:stretch/>
        </p:blipFill>
        <p:spPr>
          <a:xfrm>
            <a:off x="3059280" y="836640"/>
            <a:ext cx="3281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3"/>
          <p:cNvSpPr/>
          <p:nvPr/>
        </p:nvSpPr>
        <p:spPr>
          <a:xfrm>
            <a:off x="214200" y="21420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Особен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Istrati.DEPBIO.000\Рабочий стол\картинки\1149838753_12.jpg"/>
          <p:cNvPicPr/>
          <p:nvPr/>
        </p:nvPicPr>
        <p:blipFill>
          <a:blip r:embed="rId1"/>
          <a:stretch/>
        </p:blipFill>
        <p:spPr>
          <a:xfrm>
            <a:off x="5724360" y="1628640"/>
            <a:ext cx="2667240" cy="4286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71680" y="30078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Живут небольшими группами в нор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вырывают их сами или занимают чуж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42960" y="5081400"/>
            <a:ext cx="51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Природный черновато-коричневый цвет позволяет хорошо прятаться от многочисленных вра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71680" y="1571760"/>
            <a:ext cx="32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Родина –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Южная Аме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571680" y="214308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Населяют открытые пространства предгорных рай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571680" y="38242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Сумеречные живот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642960" y="428616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Имеют характерное строение лап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задних лапах - 3, на передних - 4 паль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3"/>
          <p:cNvSpPr/>
          <p:nvPr/>
        </p:nvSpPr>
        <p:spPr>
          <a:xfrm>
            <a:off x="263520" y="201600"/>
            <a:ext cx="850104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сновные породы морских св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857160" y="14288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бисс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Istrati.DEPBIO.000\Рабочий стол\картинки\abyssinskay.jpg"/>
          <p:cNvPicPr/>
          <p:nvPr/>
        </p:nvPicPr>
        <p:blipFill>
          <a:blip r:embed="rId1"/>
          <a:stretch/>
        </p:blipFill>
        <p:spPr>
          <a:xfrm>
            <a:off x="142920" y="178596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3800880" y="1357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мерика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Istrati.DEPBIO.000\Рабочий стол\картинки\american.jpg"/>
          <p:cNvPicPr/>
          <p:nvPr/>
        </p:nvPicPr>
        <p:blipFill>
          <a:blip r:embed="rId2"/>
          <a:stretch/>
        </p:blipFill>
        <p:spPr>
          <a:xfrm>
            <a:off x="3143160" y="178596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7010280" y="135720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еруа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Documents and Settings\Istrati.DEPBIO.000\Рабочий стол\картинки\coronet.jpg"/>
          <p:cNvPicPr/>
          <p:nvPr/>
        </p:nvPicPr>
        <p:blipFill>
          <a:blip r:embed="rId3"/>
          <a:stretch/>
        </p:blipFill>
        <p:spPr>
          <a:xfrm>
            <a:off x="6143760" y="178596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0"/>
          <p:cNvSpPr/>
          <p:nvPr/>
        </p:nvSpPr>
        <p:spPr>
          <a:xfrm>
            <a:off x="861480" y="385776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илки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:\Documents and Settings\Istrati.DEPBIO.000\Рабочий стол\картинки\silkie.jpg"/>
          <p:cNvPicPr/>
          <p:nvPr/>
        </p:nvPicPr>
        <p:blipFill>
          <a:blip r:embed="rId4"/>
          <a:stretch/>
        </p:blipFill>
        <p:spPr>
          <a:xfrm>
            <a:off x="142920" y="428616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2"/>
          <p:cNvSpPr/>
          <p:nvPr/>
        </p:nvSpPr>
        <p:spPr>
          <a:xfrm>
            <a:off x="4067640" y="3857760"/>
            <a:ext cx="14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Тедди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:\Documents and Settings\Istrati.DEPBIO.000\Рабочий стол\картинки\teddy.jpg"/>
          <p:cNvPicPr/>
          <p:nvPr/>
        </p:nvPicPr>
        <p:blipFill>
          <a:blip r:embed="rId5"/>
          <a:stretch/>
        </p:blipFill>
        <p:spPr>
          <a:xfrm>
            <a:off x="3143160" y="428616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4"/>
          <p:cNvSpPr/>
          <p:nvPr/>
        </p:nvSpPr>
        <p:spPr>
          <a:xfrm>
            <a:off x="7212960" y="38577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Текс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Istrati.DEPBIO.000\Рабочий стол\картинки\texel.jpg"/>
          <p:cNvPicPr/>
          <p:nvPr/>
        </p:nvPicPr>
        <p:blipFill>
          <a:blip r:embed="rId6"/>
          <a:stretch/>
        </p:blipFill>
        <p:spPr>
          <a:xfrm>
            <a:off x="6143760" y="4286160"/>
            <a:ext cx="2857320" cy="1928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7"/>
          <p:cNvSpPr/>
          <p:nvPr/>
        </p:nvSpPr>
        <p:spPr>
          <a:xfrm>
            <a:off x="392904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ки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C:\Documents and Settings\Istrati.DEPBIO.000\Рабочий стол\картинки\skinny.jpg"/>
          <p:cNvPicPr/>
          <p:nvPr/>
        </p:nvPicPr>
        <p:blipFill>
          <a:blip r:embed="rId7"/>
          <a:stretch/>
        </p:blipFill>
        <p:spPr>
          <a:xfrm>
            <a:off x="3143160" y="300024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5:29:39Z</dcterms:created>
  <dc:creator>Istrati</dc:creator>
  <dc:description/>
  <dc:language>en-US</dc:language>
  <cp:lastModifiedBy>Ученик1</cp:lastModifiedBy>
  <dcterms:modified xsi:type="dcterms:W3CDTF">2017-05-18T16:42:06Z</dcterms:modified>
  <cp:revision>67</cp:revision>
  <dc:subject/>
  <dc:title>Слайд 1</dc:title>
</cp:coreProperties>
</file>