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8113-CDD3-4C73-9588-B88FA0642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55F0-12B4-4AF0-99F6-260E6FD42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C56B-CDA9-4E39-94AE-5B609B9AE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DC68-F0FF-46E9-B46D-F0976620F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D60E-67F4-4E0C-A97F-EB6AEC4DC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F7EF-383F-443D-8924-2B664D0DA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D13C-298D-45BA-AAB5-3E14302B1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993A-E966-4C79-A459-DCCE05D17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EB4B-8A59-481F-936F-F788EC826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84F3-F577-40A5-8846-D8D74D8D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6C68-FBAB-4476-AA97-C06FC294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CBE7-69CF-4980-BAF6-2868FF39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2377C-20F8-4C78-ADC7-B0F44D6EAC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28800"/>
            <a:ext cx="77724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олочка с клапаном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00120" y="34290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ботка поперечных срезов наволочки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666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28760" y="500040"/>
            <a:ext cx="822960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научился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знаю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могу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ие свед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олочка с клапаном  - 1 деталь. Длина клапана –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5см.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Обработка срезов:                                    Поперечные срезы - швом вподгибку с закрытым срезом шириной до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0мм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                                        Боковые срезы -  двойным швом  шириной до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7 мм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440" y="6305760"/>
            <a:ext cx="5486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4" descr=""/>
          <p:cNvPicPr/>
          <p:nvPr/>
        </p:nvPicPr>
        <p:blipFill>
          <a:blip r:embed="rId1"/>
          <a:stretch/>
        </p:blipFill>
        <p:spPr>
          <a:xfrm>
            <a:off x="2212920" y="0"/>
            <a:ext cx="5632560" cy="68151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/>
          </p:nvPr>
        </p:nvSpPr>
        <p:spPr>
          <a:xfrm rot="10800000">
            <a:off x="1857240" y="6572160"/>
            <a:ext cx="548640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0 м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"/>
          <p:cNvSpPr/>
          <p:nvPr/>
        </p:nvSpPr>
        <p:spPr>
          <a:xfrm>
            <a:off x="1071720" y="1800"/>
            <a:ext cx="721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пошива наволоч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бработать поперечные срез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ыполнить разметку для клапан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бработать боковые срез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тутюжить готовое изделие сложить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лан пошива наволоч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 Обработать боковые срез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 Выполнить разметку для клапа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 Отутюжить готовое изделие, сложи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 Обработать поперечные срез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2160" y="1285560"/>
            <a:ext cx="7772400" cy="4483080"/>
          </a:xfrm>
          <a:prstGeom prst="rect">
            <a:avLst/>
          </a:prstGeom>
          <a:noFill/>
          <a:ln w="9360">
            <a:solidFill>
              <a:srgbClr val="94b6d2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К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Х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З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 обработки поперечных срез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гнуть поперечный срез детали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5мм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аметать по сгиб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ложить по линейке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0 мм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сгиба, подогнуть срез, замета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трочить на расстоянии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-2 мм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края внутреннего подгиба, закрепить начало и конгц строчк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Удалить нитки строчек временного назнач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риутюжить ш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Выполнить обработку второго поперечного срез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качества работ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ина шва вподгибку по всей длине одинакова и равна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0мм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ная строчка ровная, выполнена на расстоянии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-2мм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 края внутреннего подгиба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ов хорошо приутюжен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09T09:05:14Z</dcterms:created>
  <dc:creator>НАртс</dc:creator>
  <dc:description/>
  <dc:language>en-US</dc:language>
  <cp:lastModifiedBy>НАртс</cp:lastModifiedBy>
  <dcterms:modified xsi:type="dcterms:W3CDTF">2017-03-12T07:00:23Z</dcterms:modified>
  <cp:revision>32</cp:revision>
  <dc:subject/>
  <dc:title>Наволочка с клапаном</dc:title>
</cp:coreProperties>
</file>