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A0E-85DB-451F-A919-9AB34F18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8F2-273F-4444-B261-FC871795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076-2848-4DDF-A66E-D6DF50A7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6CB-5EFF-4CF8-A91C-902DB1D1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F9A-E0AB-42C4-93B5-8CE05EF3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C69-BF7B-4922-AA60-06828B4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621-D704-4A37-8106-8676628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E27-7B17-4318-A65E-EA88DCA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8C7-38EA-48E3-ACA5-662CE6D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999-7448-4724-A56C-D8BF7634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6A0-6C81-4D3B-BC15-A363A34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308-D610-4603-B3EF-7A5C8260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F21-CC4E-406A-B46A-7C2D1191C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лочка с клапан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оперечных срезов наволоч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50004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лочка с клапаном  - 1 деталь. Длина клапана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см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Обработка срезов:                                    Поперечные срезы - швом вподгибку с закрытым срезом шириной д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м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Боковые срезы -  двойным швом  шириной д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м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630576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2212920" y="0"/>
            <a:ext cx="5632560" cy="6815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 rot="10800000">
            <a:off x="1857240" y="657216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1071720" y="180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ошива наво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ботать поперечные с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разметку для клап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ботать боковые с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утюжить готовое изделие слож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пошива наво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бработать боковые с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Выполнить разметку для клап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тутюжить готовое изделие, сло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бработать поперечные с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285560"/>
            <a:ext cx="7772400" cy="448308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бработки поперечных сре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нуть поперечный срез дет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м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етать по сгиб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ь по линейк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 м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гиба, подогнуть срез, заме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очить на расстояни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-2 м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рая внутреннего подгиба, закрепить начало и конгц строч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далить нитки строчек временного на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утюжить ш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ыполнить обработку второго поперечного ср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качества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шва вподгибку по всей длине одинакова и равн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м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строчка ровная, выполнена на расстоянии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-2м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рая внутреннего подгиб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 хорошо приутюже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09:05:14Z</dcterms:created>
  <dc:creator>НАртс</dc:creator>
  <dc:description/>
  <dc:language>en-US</dc:language>
  <cp:lastModifiedBy>НАртс</cp:lastModifiedBy>
  <dcterms:modified xsi:type="dcterms:W3CDTF">2017-03-12T07:00:23Z</dcterms:modified>
  <cp:revision>32</cp:revision>
  <dc:subject/>
  <dc:title>Наволочка с клапаном</dc:title>
</cp:coreProperties>
</file>