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DBD-92EB-4854-9AC3-62AC55D4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B0C-6FED-459B-8E46-B845D2C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286-FA6C-4775-B2F9-3286754A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C6E-012B-4186-8635-CEC4FBF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EBC5-E657-4305-90C1-E05FA11F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A72-BA99-4920-B8DA-09B0CF6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01C9-1A9F-4087-870B-0A96C1EF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275C-E9E9-4020-BE10-3393C36C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A30B-1EB4-4694-A2BF-2CE0B91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853D-CA8B-4F7E-97C7-10306A9F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5185-6F92-4AFA-BD31-72373D7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43A-DDEF-49FF-ADD8-2046E740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FF3D-662D-46FA-8918-BB4BB55A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483D-3ED1-4456-83AB-8E78A28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610F-B586-4818-8032-4727B8D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936-93A6-41DC-900F-633AC165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74B5-389C-4274-A93B-356CD94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DCF-18AC-4127-8233-0C468B17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541-EC91-4C6C-8C4A-2DBA4FAE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79B-06AC-497D-A212-2B5A8424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725-08C9-4BE7-8D9D-2A81BAEB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75B-2D9E-4BCB-BD8E-EFB86339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F4D-61DF-4DB7-8507-14EB591F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915-F6FF-47E5-9BA9-D6BBBF4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0FE7-C92F-4D01-ADBA-7AD329F358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42EE-FE05-413F-9FBA-6177C2BCC8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абота с текстом на уроках литературы как способ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отивации к чте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Чиркова Татьяна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Федоров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русского языка и                                                                                                     литературы  первой  катег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им ты видишь будущее  книг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мену бумажной книге придет электронная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станется бумажная книга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нига останется (бумажная, электронная) – 8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Книги не будет совсем – 14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зови своих любимых писателе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вторы «Робинзона Крузо», «Острова сокровищ», «Золушки, «Чипполино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Нет любимых писателей - 5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3% - Агния Барто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ведя исследование, выяснил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нтерес к чтению по сравнению с 2011 годом остался на прежнем уровне, а вот процент детей, имеющих дома книги, посещающих библиотеку, читающих вместе с родителями, снизился очень заметн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и опрошенных в 2017 году нашлись люди,   которые не видят  книгу  в своем будуще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г чтения очень сузился, большинство из ребят не может  назвать ни одного любимого авто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вый аго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ание на розыгрыш дороже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ставить букв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…мпонент, расст…лать, предл…жение,прикле…ли, нечая…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расная дорож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чему рассказ назван «Анна на шее?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было вместо веселого бала и ужина, вместо музыки и танцев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Желтая дорож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колько лет было Модесту Алексеевичу? Анн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ое любимое выражение было у  Модеста Алексеевич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 кем должна была посоветоваться Анна перед тем , как сшить себе плать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еленая дорож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В каком году был впервые напечатан рассказ «Анна на шее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) О ком говорится: «Это человек с правилами и на хорошем счету у его сиятельства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Что любила Анна больше всего из сладк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) Где было напечатано объявление о зимнем бал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31640" y="2276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ение - сложный процесс,  направленный на понимание текста, он представляет  собой  взаимодействие между текстом и читателем.  Также чтение – это способность  воспринимать  информаци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бъектом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стали учащиеся Уринской  школы двух разных временных периодов (2011 и 2017 год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редметом исследования -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отношение учащихся к чтению, книг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Вопросы анкеты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Любишь ли ты чита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Есть ли у тебя дома книг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часто ходишь в библиотеку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одители любят чита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итают ли они вместе с тобой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им ты видишь будущее  книг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зови своих любимых писател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Любишь ли ты читать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5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43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а – 5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т – 44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сть ли у тебя дома книги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7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2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5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Ходишь  ли в библиотеку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44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т – 66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Да – 7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Нет – 93%!!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одители любят читать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85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71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итают ли они вместе с тобой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1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а – 37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7 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Да – 14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1:45:54Z</dcterms:created>
  <dc:creator>1</dc:creator>
  <dc:description/>
  <dc:language>en-US</dc:language>
  <cp:lastModifiedBy>1</cp:lastModifiedBy>
  <dcterms:modified xsi:type="dcterms:W3CDTF">2017-08-26T03:36:12Z</dcterms:modified>
  <cp:revision>8</cp:revision>
  <dc:subject/>
  <dc:title> Отношение к чтению: прошлое, настоящее, будущее    ( на примере учащихся Уринской школы) </dc:title>
</cp:coreProperties>
</file>