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00AAC-7093-4657-AF1D-E264C500A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FBE24-D9B6-4516-8A90-7FA63A6C3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38CD5-B914-4578-9778-B13071D82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BC90C-2409-4051-B591-9B662CE4B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090BE-97C8-457B-99AF-EC8D70871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54FD9-4AD1-49A0-9159-E533FE8C7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CEA2B-B81E-43AC-B859-2929AFF0C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28BEB-DC3E-4A4F-9F82-D99067386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FA52F-286F-4B56-91D3-965EF3E27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0D07B-D20B-4832-88D7-8D11EAD6A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0B0AA-8B96-40B5-8178-0AF1EF431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C1D5E-8409-4319-8FC3-45CB29F3F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5F340-1D26-4D81-993A-068B46C34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24A6C-E68A-442C-AC49-92F897FE3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4AE82-1744-4C6D-B970-2C768A9EE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3B0E5-528E-4133-ADA3-08360F120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267B6-EF99-4D6D-B31E-5D0704A32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4F0A3-ED29-40AC-A933-91B28C6FF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ED40D-B526-4DC1-A3FA-2EC2F7F15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9AD44-1EED-4189-9D0F-6FFAE665A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E932E-D8F5-4459-B6E9-BA2995A97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499D3-433E-434C-A44F-76D2C1A29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BCB0F-DC7E-4A01-96BE-60B8B8B56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0A24F-093F-4A3B-A51E-EE7C9AD89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FCE71-7897-482E-9A2E-46C37B69B11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DF27A-CAF8-4F99-8EA5-0FF8F8BB2DE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6666"/>
                </a:solidFill>
                <a:latin typeface="Times New Roman"/>
              </a:rPr>
              <a:t>Работа с текстом на уроках литературы как способ</a:t>
            </a:r>
            <a:r>
              <a:rPr b="1" lang="en-US" sz="32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6666"/>
                </a:solidFill>
                <a:latin typeface="Times New Roman"/>
              </a:rPr>
              <a:t>мотивации к чтению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547640" y="4005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Verdana"/>
              </a:rPr>
              <a:t>Чиркова Татьяна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ff0000"/>
                </a:solidFill>
                <a:latin typeface="Verdana"/>
              </a:rPr>
              <a:t>Федоровна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читель русского языка и                                                                                                     литературы  первой  категории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Каким ты видишь будущее  книги?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8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20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11 год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На смену бумажной книге придет электронная – 50%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Останется бумажная книга – 50%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094360" y="1827360"/>
            <a:ext cx="358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201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7 год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Книга останется (бумажная, электронная) – 86%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0000"/>
                </a:solidFill>
                <a:latin typeface="Verdana"/>
              </a:rPr>
              <a:t>Книги не будет совсем – 14%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Назови своих любимых писателей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8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20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11 год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Авторы «Робинзона Крузо», «Острова сокровищ», «Золушки, «Чипполино»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094360" y="1827360"/>
            <a:ext cx="358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201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7 год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500" spc="-1" strike="noStrike">
                <a:solidFill>
                  <a:srgbClr val="ff0000"/>
                </a:solidFill>
                <a:latin typeface="Verdana"/>
              </a:rPr>
              <a:t>Нет любимых писателей - 57%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43% - Агния Барто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Проведя исследование, выяснили: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Интерес к чтению по сравнению с 2011 годом остался на прежнем уровне, а вот процент детей, имеющих дома книги, посещающих библиотеку, читающих вместе с родителями, снизился очень заметно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Среди опрошенных в 2017 году нашлись люди,   которые не видят  книгу  в своем будущем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Круг чтения очень сузился, большинство из ребят не может  назвать ни одного любимого автора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Первый агон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Задание на розыгрыш дорожек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Вставить буквы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00000"/>
                </a:solidFill>
                <a:latin typeface="Verdana"/>
              </a:rPr>
              <a:t>К…мпонент, расст…лать, предл…жение,прикле…ли, нечая…о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Красная дорожка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2600" indent="-552600">
              <a:spcBef>
                <a:spcPts val="726"/>
              </a:spcBef>
              <a:buClr>
                <a:srgbClr val="006666"/>
              </a:buClr>
              <a:buSzPct val="70000"/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Почему рассказ назван «Анна на шее?»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726"/>
              </a:spcBef>
              <a:buClr>
                <a:srgbClr val="006666"/>
              </a:buClr>
              <a:buSzPct val="70000"/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Что было вместо веселого бала и ужина, вместо музыки и танцев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Желтая дорожка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2600" indent="-552600">
              <a:spcBef>
                <a:spcPts val="726"/>
              </a:spcBef>
              <a:buClr>
                <a:srgbClr val="006666"/>
              </a:buClr>
              <a:buSzPct val="70000"/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Сколько лет было Модесту Алексеевичу? Анне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726"/>
              </a:spcBef>
              <a:buClr>
                <a:srgbClr val="006666"/>
              </a:buClr>
              <a:buSzPct val="70000"/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Какое любимое выражение было у  Модеста Алексеевича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726"/>
              </a:spcBef>
              <a:buClr>
                <a:srgbClr val="006666"/>
              </a:buClr>
              <a:buSzPct val="70000"/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С кем должна была посоветоваться Анна перед тем , как сшить себе платье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Зеленая дорожка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1) В каком году был впервые напечатан рассказ «Анна на шее»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2) О ком говорится: «Это человек с правилами и на хорошем счету у его сиятельства»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3) Что любила Анна больше всего из сладкого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4) Где было напечатано объявление о зимнем бале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1331640" y="2276280"/>
            <a:ext cx="698508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Спасибо за внимание!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Чтение - сложный процесс,  направленный на понимание текста, он представляет  собой  взаимодействие между текстом и читателем.  Также чтение – это способность  воспринимать  информацию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Verdana"/>
              </a:rPr>
              <a:t>Объектом исследования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 стали учащиеся Уринской  школы двух разных временных периодов (2011 и 2017 год);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Verdana"/>
              </a:rPr>
              <a:t>Предметом исследования -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  отношение учащихся к чтению, книге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Times New Roman"/>
              </a:rPr>
              <a:t>Вопросы анкеты: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Любишь ли ты читать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Есть ли у тебя дома книги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Как часто ходишь в библиотеку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Родители любят читать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Читают ли они вместе с тобой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Каким ты видишь будущее  книги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Назови своих любимых писателей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Любишь ли ты читать?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8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20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11 год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Да – 57%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Нет – 43%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094360" y="1827360"/>
            <a:ext cx="358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2017 год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Да – 56%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Нет – 44%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Есть ли у тебя дома книги?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8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20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11 год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Да – 75%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Нет – 25%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094360" y="1827360"/>
            <a:ext cx="358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201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7 год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Да – 50%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Нет – 50%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Ходишь  ли в библиотеку?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8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20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11 год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Да – 44%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Нет – 66%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094360" y="1827360"/>
            <a:ext cx="358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201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7 год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0000"/>
                </a:solidFill>
                <a:latin typeface="Verdana"/>
              </a:rPr>
              <a:t>Да – 7%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0000"/>
                </a:solidFill>
                <a:latin typeface="Verdana"/>
              </a:rPr>
              <a:t>Нет – 93%!!!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Родители любят читать?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8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20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11 год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Да – 85 %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094360" y="1827360"/>
            <a:ext cx="358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201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7 год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Да – 71 %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Читают ли они вместе с тобой?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8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20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11 год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Да – 37 %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094360" y="1827360"/>
            <a:ext cx="358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201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7 год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0000"/>
                </a:solidFill>
                <a:latin typeface="Verdana"/>
              </a:rPr>
              <a:t>Да – 14 %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4-20T11:45:54Z</dcterms:created>
  <dc:creator>1</dc:creator>
  <dc:description/>
  <dc:language>en-US</dc:language>
  <cp:lastModifiedBy>1</cp:lastModifiedBy>
  <dcterms:modified xsi:type="dcterms:W3CDTF">2017-08-26T03:36:12Z</dcterms:modified>
  <cp:revision>8</cp:revision>
  <dc:subject/>
  <dc:title> Отношение к чтению: прошлое, настоящее, будущее    ( на примере учащихся Уринской школы) </dc:title>
</cp:coreProperties>
</file>