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FEE-937F-4D09-8AC0-9CAA3171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415-6F21-4C76-B111-6F94FB0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277-8943-4C45-AA01-1589ABA8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5CE-D0D9-4F80-9227-BD5B90C5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4E3F-5058-4691-81A6-7B02D25E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873-4762-4DE2-A052-7C4A6D5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8DB4-383A-4BC1-834F-1B21899E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8051-653D-4451-98E7-8692953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546-BAFF-45C9-B5E3-AAC79C6E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7AB-761D-431D-8F7B-C39F338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1D88-6A82-4A93-9BE2-5F12F55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91E-5F97-4193-801F-E8061F2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D14-CC6C-47E4-A63E-10BB277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485E-AF12-412E-91F6-256013A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316F-DC7D-4077-A944-07C1F18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962A-7AE3-4173-89D6-BE3FB65E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82D9-813B-429D-80CF-7318CF9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CB3-2B05-4229-BF75-C68BB7AB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F1F-591A-4752-9A0E-2B4DC3D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5EC-5A9F-4926-93F1-1D6B9BC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A35-58BA-4AA8-9D7B-0B710354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AA1-44DF-4E80-A378-9D57B91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B0A-B804-4AAA-881C-80BFBAF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4AE-3F62-442C-84A4-4474519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270-1FB3-478E-BB05-82962C806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B687-5CC6-4DE3-9E8F-7454848DE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obeda"/>
          <p:cNvPicPr/>
          <p:nvPr/>
        </p:nvPicPr>
        <p:blipFill>
          <a:blip r:embed="rId1"/>
          <a:stretch/>
        </p:blipFill>
        <p:spPr>
          <a:xfrm>
            <a:off x="457200" y="1676520"/>
            <a:ext cx="8255160" cy="4952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 бои шли не только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на фрон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стар, и млад, все, кто мог держать в руках лопату, строили укрепления, копали окоп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p35"/>
          <p:cNvPicPr/>
          <p:nvPr/>
        </p:nvPicPr>
        <p:blipFill>
          <a:blip r:embed="rId1"/>
          <a:stretch/>
        </p:blipFill>
        <p:spPr>
          <a:xfrm>
            <a:off x="457200" y="1828800"/>
            <a:ext cx="4826160" cy="3624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94320" y="2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устели цеха заводов, потому что мужчины ушли на фро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 заводы должны работ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лдатам на фронте нужны мины, пушки, снаряды, пулемёты. Кто же будет их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огда на заводы пришли женщины и подро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p53"/>
          <p:cNvPicPr/>
          <p:nvPr/>
        </p:nvPicPr>
        <p:blipFill>
          <a:blip r:embed="rId1"/>
          <a:stretch/>
        </p:blipFill>
        <p:spPr>
          <a:xfrm>
            <a:off x="685800" y="152280"/>
            <a:ext cx="3983040" cy="3144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34" name="Picture 8" descr="в15"/>
          <p:cNvPicPr/>
          <p:nvPr/>
        </p:nvPicPr>
        <p:blipFill>
          <a:blip r:embed="rId2"/>
          <a:stretch/>
        </p:blipFill>
        <p:spPr>
          <a:xfrm>
            <a:off x="1295280" y="3581280"/>
            <a:ext cx="2743200" cy="3129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486040" y="685800"/>
            <a:ext cx="3429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енщины сказа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заменим наших му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ростки сказа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научимся работать на станках наших отцов и старших брат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52280" y="1447920"/>
            <a:ext cx="5283360" cy="3657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эти дни четырнадцатилетний мальчик писал отцу на фрон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Копия сканирование0005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133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фронте не хватало оружия, а в тылу день и ночь работали заводы- делали танки, самолёты, автоматы. Их под бомбёжками доставляли на фронт на бронепоездах, машинах и даже на собака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p76"/>
          <p:cNvPicPr/>
          <p:nvPr/>
        </p:nvPicPr>
        <p:blipFill>
          <a:blip r:embed="rId1"/>
          <a:stretch/>
        </p:blipFill>
        <p:spPr>
          <a:xfrm>
            <a:off x="228600" y="2209680"/>
            <a:ext cx="4343400" cy="32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41" name="Picture 5" descr="p227"/>
          <p:cNvPicPr/>
          <p:nvPr/>
        </p:nvPicPr>
        <p:blipFill>
          <a:blip r:embed="rId2"/>
          <a:stretch/>
        </p:blipFill>
        <p:spPr>
          <a:xfrm>
            <a:off x="4800600" y="3505320"/>
            <a:ext cx="4216320" cy="316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м, где территорию захватывали немцы, люди уходили в леса и создавали партизанские отряды. В отрядах были мужчины, которых не взяли на фронт по состоянию здоровья, женщины и подро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p43"/>
          <p:cNvPicPr/>
          <p:nvPr/>
        </p:nvPicPr>
        <p:blipFill>
          <a:blip r:embed="rId1"/>
          <a:stretch/>
        </p:blipFill>
        <p:spPr>
          <a:xfrm>
            <a:off x="1828800" y="2514600"/>
            <a:ext cx="5543640" cy="41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яжело приходилось бойцам на фронте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удно было людям и в ты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105520" y="2819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ди голод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ие дети лишились своих родител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8" descr="p183"/>
          <p:cNvPicPr/>
          <p:nvPr/>
        </p:nvPicPr>
        <p:blipFill>
          <a:blip r:embed="rId1"/>
          <a:stretch/>
        </p:blipFill>
        <p:spPr>
          <a:xfrm>
            <a:off x="228600" y="2057400"/>
            <a:ext cx="5054760" cy="3794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локадный Ленингр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ых 900 дней жил город в окруж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нём и ночью немцы обстреливали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ысячи жителей поги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 голода и хол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p120"/>
          <p:cNvPicPr/>
          <p:nvPr/>
        </p:nvPicPr>
        <p:blipFill>
          <a:blip r:embed="rId1"/>
          <a:stretch/>
        </p:blipFill>
        <p:spPr>
          <a:xfrm>
            <a:off x="203040" y="1828800"/>
            <a:ext cx="4972320" cy="3733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38440" y="304920"/>
            <a:ext cx="566892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1066680" y="189000"/>
            <a:ext cx="7086600" cy="63896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рманские войска без предупреждения напали на нашу стра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Й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p5"/>
          <p:cNvPicPr/>
          <p:nvPr/>
        </p:nvPicPr>
        <p:blipFill>
          <a:blip r:embed="rId1"/>
          <a:stretch/>
        </p:blipFill>
        <p:spPr>
          <a:xfrm>
            <a:off x="4952880" y="1371600"/>
            <a:ext cx="3791160" cy="50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371600" y="195120"/>
            <a:ext cx="6324480" cy="6396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44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 года длилась вой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41-1945 г.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нтиметр за сантиметром наши войска гнали врага прочь с нашей земли. И вот, наконец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 апреля 1945г. над поверженным фашистским Рейхстагом в Берлине наши солд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горов М. А. и  Кантария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рузили Знамя Поб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K:\азбука войны в картинках\463AF3B60B12B.jpg"/>
          <p:cNvPicPr/>
          <p:nvPr/>
        </p:nvPicPr>
        <p:blipFill>
          <a:blip r:embed="rId1"/>
          <a:stretch/>
        </p:blipFill>
        <p:spPr>
          <a:xfrm>
            <a:off x="914400" y="914400"/>
            <a:ext cx="3124080" cy="2343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56" name="Picture 2" descr="K:\азбука войны в картинках\38046478.jpg"/>
          <p:cNvPicPr/>
          <p:nvPr/>
        </p:nvPicPr>
        <p:blipFill>
          <a:blip r:embed="rId2"/>
          <a:stretch/>
        </p:blipFill>
        <p:spPr>
          <a:xfrm>
            <a:off x="1066680" y="3429000"/>
            <a:ext cx="2743200" cy="3336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picture1"/>
          <p:cNvPicPr/>
          <p:nvPr/>
        </p:nvPicPr>
        <p:blipFill>
          <a:blip r:embed="rId1"/>
          <a:stretch/>
        </p:blipFill>
        <p:spPr>
          <a:xfrm>
            <a:off x="228600" y="1600200"/>
            <a:ext cx="3819600" cy="4721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phoca_thumb_l_Красная площадь в день парада"/>
          <p:cNvPicPr/>
          <p:nvPr/>
        </p:nvPicPr>
        <p:blipFill>
          <a:blip r:embed="rId2"/>
          <a:stretch/>
        </p:blipFill>
        <p:spPr>
          <a:xfrm>
            <a:off x="4267080" y="1676520"/>
            <a:ext cx="4657680" cy="2981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60" name="Text Box 7"/>
          <p:cNvSpPr/>
          <p:nvPr/>
        </p:nvSpPr>
        <p:spPr>
          <a:xfrm>
            <a:off x="4572000" y="48006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 мая 1945 года- первый парад в честь Дня побе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den_pobedy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Лев Лещенко - День Победы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victory_day_parade_rehearsal01"/>
          <p:cNvPicPr/>
          <p:nvPr/>
        </p:nvPicPr>
        <p:blipFill>
          <a:blip r:embed="rId1"/>
          <a:stretch/>
        </p:blipFill>
        <p:spPr>
          <a:xfrm>
            <a:off x="152280" y="304920"/>
            <a:ext cx="4416480" cy="307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victoryday_parade_rehearsal01"/>
          <p:cNvPicPr/>
          <p:nvPr/>
        </p:nvPicPr>
        <p:blipFill>
          <a:blip r:embed="rId2"/>
          <a:stretch/>
        </p:blipFill>
        <p:spPr>
          <a:xfrm>
            <a:off x="4462560" y="3505320"/>
            <a:ext cx="4611600" cy="3124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"/>
          <p:cNvSpPr/>
          <p:nvPr/>
        </p:nvSpPr>
        <p:spPr>
          <a:xfrm>
            <a:off x="4899600" y="914400"/>
            <a:ext cx="40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т День Побед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рохом проп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9720" y="4343400"/>
            <a:ext cx="453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праздни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 слезами на глаз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1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ного дней  прошло со дня окончания этой страшной вой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, друзь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Содержимое 3" descr="003-01.jpg"/>
          <p:cNvPicPr/>
          <p:nvPr/>
        </p:nvPicPr>
        <p:blipFill>
          <a:blip r:embed="rId1"/>
          <a:stretch/>
        </p:blipFill>
        <p:spPr>
          <a:xfrm>
            <a:off x="152280" y="1828800"/>
            <a:ext cx="4876920" cy="3989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pixelbrush.ru›…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techestvennaya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voyna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chevidcev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muzofon.com›search/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ава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н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громна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MuzNarod.net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н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бед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105160" y="236196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ысячи мужчин в возрасте от 23 до 36 лет уходили на фр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p12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487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09" name="Военные песни - Военные песни - Военные песни_ вставай страна огромная... (mp3ostrov.com)-1.mp3" descr=""/>
          <p:cNvPicPr/>
          <p:nvPr/>
        </p:nvPicPr>
        <p:blipFill>
          <a:blip r:embed="rId2"/>
          <a:stretch/>
        </p:blipFill>
        <p:spPr>
          <a:xfrm>
            <a:off x="7162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3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чались кровопролитные бои за освобождение нашей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23"/>
          <p:cNvPicPr/>
          <p:nvPr/>
        </p:nvPicPr>
        <p:blipFill>
          <a:blip r:embed="rId1"/>
          <a:stretch/>
        </p:blipFill>
        <p:spPr>
          <a:xfrm>
            <a:off x="228600" y="1600200"/>
            <a:ext cx="4067280" cy="3054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2" name="Picture 5" descr="p31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205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и шли на земле, на воде и в воздух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p103"/>
          <p:cNvPicPr/>
          <p:nvPr/>
        </p:nvPicPr>
        <p:blipFill>
          <a:blip r:embed="rId1"/>
          <a:stretch/>
        </p:blipFill>
        <p:spPr>
          <a:xfrm>
            <a:off x="4800600" y="3505320"/>
            <a:ext cx="4191120" cy="314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5" name="Picture 5" descr="p108"/>
          <p:cNvPicPr/>
          <p:nvPr/>
        </p:nvPicPr>
        <p:blipFill>
          <a:blip r:embed="rId2"/>
          <a:stretch/>
        </p:blipFill>
        <p:spPr>
          <a:xfrm>
            <a:off x="380880" y="1676520"/>
            <a:ext cx="4191120" cy="3124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мцы старались разрушить наши города, сёла, мосты. Они с самолётов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нём и ночью бомбили наши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41"/>
          <p:cNvPicPr/>
          <p:nvPr/>
        </p:nvPicPr>
        <p:blipFill>
          <a:blip r:embed="rId1"/>
          <a:stretch/>
        </p:blipFill>
        <p:spPr>
          <a:xfrm>
            <a:off x="152280" y="1676520"/>
            <a:ext cx="4140360" cy="3108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8" name="Picture 5" descr="p117"/>
          <p:cNvPicPr/>
          <p:nvPr/>
        </p:nvPicPr>
        <p:blipFill>
          <a:blip r:embed="rId2"/>
          <a:stretch/>
        </p:blipFill>
        <p:spPr>
          <a:xfrm>
            <a:off x="4495680" y="3390840"/>
            <a:ext cx="4267440" cy="3203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круг гремели взрывы снарядов. Полыхали пожары. Дымились руины разрушенных здани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в9"/>
          <p:cNvPicPr/>
          <p:nvPr/>
        </p:nvPicPr>
        <p:blipFill>
          <a:blip r:embed="rId1"/>
          <a:stretch/>
        </p:blipFill>
        <p:spPr>
          <a:xfrm>
            <a:off x="4800600" y="1523880"/>
            <a:ext cx="3457440" cy="2509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21" name="Picture 5" descr="в13"/>
          <p:cNvPicPr/>
          <p:nvPr/>
        </p:nvPicPr>
        <p:blipFill>
          <a:blip r:embed="rId2"/>
          <a:stretch/>
        </p:blipFill>
        <p:spPr>
          <a:xfrm>
            <a:off x="762120" y="1523880"/>
            <a:ext cx="3530520" cy="5181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22" name="Picture 6" descr="в12"/>
          <p:cNvPicPr/>
          <p:nvPr/>
        </p:nvPicPr>
        <p:blipFill>
          <a:blip r:embed="rId3"/>
          <a:stretch/>
        </p:blipFill>
        <p:spPr>
          <a:xfrm>
            <a:off x="4800600" y="4191120"/>
            <a:ext cx="3505320" cy="2514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06268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ие остались без крыши над головой и имущества, потому что их дома были разрушены взрывами снаря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о человек погибло под обстрелами и под развалинами дом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p179"/>
          <p:cNvPicPr/>
          <p:nvPr/>
        </p:nvPicPr>
        <p:blipFill>
          <a:blip r:embed="rId1"/>
          <a:stretch/>
        </p:blipFill>
        <p:spPr>
          <a:xfrm>
            <a:off x="152280" y="685800"/>
            <a:ext cx="5175360" cy="3886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5" name="Rectangle 8"/>
          <p:cNvSpPr/>
          <p:nvPr/>
        </p:nvSpPr>
        <p:spPr>
          <a:xfrm>
            <a:off x="0" y="49593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 июля 1943 года Толя Фролов на пепелище своего дома. Село Ульяново Орловской обла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то М. Савин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 вражеских снарядов люди укрывались в бомбоубежищ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p59"/>
          <p:cNvPicPr/>
          <p:nvPr/>
        </p:nvPicPr>
        <p:blipFill>
          <a:blip r:embed="rId1"/>
          <a:stretch/>
        </p:blipFill>
        <p:spPr>
          <a:xfrm>
            <a:off x="2133720" y="1447920"/>
            <a:ext cx="4876560" cy="3660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8" name="Rectangle 7"/>
          <p:cNvSpPr/>
          <p:nvPr/>
        </p:nvSpPr>
        <p:spPr>
          <a:xfrm>
            <a:off x="685800" y="5112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42 год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московском метро на станции «Маяковская» во время бомбардировки немецкой ави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дача молока детя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я</cp:lastModifiedBy>
  <dcterms:modified xsi:type="dcterms:W3CDTF">2017-06-27T11:02:4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