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3E9-61D4-4391-B4B3-D4160D70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FD4-228A-401E-805E-C91E2A3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72D-C880-4083-850D-DFEF3306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932-AE69-484D-AE89-D10C2C35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1C2-2386-4885-9DF8-C320527A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1838-8260-46F7-8103-AD5C32E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45A-6330-411E-BCD1-6C497320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996-1EB4-4ADF-BAAB-7D0625C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C73-059D-4D98-B526-EC08203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EFA-2840-417B-8D44-0B77BE3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28E-ABEB-4640-8B6B-9AE1C11E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60F-AC7A-4CBD-8115-809270C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6231-DFF1-48D8-8FAB-2D61E51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C85-9797-49F1-8CA9-DD3CD0B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93F-3733-4419-9296-4CDBB70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06E9-9CB6-4ED8-9BFA-0E1EBA9A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FDBD-C6D4-4CA7-AB63-5DA8DBCB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936-5F7C-489E-AA07-F4EA720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D85-B4F5-47BF-831B-9CDA260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8D8-3FA0-4B43-8369-90DF61B7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A08-ED63-4F66-B849-F9EC5C9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855-D311-4B23-B280-45FF030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8A2-6A5D-417B-ABC7-751E66E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214-91C6-43E4-9BCF-46B1F18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637-992C-497A-A139-0AB460663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21BF-E043-4670-8FF1-06EC1486E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obeda"/>
          <p:cNvPicPr/>
          <p:nvPr/>
        </p:nvPicPr>
        <p:blipFill>
          <a:blip r:embed="rId1"/>
          <a:stretch/>
        </p:blipFill>
        <p:spPr>
          <a:xfrm>
            <a:off x="457200" y="1676520"/>
            <a:ext cx="8255160" cy="4952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 бои шли не только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на фрон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стар, и млад, все, кто мог держать в руках лопату, строили укрепления, копали окоп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p35"/>
          <p:cNvPicPr/>
          <p:nvPr/>
        </p:nvPicPr>
        <p:blipFill>
          <a:blip r:embed="rId1"/>
          <a:stretch/>
        </p:blipFill>
        <p:spPr>
          <a:xfrm>
            <a:off x="457200" y="1828800"/>
            <a:ext cx="4826160" cy="3624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94320" y="2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устели цеха заводов, потому что мужчины ушли на фро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 заводы должны работ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лдатам на фронте нужны мины, пушки, снаряды, пулемёты. Кто же будет их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огда на заводы пришли женщины и подро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p53"/>
          <p:cNvPicPr/>
          <p:nvPr/>
        </p:nvPicPr>
        <p:blipFill>
          <a:blip r:embed="rId1"/>
          <a:stretch/>
        </p:blipFill>
        <p:spPr>
          <a:xfrm>
            <a:off x="685800" y="152280"/>
            <a:ext cx="3983040" cy="3144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34" name="Picture 8" descr="в15"/>
          <p:cNvPicPr/>
          <p:nvPr/>
        </p:nvPicPr>
        <p:blipFill>
          <a:blip r:embed="rId2"/>
          <a:stretch/>
        </p:blipFill>
        <p:spPr>
          <a:xfrm>
            <a:off x="1295280" y="3581280"/>
            <a:ext cx="2743200" cy="3129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486040" y="685800"/>
            <a:ext cx="3429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енщины сказа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заменим наших му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ростки сказа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научимся работать на станках наших отцов и старших брат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52280" y="1447920"/>
            <a:ext cx="5283360" cy="3657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эти дни четырнадцатилетний мальчик писал отцу на фрон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Копия сканирование0005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133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фронте не хватало оружия, а в тылу день и ночь работали заводы- делали танки, самолёты, автоматы. Их под бомбёжками доставляли на фронт на бронепоездах, машинах и даже на собака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p76"/>
          <p:cNvPicPr/>
          <p:nvPr/>
        </p:nvPicPr>
        <p:blipFill>
          <a:blip r:embed="rId1"/>
          <a:stretch/>
        </p:blipFill>
        <p:spPr>
          <a:xfrm>
            <a:off x="228600" y="2209680"/>
            <a:ext cx="4343400" cy="32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41" name="Picture 5" descr="p227"/>
          <p:cNvPicPr/>
          <p:nvPr/>
        </p:nvPicPr>
        <p:blipFill>
          <a:blip r:embed="rId2"/>
          <a:stretch/>
        </p:blipFill>
        <p:spPr>
          <a:xfrm>
            <a:off x="4800600" y="3505320"/>
            <a:ext cx="4216320" cy="316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м, где территорию захватывали немцы, люди уходили в леса и создавали партизанские отряды. В отрядах были мужчины, которых не взяли на фронт по состоянию здоровья, женщины и подро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p43"/>
          <p:cNvPicPr/>
          <p:nvPr/>
        </p:nvPicPr>
        <p:blipFill>
          <a:blip r:embed="rId1"/>
          <a:stretch/>
        </p:blipFill>
        <p:spPr>
          <a:xfrm>
            <a:off x="1828800" y="2514600"/>
            <a:ext cx="5543640" cy="41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яжело приходилось бойцам на фронте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удно было людям и в ты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105520" y="2819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ди голод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ие дети лишились своих родител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8" descr="p183"/>
          <p:cNvPicPr/>
          <p:nvPr/>
        </p:nvPicPr>
        <p:blipFill>
          <a:blip r:embed="rId1"/>
          <a:stretch/>
        </p:blipFill>
        <p:spPr>
          <a:xfrm>
            <a:off x="228600" y="2057400"/>
            <a:ext cx="5054760" cy="3794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локадный Ленингр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ых 900 дней жил город в окруж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нём и ночью немцы обстреливали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ысячи жителей поги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 голода и хол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p120"/>
          <p:cNvPicPr/>
          <p:nvPr/>
        </p:nvPicPr>
        <p:blipFill>
          <a:blip r:embed="rId1"/>
          <a:stretch/>
        </p:blipFill>
        <p:spPr>
          <a:xfrm>
            <a:off x="203040" y="1828800"/>
            <a:ext cx="4972320" cy="3733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38440" y="304920"/>
            <a:ext cx="566892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1066680" y="189000"/>
            <a:ext cx="7086600" cy="63896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рманские войска без предупреждения напали на нашу стра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Й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p5"/>
          <p:cNvPicPr/>
          <p:nvPr/>
        </p:nvPicPr>
        <p:blipFill>
          <a:blip r:embed="rId1"/>
          <a:stretch/>
        </p:blipFill>
        <p:spPr>
          <a:xfrm>
            <a:off x="4952880" y="1371600"/>
            <a:ext cx="3791160" cy="50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371600" y="195120"/>
            <a:ext cx="6324480" cy="6396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44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 года длилась вой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41-1945 г.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нтиметр за сантиметром наши войска гнали врага прочь с нашей земли. И вот, наконец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 апреля 1945г. над поверженным фашистским Рейхстагом в Берлине наши солд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горов М. А. и  Кантария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рузили Знамя Поб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K:\азбука войны в картинках\463AF3B60B12B.jpg"/>
          <p:cNvPicPr/>
          <p:nvPr/>
        </p:nvPicPr>
        <p:blipFill>
          <a:blip r:embed="rId1"/>
          <a:stretch/>
        </p:blipFill>
        <p:spPr>
          <a:xfrm>
            <a:off x="914400" y="914400"/>
            <a:ext cx="3124080" cy="2343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56" name="Picture 2" descr="K:\азбука войны в картинках\38046478.jpg"/>
          <p:cNvPicPr/>
          <p:nvPr/>
        </p:nvPicPr>
        <p:blipFill>
          <a:blip r:embed="rId2"/>
          <a:stretch/>
        </p:blipFill>
        <p:spPr>
          <a:xfrm>
            <a:off x="1066680" y="3429000"/>
            <a:ext cx="2743200" cy="3336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picture1"/>
          <p:cNvPicPr/>
          <p:nvPr/>
        </p:nvPicPr>
        <p:blipFill>
          <a:blip r:embed="rId1"/>
          <a:stretch/>
        </p:blipFill>
        <p:spPr>
          <a:xfrm>
            <a:off x="228600" y="1600200"/>
            <a:ext cx="3819600" cy="4721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phoca_thumb_l_Красная площадь в день парада"/>
          <p:cNvPicPr/>
          <p:nvPr/>
        </p:nvPicPr>
        <p:blipFill>
          <a:blip r:embed="rId2"/>
          <a:stretch/>
        </p:blipFill>
        <p:spPr>
          <a:xfrm>
            <a:off x="4267080" y="1676520"/>
            <a:ext cx="4657680" cy="2981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60" name="Text Box 7"/>
          <p:cNvSpPr/>
          <p:nvPr/>
        </p:nvSpPr>
        <p:spPr>
          <a:xfrm>
            <a:off x="4572000" y="48006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 мая 1945 года- первый парад в честь Дня побе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den_pobedy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Лев Лещенко - День Победы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victory_day_parade_rehearsal01"/>
          <p:cNvPicPr/>
          <p:nvPr/>
        </p:nvPicPr>
        <p:blipFill>
          <a:blip r:embed="rId1"/>
          <a:stretch/>
        </p:blipFill>
        <p:spPr>
          <a:xfrm>
            <a:off x="152280" y="304920"/>
            <a:ext cx="4416480" cy="307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victoryday_parade_rehearsal01"/>
          <p:cNvPicPr/>
          <p:nvPr/>
        </p:nvPicPr>
        <p:blipFill>
          <a:blip r:embed="rId2"/>
          <a:stretch/>
        </p:blipFill>
        <p:spPr>
          <a:xfrm>
            <a:off x="4462560" y="3505320"/>
            <a:ext cx="4611600" cy="3124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"/>
          <p:cNvSpPr/>
          <p:nvPr/>
        </p:nvSpPr>
        <p:spPr>
          <a:xfrm>
            <a:off x="4899600" y="914400"/>
            <a:ext cx="40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т День Побед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рохом проп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9720" y="4343400"/>
            <a:ext cx="453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праздни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 слезами на глаз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1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ного дней  прошло со дня окончания этой страшной вой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, друзь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Содержимое 3" descr="003-01.jpg"/>
          <p:cNvPicPr/>
          <p:nvPr/>
        </p:nvPicPr>
        <p:blipFill>
          <a:blip r:embed="rId1"/>
          <a:stretch/>
        </p:blipFill>
        <p:spPr>
          <a:xfrm>
            <a:off x="152280" y="1828800"/>
            <a:ext cx="4876920" cy="3989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pixelbrush.ru›…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techestvennaya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voyna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chevidcev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muzofon.com›search/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ава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н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громна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MuzNarod.net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н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бед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105160" y="236196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ысячи мужчин в возрасте от 23 до 36 лет уходили на фр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p12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487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09" name="Военные песни - Военные песни - Военные песни_ вставай страна огромная... (mp3ostrov.com)-1.mp3" descr=""/>
          <p:cNvPicPr/>
          <p:nvPr/>
        </p:nvPicPr>
        <p:blipFill>
          <a:blip r:embed="rId2"/>
          <a:stretch/>
        </p:blipFill>
        <p:spPr>
          <a:xfrm>
            <a:off x="7162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3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чались кровопролитные бои за освобождение нашей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23"/>
          <p:cNvPicPr/>
          <p:nvPr/>
        </p:nvPicPr>
        <p:blipFill>
          <a:blip r:embed="rId1"/>
          <a:stretch/>
        </p:blipFill>
        <p:spPr>
          <a:xfrm>
            <a:off x="228600" y="1600200"/>
            <a:ext cx="4067280" cy="3054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2" name="Picture 5" descr="p31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205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и шли на земле, на воде и в воздух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p103"/>
          <p:cNvPicPr/>
          <p:nvPr/>
        </p:nvPicPr>
        <p:blipFill>
          <a:blip r:embed="rId1"/>
          <a:stretch/>
        </p:blipFill>
        <p:spPr>
          <a:xfrm>
            <a:off x="4800600" y="3505320"/>
            <a:ext cx="4191120" cy="314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5" name="Picture 5" descr="p108"/>
          <p:cNvPicPr/>
          <p:nvPr/>
        </p:nvPicPr>
        <p:blipFill>
          <a:blip r:embed="rId2"/>
          <a:stretch/>
        </p:blipFill>
        <p:spPr>
          <a:xfrm>
            <a:off x="380880" y="1676520"/>
            <a:ext cx="4191120" cy="3124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мцы старались разрушить наши города, сёла, мосты. Они с самолётов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нём и ночью бомбили наши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41"/>
          <p:cNvPicPr/>
          <p:nvPr/>
        </p:nvPicPr>
        <p:blipFill>
          <a:blip r:embed="rId1"/>
          <a:stretch/>
        </p:blipFill>
        <p:spPr>
          <a:xfrm>
            <a:off x="152280" y="1676520"/>
            <a:ext cx="4140360" cy="3108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18" name="Picture 5" descr="p117"/>
          <p:cNvPicPr/>
          <p:nvPr/>
        </p:nvPicPr>
        <p:blipFill>
          <a:blip r:embed="rId2"/>
          <a:stretch/>
        </p:blipFill>
        <p:spPr>
          <a:xfrm>
            <a:off x="4495680" y="3390840"/>
            <a:ext cx="4267440" cy="3203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круг гремели взрывы снарядов. Полыхали пожары. Дымились руины разрушенных здани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в9"/>
          <p:cNvPicPr/>
          <p:nvPr/>
        </p:nvPicPr>
        <p:blipFill>
          <a:blip r:embed="rId1"/>
          <a:stretch/>
        </p:blipFill>
        <p:spPr>
          <a:xfrm>
            <a:off x="4800600" y="1523880"/>
            <a:ext cx="3457440" cy="2509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21" name="Picture 5" descr="в13"/>
          <p:cNvPicPr/>
          <p:nvPr/>
        </p:nvPicPr>
        <p:blipFill>
          <a:blip r:embed="rId2"/>
          <a:stretch/>
        </p:blipFill>
        <p:spPr>
          <a:xfrm>
            <a:off x="762120" y="1523880"/>
            <a:ext cx="3530520" cy="5181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222" name="Picture 6" descr="в12"/>
          <p:cNvPicPr/>
          <p:nvPr/>
        </p:nvPicPr>
        <p:blipFill>
          <a:blip r:embed="rId3"/>
          <a:stretch/>
        </p:blipFill>
        <p:spPr>
          <a:xfrm>
            <a:off x="4800600" y="4191120"/>
            <a:ext cx="3505320" cy="2514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06268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ие остались без крыши над головой и имущества, потому что их дома были разрушены взрывами снаря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о человек погибло под обстрелами и под развалинами дом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p179"/>
          <p:cNvPicPr/>
          <p:nvPr/>
        </p:nvPicPr>
        <p:blipFill>
          <a:blip r:embed="rId1"/>
          <a:stretch/>
        </p:blipFill>
        <p:spPr>
          <a:xfrm>
            <a:off x="152280" y="685800"/>
            <a:ext cx="5175360" cy="3886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5" name="Rectangle 8"/>
          <p:cNvSpPr/>
          <p:nvPr/>
        </p:nvSpPr>
        <p:spPr>
          <a:xfrm>
            <a:off x="0" y="49593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 июля 1943 года Толя Фролов на пепелище своего дома. Село Ульяново Орловской обла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то М. Савин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 вражеских снарядов люди укрывались в бомбоубежищ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p59"/>
          <p:cNvPicPr/>
          <p:nvPr/>
        </p:nvPicPr>
        <p:blipFill>
          <a:blip r:embed="rId1"/>
          <a:stretch/>
        </p:blipFill>
        <p:spPr>
          <a:xfrm>
            <a:off x="2133720" y="1447920"/>
            <a:ext cx="4876560" cy="3660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8" name="Rectangle 7"/>
          <p:cNvSpPr/>
          <p:nvPr/>
        </p:nvSpPr>
        <p:spPr>
          <a:xfrm>
            <a:off x="685800" y="5112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42 год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московском метро на станции «Маяковская» во время бомбардировки немецкой ави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дача молока детя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я</cp:lastModifiedBy>
  <dcterms:modified xsi:type="dcterms:W3CDTF">2017-06-27T11:02:4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