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0E42-B8D4-4016-8381-13F320295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876D-ADB0-42E4-B115-8429565C6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2409-6238-408F-A3DA-56B49A445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E4EA-8D14-4EC5-9071-3B0D200EF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ADF0-1261-4FAE-BFD1-E7E87808B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9EBC-72DC-4A6F-85D8-135BEC46D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F295-AAC1-4AFC-B868-0D8097F2D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D975-1300-4541-861A-6960F4A14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28EC-669B-4635-95BF-D928F4B99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242E-73CC-460D-8D4E-F3E339C68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BC20-A6EA-4650-9F93-4B43584A4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4612-2D93-4981-B1FD-2CFCBF9AD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D34C2D-16D4-4212-8D68-A2238AC12E80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АЛЬНО – ОБРАЗОВАТЕЛЬНЫЙ ПРОЕК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ХУДОЖЕСТВЕННО- ЭСТЕТИЧЕСКОМУ ВОСПИТАНИ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ЕЗ ЗНАКОМСТВО С ТРАДИЦИЯМ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ОБЫЧАЯМИ НАРОДОВ РОСС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50920" y="3213000"/>
            <a:ext cx="82818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Жаворяточк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есну закликают – песни распеваю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28800" y="5000400"/>
            <a:ext cx="71467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 Тацоха Н.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9079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иблиотека с устным народным творчеством, малым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ольклорными жанрам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8820360" cy="648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2"/>
          <a:stretch/>
        </p:blipFill>
        <p:spPr>
          <a:xfrm>
            <a:off x="277920" y="1440000"/>
            <a:ext cx="4222800" cy="521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4643280" y="1440000"/>
            <a:ext cx="4356360" cy="521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57200" y="128520"/>
            <a:ext cx="8224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НТР ТЕАТРАЛИЗАЦ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88203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360360" y="-309600"/>
            <a:ext cx="822636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 нашему проекту были привлечены родители, которые с удовольствием принимали активное участие в различных видах образовательной деятельн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11120" y="176688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79280" y="179280"/>
            <a:ext cx="896472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Наш проект был реализован через: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Презентации по знакомству с народными инструментам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440000" y="2879640"/>
            <a:ext cx="6300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-2552760"/>
            <a:ext cx="8229600" cy="56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рез интеграцию образовательных областей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Позна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4" descr="P1090181"/>
          <p:cNvPicPr/>
          <p:nvPr/>
        </p:nvPicPr>
        <p:blipFill>
          <a:blip r:embed="rId2"/>
          <a:stretch/>
        </p:blipFill>
        <p:spPr>
          <a:xfrm>
            <a:off x="250920" y="2349360"/>
            <a:ext cx="864216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1090186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P1090189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-206280"/>
            <a:ext cx="822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ХУДОЖЕСТВЕННОЕ  ТВОРЧЕСТВО»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214200" y="1428840"/>
            <a:ext cx="87487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684360" y="620640"/>
            <a:ext cx="84596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частники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 подготовительной групп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и воспитанников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 групп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зраст детей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-7 л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емя и место проведения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ДОУ ЦРР д/с № 2 февраль- мар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роки реализации проекта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СРОЧНЫЙ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250920" y="179280"/>
            <a:ext cx="8642160" cy="641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72880" y="414360"/>
            <a:ext cx="887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8000"/>
                </a:solidFill>
                <a:latin typeface="Times New Roman"/>
              </a:rPr>
              <a:t>«Чтение художественной литературы» 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01680" y="1440000"/>
            <a:ext cx="851688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вилась Россия чудо-мастера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о и глину в сказку превраща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ками и кистью красоту творил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му искусству молодых учи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е матрешки в сарафанах ярких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хломские ложки – лучше нет подар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ымковские барыни, кони,  петуш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авловские все в цветах плат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ь озер голубых, белые сне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рила гжели матушка-зем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алайки звонкие, тульский самова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рад подарку вся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лад, и ста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399960" y="981000"/>
            <a:ext cx="8344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4200"/>
                </a:solidFill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4200"/>
                </a:solidFill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4200"/>
                </a:solidFill>
                <a:latin typeface="Times New Roman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457200" y="128520"/>
            <a:ext cx="822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смотр мультфильмов и сказок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79280" y="1619280"/>
            <a:ext cx="4321440" cy="504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4643280" y="1619280"/>
            <a:ext cx="4356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179280" y="360360"/>
            <a:ext cx="882036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88203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-806400"/>
            <a:ext cx="8221680" cy="87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4d"/>
                </a:solidFill>
                <a:latin typeface="Times New Roman"/>
              </a:rPr>
              <a:t>ЧЕРЕЗ УЧАСТИЕ ДЕТЕЙ</a:t>
            </a:r>
            <a:br>
              <a:rPr sz="4400"/>
            </a:br>
            <a:r>
              <a:rPr b="0" lang="ru-RU" sz="4400" spc="-1" strike="noStrike">
                <a:solidFill>
                  <a:srgbClr val="00664d"/>
                </a:solidFill>
                <a:latin typeface="Times New Roman"/>
              </a:rPr>
              <a:t>В НАРОДНЫХ  ПРАЗДНИКАХ И ГУЛЯНИЯ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МАСЛЕНИЦ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Жаворяточки»</a:t>
            </a:r>
            <a:br>
              <a:rPr sz="48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весну закликают – песни распеваю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00664d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Times New Roman"/>
              </a:rPr>
              <a:t>ВЕСНУ ЗАКЛИКАЮТ- ВСЕХ УГОЩАЮ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50920" y="1476360"/>
            <a:ext cx="8424720" cy="46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3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4680"/>
            <a:ext cx="8229600" cy="57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200"/>
                </a:solidFill>
                <a:latin typeface="Times New Roman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0" y="404640"/>
            <a:ext cx="889308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395280" y="274680"/>
            <a:ext cx="842472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200"/>
                </a:solidFill>
                <a:latin typeface="Times New Roman"/>
              </a:rPr>
              <a:t>План реализации проекта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ект  рассчитан на 2 месяца, в 3 этап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 этап – подготовительный (февраль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цель, задачи)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 этап – основной (февраль - март)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ализация основных видов деятельности по направлениям проект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 этап – заключительный (март) </a:t>
            </a:r>
            <a:br>
              <a:rPr sz="3600"/>
            </a:b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Праздник </a:t>
            </a:r>
            <a:r>
              <a:rPr b="1" i="1" lang="ru-RU" sz="3600" spc="-1" strike="noStrike">
                <a:solidFill>
                  <a:srgbClr val="004200"/>
                </a:solidFill>
                <a:latin typeface="Times New Roman"/>
              </a:rPr>
              <a:t>«жаворяточки»  </a:t>
            </a:r>
            <a:br>
              <a:rPr sz="3600"/>
            </a:br>
            <a:r>
              <a:rPr b="1" i="1" lang="ru-RU" sz="3600" spc="-1" strike="noStrike">
                <a:solidFill>
                  <a:srgbClr val="004200"/>
                </a:solidFill>
                <a:latin typeface="Times New Roman"/>
              </a:rPr>
              <a:t>весну закликают – песни распеваю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826920" y="333360"/>
            <a:ext cx="8317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 проекта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творчески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 проекта: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дукт совместной деятельности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а детских работ с родителям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ие гостиные, народные праздники, гуля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дукт детской деятельности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альбомов детских рабо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Выставка детских рисун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Выставка детских музыкальных          инструмен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4200"/>
                </a:solidFill>
                <a:latin typeface="Times New Roman"/>
              </a:rPr>
              <a:t>ЦЕЛ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ирование у детей устойчив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тереса к народному творчеству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желание знакомить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 разнообразными жанр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62000"/>
            <a:ext cx="8224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24000" y="765000"/>
            <a:ext cx="882000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наком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весенними народны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здни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словия для комплекс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и знаний детей через ознакомл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школьников с народными праздниками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дициями русского народ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важение и положительно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шение к духовно-нравствееным ценностя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сской народной культуры, стремл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родить традиции семейного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324000" y="333360"/>
            <a:ext cx="88200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увства любви к большой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ой родине на основе изучения националь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турных традиц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гащ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узыкальными впечатлениями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 музыкальные способности де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едствами музыкального фолькло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ка и проведение празд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128520"/>
            <a:ext cx="8221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168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1197000"/>
            <a:ext cx="822168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настоящее время возникает необходимость в том, чтобы ребенок почувствовал уникальность своего народа, знал историю своей семьи, страны. Для этого необходимо сформировать основу, фундамент для воссоздания культуры, что предполагает глубокое знание традиций и обычаев. Приобщение к традициям народа особенно значимо в дошкольные годы, т.к. ребенок является будущим полноправным членом социума, ему предстоит осваивать, сохранять, развивать и передавать дальше культурное наслед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60200" y="1260360"/>
            <a:ext cx="88138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539640" y="274680"/>
            <a:ext cx="814716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Для приобщения  дошкольников</a:t>
            </a:r>
            <a:br>
              <a:rPr sz="4000"/>
            </a:b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к традиционной </a:t>
            </a:r>
            <a:br>
              <a:rPr sz="4000"/>
            </a:b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народной культуре  </a:t>
            </a:r>
            <a:br>
              <a:rPr sz="4000"/>
            </a:b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в ДОУ созданы </a:t>
            </a:r>
            <a:br>
              <a:rPr sz="4000"/>
            </a:b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определенные услови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2133720"/>
            <a:ext cx="507672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192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192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192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Алла</cp:lastModifiedBy>
  <dcterms:modified xsi:type="dcterms:W3CDTF">2017-08-23T16:47:11Z</dcterms:modified>
  <cp:revision>95</cp:revision>
  <dc:subject/>
  <dc:title>Слайд 1</dc:title>
</cp:coreProperties>
</file>