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5C3E-5454-4795-B14E-43C41C23F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A2CA-CCB7-4984-A7E3-077C9D03F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2AB1-584A-4C4F-A78F-AD06CBE8F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79E9-D573-4A92-BE89-1769FDF4CE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DA34-2859-4A0C-9DF9-342D779E41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B12F5-2111-4622-A9FF-3EEC3279A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B73C-7344-4906-8D84-CE2DF13B0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27F2-462A-4C1C-ACCD-FD253286A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0B1F-3DEC-4108-B87F-5C7EF4F02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60E8-B4F8-4D72-BA74-74207AC47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8A4E-E5B2-4889-9C12-0E425BE2C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C2323-0BE0-4195-AB2C-EA4F1366B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FB9691-5DEF-471B-B162-4143FA8A1863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0" y="981000"/>
            <a:ext cx="9144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ЗЫКАЛЬНО – ОБРАЗОВАТЕЛЬНЫЙ ПРОЕК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ХУДОЖЕСТВЕННО- ЭСТЕТИЧЕСКОМУ ВОСПИТАНИЮ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РЕЗ ЗНАКОМСТВО С ТРАДИЦИЯМ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ОБЫЧАЯМИ НАРОДОВ РОСС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250920" y="3213000"/>
            <a:ext cx="82818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Жаворяточки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есну закликают – песни распеваю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28800" y="5000400"/>
            <a:ext cx="71467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узыкальный руководитель Тацоха Н.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39640" y="9079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иблиотека с устным народным творчеством, малым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ольклорными жанрам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8820360" cy="648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2"/>
          <a:stretch/>
        </p:blipFill>
        <p:spPr>
          <a:xfrm>
            <a:off x="277920" y="1440000"/>
            <a:ext cx="4222800" cy="5219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4643280" y="1440000"/>
            <a:ext cx="4356360" cy="5219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457200" y="128520"/>
            <a:ext cx="8224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НТР ТЕАТРАЛИЗАЦ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88203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360360" y="-309600"/>
            <a:ext cx="822636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 нашему проекту были привлечены родители, которые с удовольствием принимали активное участие в различных видах образовательной деятельност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411120" y="1766880"/>
            <a:ext cx="8229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179280" y="179280"/>
            <a:ext cx="896472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Наш проект был реализован через: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. Презентации по знакомству с народными инструментами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440000" y="2879640"/>
            <a:ext cx="63007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457200" y="-2552760"/>
            <a:ext cx="8229600" cy="56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рез интеграцию образовательных областей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Познани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4" descr="P1090181"/>
          <p:cNvPicPr/>
          <p:nvPr/>
        </p:nvPicPr>
        <p:blipFill>
          <a:blip r:embed="rId2"/>
          <a:stretch/>
        </p:blipFill>
        <p:spPr>
          <a:xfrm>
            <a:off x="250920" y="2349360"/>
            <a:ext cx="864216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P1090186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P1090189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457200" y="-206280"/>
            <a:ext cx="822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ХУДОЖЕСТВЕННОЕ  ТВОРЧЕСТВО»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214200" y="1428840"/>
            <a:ext cx="874872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684360" y="620640"/>
            <a:ext cx="84596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частники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и подготовительной группы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тели воспитанников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 групп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озраст детей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-7 ле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ремя и место проведения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ДОУ ЦРР д/с № 2 февраль- мар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роки реализации проекта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СРОЧНЫЙ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250920" y="179280"/>
            <a:ext cx="8642160" cy="641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272880" y="414360"/>
            <a:ext cx="8871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8000"/>
                </a:solidFill>
                <a:latin typeface="Times New Roman"/>
              </a:rPr>
              <a:t>«Чтение художественной литературы» </a:t>
            </a:r>
            <a:br>
              <a:rPr sz="44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301680" y="1440000"/>
            <a:ext cx="851688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вилась Россия чудо-мастерам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во и глину в сказку превраща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сками и кистью красоту творил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ему искусству молодых учи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ие матрешки в сарафанах ярких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хломские ложки – лучше нет подар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ымковские барыни, кони,  петуш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авловские все в цветах плат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нь озер голубых, белые сне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арила гжели матушка-земл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лалайки звонкие, тульский самова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рад подарку всяк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млад, и стар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399960" y="981000"/>
            <a:ext cx="8344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4200"/>
                </a:solidFill>
                <a:latin typeface="Times New Roman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4200"/>
                </a:solidFill>
                <a:latin typeface="Times New Roman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4200"/>
                </a:solidFill>
                <a:latin typeface="Times New Roman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457200" y="128520"/>
            <a:ext cx="822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смотр мультфильмов и сказок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179280" y="1619280"/>
            <a:ext cx="4321440" cy="504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4643280" y="1619280"/>
            <a:ext cx="43563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2"/>
          <a:stretch/>
        </p:blipFill>
        <p:spPr>
          <a:xfrm>
            <a:off x="179280" y="360360"/>
            <a:ext cx="882036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88203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57200" y="-806400"/>
            <a:ext cx="8221680" cy="87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4d"/>
                </a:solidFill>
                <a:latin typeface="Times New Roman"/>
              </a:rPr>
              <a:t>ЧЕРЕЗ УЧАСТИЕ ДЕТЕЙ</a:t>
            </a:r>
            <a:br>
              <a:rPr sz="4400"/>
            </a:br>
            <a:r>
              <a:rPr b="0" lang="ru-RU" sz="4400" spc="-1" strike="noStrike">
                <a:solidFill>
                  <a:srgbClr val="00664d"/>
                </a:solidFill>
                <a:latin typeface="Times New Roman"/>
              </a:rPr>
              <a:t>В НАРОДНЫХ  ПРАЗДНИКАХ И ГУЛЯНИЯ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МАСЛЕНИЦ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«Жаворяточки»</a:t>
            </a:r>
            <a:br>
              <a:rPr sz="48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весну закликают – песни распеваю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00664d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57200" y="274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Times New Roman"/>
              </a:rPr>
              <a:t>ВЕСНУ ЗАКЛИКАЮТ- ВСЕХ УГОЩАЮ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250920" y="1476360"/>
            <a:ext cx="8424720" cy="46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3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457200" y="274680"/>
            <a:ext cx="8229600" cy="57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200"/>
                </a:solidFill>
                <a:latin typeface="Times New Roman"/>
              </a:rPr>
              <a:t>СПАСИБО ЗА ВНИМА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0" y="404640"/>
            <a:ext cx="889308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395280" y="274680"/>
            <a:ext cx="842472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4200"/>
                </a:solidFill>
                <a:latin typeface="Times New Roman"/>
              </a:rPr>
              <a:t>План реализации проекта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ект  рассчитан на 2 месяца, в 3 этапа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 этап – подготовительный (февраль)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цель, задачи)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 этап – основной (февраль - март)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ализация основных видов деятельности по направлениям проект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 этап – заключительный (март) </a:t>
            </a:r>
            <a:br>
              <a:rPr sz="3600"/>
            </a:br>
            <a:r>
              <a:rPr b="0" lang="ru-RU" sz="3600" spc="-1" strike="noStrike">
                <a:solidFill>
                  <a:srgbClr val="004200"/>
                </a:solidFill>
                <a:latin typeface="Times New Roman"/>
              </a:rPr>
              <a:t>Праздник </a:t>
            </a:r>
            <a:r>
              <a:rPr b="1" i="1" lang="ru-RU" sz="3600" spc="-1" strike="noStrike">
                <a:solidFill>
                  <a:srgbClr val="004200"/>
                </a:solidFill>
                <a:latin typeface="Times New Roman"/>
              </a:rPr>
              <a:t>«жаворяточки»  </a:t>
            </a:r>
            <a:br>
              <a:rPr sz="3600"/>
            </a:br>
            <a:r>
              <a:rPr b="1" i="1" lang="ru-RU" sz="3600" spc="-1" strike="noStrike">
                <a:solidFill>
                  <a:srgbClr val="004200"/>
                </a:solidFill>
                <a:latin typeface="Times New Roman"/>
              </a:rPr>
              <a:t>весну закликают – песни распевают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826920" y="333360"/>
            <a:ext cx="83170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ип проекта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творчески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ид проекта: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мплексны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дукт совместной деятельности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тавка детских работ с родителям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ие гостиные, народные праздники, гуля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дукт детской деятельности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альбомов детских рабо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Выставка детских рисун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Выставка детских музыкальных          инструмент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4200"/>
                </a:solidFill>
                <a:latin typeface="Times New Roman"/>
              </a:rPr>
              <a:t>ЦЕЛ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ормирование у детей устойчивог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нтереса к народному творчеству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желание знакомитьс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 разнообразными жанра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62000"/>
            <a:ext cx="8224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324000" y="765000"/>
            <a:ext cx="882000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знакоми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 весенними народны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здник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словия для комплекс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грации знаний детей через ознакомл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школьников с народными праздниками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дициями русского народ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важение и положительно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шение к духовно-нравствееным ценностя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усской народной культуры, стремл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6033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5868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родить традиции семейного воспит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324000" y="333360"/>
            <a:ext cx="88200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ова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увства любви к большой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ой родине на основе изучения националь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льтурных традиц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огаща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узыкальными впечатлениями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ть  музыкальные способности дет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едствами музыкального фольклор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овка и проведение праздни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457200" y="128520"/>
            <a:ext cx="82216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КТУ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600200"/>
            <a:ext cx="822168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57200" y="1197000"/>
            <a:ext cx="822168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настоящее время возникает необходимость в том, чтобы ребенок почувствовал уникальность своего народа, знал историю своей семьи, страны. Для этого необходимо сформировать основу, фундамент для воссоздания культуры, что предполагает глубокое знание традиций и обычаев. Приобщение к традициям народа особенно значимо в дошкольные годы, т.к. ребенок является будущим полноправным членом социума, ему предстоит осваивать, сохранять, развивать и передавать дальше культурное наслед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60200" y="1260360"/>
            <a:ext cx="88138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539640" y="274680"/>
            <a:ext cx="814716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i="1" lang="ru-RU" sz="4000" spc="-1" strike="noStrike">
                <a:solidFill>
                  <a:srgbClr val="004200"/>
                </a:solidFill>
                <a:latin typeface="Times New Roman"/>
              </a:rPr>
              <a:t>Для приобщения  дошкольников</a:t>
            </a:r>
            <a:br>
              <a:rPr sz="4000"/>
            </a:br>
            <a:r>
              <a:rPr b="1" i="1" lang="ru-RU" sz="4000" spc="-1" strike="noStrike">
                <a:solidFill>
                  <a:srgbClr val="004200"/>
                </a:solidFill>
                <a:latin typeface="Times New Roman"/>
              </a:rPr>
              <a:t>к традиционной </a:t>
            </a:r>
            <a:br>
              <a:rPr sz="4000"/>
            </a:br>
            <a:r>
              <a:rPr b="1" i="1" lang="ru-RU" sz="4000" spc="-1" strike="noStrike">
                <a:solidFill>
                  <a:srgbClr val="004200"/>
                </a:solidFill>
                <a:latin typeface="Times New Roman"/>
              </a:rPr>
              <a:t>народной культуре  </a:t>
            </a:r>
            <a:br>
              <a:rPr sz="4000"/>
            </a:br>
            <a:r>
              <a:rPr b="1" i="1" lang="ru-RU" sz="4000" spc="-1" strike="noStrike">
                <a:solidFill>
                  <a:srgbClr val="004200"/>
                </a:solidFill>
                <a:latin typeface="Times New Roman"/>
              </a:rPr>
              <a:t>в ДОУ созданы </a:t>
            </a:r>
            <a:br>
              <a:rPr sz="4000"/>
            </a:br>
            <a:r>
              <a:rPr b="1" i="1" lang="ru-RU" sz="4000" spc="-1" strike="noStrike">
                <a:solidFill>
                  <a:srgbClr val="004200"/>
                </a:solidFill>
                <a:latin typeface="Times New Roman"/>
              </a:rPr>
              <a:t>определенные условия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2133720"/>
            <a:ext cx="507672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192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192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192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Алла</cp:lastModifiedBy>
  <dcterms:modified xsi:type="dcterms:W3CDTF">2017-08-23T16:47:11Z</dcterms:modified>
  <cp:revision>95</cp:revision>
  <dc:subject/>
  <dc:title>Слайд 1</dc:title>
</cp:coreProperties>
</file>