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F73-D2DB-4C5F-B41B-9045301E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702-464A-46E9-9C82-3CD4293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B09-5602-4167-800D-E656C079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480-A29C-4782-9F3F-60B15F50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F2F-9D35-4B41-A3D7-7BC476BC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A24-A50A-4748-AE58-45397295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AAF-7ABD-4C16-BFF1-E450AD24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1B6-E43D-486E-8332-A2AAAE7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0CE-D9D2-4847-A72C-CA1D1983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2DF-1759-4047-8B72-CA02AC8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D79-269F-42B7-AF5A-BDEFEA41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93D-589B-4329-AA7E-D2896FC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7EA6-95E5-4543-9349-A19F0B15B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918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333399"/>
                </a:solidFill>
                <a:latin typeface="Monotype Corsiva"/>
              </a:rPr>
              <a:t>Начало правления Петра Первого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5560" y="4629240"/>
            <a:ext cx="5897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закова Марина Игор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ОУ Удельнинская гимн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Франц Яковлевич Лефорт (1656 – 16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движник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Родил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неве. Профессион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енный. На русской службе с 1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да. Участник Крымских и Аз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ходов. Женат на сестре Пат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дона. В начале 1690-х гг. поп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кружение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ьзовался большим вли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 в государственные дел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мешив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4995720" y="1197000"/>
            <a:ext cx="3757680" cy="467352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5680" y="58320"/>
            <a:ext cx="7581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зовские походы 1695 и 1696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бланке № 1 отметьте правильные утверждения о том, что являлось причинами неудачи первого Азовского пох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112680" y="695160"/>
            <a:ext cx="5035680" cy="604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Rectangle 7"/>
          <p:cNvSpPr/>
          <p:nvPr/>
        </p:nvSpPr>
        <p:spPr>
          <a:xfrm>
            <a:off x="539640" y="47628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979200" y="442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зовские походы Петра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I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 в 1695-1696 г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724200" cy="31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5259240" y="3930480"/>
            <a:ext cx="2481480" cy="28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tretch/>
        </p:blipFill>
        <p:spPr>
          <a:xfrm>
            <a:off x="7780320" y="3930480"/>
            <a:ext cx="1255680" cy="28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6040" y="58320"/>
            <a:ext cx="8013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Итоги Азовских походов 1695 и 1696 г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оссия получила выход к Чёрному мор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ожено начало военно-морскому флоту Росс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нован г.Таганрог – первый русский порт на Азовском мо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5680" y="58320"/>
            <a:ext cx="7581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еликое посольство 1697 – 1698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06280" y="1052640"/>
            <a:ext cx="8686800" cy="550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971640" y="1700280"/>
            <a:ext cx="75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222265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за внимание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222265"/>
                  </a:gs>
                </a:gsLst>
                <a:lin ang="54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5680" y="58320"/>
            <a:ext cx="7581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Династическая борь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зовские по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ликое посо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Фрагмент родословного древа Рома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ortrait-of-Alexei-Mikhailovich-Romanov"/>
          <p:cNvPicPr/>
          <p:nvPr/>
        </p:nvPicPr>
        <p:blipFill>
          <a:blip r:embed="rId1"/>
          <a:stretch/>
        </p:blipFill>
        <p:spPr>
          <a:xfrm>
            <a:off x="3995640" y="1341360"/>
            <a:ext cx="123840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859efbfead4c"/>
          <p:cNvPicPr/>
          <p:nvPr/>
        </p:nvPicPr>
        <p:blipFill>
          <a:blip r:embed="rId2"/>
          <a:stretch/>
        </p:blipFill>
        <p:spPr>
          <a:xfrm>
            <a:off x="900000" y="1268280"/>
            <a:ext cx="112104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ce41e26d334"/>
          <p:cNvPicPr/>
          <p:nvPr/>
        </p:nvPicPr>
        <p:blipFill>
          <a:blip r:embed="rId3"/>
          <a:stretch/>
        </p:blipFill>
        <p:spPr>
          <a:xfrm>
            <a:off x="7308720" y="1341360"/>
            <a:ext cx="121788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Картинка 1 из 133"/>
          <p:cNvPicPr/>
          <p:nvPr/>
        </p:nvPicPr>
        <p:blipFill>
          <a:blip r:embed="rId4"/>
          <a:stretch/>
        </p:blipFill>
        <p:spPr>
          <a:xfrm>
            <a:off x="755640" y="3500280"/>
            <a:ext cx="1271520" cy="154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portreti-70"/>
          <p:cNvPicPr/>
          <p:nvPr/>
        </p:nvPicPr>
        <p:blipFill>
          <a:blip r:embed="rId5"/>
          <a:stretch/>
        </p:blipFill>
        <p:spPr>
          <a:xfrm>
            <a:off x="2340000" y="3500280"/>
            <a:ext cx="133344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ImperRjman_05"/>
          <p:cNvPicPr/>
          <p:nvPr/>
        </p:nvPicPr>
        <p:blipFill>
          <a:blip r:embed="rId6"/>
          <a:stretch/>
        </p:blipFill>
        <p:spPr>
          <a:xfrm>
            <a:off x="4067280" y="3500280"/>
            <a:ext cx="121752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img_14"/>
          <p:cNvPicPr/>
          <p:nvPr/>
        </p:nvPicPr>
        <p:blipFill>
          <a:blip r:embed="rId7"/>
          <a:stretch/>
        </p:blipFill>
        <p:spPr>
          <a:xfrm>
            <a:off x="5724360" y="3500280"/>
            <a:ext cx="1140120" cy="16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Картинка 20 из 3371"/>
          <p:cNvPicPr/>
          <p:nvPr/>
        </p:nvPicPr>
        <p:blipFill>
          <a:blip r:embed="rId8"/>
          <a:stretch/>
        </p:blipFill>
        <p:spPr>
          <a:xfrm>
            <a:off x="7380360" y="3500280"/>
            <a:ext cx="1233360" cy="165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7"/>
          <p:cNvSpPr/>
          <p:nvPr/>
        </p:nvSpPr>
        <p:spPr>
          <a:xfrm>
            <a:off x="324000" y="2781360"/>
            <a:ext cx="18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осла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904200" y="28004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7219800" y="28004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ь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ы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973440" y="5013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ёд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2629800" y="501336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4287240" y="50133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5942520" y="5084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453800" y="5157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2268360" y="3429000"/>
            <a:ext cx="4824720" cy="208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3778200" y="556416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р и у м в и р а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2124000" y="1844640"/>
            <a:ext cx="1800360" cy="360360"/>
          </a:xfrm>
          <a:prstGeom prst="leftRightArrow">
            <a:avLst>
              <a:gd name="adj1" fmla="val 50000"/>
              <a:gd name="adj2" fmla="val 99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2987640" y="2205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1"/>
          <p:cNvSpPr/>
          <p:nvPr/>
        </p:nvSpPr>
        <p:spPr>
          <a:xfrm>
            <a:off x="2987640" y="220500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2"/>
          <p:cNvSpPr/>
          <p:nvPr/>
        </p:nvSpPr>
        <p:spPr>
          <a:xfrm flipH="1">
            <a:off x="6300360" y="2276640"/>
            <a:ext cx="71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3"/>
          <p:cNvSpPr/>
          <p:nvPr/>
        </p:nvSpPr>
        <p:spPr>
          <a:xfrm>
            <a:off x="6372360" y="2276640"/>
            <a:ext cx="936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5"/>
          <p:cNvSpPr/>
          <p:nvPr/>
        </p:nvSpPr>
        <p:spPr>
          <a:xfrm flipH="1">
            <a:off x="2050920" y="220500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6"/>
          <p:cNvSpPr/>
          <p:nvPr/>
        </p:nvSpPr>
        <p:spPr>
          <a:xfrm>
            <a:off x="5292720" y="1916280"/>
            <a:ext cx="1800360" cy="360360"/>
          </a:xfrm>
          <a:prstGeom prst="leftRightArrow">
            <a:avLst>
              <a:gd name="adj1" fmla="val 50000"/>
              <a:gd name="adj2" fmla="val 99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9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970440" cy="473076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604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Иван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V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 (1666 – 16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ын царя Алексея Михайл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езненный и неспособный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сударственным делам, он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озглашён царём в 168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месте с младшим братом Пе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 1689 г. за них правила сестр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аревна Соф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1689 г. единолично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ётр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ление Иван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мин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8028000" y="631044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604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офья Алексеевна (1657 – 17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чь царя Алексея Михайл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а регентом при Иван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тр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фактически определ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ительственный курс. Опир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В.Голицына и Ф. Шаклови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ла некоторые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утри страны. В 1689 г.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нуждена передать Петр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л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коре была насильно отправ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оводевичий монастырь, гд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5075280" y="1197000"/>
            <a:ext cx="3600360" cy="477360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80" y="333360"/>
            <a:ext cx="4643280" cy="1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Никита Зотов обучает П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Рисунок7"/>
          <p:cNvPicPr/>
          <p:nvPr/>
        </p:nvPicPr>
        <p:blipFill>
          <a:blip r:embed="rId1"/>
          <a:stretch/>
        </p:blipFill>
        <p:spPr>
          <a:xfrm>
            <a:off x="684360" y="907920"/>
            <a:ext cx="3162240" cy="547236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pic>
        <p:nvPicPr>
          <p:cNvPr id="84" name="Picture 4" descr="Рисунок4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148360" y="907920"/>
            <a:ext cx="3424320" cy="544680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sp>
        <p:nvSpPr>
          <p:cNvPr id="85" name="Rectangle 5"/>
          <p:cNvSpPr/>
          <p:nvPr/>
        </p:nvSpPr>
        <p:spPr>
          <a:xfrm>
            <a:off x="4978440" y="231840"/>
            <a:ext cx="39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Петр и его потешные по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246560" y="602136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_bcf9_60d570f8_XL"/>
          <p:cNvPicPr/>
          <p:nvPr/>
        </p:nvPicPr>
        <p:blipFill>
          <a:blip r:embed="rId1"/>
          <a:stretch/>
        </p:blipFill>
        <p:spPr>
          <a:xfrm>
            <a:off x="5076720" y="1268280"/>
            <a:ext cx="3630600" cy="4824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Евдокия Фёдоровна Лопухина (1669 – 17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жена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ила домашнее воспита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ринном духе. Не раздел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глядов мужа. Через 9 лет бр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ланию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а нас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рижена в монахини. До са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содержалась в раз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астыр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86840"/>
            <a:ext cx="851868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Verdana"/>
              </a:rPr>
              <a:t>Наталья Кирилловна Нарышкина (1651 – 169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50418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супруга царя Алекс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хайловича, мать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мужа вступила в борьбу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стол с родственниками пер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ны царя – Милослав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терпев поражение, попал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лу и проживала в 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ображенском. Только с 168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начало правления П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, 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жение при дворе восстанов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549360"/>
            <a:ext cx="806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5076720" y="1246320"/>
            <a:ext cx="3619440" cy="4559040"/>
          </a:xfrm>
          <a:prstGeom prst="rect">
            <a:avLst/>
          </a:prstGeom>
          <a:ln w="50760">
            <a:solidFill>
              <a:srgbClr val="fba9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Patrick Gordon - confidant of Peter the Great"/>
          <p:cNvPicPr/>
          <p:nvPr/>
        </p:nvPicPr>
        <p:blipFill>
          <a:blip r:embed="rId1"/>
          <a:stretch/>
        </p:blipFill>
        <p:spPr>
          <a:xfrm>
            <a:off x="5076720" y="1268280"/>
            <a:ext cx="3672000" cy="4824720"/>
          </a:xfrm>
          <a:prstGeom prst="rect">
            <a:avLst/>
          </a:prstGeom>
          <a:ln w="50760">
            <a:solidFill>
              <a:srgbClr val="660033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Патрик Гордон (1635 – 16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движник Петр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Шотланд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фессиональный военный.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сской службе с 1661 г. Уча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ымских и Азовских по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ерал русской армии. В 168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 поддержал Петр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борь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власть, чем расположил к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лодого ц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39640" y="549360"/>
            <a:ext cx="799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7:12:41Z</dcterms:created>
  <dc:creator>Admin</dc:creator>
  <dc:description/>
  <dc:language>en-US</dc:language>
  <cp:lastModifiedBy>user</cp:lastModifiedBy>
  <dcterms:modified xsi:type="dcterms:W3CDTF">2017-08-29T18:21:51Z</dcterms:modified>
  <cp:revision>15</cp:revision>
  <dc:subject/>
  <dc:title>Родословное древо Романовых (фрагмент)</dc:title>
</cp:coreProperties>
</file>