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A86-8749-449B-AF10-986B7E17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DFC-44D2-40CA-AB3F-B8A40E11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278-9F0D-4451-A652-ADF22B29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490-79CD-48F0-9212-EFBCF427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986-7113-40E4-87FE-97D69BEA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EA8-FFF9-482A-A54F-2C067D7D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2B7-E46E-40EF-B4FC-282471DA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95F-F890-4BED-9226-4F89C56A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076-76F2-47B7-BD03-301A05FD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9B3-2D56-4D20-B9D4-70AB55FA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833-D403-4940-A27E-8FAEA53D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3D2-C56D-4252-A4E4-A5AF6EB1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8C59-2F8C-43A8-A584-8F5951B446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9185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333399"/>
                </a:solidFill>
                <a:latin typeface="Monotype Corsiva"/>
              </a:rPr>
              <a:t>Начало правления Петра Первого.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95560" y="4629240"/>
            <a:ext cx="5897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азакова Марина Игоре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ОУ Удельнинская гимн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Франц Яковлевич Лефорт (1656 – 16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68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движник Петр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Родилс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еневе. Профессион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енный. На русской службе с 16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да. Участник Крымских и Аз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ходов. Женат на сестре Пат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рдона. В начале 1690-х гг. поп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окружение Петр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ьзовался большим влия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ако в государственные дела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мешив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4995720" y="1197000"/>
            <a:ext cx="3757680" cy="4673520"/>
          </a:xfrm>
          <a:prstGeom prst="rect">
            <a:avLst/>
          </a:prstGeom>
          <a:ln w="507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5680" y="58320"/>
            <a:ext cx="75819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Азовские походы 1695 и 1696 г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дание: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бланке № 1 отметьте правильные утверждения о том, что являлось причинами неудачи первого Азовского пох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112680" y="695160"/>
            <a:ext cx="5035680" cy="6046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Rectangle 7"/>
          <p:cNvSpPr/>
          <p:nvPr/>
        </p:nvSpPr>
        <p:spPr>
          <a:xfrm>
            <a:off x="539640" y="47628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979200" y="4428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Азовские походы Петра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 I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 в 1695-1696 го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2"/>
          <a:stretch/>
        </p:blipFill>
        <p:spPr>
          <a:xfrm>
            <a:off x="5292720" y="692280"/>
            <a:ext cx="3724200" cy="316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Picture 10" descr=""/>
          <p:cNvPicPr/>
          <p:nvPr/>
        </p:nvPicPr>
        <p:blipFill>
          <a:blip r:embed="rId3"/>
          <a:stretch/>
        </p:blipFill>
        <p:spPr>
          <a:xfrm>
            <a:off x="5259240" y="3930480"/>
            <a:ext cx="2481480" cy="2883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1" name="Picture 11" descr=""/>
          <p:cNvPicPr/>
          <p:nvPr/>
        </p:nvPicPr>
        <p:blipFill>
          <a:blip r:embed="rId4"/>
          <a:stretch/>
        </p:blipFill>
        <p:spPr>
          <a:xfrm>
            <a:off x="7780320" y="3930480"/>
            <a:ext cx="1255680" cy="2883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6040" y="58320"/>
            <a:ext cx="8013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Итоги Азовских походов 1695 и 1696 го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оссия получила выход к Чёрному мор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ложено начало военно-морскому флоту Росс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нован г.Таганрог – первый русский порт на Азовском мор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5680" y="58320"/>
            <a:ext cx="75819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Великое посольство 1697 – 1698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206280" y="1052640"/>
            <a:ext cx="8686800" cy="5506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971640" y="1700280"/>
            <a:ext cx="7561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222265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пасибо за внимание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222265"/>
                  </a:gs>
                </a:gsLst>
                <a:lin ang="54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5680" y="58320"/>
            <a:ext cx="75819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План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Династическая борь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зовские пох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еликое посо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Фрагмент родословного древа Рома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Portrait-of-Alexei-Mikhailovich-Romanov"/>
          <p:cNvPicPr/>
          <p:nvPr/>
        </p:nvPicPr>
        <p:blipFill>
          <a:blip r:embed="rId1"/>
          <a:stretch/>
        </p:blipFill>
        <p:spPr>
          <a:xfrm>
            <a:off x="3995640" y="1341360"/>
            <a:ext cx="1238400" cy="151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859efbfead4c"/>
          <p:cNvPicPr/>
          <p:nvPr/>
        </p:nvPicPr>
        <p:blipFill>
          <a:blip r:embed="rId2"/>
          <a:stretch/>
        </p:blipFill>
        <p:spPr>
          <a:xfrm>
            <a:off x="900000" y="1268280"/>
            <a:ext cx="1121040" cy="151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9ce41e26d334"/>
          <p:cNvPicPr/>
          <p:nvPr/>
        </p:nvPicPr>
        <p:blipFill>
          <a:blip r:embed="rId3"/>
          <a:stretch/>
        </p:blipFill>
        <p:spPr>
          <a:xfrm>
            <a:off x="7308720" y="1341360"/>
            <a:ext cx="1217880" cy="151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Картинка 1 из 133"/>
          <p:cNvPicPr/>
          <p:nvPr/>
        </p:nvPicPr>
        <p:blipFill>
          <a:blip r:embed="rId4"/>
          <a:stretch/>
        </p:blipFill>
        <p:spPr>
          <a:xfrm>
            <a:off x="755640" y="3500280"/>
            <a:ext cx="1271520" cy="1546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portreti-70"/>
          <p:cNvPicPr/>
          <p:nvPr/>
        </p:nvPicPr>
        <p:blipFill>
          <a:blip r:embed="rId5"/>
          <a:stretch/>
        </p:blipFill>
        <p:spPr>
          <a:xfrm>
            <a:off x="2340000" y="3500280"/>
            <a:ext cx="133344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ImperRjman_05"/>
          <p:cNvPicPr/>
          <p:nvPr/>
        </p:nvPicPr>
        <p:blipFill>
          <a:blip r:embed="rId6"/>
          <a:stretch/>
        </p:blipFill>
        <p:spPr>
          <a:xfrm>
            <a:off x="4067280" y="3500280"/>
            <a:ext cx="1217520" cy="1571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img_14"/>
          <p:cNvPicPr/>
          <p:nvPr/>
        </p:nvPicPr>
        <p:blipFill>
          <a:blip r:embed="rId7"/>
          <a:stretch/>
        </p:blipFill>
        <p:spPr>
          <a:xfrm>
            <a:off x="5724360" y="3500280"/>
            <a:ext cx="1140120" cy="162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Картинка 20 из 3371"/>
          <p:cNvPicPr/>
          <p:nvPr/>
        </p:nvPicPr>
        <p:blipFill>
          <a:blip r:embed="rId8"/>
          <a:stretch/>
        </p:blipFill>
        <p:spPr>
          <a:xfrm>
            <a:off x="7380360" y="3500280"/>
            <a:ext cx="1233360" cy="1651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7"/>
          <p:cNvSpPr/>
          <p:nvPr/>
        </p:nvSpPr>
        <p:spPr>
          <a:xfrm>
            <a:off x="324000" y="2781360"/>
            <a:ext cx="186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осла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3904200" y="28004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7219800" y="280044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аль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ы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973440" y="50133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ёд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1"/>
          <p:cNvSpPr/>
          <p:nvPr/>
        </p:nvSpPr>
        <p:spPr>
          <a:xfrm>
            <a:off x="2629800" y="501336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2"/>
          <p:cNvSpPr/>
          <p:nvPr/>
        </p:nvSpPr>
        <p:spPr>
          <a:xfrm>
            <a:off x="4287240" y="50133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5942520" y="5084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7453800" y="51577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5"/>
          <p:cNvSpPr/>
          <p:nvPr/>
        </p:nvSpPr>
        <p:spPr>
          <a:xfrm>
            <a:off x="2268360" y="3429000"/>
            <a:ext cx="4824720" cy="208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3778200" y="556416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р и у м в и р а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2124000" y="1844640"/>
            <a:ext cx="1800360" cy="360360"/>
          </a:xfrm>
          <a:prstGeom prst="leftRightArrow">
            <a:avLst>
              <a:gd name="adj1" fmla="val 50000"/>
              <a:gd name="adj2" fmla="val 994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0"/>
          <p:cNvSpPr/>
          <p:nvPr/>
        </p:nvSpPr>
        <p:spPr>
          <a:xfrm>
            <a:off x="2987640" y="2205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1"/>
          <p:cNvSpPr/>
          <p:nvPr/>
        </p:nvSpPr>
        <p:spPr>
          <a:xfrm>
            <a:off x="2987640" y="2205000"/>
            <a:ext cx="1008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2"/>
          <p:cNvSpPr/>
          <p:nvPr/>
        </p:nvSpPr>
        <p:spPr>
          <a:xfrm flipH="1">
            <a:off x="6300360" y="2276640"/>
            <a:ext cx="71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3"/>
          <p:cNvSpPr/>
          <p:nvPr/>
        </p:nvSpPr>
        <p:spPr>
          <a:xfrm>
            <a:off x="6372360" y="2276640"/>
            <a:ext cx="936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5"/>
          <p:cNvSpPr/>
          <p:nvPr/>
        </p:nvSpPr>
        <p:spPr>
          <a:xfrm flipH="1">
            <a:off x="2050920" y="2205000"/>
            <a:ext cx="936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6"/>
          <p:cNvSpPr/>
          <p:nvPr/>
        </p:nvSpPr>
        <p:spPr>
          <a:xfrm>
            <a:off x="5292720" y="1916280"/>
            <a:ext cx="1800360" cy="360360"/>
          </a:xfrm>
          <a:prstGeom prst="leftRightArrow">
            <a:avLst>
              <a:gd name="adj1" fmla="val 50000"/>
              <a:gd name="adj2" fmla="val 994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9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970440" cy="4730760"/>
          </a:xfrm>
          <a:prstGeom prst="rect">
            <a:avLst/>
          </a:prstGeom>
          <a:ln w="50760">
            <a:solidFill>
              <a:srgbClr val="660033"/>
            </a:solidFill>
            <a:miter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604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Иван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 V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 (1666 – 16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53708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ын царя Алексея Михайлови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олезненный и неспособный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сударственным делам, он б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озглашён царём в 168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месте с младшим братом Пет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 1689 г. за них правила сестра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аревна Соф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1689 г. единолично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ётр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авление Иван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мина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>
            <a:off x="8028000" y="6310440"/>
            <a:ext cx="649440" cy="50328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68" h="21600">
                <a:moveTo>
                  <a:pt x="0" y="0"/>
                </a:moveTo>
                <a:lnTo>
                  <a:pt x="27868" y="0"/>
                </a:lnTo>
                <a:lnTo>
                  <a:pt x="27868" y="21600"/>
                </a:lnTo>
                <a:lnTo>
                  <a:pt x="0" y="21600"/>
                </a:lnTo>
                <a:close/>
              </a:path>
              <a:path fill="lightenLess" w="27868" h="21600">
                <a:moveTo>
                  <a:pt x="0" y="0"/>
                </a:moveTo>
                <a:lnTo>
                  <a:pt x="27868" y="0"/>
                </a:lnTo>
                <a:lnTo>
                  <a:pt x="26468" y="1400"/>
                </a:lnTo>
                <a:lnTo>
                  <a:pt x="1400" y="1400"/>
                </a:lnTo>
                <a:close/>
              </a:path>
              <a:path fill="darken" w="27868" h="21600">
                <a:moveTo>
                  <a:pt x="27868" y="0"/>
                </a:moveTo>
                <a:lnTo>
                  <a:pt x="27868" y="21600"/>
                </a:lnTo>
                <a:lnTo>
                  <a:pt x="26468" y="20200"/>
                </a:lnTo>
                <a:lnTo>
                  <a:pt x="26468" y="1400"/>
                </a:lnTo>
                <a:close/>
              </a:path>
              <a:path fill="darkenLess" w="27868" h="21600">
                <a:moveTo>
                  <a:pt x="27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68" y="20200"/>
                </a:lnTo>
                <a:close/>
              </a:path>
              <a:path fill="lighten" w="27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68" h="21600">
                <a:moveTo>
                  <a:pt x="13934" y="3837"/>
                </a:moveTo>
                <a:lnTo>
                  <a:pt x="16511" y="6448"/>
                </a:lnTo>
                <a:lnTo>
                  <a:pt x="16511" y="4707"/>
                </a:lnTo>
                <a:lnTo>
                  <a:pt x="18286" y="4707"/>
                </a:lnTo>
                <a:lnTo>
                  <a:pt x="18286" y="8224"/>
                </a:lnTo>
                <a:lnTo>
                  <a:pt x="20897" y="10800"/>
                </a:lnTo>
                <a:lnTo>
                  <a:pt x="19243" y="10800"/>
                </a:lnTo>
                <a:lnTo>
                  <a:pt x="19243" y="17989"/>
                </a:lnTo>
                <a:lnTo>
                  <a:pt x="8625" y="17989"/>
                </a:lnTo>
                <a:lnTo>
                  <a:pt x="8625" y="10800"/>
                </a:lnTo>
                <a:lnTo>
                  <a:pt x="6971" y="10800"/>
                </a:lnTo>
                <a:close/>
              </a:path>
              <a:path fill="darkenLess" w="27868" h="21600">
                <a:moveTo>
                  <a:pt x="16511" y="6448"/>
                </a:moveTo>
                <a:lnTo>
                  <a:pt x="16511" y="4707"/>
                </a:lnTo>
                <a:lnTo>
                  <a:pt x="18286" y="4707"/>
                </a:lnTo>
                <a:lnTo>
                  <a:pt x="18286" y="8224"/>
                </a:lnTo>
                <a:close/>
              </a:path>
              <a:path fill="darkenLess" w="27868" h="21600">
                <a:moveTo>
                  <a:pt x="13012" y="14299"/>
                </a:moveTo>
                <a:lnTo>
                  <a:pt x="14857" y="14299"/>
                </a:lnTo>
                <a:lnTo>
                  <a:pt x="14857" y="17989"/>
                </a:lnTo>
                <a:lnTo>
                  <a:pt x="19243" y="17989"/>
                </a:lnTo>
                <a:lnTo>
                  <a:pt x="19243" y="10800"/>
                </a:lnTo>
                <a:lnTo>
                  <a:pt x="8625" y="10800"/>
                </a:lnTo>
                <a:lnTo>
                  <a:pt x="8625" y="17989"/>
                </a:lnTo>
                <a:lnTo>
                  <a:pt x="1301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604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Софья Алексеевна (1657 – 17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468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чь царя Алексея Михайлови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ла регентом при Иван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тр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фактически определ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авительственный курс. Опирая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В.Голицына и Ф. Шакловит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ела некоторые ре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нутри страны. В 1689 г. бы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нуждена передать Петру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ла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коре была насильно отправ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оводевичий монастырь, гд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ме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1"/>
          <a:stretch/>
        </p:blipFill>
        <p:spPr>
          <a:xfrm>
            <a:off x="5075280" y="1197000"/>
            <a:ext cx="3600360" cy="4773600"/>
          </a:xfrm>
          <a:prstGeom prst="rect">
            <a:avLst/>
          </a:prstGeom>
          <a:ln w="507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080" y="333360"/>
            <a:ext cx="4643280" cy="1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Никита Зотов обучает П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Рисунок7"/>
          <p:cNvPicPr/>
          <p:nvPr/>
        </p:nvPicPr>
        <p:blipFill>
          <a:blip r:embed="rId1"/>
          <a:stretch/>
        </p:blipFill>
        <p:spPr>
          <a:xfrm>
            <a:off x="684360" y="907920"/>
            <a:ext cx="3162240" cy="5472360"/>
          </a:xfrm>
          <a:prstGeom prst="rect">
            <a:avLst/>
          </a:prstGeom>
          <a:ln w="50760">
            <a:solidFill>
              <a:srgbClr val="660033"/>
            </a:solidFill>
            <a:miter/>
          </a:ln>
        </p:spPr>
      </p:pic>
      <p:pic>
        <p:nvPicPr>
          <p:cNvPr id="84" name="Picture 4" descr="Рисунок4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148360" y="907920"/>
            <a:ext cx="3424320" cy="5446800"/>
          </a:xfrm>
          <a:prstGeom prst="rect">
            <a:avLst/>
          </a:prstGeom>
          <a:ln w="50760">
            <a:solidFill>
              <a:srgbClr val="660033"/>
            </a:solidFill>
            <a:miter/>
          </a:ln>
        </p:spPr>
      </p:pic>
      <p:sp>
        <p:nvSpPr>
          <p:cNvPr id="85" name="Rectangle 5"/>
          <p:cNvSpPr/>
          <p:nvPr/>
        </p:nvSpPr>
        <p:spPr>
          <a:xfrm>
            <a:off x="4978440" y="231840"/>
            <a:ext cx="39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Петр и его потешные по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246560" y="6021360"/>
            <a:ext cx="649440" cy="50328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68" h="21600">
                <a:moveTo>
                  <a:pt x="0" y="0"/>
                </a:moveTo>
                <a:lnTo>
                  <a:pt x="27868" y="0"/>
                </a:lnTo>
                <a:lnTo>
                  <a:pt x="27868" y="21600"/>
                </a:lnTo>
                <a:lnTo>
                  <a:pt x="0" y="21600"/>
                </a:lnTo>
                <a:close/>
              </a:path>
              <a:path fill="lightenLess" w="27868" h="21600">
                <a:moveTo>
                  <a:pt x="0" y="0"/>
                </a:moveTo>
                <a:lnTo>
                  <a:pt x="27868" y="0"/>
                </a:lnTo>
                <a:lnTo>
                  <a:pt x="26468" y="1400"/>
                </a:lnTo>
                <a:lnTo>
                  <a:pt x="1400" y="1400"/>
                </a:lnTo>
                <a:close/>
              </a:path>
              <a:path fill="darken" w="27868" h="21600">
                <a:moveTo>
                  <a:pt x="27868" y="0"/>
                </a:moveTo>
                <a:lnTo>
                  <a:pt x="27868" y="21600"/>
                </a:lnTo>
                <a:lnTo>
                  <a:pt x="26468" y="20200"/>
                </a:lnTo>
                <a:lnTo>
                  <a:pt x="26468" y="1400"/>
                </a:lnTo>
                <a:close/>
              </a:path>
              <a:path fill="darkenLess" w="27868" h="21600">
                <a:moveTo>
                  <a:pt x="27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68" y="20200"/>
                </a:lnTo>
                <a:close/>
              </a:path>
              <a:path fill="lighten" w="27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68" h="21600">
                <a:moveTo>
                  <a:pt x="13934" y="3837"/>
                </a:moveTo>
                <a:lnTo>
                  <a:pt x="16511" y="6448"/>
                </a:lnTo>
                <a:lnTo>
                  <a:pt x="16511" y="4707"/>
                </a:lnTo>
                <a:lnTo>
                  <a:pt x="18286" y="4707"/>
                </a:lnTo>
                <a:lnTo>
                  <a:pt x="18286" y="8224"/>
                </a:lnTo>
                <a:lnTo>
                  <a:pt x="20897" y="10800"/>
                </a:lnTo>
                <a:lnTo>
                  <a:pt x="19243" y="10800"/>
                </a:lnTo>
                <a:lnTo>
                  <a:pt x="19243" y="17989"/>
                </a:lnTo>
                <a:lnTo>
                  <a:pt x="8625" y="17989"/>
                </a:lnTo>
                <a:lnTo>
                  <a:pt x="8625" y="10800"/>
                </a:lnTo>
                <a:lnTo>
                  <a:pt x="6971" y="10800"/>
                </a:lnTo>
                <a:close/>
              </a:path>
              <a:path fill="darkenLess" w="27868" h="21600">
                <a:moveTo>
                  <a:pt x="16511" y="6448"/>
                </a:moveTo>
                <a:lnTo>
                  <a:pt x="16511" y="4707"/>
                </a:lnTo>
                <a:lnTo>
                  <a:pt x="18286" y="4707"/>
                </a:lnTo>
                <a:lnTo>
                  <a:pt x="18286" y="8224"/>
                </a:lnTo>
                <a:close/>
              </a:path>
              <a:path fill="darkenLess" w="27868" h="21600">
                <a:moveTo>
                  <a:pt x="13012" y="14299"/>
                </a:moveTo>
                <a:lnTo>
                  <a:pt x="14857" y="14299"/>
                </a:lnTo>
                <a:lnTo>
                  <a:pt x="14857" y="17989"/>
                </a:lnTo>
                <a:lnTo>
                  <a:pt x="19243" y="17989"/>
                </a:lnTo>
                <a:lnTo>
                  <a:pt x="19243" y="10800"/>
                </a:lnTo>
                <a:lnTo>
                  <a:pt x="8625" y="10800"/>
                </a:lnTo>
                <a:lnTo>
                  <a:pt x="8625" y="17989"/>
                </a:lnTo>
                <a:lnTo>
                  <a:pt x="1301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0_bcf9_60d570f8_XL"/>
          <p:cNvPicPr/>
          <p:nvPr/>
        </p:nvPicPr>
        <p:blipFill>
          <a:blip r:embed="rId1"/>
          <a:stretch/>
        </p:blipFill>
        <p:spPr>
          <a:xfrm>
            <a:off x="5076720" y="1268280"/>
            <a:ext cx="3630600" cy="4824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Евдокия Фёдоровна Лопухина (1669 – 17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68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вая жена Петра Вел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учила домашнее воспитани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ринном духе. Не разделя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зглядов мужа. Через 9 лет бра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еланию Петр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ла нас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трижена в монахини. До са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ерти содержалась в разли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настыр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86840"/>
            <a:ext cx="851868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Verdana"/>
              </a:rPr>
              <a:t>Наталья Кирилловна Нарышкина (1651 – 1694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50418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торая супруга царя Алекс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ихайловича, мать Петр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Пос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ерти мужа вступила в борьбу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стол с родственниками пер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ены царя – Милославс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терпев поражение, попал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лу и проживала в с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ображенском. Только с 168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начало правления Петр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, е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ожение при дворе восстанови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39640" y="549360"/>
            <a:ext cx="806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5076720" y="1246320"/>
            <a:ext cx="3619440" cy="4559040"/>
          </a:xfrm>
          <a:prstGeom prst="rect">
            <a:avLst/>
          </a:prstGeom>
          <a:ln w="50760">
            <a:solidFill>
              <a:srgbClr val="fba93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Patrick Gordon - confidant of Peter the Great"/>
          <p:cNvPicPr/>
          <p:nvPr/>
        </p:nvPicPr>
        <p:blipFill>
          <a:blip r:embed="rId1"/>
          <a:stretch/>
        </p:blipFill>
        <p:spPr>
          <a:xfrm>
            <a:off x="5076720" y="1268280"/>
            <a:ext cx="3672000" cy="4824720"/>
          </a:xfrm>
          <a:prstGeom prst="rect">
            <a:avLst/>
          </a:prstGeom>
          <a:ln w="50760">
            <a:solidFill>
              <a:srgbClr val="660033"/>
            </a:solidFill>
            <a:miter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Патрик Гордон (1635 – 16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68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движник Петр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Шотланде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фессиональный военный.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усской службе с 1661 г. Уча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ымских и Азовских по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енерал русской армии. В 168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крыто поддержал Петр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борь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 власть, чем расположил к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лодого ца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7:12:41Z</dcterms:created>
  <dc:creator>Admin</dc:creator>
  <dc:description/>
  <dc:language>en-US</dc:language>
  <cp:lastModifiedBy>user</cp:lastModifiedBy>
  <dcterms:modified xsi:type="dcterms:W3CDTF">2017-08-29T18:21:51Z</dcterms:modified>
  <cp:revision>15</cp:revision>
  <dc:subject/>
  <dc:title>Родословное древо Романовых (фрагмент)</dc:title>
</cp:coreProperties>
</file>