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94E-73CE-4D95-B90F-28C07EE0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2C8-AEC6-44B5-B58F-9CF76FF1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03FB-5674-49A3-A0BD-7C910782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FB50-EAED-4E2E-A8B2-AEE7F70F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81D3-81CA-4D23-9A27-01DAF74C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FB3D-1019-48C5-909A-01817ED8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0145-C34E-4FDA-8887-C098ADB5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E9EB-88DE-4A34-90EA-41B69B4D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758-1C2E-4F32-93E4-95F0AB5D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873-99AB-451A-83F5-99DCD8DE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2596-0D4D-45E4-9161-387D9928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FB3A-44CF-443D-BB2C-3FED6FC5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F4D2-6281-4055-BDD8-32E36CCCF0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>
            <a:hlinkClick r:id="rId2" action="ppaction://hlinksldjump"/>
          </p:cNvPr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>
            <a:hlinkClick r:id="rId3" action="ppaction://hlinksldjump"/>
          </p:cNvPr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>
            <a:hlinkClick r:id="rId4" action="ppaction://hlinksldjump"/>
          </p:cNvPr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1166760" y="1432080"/>
            <a:ext cx="664524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LETTERS ARE THERE IN ENGL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PHAB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KER ST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>
            <a:hlinkClick r:id="rId2" action="ppaction://hlinksldjump"/>
          </p:cNvPr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CADILLY CIR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NT ST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166760" y="1432080"/>
            <a:ext cx="664524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DID SH.HOLMES L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 TW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. MA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. D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 SA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166760" y="1432080"/>
            <a:ext cx="664524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THE ENGLISH WRI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B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CAME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BL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166760" y="1432080"/>
            <a:ext cx="664524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 IS THE PRIME MINISTER OF GREAT BRITA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5938920" y="335772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S.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1166760" y="1432080"/>
            <a:ext cx="664524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ME THE BRITTISH CURRENCY (MON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YOU HAVE LOST THE G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>
            <a:hlinkClick r:id="rId2" action="ppaction://hlinksldjump"/>
          </p:cNvPr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>
            <a:hlinkClick r:id="rId3" action="ppaction://hlinksldjump"/>
          </p:cNvPr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>
            <a:hlinkClick r:id="rId4" action="ppaction://hlinksldjump"/>
          </p:cNvPr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166760" y="1432080"/>
            <a:ext cx="664524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CAPITAL OF ENGLAN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>
            <a:hlinkClick r:id="rId2" action="ppaction://hlinksldjump"/>
          </p:cNvPr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STER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>
            <a:hlinkClick r:id="rId3" action="ppaction://hlinksldjump"/>
          </p:cNvPr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>
            <a:hlinkClick r:id="rId4" action="ppaction://hlinksldjump"/>
          </p:cNvPr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826920" y="1413000"/>
            <a:ext cx="664560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ITY IS BRITTIS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>
            <a:hlinkClick r:id="rId2" action="ppaction://hlinksldjump"/>
          </p:cNvPr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K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>
            <a:hlinkClick r:id="rId3" action="ppaction://hlinksldjump"/>
          </p:cNvPr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C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>
            <a:hlinkClick r:id="rId4" action="ppaction://hlinksldjump"/>
          </p:cNvPr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CK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166760" y="1432080"/>
            <a:ext cx="664524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THE RIGH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5994360" y="33051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>
            <a:hlinkClick r:id="rId2" action="ppaction://hlinksldjump"/>
          </p:cNvPr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MY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>
            <a:hlinkClick r:id="rId3" action="ppaction://hlinksldjump"/>
          </p:cNvPr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OOD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RIEND IND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>
            <a:hlinkClick r:id="rId4" action="ppaction://hlinksldjump"/>
          </p:cNvPr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AD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166760" y="1432080"/>
            <a:ext cx="664524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 THE PRO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FRIEND IN NEED IS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>
            <a:hlinkClick r:id="rId2" action="ppaction://hlinksldjump"/>
          </p:cNvPr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LENITSA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>
            <a:hlinkClick r:id="rId3" action="ppaction://hlinksldjump"/>
          </p:cNvPr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>
            <a:hlinkClick r:id="rId4" action="ppaction://hlinksldjump"/>
          </p:cNvPr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GIVING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O’CLOCK T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1166760" y="1432080"/>
            <a:ext cx="664524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ITTISH TRADI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>
            <a:hlinkClick r:id="rId2" action="ppaction://hlinksldjump"/>
          </p:cNvPr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K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>
            <a:hlinkClick r:id="rId3" action="ppaction://hlinksldjump"/>
          </p:cNvPr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>
            <a:hlinkClick r:id="rId4" action="ppaction://hlinksldjump"/>
          </p:cNvPr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A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166760" y="1432080"/>
            <a:ext cx="664524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NDON IS ON THE RI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>
            <a:hlinkClick r:id="rId2" action="ppaction://hlinksldjump"/>
          </p:cNvPr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>
            <a:hlinkClick r:id="rId3" action="ppaction://hlinksldjump"/>
          </p:cNvPr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CO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G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>
            <a:hlinkClick r:id="rId4" action="ppaction://hlinksldjump"/>
          </p:cNvPr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166760" y="1432080"/>
            <a:ext cx="664524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R IS BRITTIS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>
            <a:hlinkClick r:id="rId2" action="ppaction://hlinksldjump"/>
          </p:cNvPr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>
            <a:hlinkClick r:id="rId3" action="ppaction://hlinksldjump"/>
          </p:cNvPr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>
            <a:hlinkClick r:id="rId4" action="ppaction://hlinksldjump"/>
          </p:cNvPr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166760" y="1432080"/>
            <a:ext cx="664524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OUNTRY IS NOT ENGLISH SPEAK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08:52:02Z</dcterms:created>
  <dc:creator>Dimon</dc:creator>
  <dc:description/>
  <dc:language>en-US</dc:language>
  <cp:lastModifiedBy>user</cp:lastModifiedBy>
  <dcterms:modified xsi:type="dcterms:W3CDTF">2017-08-29T10:37:10Z</dcterms:modified>
  <cp:revision>7</cp:revision>
  <dc:subject/>
  <dc:title>WHO WANTS TO BE A MILLIONAIRE?</dc:title>
</cp:coreProperties>
</file>