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91A-2431-4633-99C9-645B1D12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CB1-66B7-410B-9195-5FCFB324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D11-8B5C-4E0F-A7FF-FEC5B9ED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755-E032-4A33-989E-C19C73D9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A01-6F96-48DD-825A-2C9B70C9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6B7-A3B5-4197-9E22-3FED2834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2F63-C2DB-4964-B3FC-15951773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D0DC-56C4-4C36-9752-02596AE9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0F2-1C54-46CD-A503-E9343848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33D-2A3A-4195-8ED6-FC86E56C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1AA-C7F9-4776-A6B6-251C5766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E822-FED6-486E-87B3-581790C2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A380-16A9-4C27-A8BF-2078D12956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>
            <a:hlinkClick r:id="rId2" action="ppaction://hlinksldjump"/>
          </p:cNvPr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>
            <a:hlinkClick r:id="rId3" action="ppaction://hlinksldjump"/>
          </p:cNvPr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>
            <a:hlinkClick r:id="rId4" action="ppaction://hlinksldjump"/>
          </p:cNvPr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1166760" y="1432080"/>
            <a:ext cx="664524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LETTERS ARE THERE IN ENGL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PHAB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KER ST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>
            <a:hlinkClick r:id="rId2" action="ppaction://hlinksldjump"/>
          </p:cNvPr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CADILLY CIR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NT ST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166760" y="1432080"/>
            <a:ext cx="664524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DID SH.HOLMES L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 TW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. MA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. D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 SA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166760" y="1432080"/>
            <a:ext cx="664524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THE ENGLISH WRI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B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CAME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BL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166760" y="1432080"/>
            <a:ext cx="664524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 IS THE PRIME MINISTER OF GREAT BRITA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5938920" y="335772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S.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166760" y="1432080"/>
            <a:ext cx="664524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ME THE BRITTISH CURRENCY (MON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YOU HAVE LOST THE G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>
            <a:hlinkClick r:id="rId2" action="ppaction://hlinksldjump"/>
          </p:cNvPr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>
            <a:hlinkClick r:id="rId3" action="ppaction://hlinksldjump"/>
          </p:cNvPr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>
            <a:hlinkClick r:id="rId4" action="ppaction://hlinksldjump"/>
          </p:cNvPr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166760" y="1432080"/>
            <a:ext cx="664524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CAPITAL OF ENGLAN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>
            <a:hlinkClick r:id="rId2" action="ppaction://hlinksldjump"/>
          </p:cNvPr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STER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>
            <a:hlinkClick r:id="rId3" action="ppaction://hlinksldjump"/>
          </p:cNvPr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>
            <a:hlinkClick r:id="rId4" action="ppaction://hlinksldjump"/>
          </p:cNvPr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826920" y="1413000"/>
            <a:ext cx="664560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ITY IS BRITTIS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>
            <a:hlinkClick r:id="rId2" action="ppaction://hlinksldjump"/>
          </p:cNvPr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K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>
            <a:hlinkClick r:id="rId3" action="ppaction://hlinksldjump"/>
          </p:cNvPr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C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>
            <a:hlinkClick r:id="rId4" action="ppaction://hlinksldjump"/>
          </p:cNvPr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CK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166760" y="1432080"/>
            <a:ext cx="664524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THE RIGH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5994360" y="33051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>
            <a:hlinkClick r:id="rId2" action="ppaction://hlinksldjump"/>
          </p:cNvPr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MY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>
            <a:hlinkClick r:id="rId3" action="ppaction://hlinksldjump"/>
          </p:cNvPr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OOD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RIEND IND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>
            <a:hlinkClick r:id="rId4" action="ppaction://hlinksldjump"/>
          </p:cNvPr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AD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166760" y="1432080"/>
            <a:ext cx="664524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 THE PRO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FRIEND IN NEED IS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>
            <a:hlinkClick r:id="rId2" action="ppaction://hlinksldjump"/>
          </p:cNvPr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LENITSA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>
            <a:hlinkClick r:id="rId3" action="ppaction://hlinksldjump"/>
          </p:cNvPr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>
            <a:hlinkClick r:id="rId4" action="ppaction://hlinksldjump"/>
          </p:cNvPr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GIVING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O’CLOCK T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1166760" y="1432080"/>
            <a:ext cx="664524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ITTISH TRADI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>
            <a:hlinkClick r:id="rId2" action="ppaction://hlinksldjump"/>
          </p:cNvPr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K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>
            <a:hlinkClick r:id="rId3" action="ppaction://hlinksldjump"/>
          </p:cNvPr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>
            <a:hlinkClick r:id="rId4" action="ppaction://hlinksldjump"/>
          </p:cNvPr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A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166760" y="1432080"/>
            <a:ext cx="664524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NDON IS ON THE RI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>
            <a:hlinkClick r:id="rId2" action="ppaction://hlinksldjump"/>
          </p:cNvPr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>
            <a:hlinkClick r:id="rId3" action="ppaction://hlinksldjump"/>
          </p:cNvPr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CO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G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>
            <a:hlinkClick r:id="rId4" action="ppaction://hlinksldjump"/>
          </p:cNvPr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166760" y="1432080"/>
            <a:ext cx="664524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R IS BRITTIS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ANTS TO BE A MILLION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900000" y="2637000"/>
            <a:ext cx="7559640" cy="35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>
            <a:hlinkClick r:id="rId2" action="ppaction://hlinksldjump"/>
          </p:cNvPr>
          <p:cNvSpPr/>
          <p:nvPr/>
        </p:nvSpPr>
        <p:spPr>
          <a:xfrm>
            <a:off x="971640" y="2708280"/>
            <a:ext cx="3671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>
            <a:hlinkClick r:id="rId3" action="ppaction://hlinksldjump"/>
          </p:cNvPr>
          <p:cNvSpPr/>
          <p:nvPr/>
        </p:nvSpPr>
        <p:spPr>
          <a:xfrm>
            <a:off x="971640" y="4365720"/>
            <a:ext cx="3671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>
            <a:hlinkClick r:id="rId4" action="ppaction://hlinksldjump"/>
          </p:cNvPr>
          <p:cNvSpPr/>
          <p:nvPr/>
        </p:nvSpPr>
        <p:spPr>
          <a:xfrm>
            <a:off x="4716360" y="2708280"/>
            <a:ext cx="3672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716360" y="4365720"/>
            <a:ext cx="3672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950760" y="1432080"/>
            <a:ext cx="71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166760" y="1432080"/>
            <a:ext cx="664524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OUNTRY IS NOT ENGLISH SPEAK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78000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08:52:02Z</dcterms:created>
  <dc:creator>Dimon</dc:creator>
  <dc:description/>
  <dc:language>en-US</dc:language>
  <cp:lastModifiedBy>user</cp:lastModifiedBy>
  <dcterms:modified xsi:type="dcterms:W3CDTF">2017-08-29T10:37:10Z</dcterms:modified>
  <cp:revision>7</cp:revision>
  <dc:subject/>
  <dc:title>WHO WANTS TO BE A MILLIONAIRE?</dc:title>
</cp:coreProperties>
</file>