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95F6-68D0-4F13-BA02-82E434F01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6001-4B93-4786-8CE5-02F41A3C9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BE49-2AED-4CF8-AAA1-F4FCF0454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0948-FBFA-4520-B316-B317FB27F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E2CA-76B7-4E4D-80F2-60BF844DA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1E1C-CA31-4FCB-9809-D213C5E8D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C575-95C7-4D38-8976-EBFB5219B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0E17-5130-44A0-A4DB-B2C03F3A9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8920" y="549000"/>
            <a:ext cx="820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1289-81D9-4F03-86BC-203A3C304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5CEB-09AC-41E1-9661-8C03FBD25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04B6-5AEE-4B94-A9B8-1B0EC6928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96F7-D09E-4A39-AEF1-74D460E18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149-4DB8-483F-8360-1E4D2C99A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Нижний колонтитул 3"/>
          <p:cNvSpPr/>
          <p:nvPr/>
        </p:nvSpPr>
        <p:spPr>
          <a:xfrm>
            <a:off x="921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сква, 2006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1FBC-FFD4-4120-815E-DDDADAF6E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3712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Техника безопасности</a:t>
            </a:r>
            <a:br>
              <a:rPr sz="60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организация рабочего места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08360" y="4394160"/>
            <a:ext cx="1606680" cy="169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E9BE-DF80-4D8D-89B1-1F9C18CC7F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Arial"/>
              </a:rPr>
              <a:t>Вот наилучший способ посадки за компьютером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основной рисунок"/>
          <p:cNvPicPr/>
          <p:nvPr/>
        </p:nvPicPr>
        <p:blipFill>
          <a:blip r:embed="rId1"/>
          <a:stretch/>
        </p:blipFill>
        <p:spPr>
          <a:xfrm>
            <a:off x="324000" y="184464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1547640" y="2421000"/>
            <a:ext cx="1224000" cy="216000"/>
          </a:xfrm>
          <a:prstGeom prst="leftRightArrow">
            <a:avLst>
              <a:gd name="adj1" fmla="val 50000"/>
              <a:gd name="adj2" fmla="val 1128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47640" y="20955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70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067280" y="17733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Экран монитора находится на расстоянии 50-70 см от глаз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1908000" y="5805360"/>
            <a:ext cx="1152720" cy="0"/>
          </a:xfrm>
          <a:prstGeom prst="line">
            <a:avLst/>
          </a:prstGeom>
          <a:ln w="108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067280" y="2708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бе ступни стоят на полу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1187280" y="3068640"/>
            <a:ext cx="14472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332000" y="386064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70828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067280" y="4941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пина расположена вертикальн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2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97" name="Picture 24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5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26"/>
          <p:cNvSpPr/>
          <p:nvPr/>
        </p:nvSpPr>
        <p:spPr>
          <a:xfrm>
            <a:off x="4067280" y="328464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лечи расслаблены. Локти слегка касаются туловища. Предплечья находятся на той же высоте, что и клавиату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4"/>
          <a:stretch/>
        </p:blipFill>
        <p:spPr>
          <a:xfrm>
            <a:off x="3995640" y="616572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0"/>
          <p:cNvSpPr/>
          <p:nvPr/>
        </p:nvSpPr>
        <p:spPr>
          <a:xfrm>
            <a:off x="4067280" y="2492280"/>
            <a:ext cx="48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держивайтесь этих рекомендаций, и тогда работа за компьютером не окажется вредной для здоровь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DC2-9C6E-4403-92D2-4028EF271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опро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авила техники безопасности необходимо соблюдать в компьютерном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4360" y="41497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чему может привести нарушение  правил техники безопасности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1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08" name="Picture 1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90A-0E96-4873-B3D6-E49045BBEE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опро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организовать свое рабочее место за компьюте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3573360"/>
            <a:ext cx="7772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чему может привести неправильная организация рабочего места? Может ли компьютер оказать негативное влияние на здоровье пользовател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нопка вперед копия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36C9-3F84-47D5-80CB-65B71357F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БУДЬТЕ ВНИМАТЕЛЬНЫ, ДИСЦИПЛИНИРОВАНЫ, ОСТОРОЖ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8"/>
          <p:cNvPicPr/>
          <p:nvPr/>
        </p:nvPicPr>
        <p:blipFill>
          <a:blip r:embed="rId1"/>
          <a:stretch/>
        </p:blipFill>
        <p:spPr>
          <a:xfrm>
            <a:off x="2523960" y="1844640"/>
            <a:ext cx="4064040" cy="41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F0A-A711-4835-88E4-F7BB4F6F2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701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РАЗМЕЩАЙТЕ НА РАБОЧЕМ СТОЛЕ ПОСТОРОННИЕ ПРЕДМ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7"/>
          <p:cNvPicPr/>
          <p:nvPr/>
        </p:nvPicPr>
        <p:blipFill>
          <a:blip r:embed="rId1"/>
          <a:stretch/>
        </p:blipFill>
        <p:spPr>
          <a:xfrm>
            <a:off x="2598840" y="1989000"/>
            <a:ext cx="3917880" cy="403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90D-D558-4B69-9FA8-403A9C54C0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6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ВКЛЮЧАЙТЕ И НЕ ВЫКЛЮЧАЙТЕ КОМПЬЮТЕР БЕЗ РАЗРЕШЕНИЯ УЧИТЕЛ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tretch/>
        </p:blipFill>
        <p:spPr>
          <a:xfrm>
            <a:off x="2664000" y="1989000"/>
            <a:ext cx="385272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9E9-FFEA-4AFD-8346-240E4C19F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ТРОГАЙТЕ ПРОВОДА И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РАЗЪЕМЫ СОЕДИНИТЕЛЬНЫХ КАБ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"/>
          <p:cNvPicPr/>
          <p:nvPr/>
        </p:nvPicPr>
        <p:blipFill>
          <a:blip r:embed="rId1"/>
          <a:stretch/>
        </p:blipFill>
        <p:spPr>
          <a:xfrm>
            <a:off x="2600280" y="1916280"/>
            <a:ext cx="3916440" cy="403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036F-78AB-4D95-89AF-799BED4E0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620280"/>
            <a:ext cx="896472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РИКАСАЙТЕСЬ К ЭКРАНУ МОНИ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7" descr="4"/>
          <p:cNvPicPr/>
          <p:nvPr/>
        </p:nvPicPr>
        <p:blipFill>
          <a:blip r:embed="rId1"/>
          <a:stretch/>
        </p:blipFill>
        <p:spPr>
          <a:xfrm>
            <a:off x="2517840" y="1628640"/>
            <a:ext cx="4141800" cy="424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2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33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29DC-1141-4651-A59B-868A4B194B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 Black"/>
              </a:rPr>
              <a:t>РАБОТАЙТЕ НА КЛАВИАТУРЕ И С МЫШКОЙ</a:t>
            </a:r>
            <a:br>
              <a:rPr sz="2600"/>
            </a:br>
            <a:r>
              <a:rPr b="0" lang="ru-RU" sz="2600" spc="-1" strike="noStrike">
                <a:solidFill>
                  <a:srgbClr val="003399"/>
                </a:solidFill>
                <a:latin typeface="Arial Black"/>
              </a:rPr>
              <a:t>ЧИСТЫМИ И СУХИМИ РУКАМ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"/>
          <p:cNvPicPr/>
          <p:nvPr/>
        </p:nvPicPr>
        <p:blipFill>
          <a:blip r:embed="rId1"/>
          <a:stretch/>
        </p:blipFill>
        <p:spPr>
          <a:xfrm>
            <a:off x="2484360" y="1773360"/>
            <a:ext cx="4129200" cy="42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86C-6E34-4F93-9863-5EEB6B5C9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ИЗБЕГАЙТЕ РЕЗКИХ ДВИЖЕНИЙ,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ОКИДАЙТЕ РАБОЧЕЕ МЕСТО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БЕЗ РАЗРЕШЕНИЯ УЧИТЕЛ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"/>
          <p:cNvPicPr/>
          <p:nvPr/>
        </p:nvPicPr>
        <p:blipFill>
          <a:blip r:embed="rId1"/>
          <a:stretch/>
        </p:blipFill>
        <p:spPr>
          <a:xfrm>
            <a:off x="2627280" y="2133720"/>
            <a:ext cx="385272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C8F9-B3C3-4970-8324-20B8CA20D6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4400" y="62028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ЫТАЙТЕСЬ САМОСТОЯТЕЛЬНО УСТРАНИТЬ НЕПОЛАДКИ В РАБОТЕ КОМПЬЮТЕРА – НЕМЕДЛЕННО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СООБЩИТЕ О НИХ УЧИТЕЛ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1"/>
          <p:cNvPicPr/>
          <p:nvPr/>
        </p:nvPicPr>
        <p:blipFill>
          <a:blip r:embed="rId1"/>
          <a:stretch/>
        </p:blipFill>
        <p:spPr>
          <a:xfrm>
            <a:off x="2960640" y="2714760"/>
            <a:ext cx="3267000" cy="33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ова</cp:lastModifiedBy>
  <dcterms:modified xsi:type="dcterms:W3CDTF">2013-07-29T12:46:10Z</dcterms:modified>
  <cp:revision>17</cp:revision>
  <dc:subject/>
  <dc:title>PowerPoint Presentation</dc:title>
</cp:coreProperties>
</file>