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4114-9721-4E0C-9AB8-D652279F8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A1AC-7D33-4C29-8944-FD0CF840E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95E3-F676-4211-93CB-3510A7C1B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846D-80DC-4AE0-8B08-BB1DE6D730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8D6D-6C45-4BE6-8EDC-1688C5E77C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C883-E5DC-4D1D-B56F-0975EA309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5E74-F212-4121-ABC9-15A3148F2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1D8A-71F6-4ACE-B7E9-8563A69EE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8920" y="549000"/>
            <a:ext cx="820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2192-744B-46DA-837C-444DFD0FB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EEC3-A63C-4ECB-A3D3-A58B70B50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9B62-448C-42E9-89EA-19EE14EC3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CFEC-02B1-4671-8542-B02B428C8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17C5-0C1E-4AC2-8E0F-073F21AB40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Нижний колонтитул 3"/>
          <p:cNvSpPr/>
          <p:nvPr/>
        </p:nvSpPr>
        <p:spPr>
          <a:xfrm>
            <a:off x="9216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сква, 2006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CF92-457A-4D7F-80E9-01E6AA7CEB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137124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99"/>
                </a:solidFill>
                <a:latin typeface="Arial"/>
              </a:rPr>
              <a:t>Техника безопасности</a:t>
            </a:r>
            <a:br>
              <a:rPr sz="6000"/>
            </a:b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и</a:t>
            </a:r>
            <a:br>
              <a:rPr sz="4400"/>
            </a:b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организация рабочего места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708360" y="4394160"/>
            <a:ext cx="1606680" cy="169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BD04-C47F-408A-9C61-31AC259F03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Arial"/>
              </a:rPr>
              <a:t>Вот наилучший способ посадки за компьютером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основной рисунок"/>
          <p:cNvPicPr/>
          <p:nvPr/>
        </p:nvPicPr>
        <p:blipFill>
          <a:blip r:embed="rId1"/>
          <a:stretch/>
        </p:blipFill>
        <p:spPr>
          <a:xfrm>
            <a:off x="324000" y="1844640"/>
            <a:ext cx="3622680" cy="41767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1547640" y="2421000"/>
            <a:ext cx="1224000" cy="216000"/>
          </a:xfrm>
          <a:prstGeom prst="leftRightArrow">
            <a:avLst>
              <a:gd name="adj1" fmla="val 50000"/>
              <a:gd name="adj2" fmla="val 1128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547640" y="20955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-70 с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067280" y="177336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Экран монитора находится на расстоянии 50-70 см от глаз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1908000" y="5805360"/>
            <a:ext cx="1152720" cy="0"/>
          </a:xfrm>
          <a:prstGeom prst="line">
            <a:avLst/>
          </a:prstGeom>
          <a:ln w="108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067280" y="2708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бе ступни стоят на полу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1187280" y="3068640"/>
            <a:ext cx="144720" cy="79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332000" y="3860640"/>
            <a:ext cx="865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900000" y="2708280"/>
            <a:ext cx="0" cy="18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4067280" y="494172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пина расположена вертикальн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2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97" name="Picture 24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5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 Box 26"/>
          <p:cNvSpPr/>
          <p:nvPr/>
        </p:nvSpPr>
        <p:spPr>
          <a:xfrm>
            <a:off x="4067280" y="328464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лечи расслаблены. Локти слегка касаются туловища. Предплечья находятся на той же высоте, что и клавиатур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4"/>
          <a:stretch/>
        </p:blipFill>
        <p:spPr>
          <a:xfrm>
            <a:off x="3995640" y="616572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0"/>
          <p:cNvSpPr/>
          <p:nvPr/>
        </p:nvSpPr>
        <p:spPr>
          <a:xfrm>
            <a:off x="4067280" y="2492280"/>
            <a:ext cx="48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Придерживайтесь этих рекомендаций, и тогда работа за компьютером не окажется вредной для здоровь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1A0A-DCF3-4139-B39B-29CE34571E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опрос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авила техники безопасности необходимо соблюдать в компьютерном кла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84360" y="41497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чему может привести нарушение  правил техники безопасности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1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08" name="Picture 12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3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6390-3FFC-478C-BA92-5A1C21D7B0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опрос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организовать свое рабочее место за компьютер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3573360"/>
            <a:ext cx="77724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чему может привести неправильная организация рабочего места? Может ли компьютер оказать негативное влияние на здоровье пользователя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кнопка вперед копия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4140360" y="3645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4124-3833-4CEF-9101-8755252BAF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БУДЬТЕ ВНИМАТЕЛЬНЫ, ДИСЦИПЛИНИРОВАНЫ, ОСТОРОЖ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8"/>
          <p:cNvPicPr/>
          <p:nvPr/>
        </p:nvPicPr>
        <p:blipFill>
          <a:blip r:embed="rId1"/>
          <a:stretch/>
        </p:blipFill>
        <p:spPr>
          <a:xfrm>
            <a:off x="2523960" y="1844640"/>
            <a:ext cx="4064040" cy="41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FB55-5527-4437-9BFA-175982AFD2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7012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РАЗМЕЩАЙТЕ НА РАБОЧЕМ СТОЛЕ ПОСТОРОННИЕ ПРЕДМЕ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7"/>
          <p:cNvPicPr/>
          <p:nvPr/>
        </p:nvPicPr>
        <p:blipFill>
          <a:blip r:embed="rId1"/>
          <a:stretch/>
        </p:blipFill>
        <p:spPr>
          <a:xfrm>
            <a:off x="2598840" y="1989000"/>
            <a:ext cx="3917880" cy="403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B3ED-3A81-4377-8E2C-EAE4544050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280" y="691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ВКЛЮЧАЙТЕ И НЕ ВЫКЛЮЧАЙТЕ КОМПЬЮТЕР БЕЗ РАЗРЕШЕНИЯ УЧИТЕЛ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6"/>
          <p:cNvPicPr/>
          <p:nvPr/>
        </p:nvPicPr>
        <p:blipFill>
          <a:blip r:embed="rId1"/>
          <a:stretch/>
        </p:blipFill>
        <p:spPr>
          <a:xfrm>
            <a:off x="2664000" y="1989000"/>
            <a:ext cx="3852720" cy="395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DD48-3742-48CE-B263-15D5AD6F8D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ТРОГАЙТЕ ПРОВОДА И 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РАЗЪЕМЫ СОЕДИНИТЕЛЬНЫХ КАБ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"/>
          <p:cNvPicPr/>
          <p:nvPr/>
        </p:nvPicPr>
        <p:blipFill>
          <a:blip r:embed="rId1"/>
          <a:stretch/>
        </p:blipFill>
        <p:spPr>
          <a:xfrm>
            <a:off x="2600280" y="1916280"/>
            <a:ext cx="3916440" cy="403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546D-FDF6-4921-A1C0-5D8A09FA57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620280"/>
            <a:ext cx="896472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ПРИКАСАЙТЕСЬ К ЭКРАНУ МОНИТО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27" descr="4"/>
          <p:cNvPicPr/>
          <p:nvPr/>
        </p:nvPicPr>
        <p:blipFill>
          <a:blip r:embed="rId1"/>
          <a:stretch/>
        </p:blipFill>
        <p:spPr>
          <a:xfrm>
            <a:off x="2517840" y="1628640"/>
            <a:ext cx="4141800" cy="424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32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33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FC7-2D0C-41E1-9F12-F0CA1C037B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 Black"/>
              </a:rPr>
              <a:t>РАБОТАЙТЕ НА КЛАВИАТУРЕ И С МЫШКОЙ</a:t>
            </a:r>
            <a:br>
              <a:rPr sz="2600"/>
            </a:br>
            <a:r>
              <a:rPr b="0" lang="ru-RU" sz="2600" spc="-1" strike="noStrike">
                <a:solidFill>
                  <a:srgbClr val="003399"/>
                </a:solidFill>
                <a:latin typeface="Arial Black"/>
              </a:rPr>
              <a:t>ЧИСТЫМИ И СУХИМИ РУКАМ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3"/>
          <p:cNvPicPr/>
          <p:nvPr/>
        </p:nvPicPr>
        <p:blipFill>
          <a:blip r:embed="rId1"/>
          <a:stretch/>
        </p:blipFill>
        <p:spPr>
          <a:xfrm>
            <a:off x="2484360" y="1773360"/>
            <a:ext cx="4129200" cy="42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A488-B35C-4A09-B69A-E4729020CA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ИЗБЕГАЙТЕ РЕЗКИХ ДВИЖЕНИЙ, 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ПОКИДАЙТЕ РАБОЧЕЕ МЕСТО 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БЕЗ РАЗРЕШЕНИЯ УЧИТЕЛ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"/>
          <p:cNvPicPr/>
          <p:nvPr/>
        </p:nvPicPr>
        <p:blipFill>
          <a:blip r:embed="rId1"/>
          <a:stretch/>
        </p:blipFill>
        <p:spPr>
          <a:xfrm>
            <a:off x="2627280" y="2133720"/>
            <a:ext cx="3852720" cy="395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4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F7CA-C327-4991-9617-B6B04E9586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4400" y="62028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НЕ ПЫТАЙТЕСЬ САМОСТОЯТЕЛЬНО УСТРАНИТЬ НЕПОЛАДКИ В РАБОТЕ КОМПЬЮТЕРА – НЕМЕДЛЕННО 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СООБЩИТЕ О НИХ УЧИТЕЛ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1"/>
          <p:cNvPicPr/>
          <p:nvPr/>
        </p:nvPicPr>
        <p:blipFill>
          <a:blip r:embed="rId1"/>
          <a:stretch/>
        </p:blipFill>
        <p:spPr>
          <a:xfrm>
            <a:off x="2960640" y="2714760"/>
            <a:ext cx="3267000" cy="330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ова</cp:lastModifiedBy>
  <dcterms:modified xsi:type="dcterms:W3CDTF">2013-07-29T12:46:10Z</dcterms:modified>
  <cp:revision>17</cp:revision>
  <dc:subject/>
  <dc:title>PowerPoint Presentation</dc:title>
</cp:coreProperties>
</file>