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2.png" ContentType="image/pn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1.jpeg" ContentType="image/jpeg"/>
  <Override PartName="/ppt/media/image42.png" ContentType="image/png"/>
  <Override PartName="/ppt/media/image43.png" ContentType="image/png"/>
  <Override PartName="/ppt/media/image15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9A05-3E02-4C5A-9173-DC03A631FC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529B-A8B2-4F1E-AC70-039DB7FC2C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938-8DA9-4839-B205-6A9C1809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7340-EE69-410E-9390-D7492985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A3A-736A-4D96-816C-B790CF64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8E7-53D4-4C49-918E-90A9B3E4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210-1F41-44D1-AD96-9D6D172F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D20-D785-4123-9D02-BD36805E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9ED-2162-4394-8E54-163B7CCE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4A8-A247-4B85-B0E1-601F93CC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3E4-FB62-4C52-B62D-2F0C2778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080-BB2A-4C71-973A-A2D8F5A1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F81-ACC4-4E27-BADB-CBF69D0F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C140-A5F4-4ADC-B279-48974DAA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4036-81C0-4AB3-9A16-6D63385E42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43080" y="2356920"/>
            <a:ext cx="685800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омпьютер – универсальная машина для работы с информаци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785600" y="4071960"/>
            <a:ext cx="728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Что умеет компьют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Как устроен компьют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Техника безопасности и организация </a:t>
            </a:r>
            <a:br>
              <a:rPr sz="2400"/>
            </a:b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рабочего ме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опробуйте разгад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6" descr="процессор"/>
          <p:cNvPicPr/>
          <p:nvPr/>
        </p:nvPicPr>
        <p:blipFill>
          <a:blip r:embed="rId1"/>
          <a:srcRect l="3650" t="8574" r="3469" b="7536"/>
          <a:stretch/>
        </p:blipFill>
        <p:spPr>
          <a:xfrm>
            <a:off x="1627200" y="2368440"/>
            <a:ext cx="5873760" cy="213228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  <p:grpSp>
        <p:nvGrpSpPr>
          <p:cNvPr id="255" name="Группа 16"/>
          <p:cNvGrpSpPr/>
          <p:nvPr/>
        </p:nvGrpSpPr>
        <p:grpSpPr>
          <a:xfrm>
            <a:off x="1285920" y="2338560"/>
            <a:ext cx="6643800" cy="2233440"/>
            <a:chOff x="1285920" y="2338560"/>
            <a:chExt cx="6643800" cy="2233440"/>
          </a:xfrm>
        </p:grpSpPr>
        <p:sp>
          <p:nvSpPr>
            <p:cNvPr id="256" name="Rectangle 13"/>
            <p:cNvSpPr/>
            <p:nvPr/>
          </p:nvSpPr>
          <p:spPr>
            <a:xfrm>
              <a:off x="1285920" y="2338560"/>
              <a:ext cx="6643800" cy="2160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7" name="Picture 9" descr="клавиатура"/>
            <p:cNvPicPr/>
            <p:nvPr/>
          </p:nvPicPr>
          <p:blipFill>
            <a:blip r:embed="rId2"/>
            <a:stretch/>
          </p:blipFill>
          <p:spPr>
            <a:xfrm>
              <a:off x="1484280" y="2411280"/>
              <a:ext cx="6353640" cy="216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Группа 15"/>
          <p:cNvGrpSpPr/>
          <p:nvPr/>
        </p:nvGrpSpPr>
        <p:grpSpPr>
          <a:xfrm>
            <a:off x="1214280" y="2340000"/>
            <a:ext cx="6715440" cy="2232000"/>
            <a:chOff x="1214280" y="2340000"/>
            <a:chExt cx="6715440" cy="2232000"/>
          </a:xfrm>
        </p:grpSpPr>
        <p:sp>
          <p:nvSpPr>
            <p:cNvPr id="259" name="Rectangle 12"/>
            <p:cNvSpPr/>
            <p:nvPr/>
          </p:nvSpPr>
          <p:spPr>
            <a:xfrm>
              <a:off x="1214280" y="2340000"/>
              <a:ext cx="6715440" cy="2215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0" name="Picture 10" descr="монитор"/>
            <p:cNvPicPr/>
            <p:nvPr/>
          </p:nvPicPr>
          <p:blipFill>
            <a:blip r:embed="rId3"/>
            <a:stretch/>
          </p:blipFill>
          <p:spPr>
            <a:xfrm>
              <a:off x="1285560" y="2411280"/>
              <a:ext cx="6375240" cy="21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Овал 10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Управляющая кнопка: домой 13">
            <a:hlinkClick r:id="" action="ppaction://hlinkshowjump?jump=firstslide"/>
          </p:cNvPr>
          <p:cNvSpPr/>
          <p:nvPr/>
        </p:nvSpPr>
        <p:spPr>
          <a:xfrm>
            <a:off x="8501040" y="628668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3837"/>
                </a:moveTo>
                <a:lnTo>
                  <a:pt x="15541" y="6448"/>
                </a:ln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lnTo>
                  <a:pt x="19927" y="10800"/>
                </a:lnTo>
                <a:lnTo>
                  <a:pt x="18274" y="10800"/>
                </a:lnTo>
                <a:lnTo>
                  <a:pt x="18274" y="17989"/>
                </a:lnTo>
                <a:lnTo>
                  <a:pt x="7655" y="17989"/>
                </a:lnTo>
                <a:lnTo>
                  <a:pt x="7655" y="10800"/>
                </a:lnTo>
                <a:lnTo>
                  <a:pt x="6001" y="10800"/>
                </a:lnTo>
                <a:close/>
              </a:path>
              <a:path fill="darkenLess" w="25929" h="21600">
                <a:moveTo>
                  <a:pt x="15541" y="6448"/>
                </a:move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close/>
              </a:path>
              <a:path fill="darkenLess" w="25929" h="21600">
                <a:moveTo>
                  <a:pt x="12042" y="14299"/>
                </a:moveTo>
                <a:lnTo>
                  <a:pt x="13887" y="14299"/>
                </a:lnTo>
                <a:lnTo>
                  <a:pt x="13887" y="17989"/>
                </a:lnTo>
                <a:lnTo>
                  <a:pt x="18274" y="17989"/>
                </a:lnTo>
                <a:lnTo>
                  <a:pt x="18274" y="10800"/>
                </a:lnTo>
                <a:lnTo>
                  <a:pt x="7655" y="10800"/>
                </a:lnTo>
                <a:lnTo>
                  <a:pt x="7655" y="17989"/>
                </a:lnTo>
                <a:lnTo>
                  <a:pt x="1204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071360" y="1428840"/>
            <a:ext cx="761508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о время работы за компьютером надо быть предельно внимательным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Техника безопасности 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 организация рабочего ме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ятиугольник 4"/>
          <p:cNvSpPr/>
          <p:nvPr/>
        </p:nvSpPr>
        <p:spPr>
          <a:xfrm>
            <a:off x="2000160" y="2357280"/>
            <a:ext cx="6143760" cy="1357560"/>
          </a:xfrm>
          <a:custGeom>
            <a:avLst/>
            <a:gdLst>
              <a:gd name="textAreaLeft" fmla="*/ 0 w 6143760"/>
              <a:gd name="textAreaRight" fmla="*/ 6144120 w 614376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ЗАПОМНИТЕ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 каждому рабочему месту проведено опасное для жизни напряж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ятиугольник 5"/>
          <p:cNvSpPr/>
          <p:nvPr/>
        </p:nvSpPr>
        <p:spPr>
          <a:xfrm>
            <a:off x="2428920" y="3929040"/>
            <a:ext cx="6429240" cy="1643040"/>
          </a:xfrm>
          <a:custGeom>
            <a:avLst/>
            <a:gdLst>
              <a:gd name="textAreaLeft" fmla="*/ 0 w 6429240"/>
              <a:gd name="textAreaRight" fmla="*/ 6429600 w 64292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Если не принимать мер предосторожности, работа за компьютером может оказаться вредной дл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Овал 7"/>
          <p:cNvSpPr/>
          <p:nvPr/>
        </p:nvSpPr>
        <p:spPr>
          <a:xfrm>
            <a:off x="714240" y="22860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Багетная рамка 8"/>
          <p:cNvSpPr/>
          <p:nvPr/>
        </p:nvSpPr>
        <p:spPr>
          <a:xfrm>
            <a:off x="6286680" y="5786280"/>
            <a:ext cx="25714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ополнитель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6" descr="http://www.avtokar.net/focusrepair/zametki.png"/>
          <p:cNvPicPr/>
          <p:nvPr/>
        </p:nvPicPr>
        <p:blipFill>
          <a:blip r:embed="rId1"/>
          <a:stretch/>
        </p:blipFill>
        <p:spPr>
          <a:xfrm>
            <a:off x="285840" y="4357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4" descr="http://www.partadami.ru/shop/img/element/element4.jpg"/>
          <p:cNvPicPr/>
          <p:nvPr/>
        </p:nvPicPr>
        <p:blipFill>
          <a:blip r:embed="rId1"/>
          <a:stretch/>
        </p:blipFill>
        <p:spPr>
          <a:xfrm>
            <a:off x="1143000" y="1071720"/>
            <a:ext cx="4572000" cy="3617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8" descr="http://mediasubs.ru/group/uploads/po/pomosch-windows/image2/ItMThlNi0.jpg"/>
          <p:cNvPicPr/>
          <p:nvPr/>
        </p:nvPicPr>
        <p:blipFill>
          <a:blip r:embed="rId2"/>
          <a:srcRect l="0" t="50454" r="53621" b="0"/>
          <a:stretch/>
        </p:blipFill>
        <p:spPr>
          <a:xfrm>
            <a:off x="5286240" y="835200"/>
            <a:ext cx="2428920" cy="2593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идите правиль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8" descr="http://sivocha.com/images/programmer.png"/>
          <p:cNvPicPr/>
          <p:nvPr/>
        </p:nvPicPr>
        <p:blipFill>
          <a:blip r:embed="rId3"/>
          <a:stretch/>
        </p:blipFill>
        <p:spPr>
          <a:xfrm>
            <a:off x="6786720" y="321480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1213920" y="5500800"/>
            <a:ext cx="5440680" cy="10000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правильная посадка за компьютером может стать причиной различных заболеван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8501040" y="628668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3837"/>
                </a:moveTo>
                <a:lnTo>
                  <a:pt x="15541" y="6448"/>
                </a:ln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lnTo>
                  <a:pt x="19927" y="10800"/>
                </a:lnTo>
                <a:lnTo>
                  <a:pt x="18274" y="10800"/>
                </a:lnTo>
                <a:lnTo>
                  <a:pt x="18274" y="17989"/>
                </a:lnTo>
                <a:lnTo>
                  <a:pt x="7655" y="17989"/>
                </a:lnTo>
                <a:lnTo>
                  <a:pt x="7655" y="10800"/>
                </a:lnTo>
                <a:lnTo>
                  <a:pt x="6001" y="10800"/>
                </a:lnTo>
                <a:close/>
              </a:path>
              <a:path fill="darkenLess" w="25929" h="21600">
                <a:moveTo>
                  <a:pt x="15541" y="6448"/>
                </a:move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close/>
              </a:path>
              <a:path fill="darkenLess" w="25929" h="21600">
                <a:moveTo>
                  <a:pt x="12042" y="14299"/>
                </a:moveTo>
                <a:lnTo>
                  <a:pt x="13887" y="14299"/>
                </a:lnTo>
                <a:lnTo>
                  <a:pt x="13887" y="17989"/>
                </a:lnTo>
                <a:lnTo>
                  <a:pt x="18274" y="17989"/>
                </a:lnTo>
                <a:lnTo>
                  <a:pt x="18274" y="10800"/>
                </a:lnTo>
                <a:lnTo>
                  <a:pt x="7655" y="10800"/>
                </a:lnTo>
                <a:lnTo>
                  <a:pt x="7655" y="17989"/>
                </a:lnTo>
                <a:lnTo>
                  <a:pt x="1204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042560" y="1052280"/>
            <a:ext cx="7643880" cy="5073480"/>
          </a:xfrm>
          <a:prstGeom prst="rect">
            <a:avLst/>
          </a:prstGeom>
          <a:ln w="0">
            <a:noFill/>
          </a:ln>
        </p:spPr>
      </p:pic>
      <p:sp>
        <p:nvSpPr>
          <p:cNvPr id="279" name="Содержимое 2"/>
          <p:cNvSpPr/>
          <p:nvPr/>
        </p:nvSpPr>
        <p:spPr>
          <a:xfrm>
            <a:off x="485640" y="1143000"/>
            <a:ext cx="82296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м всевозможных способов передачи, хранения и обработки информации занимается наука информатика. Хранить, обрабатывать и передавать информацию человеку помогает компьютер — универсальная машина для работы с информаци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Содержимое 2"/>
          <p:cNvSpPr/>
          <p:nvPr/>
        </p:nvSpPr>
        <p:spPr>
          <a:xfrm>
            <a:off x="428760" y="171468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аппаратном обеспечении компьютера различают устройства ввода, обработки, хранения и вывода информации. Устройства ввода информации — это клавиатура, мышь, сканер, микрофон и др. Устройство обработки информации — процессор. Устройства хранения информации — оперативная память, внешняя память на жёстких дисках. Устройства вывода информации монитор, принтер, акустические колон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5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071360" y="1214280"/>
            <a:ext cx="76150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1. Подумайте и скажите как называ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а) Машина для работы с информацией, которая может применяться для многих целей: обрабатывать, хранить и передавать самую разнообразную информацию, использова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в самых разных видах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Овал 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1241280" y="4214880"/>
            <a:ext cx="7473960" cy="928800"/>
          </a:xfrm>
          <a:prstGeom prst="rect">
            <a:avLst/>
          </a:prstGeom>
          <a:ln w="0">
            <a:noFill/>
          </a:ln>
        </p:spPr>
      </p:pic>
      <p:sp>
        <p:nvSpPr>
          <p:cNvPr id="285" name="Багетная рамка 6н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7"/>
          <p:cNvSpPr/>
          <p:nvPr/>
        </p:nvSpPr>
        <p:spPr>
          <a:xfrm>
            <a:off x="1384200" y="421488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2241720" y="421488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9"/>
          <p:cNvSpPr/>
          <p:nvPr/>
        </p:nvSpPr>
        <p:spPr>
          <a:xfrm>
            <a:off x="3027240" y="421488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10"/>
          <p:cNvSpPr/>
          <p:nvPr/>
        </p:nvSpPr>
        <p:spPr>
          <a:xfrm>
            <a:off x="3813120" y="421488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4670280" y="421488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5384880" y="421488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4"/>
          <p:cNvSpPr/>
          <p:nvPr/>
        </p:nvSpPr>
        <p:spPr>
          <a:xfrm>
            <a:off x="6242040" y="421488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5"/>
          <p:cNvSpPr/>
          <p:nvPr/>
        </p:nvSpPr>
        <p:spPr>
          <a:xfrm>
            <a:off x="7027920" y="421488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7813800" y="421488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71360" y="1214280"/>
            <a:ext cx="76150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1. Подумайте и скажите как называ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б) Информация, представленная в форме, пригодной для обработки компьюте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Овал 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Багетная рамка 6"/>
          <p:cNvSpPr/>
          <p:nvPr/>
        </p:nvSpPr>
        <p:spPr>
          <a:xfrm>
            <a:off x="6786720" y="271476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/>
          <a:stretch/>
        </p:blipFill>
        <p:spPr>
          <a:xfrm>
            <a:off x="857160" y="2643120"/>
            <a:ext cx="5443560" cy="9288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8"/>
          <p:cNvSpPr/>
          <p:nvPr/>
        </p:nvSpPr>
        <p:spPr>
          <a:xfrm>
            <a:off x="1071720" y="264312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9"/>
          <p:cNvSpPr/>
          <p:nvPr/>
        </p:nvSpPr>
        <p:spPr>
          <a:xfrm>
            <a:off x="1928880" y="264312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0"/>
          <p:cNvSpPr/>
          <p:nvPr/>
        </p:nvSpPr>
        <p:spPr>
          <a:xfrm>
            <a:off x="2786040" y="264312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3643200" y="264312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4500720" y="264312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4"/>
          <p:cNvSpPr/>
          <p:nvPr/>
        </p:nvSpPr>
        <p:spPr>
          <a:xfrm>
            <a:off x="5429160" y="264312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Содержимое 11"/>
          <p:cNvSpPr/>
          <p:nvPr/>
        </p:nvSpPr>
        <p:spPr>
          <a:xfrm>
            <a:off x="1071720" y="3857760"/>
            <a:ext cx="76579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в) Наука, занимающаяся изучением всевозможных способов передачи, хранения 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и обработки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571680" y="5572080"/>
            <a:ext cx="8408880" cy="785880"/>
          </a:xfrm>
          <a:prstGeom prst="rect">
            <a:avLst/>
          </a:prstGeom>
          <a:ln w="0">
            <a:noFill/>
          </a:ln>
        </p:spPr>
      </p:pic>
      <p:sp>
        <p:nvSpPr>
          <p:cNvPr id="309" name="Багетная рамка 16"/>
          <p:cNvSpPr/>
          <p:nvPr/>
        </p:nvSpPr>
        <p:spPr>
          <a:xfrm>
            <a:off x="6786720" y="478620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17"/>
          <p:cNvSpPr/>
          <p:nvPr/>
        </p:nvSpPr>
        <p:spPr>
          <a:xfrm>
            <a:off x="64296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18"/>
          <p:cNvSpPr/>
          <p:nvPr/>
        </p:nvSpPr>
        <p:spPr>
          <a:xfrm>
            <a:off x="142884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9"/>
          <p:cNvSpPr/>
          <p:nvPr/>
        </p:nvSpPr>
        <p:spPr>
          <a:xfrm>
            <a:off x="2143080" y="550080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0"/>
          <p:cNvSpPr/>
          <p:nvPr/>
        </p:nvSpPr>
        <p:spPr>
          <a:xfrm>
            <a:off x="292896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21"/>
          <p:cNvSpPr/>
          <p:nvPr/>
        </p:nvSpPr>
        <p:spPr>
          <a:xfrm>
            <a:off x="371484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22"/>
          <p:cNvSpPr/>
          <p:nvPr/>
        </p:nvSpPr>
        <p:spPr>
          <a:xfrm>
            <a:off x="4429080" y="550080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23"/>
          <p:cNvSpPr/>
          <p:nvPr/>
        </p:nvSpPr>
        <p:spPr>
          <a:xfrm>
            <a:off x="521496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24"/>
          <p:cNvSpPr/>
          <p:nvPr/>
        </p:nvSpPr>
        <p:spPr>
          <a:xfrm>
            <a:off x="600084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25"/>
          <p:cNvSpPr/>
          <p:nvPr/>
        </p:nvSpPr>
        <p:spPr>
          <a:xfrm>
            <a:off x="6715080" y="550080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26"/>
          <p:cNvSpPr/>
          <p:nvPr/>
        </p:nvSpPr>
        <p:spPr>
          <a:xfrm>
            <a:off x="742968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27"/>
          <p:cNvSpPr/>
          <p:nvPr/>
        </p:nvSpPr>
        <p:spPr>
          <a:xfrm>
            <a:off x="8215200" y="550080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142640" y="1071360"/>
            <a:ext cx="75438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2. Найдите ошибки: назовите изображения, ошибочно размещённые не там, где нуж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6" descr=""/>
          <p:cNvPicPr/>
          <p:nvPr/>
        </p:nvPicPr>
        <p:blipFill>
          <a:blip r:embed="rId1"/>
          <a:stretch/>
        </p:blipFill>
        <p:spPr>
          <a:xfrm>
            <a:off x="1071720" y="1857240"/>
            <a:ext cx="8001000" cy="4071960"/>
          </a:xfrm>
          <a:prstGeom prst="rect">
            <a:avLst/>
          </a:prstGeom>
          <a:ln w="0">
            <a:noFill/>
          </a:ln>
        </p:spPr>
      </p:pic>
      <p:sp>
        <p:nvSpPr>
          <p:cNvPr id="325" name="Овал 7"/>
          <p:cNvSpPr/>
          <p:nvPr/>
        </p:nvSpPr>
        <p:spPr>
          <a:xfrm>
            <a:off x="1214280" y="2714760"/>
            <a:ext cx="1643400" cy="164304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Овал 10"/>
          <p:cNvSpPr/>
          <p:nvPr/>
        </p:nvSpPr>
        <p:spPr>
          <a:xfrm>
            <a:off x="7072200" y="2428920"/>
            <a:ext cx="1928880" cy="192888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Багетная рамка 11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Овал 13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142640" y="1071360"/>
            <a:ext cx="7543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3. Найдите и зачеркните «лишнее» устройство в каждой груп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Овал 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WordArt 19"/>
          <p:cNvSpPr txBox="1"/>
          <p:nvPr/>
        </p:nvSpPr>
        <p:spPr>
          <a:xfrm>
            <a:off x="1000080" y="4419720"/>
            <a:ext cx="428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II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WordArt 20"/>
          <p:cNvSpPr txBox="1"/>
          <p:nvPr/>
        </p:nvSpPr>
        <p:spPr>
          <a:xfrm>
            <a:off x="5546880" y="4361040"/>
            <a:ext cx="475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V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WordArt 21"/>
          <p:cNvSpPr txBox="1"/>
          <p:nvPr/>
        </p:nvSpPr>
        <p:spPr>
          <a:xfrm>
            <a:off x="5715000" y="2357280"/>
            <a:ext cx="285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I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5" name="WordArt 22"/>
          <p:cNvSpPr txBox="1"/>
          <p:nvPr/>
        </p:nvSpPr>
        <p:spPr>
          <a:xfrm>
            <a:off x="1000080" y="2357280"/>
            <a:ext cx="142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6" name="Rectangle 28"/>
          <p:cNvSpPr/>
          <p:nvPr/>
        </p:nvSpPr>
        <p:spPr>
          <a:xfrm>
            <a:off x="1571760" y="4077360"/>
            <a:ext cx="3714480" cy="1725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5bd4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Графопострои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Джойст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ринт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они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29"/>
          <p:cNvSpPr/>
          <p:nvPr/>
        </p:nvSpPr>
        <p:spPr>
          <a:xfrm>
            <a:off x="6194520" y="4077360"/>
            <a:ext cx="2735280" cy="172548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9360">
            <a:solidFill>
              <a:srgbClr val="31859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кан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Клави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они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икро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30"/>
          <p:cNvSpPr/>
          <p:nvPr/>
        </p:nvSpPr>
        <p:spPr>
          <a:xfrm>
            <a:off x="1562400" y="2005560"/>
            <a:ext cx="3747600" cy="1725480"/>
          </a:xfrm>
          <a:prstGeom prst="roundRect">
            <a:avLst>
              <a:gd name="adj" fmla="val 16667"/>
            </a:avLst>
          </a:prstGeom>
          <a:solidFill>
            <a:srgbClr val="cbd9eb"/>
          </a:solidFill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Клави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ыш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кан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Акустические коло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1"/>
          <p:cNvSpPr/>
          <p:nvPr/>
        </p:nvSpPr>
        <p:spPr>
          <a:xfrm>
            <a:off x="6143760" y="2005560"/>
            <a:ext cx="2714400" cy="172548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9360">
            <a:solidFill>
              <a:srgbClr val="604a7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ринт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они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кан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Науш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Багетная рамка 14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ая соединительная линия 16"/>
          <p:cNvSpPr/>
          <p:nvPr/>
        </p:nvSpPr>
        <p:spPr>
          <a:xfrm>
            <a:off x="1785960" y="3429000"/>
            <a:ext cx="335772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Прямая соединительная линия 17"/>
          <p:cNvSpPr/>
          <p:nvPr/>
        </p:nvSpPr>
        <p:spPr>
          <a:xfrm>
            <a:off x="6993000" y="3071880"/>
            <a:ext cx="107928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рямая соединительная линия 18"/>
          <p:cNvSpPr/>
          <p:nvPr/>
        </p:nvSpPr>
        <p:spPr>
          <a:xfrm>
            <a:off x="2703600" y="4786200"/>
            <a:ext cx="1439640" cy="180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рямая соединительная линия 19"/>
          <p:cNvSpPr/>
          <p:nvPr/>
        </p:nvSpPr>
        <p:spPr>
          <a:xfrm>
            <a:off x="6846840" y="514368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142640" y="1142640"/>
            <a:ext cx="754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4. Идеи каких из изображённых приборов были использованы при создании персональных компьютер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Овал 4"/>
          <p:cNvSpPr/>
          <p:nvPr/>
        </p:nvSpPr>
        <p:spPr>
          <a:xfrm>
            <a:off x="8001000" y="71280"/>
            <a:ext cx="1000080" cy="10796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4" descr="http://www.quirkycottages.com/Editor/assets/blue%20vacume%20cleaner.jpg"/>
          <p:cNvPicPr/>
          <p:nvPr/>
        </p:nvPicPr>
        <p:blipFill>
          <a:blip r:embed="rId1"/>
          <a:stretch/>
        </p:blipFill>
        <p:spPr>
          <a:xfrm>
            <a:off x="6370560" y="4357800"/>
            <a:ext cx="2773440" cy="2079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http://www.windsweptkites.com/Images/sewing-machine.jpg"/>
          <p:cNvPicPr/>
          <p:nvPr/>
        </p:nvPicPr>
        <p:blipFill>
          <a:blip r:embed="rId2"/>
          <a:stretch/>
        </p:blipFill>
        <p:spPr>
          <a:xfrm>
            <a:off x="4429080" y="2928960"/>
            <a:ext cx="2211480" cy="1643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50" name="Picture 12" descr="http://www.divercitycafe.ro/wp-content/gallery/mooz-hits-mooz-ro/1195430056163554461drunken_duck_old_styled_tv_set_svg_hi.png?651207526"/>
          <p:cNvPicPr/>
          <p:nvPr/>
        </p:nvPicPr>
        <p:blipFill>
          <a:blip r:embed="rId3"/>
          <a:stretch/>
        </p:blipFill>
        <p:spPr>
          <a:xfrm>
            <a:off x="6786720" y="2000160"/>
            <a:ext cx="2054160" cy="2259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51" name="Picture 28" descr="http://www.clker.com/cliparts/c/0/8/4/11954241391320205871johnny_automatic_teapot.svg.hi.png"/>
          <p:cNvPicPr/>
          <p:nvPr/>
        </p:nvPicPr>
        <p:blipFill>
          <a:blip r:embed="rId4"/>
          <a:stretch/>
        </p:blipFill>
        <p:spPr>
          <a:xfrm>
            <a:off x="571680" y="2286000"/>
            <a:ext cx="1643040" cy="1638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52" name="Picture 30" descr="http://www.8trackheaven.com/archive/Images/rel2rel.gif"/>
          <p:cNvPicPr/>
          <p:nvPr/>
        </p:nvPicPr>
        <p:blipFill>
          <a:blip r:embed="rId5"/>
          <a:stretch/>
        </p:blipFill>
        <p:spPr>
          <a:xfrm>
            <a:off x="3000240" y="4500720"/>
            <a:ext cx="1908360" cy="1836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53" name="Picture 40" descr="http://www.8ea.ru/ORDER.png"/>
          <p:cNvPicPr/>
          <p:nvPr/>
        </p:nvPicPr>
        <p:blipFill>
          <a:blip r:embed="rId6"/>
          <a:stretch/>
        </p:blipFill>
        <p:spPr>
          <a:xfrm>
            <a:off x="5214960" y="4572000"/>
            <a:ext cx="2143080" cy="1811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54" name="Picture 46" descr="http://img-fotki.yandex.ru/get/4614/102699435.4bc/0_78048_41390fa5_XL"/>
          <p:cNvPicPr/>
          <p:nvPr/>
        </p:nvPicPr>
        <p:blipFill>
          <a:blip r:embed="rId7"/>
          <a:stretch/>
        </p:blipFill>
        <p:spPr>
          <a:xfrm>
            <a:off x="2714760" y="1857240"/>
            <a:ext cx="2214360" cy="2713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55" name="Picture 48" descr="http://www.leramax.com/17.jpg"/>
          <p:cNvPicPr/>
          <p:nvPr/>
        </p:nvPicPr>
        <p:blipFill>
          <a:blip r:embed="rId8"/>
          <a:stretch/>
        </p:blipFill>
        <p:spPr>
          <a:xfrm>
            <a:off x="1428840" y="3571920"/>
            <a:ext cx="1650960" cy="1650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56" name="Picture 54" descr="http://e96.ru/images/catalog/full2/6/62373/48df69102be5f5c1c4afaffd9f00f357.jpg"/>
          <p:cNvPicPr/>
          <p:nvPr/>
        </p:nvPicPr>
        <p:blipFill>
          <a:blip r:embed="rId9"/>
          <a:stretch/>
        </p:blipFill>
        <p:spPr>
          <a:xfrm>
            <a:off x="571680" y="5286240"/>
            <a:ext cx="2085840" cy="1079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1"/>
          <p:cNvSpPr/>
          <p:nvPr/>
        </p:nvSpPr>
        <p:spPr>
          <a:xfrm>
            <a:off x="928800" y="4786200"/>
            <a:ext cx="421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2. Презент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Компьютер на службе у челове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Прямоугольник 7"/>
          <p:cNvSpPr/>
          <p:nvPr/>
        </p:nvSpPr>
        <p:spPr>
          <a:xfrm>
            <a:off x="1071720" y="10717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Найдите в электронном приложении к учебнику эти ресурсы и познакомьтесь с ни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Прямоугольник 12"/>
          <p:cNvSpPr/>
          <p:nvPr/>
        </p:nvSpPr>
        <p:spPr>
          <a:xfrm>
            <a:off x="928800" y="2462040"/>
            <a:ext cx="428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Аним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Компьютер, его роль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в жизни человека»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17375e"/>
                </a:solidFill>
                <a:latin typeface="Arial"/>
              </a:rPr>
              <a:t>sc.edu.ru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7" descr=""/>
          <p:cNvPicPr/>
          <p:nvPr/>
        </p:nvPicPr>
        <p:blipFill>
          <a:blip r:embed="rId1"/>
          <a:stretch/>
        </p:blipFill>
        <p:spPr>
          <a:xfrm>
            <a:off x="5214960" y="2000160"/>
            <a:ext cx="2639880" cy="197964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62" name="Picture 8" descr=""/>
          <p:cNvPicPr/>
          <p:nvPr/>
        </p:nvPicPr>
        <p:blipFill>
          <a:blip r:embed="rId2"/>
          <a:stretch/>
        </p:blipFill>
        <p:spPr>
          <a:xfrm>
            <a:off x="5214960" y="4286160"/>
            <a:ext cx="2635200" cy="197964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63" name="Управляющая кнопка: домой 10">
            <a:hlinkClick r:id="" action="ppaction://hlinkshowjump?jump=firstslide"/>
          </p:cNvPr>
          <p:cNvSpPr/>
          <p:nvPr/>
        </p:nvSpPr>
        <p:spPr>
          <a:xfrm>
            <a:off x="8501040" y="628668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3837"/>
                </a:moveTo>
                <a:lnTo>
                  <a:pt x="15541" y="6448"/>
                </a:ln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lnTo>
                  <a:pt x="19927" y="10800"/>
                </a:lnTo>
                <a:lnTo>
                  <a:pt x="18274" y="10800"/>
                </a:lnTo>
                <a:lnTo>
                  <a:pt x="18274" y="17989"/>
                </a:lnTo>
                <a:lnTo>
                  <a:pt x="7655" y="17989"/>
                </a:lnTo>
                <a:lnTo>
                  <a:pt x="7655" y="10800"/>
                </a:lnTo>
                <a:lnTo>
                  <a:pt x="6001" y="10800"/>
                </a:lnTo>
                <a:close/>
              </a:path>
              <a:path fill="darkenLess" w="25929" h="21600">
                <a:moveTo>
                  <a:pt x="15541" y="6448"/>
                </a:move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close/>
              </a:path>
              <a:path fill="darkenLess" w="25929" h="21600">
                <a:moveTo>
                  <a:pt x="12042" y="14299"/>
                </a:moveTo>
                <a:lnTo>
                  <a:pt x="13887" y="14299"/>
                </a:lnTo>
                <a:lnTo>
                  <a:pt x="13887" y="17989"/>
                </a:lnTo>
                <a:lnTo>
                  <a:pt x="18274" y="17989"/>
                </a:lnTo>
                <a:lnTo>
                  <a:pt x="18274" y="10800"/>
                </a:lnTo>
                <a:lnTo>
                  <a:pt x="7655" y="10800"/>
                </a:lnTo>
                <a:lnTo>
                  <a:pt x="7655" y="17989"/>
                </a:lnTo>
                <a:lnTo>
                  <a:pt x="1204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ниверсальный объ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ью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ппаратное обеспе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хника безопас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1"/>
          <p:cNvSpPr/>
          <p:nvPr/>
        </p:nvSpPr>
        <p:spPr>
          <a:xfrm>
            <a:off x="928800" y="4786200"/>
            <a:ext cx="421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4. Презентация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Техника безопасности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и организация рабочего мест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Прямоугольник 7"/>
          <p:cNvSpPr/>
          <p:nvPr/>
        </p:nvSpPr>
        <p:spPr>
          <a:xfrm>
            <a:off x="1071720" y="10717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Найдите в электронном приложении к учебнику эти ресурсы и познакомьтесь с ни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Прямоугольник 12"/>
          <p:cNvSpPr/>
          <p:nvPr/>
        </p:nvSpPr>
        <p:spPr>
          <a:xfrm>
            <a:off x="928800" y="2462040"/>
            <a:ext cx="428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3. Интерактивный ресурс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Составляющие системного блока»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17375e"/>
                </a:solidFill>
                <a:latin typeface="Arial"/>
              </a:rPr>
              <a:t>sc.edu.ru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Picture 7" descr=""/>
          <p:cNvPicPr/>
          <p:nvPr/>
        </p:nvPicPr>
        <p:blipFill>
          <a:blip r:embed="rId1"/>
          <a:stretch/>
        </p:blipFill>
        <p:spPr>
          <a:xfrm>
            <a:off x="5286240" y="2000160"/>
            <a:ext cx="2656080" cy="197964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69" name="Picture 8" descr=""/>
          <p:cNvPicPr/>
          <p:nvPr/>
        </p:nvPicPr>
        <p:blipFill>
          <a:blip r:embed="rId2"/>
          <a:stretch/>
        </p:blipFill>
        <p:spPr>
          <a:xfrm>
            <a:off x="5286240" y="4286160"/>
            <a:ext cx="2635560" cy="197964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70" name="Управляющая кнопка: домой 10">
            <a:hlinkClick r:id="" action="ppaction://hlinkshowjump?jump=firstslide"/>
          </p:cNvPr>
          <p:cNvSpPr/>
          <p:nvPr/>
        </p:nvSpPr>
        <p:spPr>
          <a:xfrm>
            <a:off x="8501040" y="628668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3837"/>
                </a:moveTo>
                <a:lnTo>
                  <a:pt x="15541" y="6448"/>
                </a:ln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lnTo>
                  <a:pt x="19927" y="10800"/>
                </a:lnTo>
                <a:lnTo>
                  <a:pt x="18274" y="10800"/>
                </a:lnTo>
                <a:lnTo>
                  <a:pt x="18274" y="17989"/>
                </a:lnTo>
                <a:lnTo>
                  <a:pt x="7655" y="17989"/>
                </a:lnTo>
                <a:lnTo>
                  <a:pt x="7655" y="10800"/>
                </a:lnTo>
                <a:lnTo>
                  <a:pt x="6001" y="10800"/>
                </a:lnTo>
                <a:close/>
              </a:path>
              <a:path fill="darkenLess" w="25929" h="21600">
                <a:moveTo>
                  <a:pt x="15541" y="6448"/>
                </a:move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close/>
              </a:path>
              <a:path fill="darkenLess" w="25929" h="21600">
                <a:moveTo>
                  <a:pt x="12042" y="14299"/>
                </a:moveTo>
                <a:lnTo>
                  <a:pt x="13887" y="14299"/>
                </a:lnTo>
                <a:lnTo>
                  <a:pt x="13887" y="17989"/>
                </a:lnTo>
                <a:lnTo>
                  <a:pt x="18274" y="17989"/>
                </a:lnTo>
                <a:lnTo>
                  <a:pt x="18274" y="10800"/>
                </a:lnTo>
                <a:lnTo>
                  <a:pt x="7655" y="10800"/>
                </a:lnTo>
                <a:lnTo>
                  <a:pt x="7655" y="17989"/>
                </a:lnTo>
                <a:lnTo>
                  <a:pt x="1204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13880" y="5572080"/>
            <a:ext cx="8155080" cy="10000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600" spc="-1" strike="noStrike">
                <a:solidFill>
                  <a:srgbClr val="17375e"/>
                </a:solidFill>
                <a:latin typeface="Calibri"/>
              </a:rPr>
              <a:t>Универсальный </a:t>
            </a:r>
            <a:r>
              <a:rPr b="0" lang="ru-RU" sz="2600" spc="-1" strike="noStrike">
                <a:solidFill>
                  <a:srgbClr val="17375e"/>
                </a:solidFill>
                <a:latin typeface="Calibri"/>
              </a:rPr>
              <a:t>– значит пригодный для многих целей, выполняющий разнообразные функ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Что умеет компьют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Содержимое 5"/>
          <p:cNvSpPr/>
          <p:nvPr/>
        </p:nvSpPr>
        <p:spPr>
          <a:xfrm>
            <a:off x="1643040" y="1143000"/>
            <a:ext cx="7215120" cy="12859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alibri"/>
              </a:rPr>
              <a:t>Компьютер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универсальная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машина для работы с информацией в самых разных видах человеческой деятель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Овал 5"/>
          <p:cNvSpPr/>
          <p:nvPr/>
        </p:nvSpPr>
        <p:spPr>
          <a:xfrm>
            <a:off x="500040" y="12859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Скругленный прямоугольник 14"/>
          <p:cNvSpPr/>
          <p:nvPr/>
        </p:nvSpPr>
        <p:spPr>
          <a:xfrm>
            <a:off x="5929200" y="2643120"/>
            <a:ext cx="2500560" cy="720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работка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Скругленный прямоугольник 15"/>
          <p:cNvSpPr/>
          <p:nvPr/>
        </p:nvSpPr>
        <p:spPr>
          <a:xfrm>
            <a:off x="5929200" y="4643280"/>
            <a:ext cx="2500560" cy="72072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ередач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Скругленный прямоугольник 16"/>
          <p:cNvSpPr/>
          <p:nvPr/>
        </p:nvSpPr>
        <p:spPr>
          <a:xfrm>
            <a:off x="5929200" y="3643200"/>
            <a:ext cx="250200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Хран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Картинка 8 из 213760"/>
          <p:cNvPicPr/>
          <p:nvPr/>
        </p:nvPicPr>
        <p:blipFill>
          <a:blip r:embed="rId1"/>
          <a:stretch/>
        </p:blipFill>
        <p:spPr>
          <a:xfrm>
            <a:off x="1920960" y="2567160"/>
            <a:ext cx="3674880" cy="290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D:\Личные_документы\Елена\КАРТИНКИ\сова.jpg"/>
          <p:cNvPicPr/>
          <p:nvPr/>
        </p:nvPicPr>
        <p:blipFill>
          <a:blip r:embed="rId1"/>
          <a:stretch/>
        </p:blipFill>
        <p:spPr>
          <a:xfrm>
            <a:off x="6440400" y="4786200"/>
            <a:ext cx="2703600" cy="1811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071360" y="1285920"/>
            <a:ext cx="7615080" cy="13572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Наука </a:t>
            </a:r>
            <a:r>
              <a:rPr b="1" i="1" lang="en-US" sz="2800" spc="-1" strike="noStrike">
                <a:solidFill>
                  <a:srgbClr val="17375e"/>
                </a:solidFill>
                <a:latin typeface="Calibri"/>
              </a:rPr>
              <a:t>информатика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 занимается изучением всевозможных способов передачи, хранения и обработки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Давайте запомн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Содержимое 11"/>
          <p:cNvSpPr/>
          <p:nvPr/>
        </p:nvSpPr>
        <p:spPr>
          <a:xfrm>
            <a:off x="1071720" y="2928960"/>
            <a:ext cx="7657920" cy="14288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0253f"/>
                </a:solidFill>
                <a:latin typeface="Calibri"/>
              </a:rPr>
              <a:t>Данными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называют самую разнообразную информацию, представленную в форме, пригодной для обработки компьютер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Содержимое 11"/>
          <p:cNvSpPr/>
          <p:nvPr/>
        </p:nvSpPr>
        <p:spPr>
          <a:xfrm>
            <a:off x="1071720" y="4643280"/>
            <a:ext cx="5643360" cy="1114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Компьютер обрабатывает данные по заданным </a:t>
            </a:r>
            <a:r>
              <a:rPr b="1" i="1" lang="en-US" sz="2800" spc="-1" strike="noStrike">
                <a:solidFill>
                  <a:srgbClr val="10253f"/>
                </a:solidFill>
                <a:latin typeface="Calibri"/>
              </a:rPr>
              <a:t>программам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Багетная рамка 8"/>
          <p:cNvSpPr/>
          <p:nvPr/>
        </p:nvSpPr>
        <p:spPr>
          <a:xfrm>
            <a:off x="214200" y="6000840"/>
            <a:ext cx="257184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Это интере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9"/>
          <p:cNvSpPr/>
          <p:nvPr/>
        </p:nvSpPr>
        <p:spPr>
          <a:xfrm>
            <a:off x="7929720" y="1429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Управляющая кнопка: домой 10">
            <a:hlinkClick r:id="" action="ppaction://hlinkshowjump?jump=firstslide"/>
          </p:cNvPr>
          <p:cNvSpPr/>
          <p:nvPr/>
        </p:nvSpPr>
        <p:spPr>
          <a:xfrm>
            <a:off x="8501040" y="628668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3837"/>
                </a:moveTo>
                <a:lnTo>
                  <a:pt x="15541" y="6448"/>
                </a:ln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lnTo>
                  <a:pt x="19927" y="10800"/>
                </a:lnTo>
                <a:lnTo>
                  <a:pt x="18274" y="10800"/>
                </a:lnTo>
                <a:lnTo>
                  <a:pt x="18274" y="17989"/>
                </a:lnTo>
                <a:lnTo>
                  <a:pt x="7655" y="17989"/>
                </a:lnTo>
                <a:lnTo>
                  <a:pt x="7655" y="10800"/>
                </a:lnTo>
                <a:lnTo>
                  <a:pt x="6001" y="10800"/>
                </a:lnTo>
                <a:close/>
              </a:path>
              <a:path fill="darkenLess" w="25929" h="21600">
                <a:moveTo>
                  <a:pt x="15541" y="6448"/>
                </a:move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close/>
              </a:path>
              <a:path fill="darkenLess" w="25929" h="21600">
                <a:moveTo>
                  <a:pt x="12042" y="14299"/>
                </a:moveTo>
                <a:lnTo>
                  <a:pt x="13887" y="14299"/>
                </a:lnTo>
                <a:lnTo>
                  <a:pt x="13887" y="17989"/>
                </a:lnTo>
                <a:lnTo>
                  <a:pt x="18274" y="17989"/>
                </a:lnTo>
                <a:lnTo>
                  <a:pt x="18274" y="10800"/>
                </a:lnTo>
                <a:lnTo>
                  <a:pt x="7655" y="10800"/>
                </a:lnTo>
                <a:lnTo>
                  <a:pt x="7655" y="17989"/>
                </a:lnTo>
                <a:lnTo>
                  <a:pt x="1204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Группа 42"/>
          <p:cNvGrpSpPr/>
          <p:nvPr/>
        </p:nvGrpSpPr>
        <p:grpSpPr>
          <a:xfrm>
            <a:off x="2625840" y="1285920"/>
            <a:ext cx="4070160" cy="4789440"/>
            <a:chOff x="2625840" y="1285920"/>
            <a:chExt cx="4070160" cy="4789440"/>
          </a:xfrm>
        </p:grpSpPr>
        <p:pic>
          <p:nvPicPr>
            <p:cNvPr id="188" name="Picture 4" descr="0018"/>
            <p:cNvPicPr/>
            <p:nvPr/>
          </p:nvPicPr>
          <p:blipFill>
            <a:blip r:embed="rId1"/>
            <a:stretch/>
          </p:blipFill>
          <p:spPr>
            <a:xfrm>
              <a:off x="2625840" y="1285920"/>
              <a:ext cx="4070160" cy="47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Прямоугольник 41"/>
            <p:cNvSpPr/>
            <p:nvPr/>
          </p:nvSpPr>
          <p:spPr>
            <a:xfrm>
              <a:off x="3429000" y="3429000"/>
              <a:ext cx="1643040" cy="10000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71360" y="999720"/>
            <a:ext cx="76150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Аппаратное обеспечение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компьютера включает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в себя</a:t>
            </a:r>
            <a:r>
              <a:rPr b="0" lang="en-US" sz="2500" spc="-1" strike="noStrike">
                <a:solidFill>
                  <a:srgbClr val="005a9e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Как устроен компьют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7"/>
          <p:cNvSpPr/>
          <p:nvPr/>
        </p:nvSpPr>
        <p:spPr>
          <a:xfrm flipH="1">
            <a:off x="6299280" y="3446640"/>
            <a:ext cx="1008000" cy="360360"/>
          </a:xfrm>
          <a:prstGeom prst="line">
            <a:avLst/>
          </a:prstGeom>
          <a:ln w="38160">
            <a:solidFill>
              <a:srgbClr val="1025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7305840" y="3078000"/>
            <a:ext cx="183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Системный бл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1978200" y="3375000"/>
            <a:ext cx="1295280" cy="503280"/>
          </a:xfrm>
          <a:prstGeom prst="line">
            <a:avLst/>
          </a:prstGeom>
          <a:ln w="38160">
            <a:solidFill>
              <a:srgbClr val="1025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071720" y="3000240"/>
            <a:ext cx="18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Монито</a:t>
            </a:r>
            <a:r>
              <a:rPr b="1" lang="en-US" sz="20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2122560" y="4383000"/>
            <a:ext cx="1295280" cy="1008000"/>
          </a:xfrm>
          <a:prstGeom prst="line">
            <a:avLst/>
          </a:prstGeom>
          <a:ln w="38160">
            <a:solidFill>
              <a:srgbClr val="1025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1143000" y="402912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Клавиату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16"/>
          <p:cNvSpPr/>
          <p:nvPr/>
        </p:nvSpPr>
        <p:spPr>
          <a:xfrm flipH="1">
            <a:off x="5865840" y="4743360"/>
            <a:ext cx="1512720" cy="647640"/>
          </a:xfrm>
          <a:prstGeom prst="line">
            <a:avLst/>
          </a:prstGeom>
          <a:ln w="38160">
            <a:solidFill>
              <a:srgbClr val="1025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7358040" y="435780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Мыш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19"/>
          <p:cNvSpPr/>
          <p:nvPr/>
        </p:nvSpPr>
        <p:spPr>
          <a:xfrm flipH="1">
            <a:off x="5362200" y="1719360"/>
            <a:ext cx="1513080" cy="649080"/>
          </a:xfrm>
          <a:prstGeom prst="line">
            <a:avLst/>
          </a:prstGeom>
          <a:ln w="38160">
            <a:solidFill>
              <a:srgbClr val="1025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6875640" y="1359000"/>
            <a:ext cx="15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Прин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23"/>
          <p:cNvSpPr/>
          <p:nvPr/>
        </p:nvSpPr>
        <p:spPr>
          <a:xfrm flipH="1">
            <a:off x="6226200" y="2077920"/>
            <a:ext cx="1224000" cy="432000"/>
          </a:xfrm>
          <a:prstGeom prst="line">
            <a:avLst/>
          </a:prstGeom>
          <a:ln w="38160">
            <a:solidFill>
              <a:srgbClr val="1025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7450200" y="171468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Коло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Содержимое 11"/>
          <p:cNvSpPr/>
          <p:nvPr/>
        </p:nvSpPr>
        <p:spPr>
          <a:xfrm>
            <a:off x="500040" y="592920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А так же другие дополнительные устройства, подсоединяемые к компьютер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Дополнительные устр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7072200" y="357660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alibri"/>
              </a:rPr>
              <a:t>3</a:t>
            </a: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D </a:t>
            </a:r>
            <a:r>
              <a:rPr b="1" lang="ru-RU" sz="2000" spc="-1" strike="noStrike">
                <a:solidFill>
                  <a:srgbClr val="003399"/>
                </a:solidFill>
                <a:latin typeface="Calibri"/>
              </a:rPr>
              <a:t>прин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4573440" y="13539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скан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10" descr="i6"/>
          <p:cNvPicPr/>
          <p:nvPr/>
        </p:nvPicPr>
        <p:blipFill>
          <a:blip r:embed="rId1"/>
          <a:stretch/>
        </p:blipFill>
        <p:spPr>
          <a:xfrm>
            <a:off x="2805120" y="1773360"/>
            <a:ext cx="1436760" cy="1584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1"/>
          <p:cNvSpPr/>
          <p:nvPr/>
        </p:nvSpPr>
        <p:spPr>
          <a:xfrm>
            <a:off x="2660760" y="1341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Web</a:t>
            </a:r>
            <a:r>
              <a:rPr b="1" lang="ru-RU" sz="2000" spc="-1" strike="noStrike">
                <a:solidFill>
                  <a:srgbClr val="003399"/>
                </a:solidFill>
                <a:latin typeface="Calibri"/>
              </a:rPr>
              <a:t>-каме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12" descr="i7"/>
          <p:cNvPicPr/>
          <p:nvPr/>
        </p:nvPicPr>
        <p:blipFill>
          <a:blip r:embed="rId2"/>
          <a:stretch/>
        </p:blipFill>
        <p:spPr>
          <a:xfrm>
            <a:off x="928800" y="1714680"/>
            <a:ext cx="2089080" cy="1450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3"/>
          <p:cNvSpPr/>
          <p:nvPr/>
        </p:nvSpPr>
        <p:spPr>
          <a:xfrm>
            <a:off x="1071720" y="13413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планш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6" descr="big_09116142952"/>
          <p:cNvPicPr/>
          <p:nvPr/>
        </p:nvPicPr>
        <p:blipFill>
          <a:blip r:embed="rId3"/>
          <a:stretch/>
        </p:blipFill>
        <p:spPr>
          <a:xfrm>
            <a:off x="6586560" y="1773360"/>
            <a:ext cx="2411280" cy="18111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7"/>
          <p:cNvSpPr/>
          <p:nvPr/>
        </p:nvSpPr>
        <p:spPr>
          <a:xfrm>
            <a:off x="6659640" y="134136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графопостро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1071720" y="35719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джойст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1" descr="big_09116142952"/>
          <p:cNvPicPr/>
          <p:nvPr/>
        </p:nvPicPr>
        <p:blipFill>
          <a:blip r:embed="rId4"/>
          <a:stretch/>
        </p:blipFill>
        <p:spPr>
          <a:xfrm>
            <a:off x="6586560" y="1773360"/>
            <a:ext cx="2411280" cy="1811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1" descr="genius_metalstrike3d_55750"/>
          <p:cNvPicPr/>
          <p:nvPr/>
        </p:nvPicPr>
        <p:blipFill>
          <a:blip r:embed="rId5"/>
          <a:stretch/>
        </p:blipFill>
        <p:spPr>
          <a:xfrm>
            <a:off x="928800" y="4000680"/>
            <a:ext cx="1333440" cy="1944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2" descr="15471"/>
          <p:cNvPicPr/>
          <p:nvPr/>
        </p:nvPicPr>
        <p:blipFill>
          <a:blip r:embed="rId6"/>
          <a:stretch/>
        </p:blipFill>
        <p:spPr>
          <a:xfrm>
            <a:off x="4930920" y="4724280"/>
            <a:ext cx="1701720" cy="146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3" descr="103384"/>
          <p:cNvPicPr/>
          <p:nvPr/>
        </p:nvPicPr>
        <p:blipFill>
          <a:blip r:embed="rId7"/>
          <a:stretch/>
        </p:blipFill>
        <p:spPr>
          <a:xfrm>
            <a:off x="4357800" y="1714680"/>
            <a:ext cx="2200320" cy="202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апр"/>
          <p:cNvPicPr/>
          <p:nvPr/>
        </p:nvPicPr>
        <p:blipFill>
          <a:blip r:embed="rId8"/>
          <a:stretch/>
        </p:blipFill>
        <p:spPr>
          <a:xfrm>
            <a:off x="2357280" y="3286080"/>
            <a:ext cx="2327400" cy="2795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папп"/>
          <p:cNvPicPr/>
          <p:nvPr/>
        </p:nvPicPr>
        <p:blipFill>
          <a:blip r:embed="rId9"/>
          <a:stretch/>
        </p:blipFill>
        <p:spPr>
          <a:xfrm>
            <a:off x="4938840" y="4429080"/>
            <a:ext cx="1990440" cy="13572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9"/>
          <p:cNvSpPr/>
          <p:nvPr/>
        </p:nvSpPr>
        <p:spPr>
          <a:xfrm>
            <a:off x="2428920" y="3429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плот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5143680" y="3571920"/>
            <a:ext cx="178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цифровая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 каме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28560" y="6143400"/>
            <a:ext cx="8229600" cy="5000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Какие ещё устройства тебе известн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http://www.itclips.net/wp-content/plugins/rss-poster/cache/27ca5_UPv11-full2.jpg"/>
          <p:cNvPicPr/>
          <p:nvPr/>
        </p:nvPicPr>
        <p:blipFill>
          <a:blip r:embed="rId10"/>
          <a:stretch/>
        </p:blipFill>
        <p:spPr>
          <a:xfrm>
            <a:off x="7000920" y="3929040"/>
            <a:ext cx="1785960" cy="20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Выгнутая вверх стрелка 20"/>
          <p:cNvSpPr/>
          <p:nvPr/>
        </p:nvSpPr>
        <p:spPr>
          <a:xfrm flipH="1" rot="1952400">
            <a:off x="5176440" y="4169880"/>
            <a:ext cx="1285920" cy="428760"/>
          </a:xfrm>
          <a:custGeom>
            <a:avLst/>
            <a:gdLst>
              <a:gd name="textAreaLeft" fmla="*/ 281520 w 1285920"/>
              <a:gd name="textAreaRight" fmla="*/ 951480 w 128592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Выгнутая вверх стрелка 19"/>
          <p:cNvSpPr/>
          <p:nvPr/>
        </p:nvSpPr>
        <p:spPr>
          <a:xfrm rot="19012800">
            <a:off x="2395440" y="4547880"/>
            <a:ext cx="1285920" cy="428400"/>
          </a:xfrm>
          <a:custGeom>
            <a:avLst/>
            <a:gdLst>
              <a:gd name="textAreaLeft" fmla="*/ 281160 w 1285920"/>
              <a:gd name="textAreaRight" fmla="*/ 951120 w 128592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Выгнутая вниз стрелка 18"/>
          <p:cNvSpPr/>
          <p:nvPr/>
        </p:nvSpPr>
        <p:spPr>
          <a:xfrm rot="18286800">
            <a:off x="4551120" y="5212800"/>
            <a:ext cx="1143000" cy="428400"/>
          </a:xfrm>
          <a:custGeom>
            <a:avLst/>
            <a:gdLst>
              <a:gd name="textAreaLeft" fmla="*/ 245520 w 1143000"/>
              <a:gd name="textAreaRight" fmla="*/ 843840 w 114300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281" hR="21600" stAng="10800000" swAng="-5400000"/>
                <a:lnTo>
                  <a:pt x="11307" y="21600"/>
                </a:lnTo>
                <a:arcTo wR="9281" hR="21600" stAng="5400000" swAng="-3539862"/>
                <a:lnTo>
                  <a:pt x="21305" y="5400"/>
                </a:lnTo>
                <a:lnTo>
                  <a:pt x="19575" y="0"/>
                </a:lnTo>
                <a:lnTo>
                  <a:pt x="17255" y="5400"/>
                </a:lnTo>
                <a:lnTo>
                  <a:pt x="18267" y="5400"/>
                </a:lnTo>
                <a:arcTo wR="9281" hR="21600" stAng="1860138" swAng="3377789"/>
                <a:lnTo>
                  <a:pt x="10294" y="21471"/>
                </a:lnTo>
                <a:arcTo wR="9281" hR="21600" stAng="5562073" swAng="5237927"/>
                <a:close/>
              </a:path>
              <a:path fill="darkenLess" w="21600" h="21600">
                <a:moveTo>
                  <a:pt x="0" y="0"/>
                </a:moveTo>
                <a:arcTo wR="9281" hR="21600" stAng="10800000" swAng="-5400000"/>
                <a:lnTo>
                  <a:pt x="11307" y="21600"/>
                </a:lnTo>
                <a:arcTo wR="9281" hR="21600" stAng="5400000" swAng="162073"/>
                <a:lnTo>
                  <a:pt x="10294" y="21471"/>
                </a:lnTo>
                <a:arcTo wR="9281" hR="21600" stAng="5562073" swAng="523792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Выгнутая вверх стрелка 17"/>
          <p:cNvSpPr/>
          <p:nvPr/>
        </p:nvSpPr>
        <p:spPr>
          <a:xfrm flipH="1" rot="1265400">
            <a:off x="5176080" y="2789280"/>
            <a:ext cx="1285920" cy="428760"/>
          </a:xfrm>
          <a:custGeom>
            <a:avLst/>
            <a:gdLst>
              <a:gd name="textAreaLeft" fmla="*/ 281520 w 1285920"/>
              <a:gd name="textAreaRight" fmla="*/ 951480 w 128592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Выгнутая вверх стрелка 16"/>
          <p:cNvSpPr/>
          <p:nvPr/>
        </p:nvSpPr>
        <p:spPr>
          <a:xfrm rot="20334600">
            <a:off x="2390760" y="2857680"/>
            <a:ext cx="1285920" cy="428400"/>
          </a:xfrm>
          <a:custGeom>
            <a:avLst/>
            <a:gdLst>
              <a:gd name="textAreaLeft" fmla="*/ 281160 w 1285920"/>
              <a:gd name="textAreaRight" fmla="*/ 951120 w 128592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42640" y="1242720"/>
            <a:ext cx="75438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Главным в компьютере является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системный блок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включающий в себя процессор, оперативную память, жёсткий диск, блок питания и другие составляющ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Как устроен компьют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Багетная рамка 5"/>
          <p:cNvSpPr/>
          <p:nvPr/>
        </p:nvSpPr>
        <p:spPr>
          <a:xfrm>
            <a:off x="6286680" y="5786280"/>
            <a:ext cx="25714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то интере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10" descr="C:\Documents and Settings\User\Рабочий стол\работа для 1 сентября\15.png"/>
          <p:cNvPicPr/>
          <p:nvPr/>
        </p:nvPicPr>
        <p:blipFill>
          <a:blip r:embed="rId1"/>
          <a:stretch/>
        </p:blipFill>
        <p:spPr>
          <a:xfrm>
            <a:off x="3714840" y="2643120"/>
            <a:ext cx="1428840" cy="2667240"/>
          </a:xfrm>
          <a:prstGeom prst="rect">
            <a:avLst/>
          </a:prstGeom>
          <a:ln w="0">
            <a:noFill/>
          </a:ln>
        </p:spPr>
      </p:pic>
      <p:sp>
        <p:nvSpPr>
          <p:cNvPr id="236" name="Скругленный прямоугольник 9"/>
          <p:cNvSpPr/>
          <p:nvPr/>
        </p:nvSpPr>
        <p:spPr>
          <a:xfrm>
            <a:off x="785880" y="3214800"/>
            <a:ext cx="2071800" cy="928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цесс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Скругленный прямоугольник 10"/>
          <p:cNvSpPr/>
          <p:nvPr/>
        </p:nvSpPr>
        <p:spPr>
          <a:xfrm>
            <a:off x="785880" y="4929120"/>
            <a:ext cx="2214360" cy="9288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олговремен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амя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жесткий дис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Скругленный прямоугольник 13"/>
          <p:cNvSpPr/>
          <p:nvPr/>
        </p:nvSpPr>
        <p:spPr>
          <a:xfrm>
            <a:off x="6000840" y="2857680"/>
            <a:ext cx="2071440" cy="928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7609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перативная памя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Скругленный прямоугольник 14"/>
          <p:cNvSpPr/>
          <p:nvPr/>
        </p:nvSpPr>
        <p:spPr>
          <a:xfrm>
            <a:off x="6000840" y="4357800"/>
            <a:ext cx="2071440" cy="92844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лок пит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Скругленный прямоугольник 15"/>
          <p:cNvSpPr/>
          <p:nvPr/>
        </p:nvSpPr>
        <p:spPr>
          <a:xfrm>
            <a:off x="3643200" y="5643720"/>
            <a:ext cx="2071800" cy="928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7609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ругие составляющ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Заголовок 1"/>
          <p:cNvSpPr/>
          <p:nvPr/>
        </p:nvSpPr>
        <p:spPr>
          <a:xfrm>
            <a:off x="785880" y="0"/>
            <a:ext cx="790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Компьютер и информ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42560" y="1052280"/>
            <a:ext cx="7643880" cy="5073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C:\Users\Берингов\Desktop\Компьютер и информация.jpg"/>
          <p:cNvPicPr/>
          <p:nvPr/>
        </p:nvPicPr>
        <p:blipFill>
          <a:blip r:embed="rId2"/>
          <a:stretch/>
        </p:blipFill>
        <p:spPr>
          <a:xfrm>
            <a:off x="1071720" y="928800"/>
            <a:ext cx="7812000" cy="570852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Заголовок 1"/>
          <p:cNvSpPr/>
          <p:nvPr/>
        </p:nvSpPr>
        <p:spPr>
          <a:xfrm>
            <a:off x="930240" y="928800"/>
            <a:ext cx="7499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Calibri"/>
              </a:rPr>
              <a:t>Задание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: заполните таблиц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071720" y="1801800"/>
          <a:ext cx="7858080" cy="4842000"/>
        </p:xfrm>
        <a:graphic>
          <a:graphicData uri="http://schemas.openxmlformats.org/drawingml/2006/table">
            <a:tbl>
              <a:tblPr/>
              <a:tblGrid>
                <a:gridCol w="1928520"/>
                <a:gridCol w="3214800"/>
                <a:gridCol w="2714760"/>
              </a:tblGrid>
              <a:tr h="88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ы чело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формационный проце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стройство компьюте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рганы чув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Приём (ввод)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Клави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Моз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Хран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Системный бл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Моз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бработ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Системный бл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Речь и жес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Передача (вывод)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Монитор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246" name="Скругленный прямоугольник 5"/>
          <p:cNvSpPr/>
          <p:nvPr/>
        </p:nvSpPr>
        <p:spPr>
          <a:xfrm>
            <a:off x="6357960" y="2786040"/>
            <a:ext cx="250020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Скругленный прямоугольник 6"/>
          <p:cNvSpPr/>
          <p:nvPr/>
        </p:nvSpPr>
        <p:spPr>
          <a:xfrm>
            <a:off x="6357960" y="3786120"/>
            <a:ext cx="2500200" cy="857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7"/>
          <p:cNvSpPr/>
          <p:nvPr/>
        </p:nvSpPr>
        <p:spPr>
          <a:xfrm>
            <a:off x="6357960" y="4714920"/>
            <a:ext cx="250020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Скругленный прямоугольник 8"/>
          <p:cNvSpPr/>
          <p:nvPr/>
        </p:nvSpPr>
        <p:spPr>
          <a:xfrm>
            <a:off x="6357960" y="5715000"/>
            <a:ext cx="2500200" cy="857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428760" y="500040"/>
            <a:ext cx="135720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8-09T08:08:02Z</dcterms:modified>
  <cp:revision>15</cp:revision>
  <dc:subject/>
  <dc:title>Презентация PowerPoint</dc:title>
</cp:coreProperties>
</file>