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B1D-A204-4C1B-B543-76DA69B0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ED7-6706-4960-86BE-F56BC45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85B-4534-4FFA-89AD-BA21AB68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DD7-FE23-4DE4-B9EE-B485C22C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F6F-4B05-40C2-8A4B-C411187A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C1A-8A83-4342-B0E8-EF5ECBF2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D32D-442F-4F4B-B009-F779973E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82E4-ACCC-4242-B439-64966F5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0B9-75FC-49EF-87D0-F259B36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222D-3497-407E-A637-104D030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1BF8-AEE9-44B5-BB9E-99A7259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088-05C0-43BC-8129-8A5B7749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DB82-DF6C-4E2C-963E-63340CA4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8EC-AE82-4183-B43C-5C81DCF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F497-5FF3-45F2-90A2-6A8358D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009-FF09-410A-93F8-F92E8943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BB6-9B4E-4F9F-ACB4-37A73B38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8932-2614-4B90-994B-8EB52D8F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7AD8-D8EB-4E53-956A-2DD1B5A7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55D8-8EBE-4F0C-9DD6-167C32DD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2CC2-FCF8-45B7-B3B6-29E360F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08A1-655F-4D8D-BCFF-189FBDF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72B-B44A-4202-AAA3-888F682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6379-18A2-46F7-A275-F1512EED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94A9-6E7C-405E-AEB9-C9456D2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D13C-1E75-4337-B21A-106A497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EB6A-2F8D-479B-B054-9312C56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C560-F937-40A5-A9BF-EF2B0FD4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03C9-20CA-4EC3-A2D2-68678928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2458-96DA-45B6-ADB7-0CCD64A8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F86B-5CD7-421A-9D7F-2F7F5EA0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C6F0-B739-499F-982D-DC5F3E42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96F7-D3DE-4A15-87F8-038571E0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9CA-C023-4595-92B4-F87E8DA2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F716-6367-4C3E-B716-29F2BF8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FB16-3AC0-4EB2-B872-7CEB50FA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4767-88BB-44F5-A41B-586E7E5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11D3-C6EE-492B-8C80-35848FC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A37B-7665-4C4C-94FC-DAE5236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0FB3-675D-42F2-8608-53ADA8F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15F2-640B-485A-91BA-343E19D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96FB-4FF2-403A-9296-96357B40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00FE-8C7B-4DDF-AD21-9309A45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232-9CFB-4B93-ADED-00AAC9E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097-5D27-4FFC-AB49-C562664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1A1-4226-43BF-8E24-B6DD9064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E5A-2973-47EB-ADA7-3B8987D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DC0-DC74-4827-A868-F45BE83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5C5-E1F3-49EE-BAA4-20982F8252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531-4C02-49B9-B4B4-14E7312F5C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02E-D04B-473C-91B9-D7D0C4B753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D519-4AA4-40D6-92B3-FDF82E0201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249228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ЬНЫЙ  КОМПЬЮТЕР  КАК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71880" y="421488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мпьютер как надсистема и по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льзовательский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642960" y="3822840"/>
            <a:ext cx="821520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(совместимости) программ между собой, а также программного обеспечения и информационных ресурсов; обеспечивается разработчиками программного обеспечения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http://kz.all.biz/img/kz/service_catalog/27120.jpeg"/>
          <p:cNvPicPr/>
          <p:nvPr/>
        </p:nvPicPr>
        <p:blipFill>
          <a:blip r:embed="rId2"/>
          <a:stretch/>
        </p:blipFill>
        <p:spPr>
          <a:xfrm>
            <a:off x="5189400" y="1035000"/>
            <a:ext cx="3597480" cy="2683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3" name="Picture 2" descr="http://uralcons.org/wp-content/uploads/2013/06/%D0%BF%D1%80%D0%BE%D0%B3%D1%80%D0%B0%D0%BC%D0%BC%D0%B8%D1%81%D1%82.jpg"/>
          <p:cNvPicPr/>
          <p:nvPr/>
        </p:nvPicPr>
        <p:blipFill>
          <a:blip r:embed="rId3"/>
          <a:stretch/>
        </p:blipFill>
        <p:spPr>
          <a:xfrm>
            <a:off x="642960" y="1000080"/>
            <a:ext cx="4071960" cy="2718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-программный 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0120" y="3857760"/>
            <a:ext cx="832968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нтерфей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это средства аппаратного и программного обеспечения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 пользовательский интерфейсы обеспечиваются операционной системой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topachka.com/uploads/posts/2012-03/1330797767_dddddddmeni-2.jpg"/>
          <p:cNvPicPr/>
          <p:nvPr/>
        </p:nvPicPr>
        <p:blipFill>
          <a:blip r:embed="rId2"/>
          <a:stretch/>
        </p:blipFill>
        <p:spPr>
          <a:xfrm>
            <a:off x="642960" y="1333440"/>
            <a:ext cx="3922560" cy="245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7" name="Picture 4" descr="http://fs202.jpe.ru/bcce/2164328_841e351b.jpg"/>
          <p:cNvPicPr/>
          <p:nvPr/>
        </p:nvPicPr>
        <p:blipFill>
          <a:blip r:embed="rId3"/>
          <a:stretch/>
        </p:blipFill>
        <p:spPr>
          <a:xfrm>
            <a:off x="4857840" y="1327320"/>
            <a:ext cx="3643200" cy="24904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система, включающая подсистемы аппаратного обеспечения, программного обеспечения и информацион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подсистема системы «человек – компьютер». Средства, обеспечивающие взаимосвязь между объектами этой системы,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фей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 – средства взаимодействия человека и компьютера, обеспечивается 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00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став каких систем входит подсистема «компьютер»? Для каких систем компьютер является надсистемо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зовите надсистему для объекта «принтер». В каком отношении находятся объекты «принтер» и «струйный принтер»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такое интерфей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вы знаете о пользовательском интерфейс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жите входы и выход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истемы «компьюте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D:\Личные_документы\Елена\КАРТИНКИ\пк и человек.png"/>
          <p:cNvPicPr/>
          <p:nvPr/>
        </p:nvPicPr>
        <p:blipFill>
          <a:blip r:embed="rId2"/>
          <a:stretch/>
        </p:blipFill>
        <p:spPr>
          <a:xfrm>
            <a:off x="5715000" y="4600440"/>
            <a:ext cx="3429000" cy="206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5420880"/>
            <a:ext cx="7358040" cy="1079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истема «человек – компью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71720" y="7128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</a:t>
            </a: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Arial"/>
              </a:rPr>
              <a:t>ю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р</a:t>
            </a:r>
            <a:r>
              <a:rPr b="1" lang="ru-RU" sz="44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ак по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bestglobalinfo.ru/netcat_files/121/89/deti.jpg"/>
          <p:cNvPicPr/>
          <p:nvPr/>
        </p:nvPicPr>
        <p:blipFill>
          <a:blip r:embed="rId2"/>
          <a:stretch/>
        </p:blipFill>
        <p:spPr>
          <a:xfrm>
            <a:off x="1719360" y="1127160"/>
            <a:ext cx="6281640" cy="413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360" y="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к на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25"/>
          <p:cNvGrpSpPr/>
          <p:nvPr/>
        </p:nvGrpSpPr>
        <p:grpSpPr>
          <a:xfrm>
            <a:off x="857160" y="1268280"/>
            <a:ext cx="7777080" cy="5329440"/>
            <a:chOff x="857160" y="1268280"/>
            <a:chExt cx="7777080" cy="5329440"/>
          </a:xfrm>
        </p:grpSpPr>
        <p:sp>
          <p:nvSpPr>
            <p:cNvPr id="254" name="Скругленный прямоугольник 3"/>
            <p:cNvSpPr/>
            <p:nvPr/>
          </p:nvSpPr>
          <p:spPr>
            <a:xfrm>
              <a:off x="857160" y="1268280"/>
              <a:ext cx="7777080" cy="532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"/>
            <p:cNvSpPr/>
            <p:nvPr/>
          </p:nvSpPr>
          <p:spPr>
            <a:xfrm>
              <a:off x="1928520" y="1412280"/>
              <a:ext cx="57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Персональный 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5"/>
            <p:cNvSpPr/>
            <p:nvPr/>
          </p:nvSpPr>
          <p:spPr>
            <a:xfrm>
              <a:off x="1142640" y="2060280"/>
              <a:ext cx="1944000" cy="4249080"/>
            </a:xfrm>
            <a:custGeom>
              <a:avLst/>
              <a:gdLst>
                <a:gd name="textAreaLeft" fmla="*/ 94680 w 1944000"/>
                <a:gd name="textAreaRight" fmla="*/ 1849320 w 1944000"/>
                <a:gd name="textAreaTop" fmla="*/ 94680 h 4249080"/>
                <a:gd name="textAreaBottom" fmla="*/ 4154400 h 4249080"/>
              </a:gdLst>
              <a:ahLst/>
              <a:rect l="textAreaLeft" t="textAreaTop" r="textAreaRight" b="textAreaBottom"/>
              <a:pathLst>
                <a:path w="21600" h="47207">
                  <a:moveTo>
                    <a:pt x="3600" y="0"/>
                  </a:moveTo>
                  <a:arcTo wR="3600" hR="3600" stAng="16200000" swAng="-5400000"/>
                  <a:lnTo>
                    <a:pt x="0" y="43607"/>
                  </a:lnTo>
                  <a:arcTo wR="3600" hR="3600" stAng="10800000" swAng="-5400000"/>
                  <a:lnTo>
                    <a:pt x="18000" y="472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1214280" y="214272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Аппарат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7"/>
            <p:cNvSpPr/>
            <p:nvPr/>
          </p:nvSpPr>
          <p:spPr>
            <a:xfrm>
              <a:off x="1214280" y="285264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8"/>
            <p:cNvSpPr/>
            <p:nvPr/>
          </p:nvSpPr>
          <p:spPr>
            <a:xfrm>
              <a:off x="1214280" y="3645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об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9"/>
            <p:cNvSpPr/>
            <p:nvPr/>
          </p:nvSpPr>
          <p:spPr>
            <a:xfrm>
              <a:off x="1214280" y="4437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10"/>
            <p:cNvSpPr/>
            <p:nvPr/>
          </p:nvSpPr>
          <p:spPr>
            <a:xfrm>
              <a:off x="1214280" y="52293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ы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11"/>
            <p:cNvSpPr/>
            <p:nvPr/>
          </p:nvSpPr>
          <p:spPr>
            <a:xfrm>
              <a:off x="3447000" y="2071080"/>
              <a:ext cx="2488680" cy="4249080"/>
            </a:xfrm>
            <a:custGeom>
              <a:avLst/>
              <a:gdLst>
                <a:gd name="textAreaLeft" fmla="*/ 121320 w 2488680"/>
                <a:gd name="textAreaRight" fmla="*/ 2367360 w 2488680"/>
                <a:gd name="textAreaTop" fmla="*/ 121320 h 4249080"/>
                <a:gd name="textAreaBottom" fmla="*/ 4127760 h 4249080"/>
              </a:gdLst>
              <a:ahLst/>
              <a:rect l="textAreaLeft" t="textAreaTop" r="textAreaRight" b="textAreaBottom"/>
              <a:pathLst>
                <a:path w="21600" h="36877">
                  <a:moveTo>
                    <a:pt x="3600" y="0"/>
                  </a:moveTo>
                  <a:arcTo wR="3600" hR="3600" stAng="16200000" swAng="-5400000"/>
                  <a:lnTo>
                    <a:pt x="0" y="33277"/>
                  </a:lnTo>
                  <a:arcTo wR="3600" hR="3600" stAng="10800000" swAng="-5400000"/>
                  <a:lnTo>
                    <a:pt x="18000" y="368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3571920" y="2152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нформационные рес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13"/>
            <p:cNvSpPr/>
            <p:nvPr/>
          </p:nvSpPr>
          <p:spPr>
            <a:xfrm>
              <a:off x="3518640" y="286344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кст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14"/>
            <p:cNvSpPr/>
            <p:nvPr/>
          </p:nvSpPr>
          <p:spPr>
            <a:xfrm>
              <a:off x="3518640" y="365580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чески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15"/>
            <p:cNvSpPr/>
            <p:nvPr/>
          </p:nvSpPr>
          <p:spPr>
            <a:xfrm>
              <a:off x="3518640" y="4448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ук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16"/>
            <p:cNvSpPr/>
            <p:nvPr/>
          </p:nvSpPr>
          <p:spPr>
            <a:xfrm>
              <a:off x="3518640" y="5240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айлы с видеоинформаци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17"/>
            <p:cNvSpPr/>
            <p:nvPr/>
          </p:nvSpPr>
          <p:spPr>
            <a:xfrm>
              <a:off x="6184080" y="2071080"/>
              <a:ext cx="2232360" cy="4249080"/>
            </a:xfrm>
            <a:custGeom>
              <a:avLst/>
              <a:gdLst>
                <a:gd name="textAreaLeft" fmla="*/ 108720 w 2232360"/>
                <a:gd name="textAreaRight" fmla="*/ 2123640 w 2232360"/>
                <a:gd name="textAreaTop" fmla="*/ 108720 h 4249080"/>
                <a:gd name="textAreaBottom" fmla="*/ 4140360 h 4249080"/>
              </a:gdLst>
              <a:ahLst/>
              <a:rect l="textAreaLeft" t="textAreaTop" r="textAreaRight" b="textAreaBottom"/>
              <a:pathLst>
                <a:path w="21600" h="41110">
                  <a:moveTo>
                    <a:pt x="3600" y="0"/>
                  </a:moveTo>
                  <a:arcTo wR="3600" hR="3600" stAng="16200000" swAng="-5400000"/>
                  <a:lnTo>
                    <a:pt x="0" y="37510"/>
                  </a:lnTo>
                  <a:arcTo wR="3600" hR="3600" stAng="10800000" swAng="-5400000"/>
                  <a:lnTo>
                    <a:pt x="18000" y="41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8"/>
            <p:cNvSpPr/>
            <p:nvPr/>
          </p:nvSpPr>
          <p:spPr>
            <a:xfrm>
              <a:off x="6143760" y="2149560"/>
              <a:ext cx="224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Программ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9"/>
            <p:cNvSpPr/>
            <p:nvPr/>
          </p:nvSpPr>
          <p:spPr>
            <a:xfrm>
              <a:off x="6661080" y="2863440"/>
              <a:ext cx="1800000" cy="72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23"/>
            <p:cNvSpPr/>
            <p:nvPr/>
          </p:nvSpPr>
          <p:spPr>
            <a:xfrm>
              <a:off x="6286680" y="2863440"/>
              <a:ext cx="2016360" cy="2448720"/>
            </a:xfrm>
            <a:custGeom>
              <a:avLst/>
              <a:gdLst>
                <a:gd name="textAreaLeft" fmla="*/ 98280 w 2016360"/>
                <a:gd name="textAreaRight" fmla="*/ 1918080 w 2016360"/>
                <a:gd name="textAreaTop" fmla="*/ 98280 h 2448720"/>
                <a:gd name="textAreaBottom" fmla="*/ 2350440 h 2448720"/>
              </a:gdLst>
              <a:ahLst/>
              <a:rect l="textAreaLeft" t="textAreaTop" r="textAreaRight" b="textAreaBottom"/>
              <a:pathLst>
                <a:path w="21600" h="26231">
                  <a:moveTo>
                    <a:pt x="3600" y="0"/>
                  </a:moveTo>
                  <a:arcTo wR="3600" hR="3600" stAng="16200000" swAng="-5400000"/>
                  <a:lnTo>
                    <a:pt x="0" y="22631"/>
                  </a:lnTo>
                  <a:arcTo wR="3600" hR="3600" stAng="10800000" swAng="-5400000"/>
                  <a:lnTo>
                    <a:pt x="18000" y="262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20"/>
            <p:cNvSpPr/>
            <p:nvPr/>
          </p:nvSpPr>
          <p:spPr>
            <a:xfrm>
              <a:off x="6399720" y="36558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истем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21"/>
            <p:cNvSpPr/>
            <p:nvPr/>
          </p:nvSpPr>
          <p:spPr>
            <a:xfrm>
              <a:off x="6399720" y="4448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ужеб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22"/>
            <p:cNvSpPr/>
            <p:nvPr/>
          </p:nvSpPr>
          <p:spPr>
            <a:xfrm>
              <a:off x="6399720" y="5384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кла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328440" y="3007440"/>
              <a:ext cx="188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е обесп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03280" y="1285920"/>
            <a:ext cx="2522520" cy="5000760"/>
          </a:xfrm>
          <a:custGeom>
            <a:avLst/>
            <a:gdLst>
              <a:gd name="textAreaLeft" fmla="*/ 123120 w 2522520"/>
              <a:gd name="textAreaRight" fmla="*/ 2399400 w 2522520"/>
              <a:gd name="textAreaTop" fmla="*/ 123120 h 5000760"/>
              <a:gd name="textAreaBottom" fmla="*/ 4877640 h 5000760"/>
            </a:gdLst>
            <a:ahLst/>
            <a:rect l="textAreaLeft" t="textAreaTop" r="textAreaRight" b="textAreaBottom"/>
            <a:pathLst>
              <a:path w="21600" h="42818">
                <a:moveTo>
                  <a:pt x="3600" y="0"/>
                </a:moveTo>
                <a:arcTo wR="3600" hR="3600" stAng="16200000" swAng="-5400000"/>
                <a:lnTo>
                  <a:pt x="0" y="39218"/>
                </a:lnTo>
                <a:arcTo wR="3600" hR="3600" stAng="10800000" swAng="-5400000"/>
                <a:lnTo>
                  <a:pt x="18000" y="42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643040" y="14288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76360" y="2152800"/>
            <a:ext cx="2333520" cy="847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76360" y="315288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76360" y="415296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476360" y="515304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071960" y="2643120"/>
            <a:ext cx="4786200" cy="3506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аппаратного обеспечения выступает в качестве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ы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для входящих в него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7215120" y="1214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4143240" y="1468440"/>
            <a:ext cx="4721400" cy="399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перационная система –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программного обеспечения и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а,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в состав которой входят системные и служеб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1555920" y="2135160"/>
            <a:ext cx="180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1224000" y="1285920"/>
            <a:ext cx="2562120" cy="3162240"/>
          </a:xfrm>
          <a:custGeom>
            <a:avLst/>
            <a:gdLst>
              <a:gd name="textAreaLeft" fmla="*/ 124920 w 2562120"/>
              <a:gd name="textAreaRight" fmla="*/ 2437200 w 2562120"/>
              <a:gd name="textAreaTop" fmla="*/ 124920 h 3162240"/>
              <a:gd name="textAreaBottom" fmla="*/ 3037320 h 3162240"/>
            </a:gdLst>
            <a:ahLst/>
            <a:rect l="textAreaLeft" t="textAreaTop" r="textAreaRight" b="textAreaBottom"/>
            <a:pathLst>
              <a:path w="21600" h="26659">
                <a:moveTo>
                  <a:pt x="3600" y="0"/>
                </a:moveTo>
                <a:arcTo wR="3600" hR="3600" stAng="16200000" swAng="-5400000"/>
                <a:lnTo>
                  <a:pt x="0" y="23059"/>
                </a:lnTo>
                <a:arcTo wR="3600" hR="3600" stAng="10800000" swAng="-5400000"/>
                <a:lnTo>
                  <a:pt x="18000" y="26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2"/>
          <p:cNvSpPr/>
          <p:nvPr/>
        </p:nvSpPr>
        <p:spPr>
          <a:xfrm>
            <a:off x="1332000" y="214308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1332000" y="321300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1332000" y="1370160"/>
            <a:ext cx="22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1000080" y="4881600"/>
            <a:ext cx="2928960" cy="904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4071960" y="1285920"/>
            <a:ext cx="4786200" cy="496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нформационных ресурсов включает в себя 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ы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текстовых и графических файлов, звуковых файлов, файлов с видеоинформацие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1000080" y="1274760"/>
            <a:ext cx="2714760" cy="50958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5095800"/>
              <a:gd name="textAreaBottom" fmla="*/ 4963320 h 5095800"/>
            </a:gdLst>
            <a:ahLst/>
            <a:rect l="textAreaLeft" t="textAreaTop" r="textAreaRight" b="textAreaBottom"/>
            <a:pathLst>
              <a:path w="21600" h="40542">
                <a:moveTo>
                  <a:pt x="3600" y="0"/>
                </a:moveTo>
                <a:arcTo wR="3600" hR="3600" stAng="16200000" swAng="-5400000"/>
                <a:lnTo>
                  <a:pt x="0" y="36942"/>
                </a:lnTo>
                <a:arcTo wR="3600" hR="3600" stAng="10800000" swAng="-5400000"/>
                <a:lnTo>
                  <a:pt x="18000" y="40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071720" y="1500120"/>
            <a:ext cx="25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Arial"/>
              </a:rPr>
              <a:t>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6"/>
          <p:cNvSpPr/>
          <p:nvPr/>
        </p:nvSpPr>
        <p:spPr>
          <a:xfrm>
            <a:off x="1071720" y="228600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7"/>
          <p:cNvSpPr/>
          <p:nvPr/>
        </p:nvSpPr>
        <p:spPr>
          <a:xfrm>
            <a:off x="1071720" y="328608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8"/>
          <p:cNvSpPr/>
          <p:nvPr/>
        </p:nvSpPr>
        <p:spPr>
          <a:xfrm>
            <a:off x="1071720" y="428616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9"/>
          <p:cNvSpPr/>
          <p:nvPr/>
        </p:nvSpPr>
        <p:spPr>
          <a:xfrm>
            <a:off x="1071720" y="528012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ы с видео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ьзовательски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обеспечивающие взаимосвязь между объектами системы «человек – компьютер»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фейс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о-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 интерфейс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редства взаимодействия человек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14240" y="4549680"/>
            <a:ext cx="8215560" cy="180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между устройствами компьютера; обеспечивается  производителям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notik.ru/img/100429_hp_foxconn_plant_spb.JPG"/>
          <p:cNvPicPr/>
          <p:nvPr/>
        </p:nvPicPr>
        <p:blipFill>
          <a:blip r:embed="rId2"/>
          <a:stretch/>
        </p:blipFill>
        <p:spPr>
          <a:xfrm>
            <a:off x="4203720" y="1285920"/>
            <a:ext cx="4640400" cy="30718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9" name="Picture 4" descr="http://www.bytemag.ru/images/byte_archive/images/No7_2003/Depo/ris5.jpg"/>
          <p:cNvPicPr/>
          <p:nvPr/>
        </p:nvPicPr>
        <p:blipFill>
          <a:blip r:embed="rId3"/>
          <a:stretch/>
        </p:blipFill>
        <p:spPr>
          <a:xfrm>
            <a:off x="763560" y="1285920"/>
            <a:ext cx="3022560" cy="303516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9:30Z</dcterms:modified>
  <cp:revision>27</cp:revision>
  <dc:subject/>
  <dc:title>Презентация PowerPoint</dc:title>
</cp:coreProperties>
</file>