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FE7-0BBE-492E-8D32-53ACB692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73C-941D-4BD5-96AD-5AC63D26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DF4-86B0-4B51-9AC5-5B97E083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442-9CB7-452B-8B50-FA22F744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3F7-26B5-40F3-89E0-4ECEC2DE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147-B877-4B1F-8230-DD43C361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081-1146-488C-B49F-B29ACC7A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F8C-D950-4E49-9394-0E567F7D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454-53C3-4186-8FA0-54E0EFC1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B46-C637-433A-83E2-B32A7570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397-4BB5-4083-B483-03A0233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A4A-1662-4BF1-B7F2-8180CA5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228-7361-48F1-BD5D-D303FB3420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Титул_7.JPG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ведение в курс инфор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3886200"/>
            <a:ext cx="5721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нец XIX в. – появление средств связ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телеграф, телефон, радио),  позволивших оперативно передавать информацию на любые расстоя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http://studentweb.maconstate.edu/michael.chitwood/ITEC2380/final/images/telegraph.jpg"/>
          <p:cNvPicPr/>
          <p:nvPr/>
        </p:nvPicPr>
        <p:blipFill>
          <a:blip r:embed="rId1"/>
          <a:stretch/>
        </p:blipFill>
        <p:spPr>
          <a:xfrm>
            <a:off x="1155600" y="2000160"/>
            <a:ext cx="2773440" cy="194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www.abc-people.com/data/bell/015.jpg"/>
          <p:cNvPicPr/>
          <p:nvPr/>
        </p:nvPicPr>
        <p:blipFill>
          <a:blip r:embed="rId2"/>
          <a:stretch/>
        </p:blipFill>
        <p:spPr>
          <a:xfrm>
            <a:off x="6572160" y="1571760"/>
            <a:ext cx="18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dic.academic.ru/pictures/enc_tech/i_475.jpg"/>
          <p:cNvPicPr/>
          <p:nvPr/>
        </p:nvPicPr>
        <p:blipFill>
          <a:blip r:embed="rId3"/>
          <a:stretch/>
        </p:blipFill>
        <p:spPr>
          <a:xfrm>
            <a:off x="3943440" y="3143160"/>
            <a:ext cx="26287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143000" y="4572000"/>
            <a:ext cx="7886880" cy="2214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0-е гг. XX 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явление микропроцессорной техники и персональных компьютеров; возникновение компьютерных телекоммуникаций, радикальное изменение систем хранения и поиска информаци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File:IBM PC 5150.jpg"/>
          <p:cNvPicPr/>
          <p:nvPr/>
        </p:nvPicPr>
        <p:blipFill>
          <a:blip r:embed="rId1"/>
          <a:stretch/>
        </p:blipFill>
        <p:spPr>
          <a:xfrm>
            <a:off x="1571760" y="1714680"/>
            <a:ext cx="3649680" cy="2636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Agat-4 Red.jpg"/>
          <p:cNvPicPr/>
          <p:nvPr/>
        </p:nvPicPr>
        <p:blipFill>
          <a:blip r:embed="rId2"/>
          <a:stretch/>
        </p:blipFill>
        <p:spPr>
          <a:xfrm>
            <a:off x="6215040" y="1643040"/>
            <a:ext cx="22147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ая историческая фаза развития цивилизации, в которой главными продуктами производства являются информация и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ционное общ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http://culturenews.ru/sites/culturenews.ru/files/110411/infornational%20siciaty.jpg"/>
          <p:cNvPicPr/>
          <p:nvPr/>
        </p:nvPicPr>
        <p:blipFill>
          <a:blip r:embed="rId1"/>
          <a:stretch/>
        </p:blipFill>
        <p:spPr>
          <a:xfrm>
            <a:off x="3143160" y="3071880"/>
            <a:ext cx="464364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://www.prometeus.nsc.ru/elibrary/2007pers/ershap.jpg"/>
          <p:cNvPicPr/>
          <p:nvPr/>
        </p:nvPicPr>
        <p:blipFill>
          <a:blip r:embed="rId1"/>
          <a:stretch/>
        </p:blipFill>
        <p:spPr>
          <a:xfrm>
            <a:off x="1428840" y="1643040"/>
            <a:ext cx="3260520" cy="39117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тика в шк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http://cv01.twirpx.net/578/578562.jpg"/>
          <p:cNvPicPr/>
          <p:nvPr/>
        </p:nvPicPr>
        <p:blipFill>
          <a:blip r:embed="rId2"/>
          <a:srcRect l="17500" t="11569" r="17500" b="11311"/>
          <a:stretch/>
        </p:blipFill>
        <p:spPr>
          <a:xfrm>
            <a:off x="5715000" y="1571760"/>
            <a:ext cx="1857240" cy="28573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1285920" y="1071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самостоятельный предмет изучается в школе с 198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714920" y="48578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дрей Петрович Ерш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931-198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3920" y="1500120"/>
            <a:ext cx="600084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ить систему знаний, отражающих вклад информатики в формиро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с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Об алгоритмике мышления и психической деятельности, ч.2"/>
          <p:cNvPicPr/>
          <p:nvPr/>
        </p:nvPicPr>
        <p:blipFill>
          <a:blip r:embed="rId1"/>
          <a:stretch/>
        </p:blipFill>
        <p:spPr>
          <a:xfrm>
            <a:off x="3857760" y="3654360"/>
            <a:ext cx="485748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 оперировать понятиями и методами информатики для объяснения фактов, явлений и процессов в различных предметных обла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глаз_мировоззрение"/>
          <p:cNvPicPr/>
          <p:nvPr/>
        </p:nvPicPr>
        <p:blipFill>
          <a:blip r:embed="rId1"/>
          <a:stretch/>
        </p:blipFill>
        <p:spPr>
          <a:xfrm>
            <a:off x="5072040" y="392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 работать с различными видами информации с помощью компьютера и других средств ИК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http://bzzn.ru/uploads/kartinki/frash/Y013-7732-2.jpg"/>
          <p:cNvPicPr/>
          <p:nvPr/>
        </p:nvPicPr>
        <p:blipFill>
          <a:blip r:embed="rId1"/>
          <a:stretch/>
        </p:blipFill>
        <p:spPr>
          <a:xfrm>
            <a:off x="5153040" y="3605040"/>
            <a:ext cx="3876840" cy="31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214280" y="1500120"/>
            <a:ext cx="70725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и поддерживать индивидуальную информационную среду, обеспечивать защиту значимой информации и личную информационную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http://www.securitylab.ru/upload/iblock/374/3749f86841d0ddd743d518a41d04581f.jpg"/>
          <p:cNvPicPr/>
          <p:nvPr/>
        </p:nvPicPr>
        <p:blipFill>
          <a:blip r:embed="rId1"/>
          <a:stretch/>
        </p:blipFill>
        <p:spPr>
          <a:xfrm>
            <a:off x="5442120" y="4046400"/>
            <a:ext cx="3558960" cy="26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71320" y="1052280"/>
            <a:ext cx="79722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дисциплина, изучающая структуру и общие свойства научной информ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: калька с французского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- наука о компьютерах и их применении,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sienc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7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название фундаментальной естественной науки, изучающей процессы передачи и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14280" y="1428840"/>
            <a:ext cx="7715520" cy="2357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источником научной области информатики принято считать кибернетику, рождение которой связывается с выходом в 1948 г. книги Норберта Винера «Кибернетика, или Управление и связь в животном и маши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киберне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t0.gstatic.com/images?q=tbn:ANd9GcRi4lEL_3v6V-I3LPeo29DPd2K6piGUAtwUbjsFelC0bNZCeLIxjQ"/>
          <p:cNvPicPr/>
          <p:nvPr/>
        </p:nvPicPr>
        <p:blipFill>
          <a:blip r:embed="rId1"/>
          <a:stretch/>
        </p:blipFill>
        <p:spPr>
          <a:xfrm>
            <a:off x="1214280" y="4214880"/>
            <a:ext cx="4459320" cy="235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grachev62.narod.ru/cybern/Image308.gif"/>
          <p:cNvPicPr/>
          <p:nvPr/>
        </p:nvPicPr>
        <p:blipFill>
          <a:blip r:embed="rId2"/>
          <a:stretch/>
        </p:blipFill>
        <p:spPr>
          <a:xfrm>
            <a:off x="7000920" y="4264200"/>
            <a:ext cx="150012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14280" y="1428480"/>
            <a:ext cx="7715520" cy="17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информации, зародившаяся в 1930-х гг. в работах Ральфа Хартли и Клода Шенн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теория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upload.wikimedia.org/wikipedia/ru/thumb/3/3d/Shannon.jpg/220px-Shannon.jpg"/>
          <p:cNvPicPr/>
          <p:nvPr/>
        </p:nvPicPr>
        <p:blipFill>
          <a:blip r:embed="rId1"/>
          <a:stretch/>
        </p:blipFill>
        <p:spPr>
          <a:xfrm>
            <a:off x="6000840" y="3286080"/>
            <a:ext cx="2571840" cy="354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upload.wikimedia.org/wikipedia/commons/thumb/0/01/Hartley_ralph-vinton-lyon-001.jpg/220px-Hartley_ralph-vinton-lyon-001.jpg"/>
          <p:cNvPicPr/>
          <p:nvPr/>
        </p:nvPicPr>
        <p:blipFill>
          <a:blip r:embed="rId2"/>
          <a:stretch/>
        </p:blipFill>
        <p:spPr>
          <a:xfrm>
            <a:off x="1428840" y="3278160"/>
            <a:ext cx="242892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214280" y="1428480"/>
            <a:ext cx="7715520" cy="221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алгоритмов, основоположниками которой являются Алан Тьюринг, Эмиль Пост, Андрей Андреевич  Мар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теория алгорит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cvit.iiit.ac.in/turing100/images/AlanTuring.jpg"/>
          <p:cNvPicPr/>
          <p:nvPr/>
        </p:nvPicPr>
        <p:blipFill>
          <a:blip r:embed="rId1"/>
          <a:srcRect l="0" t="0" r="14172" b="0"/>
          <a:stretch/>
        </p:blipFill>
        <p:spPr>
          <a:xfrm>
            <a:off x="1214280" y="3624120"/>
            <a:ext cx="2357640" cy="3019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http://live.xakep.ru/uploads/images/00/31/87/2011/12/13/aa36eda487.jpg"/>
          <p:cNvPicPr/>
          <p:nvPr/>
        </p:nvPicPr>
        <p:blipFill>
          <a:blip r:embed="rId2"/>
          <a:stretch/>
        </p:blipFill>
        <p:spPr>
          <a:xfrm>
            <a:off x="4071960" y="3651120"/>
            <a:ext cx="2214720" cy="3021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://getmedia.msu.ru/newspaper/creators_vector/poetry/photo/markov.jpg"/>
          <p:cNvPicPr/>
          <p:nvPr/>
        </p:nvPicPr>
        <p:blipFill>
          <a:blip r:embed="rId3"/>
          <a:stretch/>
        </p:blipFill>
        <p:spPr>
          <a:xfrm>
            <a:off x="6715080" y="3656160"/>
            <a:ext cx="2157480" cy="30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214280" y="1428480"/>
            <a:ext cx="7715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работы Джона фон Неймана по архитектуре ЭВ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архитектура ЭВ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img141.imageshack.us/img141/9749/johnvonneumann85452332.jpg"/>
          <p:cNvPicPr/>
          <p:nvPr/>
        </p:nvPicPr>
        <p:blipFill>
          <a:blip r:embed="rId1"/>
          <a:stretch/>
        </p:blipFill>
        <p:spPr>
          <a:xfrm>
            <a:off x="3429000" y="3214800"/>
            <a:ext cx="550080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ука 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071720" y="10717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 – это естественнонаучная дисциплина о закономерности протекания информационных процессов в системах различной природы, а также о методах и средствах их автомат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хема 4" descr=""/>
          <p:cNvPicPr/>
          <p:nvPr/>
        </p:nvPicPr>
        <p:blipFill>
          <a:blip r:embed="rId1"/>
          <a:stretch/>
        </p:blipFill>
        <p:spPr>
          <a:xfrm>
            <a:off x="914400" y="3425760"/>
            <a:ext cx="810108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42920" y="4572000"/>
            <a:ext cx="7886880" cy="1928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ыс. до н.э. - изобретение письменност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зволившее накапливать и распространять знания. Цивилизации, освоившие письменность, развивались быстрее других,  достигали более высокого культурного и экономического уровн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6" descr="http://istoriya-ru.ucoz.ru/1pismo.jpg"/>
          <p:cNvPicPr/>
          <p:nvPr/>
        </p:nvPicPr>
        <p:blipFill>
          <a:blip r:embed="rId1"/>
          <a:stretch/>
        </p:blipFill>
        <p:spPr>
          <a:xfrm>
            <a:off x="642960" y="171468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http://children.claw.ru/5_history/content/006/06.jpg"/>
          <p:cNvPicPr/>
          <p:nvPr/>
        </p:nvPicPr>
        <p:blipFill>
          <a:blip r:embed="rId2"/>
          <a:stretch/>
        </p:blipFill>
        <p:spPr>
          <a:xfrm>
            <a:off x="3071880" y="2143080"/>
            <a:ext cx="364320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t2.gstatic.com/images?q=tbn:ANd9GcRdR-hp3FMq7CUaoZxWPb9loUSMWWbPfA-JV60BOdUTfTm9EeBy-Q"/>
          <p:cNvPicPr/>
          <p:nvPr/>
        </p:nvPicPr>
        <p:blipFill>
          <a:blip r:embed="rId3"/>
          <a:stretch/>
        </p:blipFill>
        <p:spPr>
          <a:xfrm>
            <a:off x="6500880" y="1571760"/>
            <a:ext cx="202860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XVI в. - изобретение книгопечат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еспечившее возможность  не только сохранять информацию, но и сделать ее массово-доступ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http://erinlobach.edublogs.org/files/2008/12/printing-press.jpg"/>
          <p:cNvPicPr/>
          <p:nvPr/>
        </p:nvPicPr>
        <p:blipFill>
          <a:blip r:embed="rId1"/>
          <a:stretch/>
        </p:blipFill>
        <p:spPr>
          <a:xfrm>
            <a:off x="1143000" y="1857240"/>
            <a:ext cx="3105000" cy="2800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www.ivki.ru/svitok/book/images/il23.gif"/>
          <p:cNvPicPr/>
          <p:nvPr/>
        </p:nvPicPr>
        <p:blipFill>
          <a:blip r:embed="rId2"/>
          <a:stretch/>
        </p:blipFill>
        <p:spPr>
          <a:xfrm>
            <a:off x="4500720" y="1714680"/>
            <a:ext cx="4286160" cy="31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8:50:55Z</dcterms:modified>
  <cp:revision>6</cp:revision>
  <dc:subject/>
  <dc:title>Презентация PowerPoint</dc:title>
</cp:coreProperties>
</file>