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FC1-75ED-4C60-8AB1-F7415955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F7B2-2D58-492E-8D9C-D5FFEF36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46AA-217B-4149-8D7E-E77DF407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1A9-2E6C-4890-9067-BACF9FA6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C0CC-34CC-41D1-B772-30CD9B38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0D5C-B0A5-4AC6-A83B-DFEDFBED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0F10-F4DC-44A7-A5BF-33E28859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E04-7DD8-4AA2-B020-1F1517ED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FEC-CC31-4E2E-B33A-4479D9EA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0E8-8CE6-4D43-BC0A-92643343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9F9-3688-4474-A54A-7DCBD4B3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2F5-F15D-4169-9DA1-ED9A3364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649D-8CBC-42D4-B490-4A723AF01C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Титул_7.JPG"/>
          <p:cNvPicPr/>
          <p:nvPr/>
        </p:nvPicPr>
        <p:blipFill>
          <a:blip r:embed="rId2"/>
          <a:stretch/>
        </p:blipFill>
        <p:spPr>
          <a:xfrm>
            <a:off x="1440" y="144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13012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Введение в курс инфор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3886200"/>
            <a:ext cx="5721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071360" y="4928760"/>
            <a:ext cx="7886520" cy="150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онец XIX в. – появление средств связ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телеграф, телефон, радио),  позволивших оперативно передавать информацию на любые расстоя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http://studentweb.maconstate.edu/michael.chitwood/ITEC2380/final/images/telegraph.jpg"/>
          <p:cNvPicPr/>
          <p:nvPr/>
        </p:nvPicPr>
        <p:blipFill>
          <a:blip r:embed="rId1"/>
          <a:stretch/>
        </p:blipFill>
        <p:spPr>
          <a:xfrm>
            <a:off x="1155600" y="2000160"/>
            <a:ext cx="2773440" cy="1947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www.abc-people.com/data/bell/015.jpg"/>
          <p:cNvPicPr/>
          <p:nvPr/>
        </p:nvPicPr>
        <p:blipFill>
          <a:blip r:embed="rId2"/>
          <a:stretch/>
        </p:blipFill>
        <p:spPr>
          <a:xfrm>
            <a:off x="6572160" y="1571760"/>
            <a:ext cx="1865520" cy="3154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http://dic.academic.ru/pictures/enc_tech/i_475.jpg"/>
          <p:cNvPicPr/>
          <p:nvPr/>
        </p:nvPicPr>
        <p:blipFill>
          <a:blip r:embed="rId3"/>
          <a:stretch/>
        </p:blipFill>
        <p:spPr>
          <a:xfrm>
            <a:off x="3943440" y="3143160"/>
            <a:ext cx="26287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143000" y="4572000"/>
            <a:ext cx="7886880" cy="2214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70-е гг. XX в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оявление микропроцессорной техники и персональных компьютеров; возникновение компьютерных телекоммуникаций, радикальное изменение систем хранения и поиска информации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File:IBM PC 5150.jpg"/>
          <p:cNvPicPr/>
          <p:nvPr/>
        </p:nvPicPr>
        <p:blipFill>
          <a:blip r:embed="rId1"/>
          <a:stretch/>
        </p:blipFill>
        <p:spPr>
          <a:xfrm>
            <a:off x="1571760" y="1714680"/>
            <a:ext cx="3649680" cy="2636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Agat-4 Red.jpg"/>
          <p:cNvPicPr/>
          <p:nvPr/>
        </p:nvPicPr>
        <p:blipFill>
          <a:blip r:embed="rId2"/>
          <a:stretch/>
        </p:blipFill>
        <p:spPr>
          <a:xfrm>
            <a:off x="6215040" y="1643040"/>
            <a:ext cx="2214720" cy="25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ая историческая фаза развития цивилизации, в которой главными продуктами производства являются информация и зн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формационное обще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http://culturenews.ru/sites/culturenews.ru/files/110411/infornational%20siciaty.jpg"/>
          <p:cNvPicPr/>
          <p:nvPr/>
        </p:nvPicPr>
        <p:blipFill>
          <a:blip r:embed="rId1"/>
          <a:stretch/>
        </p:blipFill>
        <p:spPr>
          <a:xfrm>
            <a:off x="3143160" y="3071880"/>
            <a:ext cx="464364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http://www.prometeus.nsc.ru/elibrary/2007pers/ershap.jpg"/>
          <p:cNvPicPr/>
          <p:nvPr/>
        </p:nvPicPr>
        <p:blipFill>
          <a:blip r:embed="rId1"/>
          <a:stretch/>
        </p:blipFill>
        <p:spPr>
          <a:xfrm>
            <a:off x="1428840" y="1643040"/>
            <a:ext cx="3260520" cy="39117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форматика в шко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http://cv01.twirpx.net/578/578562.jpg"/>
          <p:cNvPicPr/>
          <p:nvPr/>
        </p:nvPicPr>
        <p:blipFill>
          <a:blip r:embed="rId2"/>
          <a:srcRect l="17500" t="11569" r="17500" b="11311"/>
          <a:stretch/>
        </p:blipFill>
        <p:spPr>
          <a:xfrm>
            <a:off x="5715000" y="1571760"/>
            <a:ext cx="1857240" cy="28573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1285920" y="107172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самостоятельный предмет изучается в школе с 1985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4714920" y="48578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дрей Петрович Ерш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1931-198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213920" y="1500120"/>
            <a:ext cx="600084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воить систему знаний, отражающих вклад информатики в формирован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ост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учной картины ми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Об алгоритмике мышления и психической деятельности, ч.2"/>
          <p:cNvPicPr/>
          <p:nvPr/>
        </p:nvPicPr>
        <p:blipFill>
          <a:blip r:embed="rId1"/>
          <a:stretch/>
        </p:blipFill>
        <p:spPr>
          <a:xfrm>
            <a:off x="3857760" y="3654360"/>
            <a:ext cx="485748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214280" y="1500120"/>
            <a:ext cx="642960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еренно оперировать понятиями и методами информатики для объяснения фактов, явлений и процессов в различных предметных област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глаз_мировоззрение"/>
          <p:cNvPicPr/>
          <p:nvPr/>
        </p:nvPicPr>
        <p:blipFill>
          <a:blip r:embed="rId1"/>
          <a:stretch/>
        </p:blipFill>
        <p:spPr>
          <a:xfrm>
            <a:off x="5072040" y="3929040"/>
            <a:ext cx="362412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214280" y="1500120"/>
            <a:ext cx="642960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но работать с различными видами информации с помощью компьютера и других средств ИК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2" descr="http://bzzn.ru/uploads/kartinki/frash/Y013-7732-2.jpg"/>
          <p:cNvPicPr/>
          <p:nvPr/>
        </p:nvPicPr>
        <p:blipFill>
          <a:blip r:embed="rId1"/>
          <a:stretch/>
        </p:blipFill>
        <p:spPr>
          <a:xfrm>
            <a:off x="5153040" y="3605040"/>
            <a:ext cx="3876840" cy="31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214280" y="1500120"/>
            <a:ext cx="707256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вать и поддерживать индивидуальную информационную среду, обеспечивать защиту значимой информации и личную информационную безопас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" descr="http://www.securitylab.ru/upload/iblock/374/3749f86841d0ddd743d518a41d04581f.jpg"/>
          <p:cNvPicPr/>
          <p:nvPr/>
        </p:nvPicPr>
        <p:blipFill>
          <a:blip r:embed="rId1"/>
          <a:stretch/>
        </p:blipFill>
        <p:spPr>
          <a:xfrm>
            <a:off x="5442120" y="4046400"/>
            <a:ext cx="3558960" cy="26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71320" y="1052280"/>
            <a:ext cx="79722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50-е гг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дисциплина, изучающая структуру и общие свойства научной информац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60-е гг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: калька с французского 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qu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 - наука о компьютерах и их применении, 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sienc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70-е гг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название фундаментальной естественной науки, изучающей процессы передачи и обработки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фор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214280" y="1428840"/>
            <a:ext cx="7715520" cy="2357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оисточником научной области информатики принято считать кибернетику, рождение которой связывается с выходом в 1948 г. книги Норберта Винера «Кибернетика, или Управление и связь в животном и машин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токи информатики: киберне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http://t0.gstatic.com/images?q=tbn:ANd9GcRi4lEL_3v6V-I3LPeo29DPd2K6piGUAtwUbjsFelC0bNZCeLIxjQ"/>
          <p:cNvPicPr/>
          <p:nvPr/>
        </p:nvPicPr>
        <p:blipFill>
          <a:blip r:embed="rId1"/>
          <a:stretch/>
        </p:blipFill>
        <p:spPr>
          <a:xfrm>
            <a:off x="1214280" y="4214880"/>
            <a:ext cx="4459320" cy="2357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grachev62.narod.ru/cybern/Image308.gif"/>
          <p:cNvPicPr/>
          <p:nvPr/>
        </p:nvPicPr>
        <p:blipFill>
          <a:blip r:embed="rId2"/>
          <a:stretch/>
        </p:blipFill>
        <p:spPr>
          <a:xfrm>
            <a:off x="7000920" y="4264200"/>
            <a:ext cx="150012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14280" y="1428480"/>
            <a:ext cx="7715520" cy="1785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ервоисточникам современной информатики относится теория информации, зародившаяся в 1930-х гг. в работах Ральфа Хартли и Клода Шенно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токи информатики: теория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ttp://upload.wikimedia.org/wikipedia/ru/thumb/3/3d/Shannon.jpg/220px-Shannon.jpg"/>
          <p:cNvPicPr/>
          <p:nvPr/>
        </p:nvPicPr>
        <p:blipFill>
          <a:blip r:embed="rId1"/>
          <a:stretch/>
        </p:blipFill>
        <p:spPr>
          <a:xfrm>
            <a:off x="6000840" y="3286080"/>
            <a:ext cx="2571840" cy="3541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upload.wikimedia.org/wikipedia/commons/thumb/0/01/Hartley_ralph-vinton-lyon-001.jpg/220px-Hartley_ralph-vinton-lyon-001.jpg"/>
          <p:cNvPicPr/>
          <p:nvPr/>
        </p:nvPicPr>
        <p:blipFill>
          <a:blip r:embed="rId2"/>
          <a:stretch/>
        </p:blipFill>
        <p:spPr>
          <a:xfrm>
            <a:off x="1428840" y="3278160"/>
            <a:ext cx="2428920" cy="35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214280" y="1428480"/>
            <a:ext cx="7715520" cy="2214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ервоисточникам современной информатики относится теория алгоритмов, основоположниками которой являются Алан Тьюринг, Эмиль Пост, Андрей Андреевич  Мар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токи информатики: теория алгорит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ttp://cvit.iiit.ac.in/turing100/images/AlanTuring.jpg"/>
          <p:cNvPicPr/>
          <p:nvPr/>
        </p:nvPicPr>
        <p:blipFill>
          <a:blip r:embed="rId1"/>
          <a:srcRect l="0" t="0" r="14172" b="0"/>
          <a:stretch/>
        </p:blipFill>
        <p:spPr>
          <a:xfrm>
            <a:off x="1214280" y="3624120"/>
            <a:ext cx="2357640" cy="3019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http://live.xakep.ru/uploads/images/00/31/87/2011/12/13/aa36eda487.jpg"/>
          <p:cNvPicPr/>
          <p:nvPr/>
        </p:nvPicPr>
        <p:blipFill>
          <a:blip r:embed="rId2"/>
          <a:stretch/>
        </p:blipFill>
        <p:spPr>
          <a:xfrm>
            <a:off x="4071960" y="3651120"/>
            <a:ext cx="2214720" cy="3021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http://getmedia.msu.ru/newspaper/creators_vector/poetry/photo/markov.jpg"/>
          <p:cNvPicPr/>
          <p:nvPr/>
        </p:nvPicPr>
        <p:blipFill>
          <a:blip r:embed="rId3"/>
          <a:stretch/>
        </p:blipFill>
        <p:spPr>
          <a:xfrm>
            <a:off x="6715080" y="3656160"/>
            <a:ext cx="2157480" cy="30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214280" y="1428480"/>
            <a:ext cx="7715520" cy="150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ервоисточникам современной информатики относится работы Джона фон Неймана по архитектуре ЭВ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токи информатики: архитектура ЭВ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http://img141.imageshack.us/img141/9749/johnvonneumann85452332.jpg"/>
          <p:cNvPicPr/>
          <p:nvPr/>
        </p:nvPicPr>
        <p:blipFill>
          <a:blip r:embed="rId1"/>
          <a:stretch/>
        </p:blipFill>
        <p:spPr>
          <a:xfrm>
            <a:off x="3429000" y="3214800"/>
            <a:ext cx="5500800" cy="33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Заголовок 2"/>
          <p:cNvSpPr/>
          <p:nvPr/>
        </p:nvSpPr>
        <p:spPr>
          <a:xfrm>
            <a:off x="1116000" y="18900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Наука инфор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1071720" y="1071720"/>
            <a:ext cx="771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орматика – это естественнонаучная дисциплина о закономерности протекания информационных процессов в системах различной природы, а также о методах и средствах их автоматиз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Схема 4" descr=""/>
          <p:cNvPicPr/>
          <p:nvPr/>
        </p:nvPicPr>
        <p:blipFill>
          <a:blip r:embed="rId1"/>
          <a:stretch/>
        </p:blipFill>
        <p:spPr>
          <a:xfrm>
            <a:off x="914400" y="3425760"/>
            <a:ext cx="8101080" cy="25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42920" y="4572000"/>
            <a:ext cx="7886880" cy="1928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ыс. до н.э. - изобретение письменност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зволившее накапливать и распространять знания. Цивилизации, освоившие письменность, развивались быстрее других,  достигали более высокого культурного и экономического уровн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16" descr="http://istoriya-ru.ucoz.ru/1pismo.jpg"/>
          <p:cNvPicPr/>
          <p:nvPr/>
        </p:nvPicPr>
        <p:blipFill>
          <a:blip r:embed="rId1"/>
          <a:stretch/>
        </p:blipFill>
        <p:spPr>
          <a:xfrm>
            <a:off x="642960" y="1714680"/>
            <a:ext cx="2987640" cy="2019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http://children.claw.ru/5_history/content/006/06.jpg"/>
          <p:cNvPicPr/>
          <p:nvPr/>
        </p:nvPicPr>
        <p:blipFill>
          <a:blip r:embed="rId2"/>
          <a:stretch/>
        </p:blipFill>
        <p:spPr>
          <a:xfrm>
            <a:off x="3071880" y="2143080"/>
            <a:ext cx="3643200" cy="237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t2.gstatic.com/images?q=tbn:ANd9GcRdR-hp3FMq7CUaoZxWPb9loUSMWWbPfA-JV60BOdUTfTm9EeBy-Q"/>
          <p:cNvPicPr/>
          <p:nvPr/>
        </p:nvPicPr>
        <p:blipFill>
          <a:blip r:embed="rId3"/>
          <a:stretch/>
        </p:blipFill>
        <p:spPr>
          <a:xfrm>
            <a:off x="6500880" y="1571760"/>
            <a:ext cx="2028600" cy="22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071360" y="4928760"/>
            <a:ext cx="7886520" cy="150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XVI в. - изобретение книгопечат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беспечившее возможность  не только сохранять информацию, но и сделать ее массово-доступн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http://erinlobach.edublogs.org/files/2008/12/printing-press.jpg"/>
          <p:cNvPicPr/>
          <p:nvPr/>
        </p:nvPicPr>
        <p:blipFill>
          <a:blip r:embed="rId1"/>
          <a:stretch/>
        </p:blipFill>
        <p:spPr>
          <a:xfrm>
            <a:off x="1143000" y="1857240"/>
            <a:ext cx="3105000" cy="2800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http://www.ivki.ru/svitok/book/images/il23.gif"/>
          <p:cNvPicPr/>
          <p:nvPr/>
        </p:nvPicPr>
        <p:blipFill>
          <a:blip r:embed="rId2"/>
          <a:stretch/>
        </p:blipFill>
        <p:spPr>
          <a:xfrm>
            <a:off x="4500720" y="1714680"/>
            <a:ext cx="4286160" cy="31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8:50:55Z</dcterms:modified>
  <cp:revision>6</cp:revision>
  <dc:subject/>
  <dc:title>Презентация PowerPoint</dc:title>
</cp:coreProperties>
</file>